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983-17DE-4DD2-9B94-3F91EFBF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D75-45AD-4235-8776-5AFE404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CFD-FA22-4F50-BD03-BA0B6E4B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A75-5014-4EBF-9768-D0F767B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9048-0F76-4826-B24F-CA4AD062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DEBE-BAC7-495E-9C12-E4AA800B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3731-A2E8-4976-983E-8DBCFA3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85BF-015E-438D-AC2F-3BE912D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B8AF-BBF6-4966-9F1E-61C8D4A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8DC-D69B-42F0-B93F-4A28DDA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0D78-F514-4D79-BE63-5FE17DC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B23-3163-4102-B85C-41CD0EE8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9FF-8F60-4127-AC06-F80FFC7C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DE2C-BBF6-4973-83B0-D3454F4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B50A-7D4B-487E-BC29-2DFC1089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7DB-C52E-42B3-B248-7AF3E11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6C10-21D7-43A6-B552-627DF42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278-AA11-4719-97E7-1E00DABA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370-A744-4463-9858-7B0A6310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99E-1C73-4BBC-ABA2-735DBC1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6CC-4349-4313-9DFE-5003981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E62-FDEB-40BA-A501-A5F416D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901-2F1D-4C53-9B4D-BE2A028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D61-9056-4A31-95B1-C736C587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BF2-7892-4A05-9ADC-ED21675749E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09D-1AF5-48B6-811D-6CCDB03ACD4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tickipolevye.narod.ru/img/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684360" y="170028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весел сегодня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грустит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общается с радостью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молчит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Улыбнитесь, пожалуйста, те, кто готов работать сегодня с полной отдач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85840" y="6429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80 году он сдал вступительные экзамены во Вторую московскую военную гимназию, которая два года спустя была преобразована в кадетский корпус. И снова форма: "Чёрная суконная курточка, без пояса, с синими погонами, восемью медными пуговицами в один ряд и красными петлицами на воротнике"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6" name="Рисунок 2" descr="kuprin_molod.jpg"/>
          <p:cNvPicPr/>
          <p:nvPr/>
        </p:nvPicPr>
        <p:blipFill>
          <a:blip r:embed="rId1"/>
          <a:stretch/>
        </p:blipFill>
        <p:spPr>
          <a:xfrm>
            <a:off x="5500800" y="1285920"/>
            <a:ext cx="2428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929040" y="4000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Осенью 1888 года Куприн поступил в Третье Александровское юнкерское училище в Москве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8" name="Рисунок 2" descr="kabinet.jpg"/>
          <p:cNvPicPr/>
          <p:nvPr/>
        </p:nvPicPr>
        <p:blipFill>
          <a:blip r:embed="rId1"/>
          <a:stretch/>
        </p:blipFill>
        <p:spPr>
          <a:xfrm>
            <a:off x="571680" y="1143000"/>
            <a:ext cx="36097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286160" y="2357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же в кадетском корпусе родилась настоящая, глубокая любовь будущего писателя к литературе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0" name="Рисунок 2" descr="buninu.jpg"/>
          <p:cNvPicPr/>
          <p:nvPr/>
        </p:nvPicPr>
        <p:blipFill>
          <a:blip r:embed="rId1"/>
          <a:stretch/>
        </p:blipFill>
        <p:spPr>
          <a:xfrm>
            <a:off x="714240" y="1000080"/>
            <a:ext cx="33069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28760" y="17859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яжелая болезнь (рак) помешала Куприну возобновить творческую работу. 25 августа 1938 года Александр Иванович Куприн скончался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2" name="Рисунок 2" descr="kuprin1900.jpg"/>
          <p:cNvPicPr/>
          <p:nvPr/>
        </p:nvPicPr>
        <p:blipFill>
          <a:blip r:embed="rId1"/>
          <a:stretch/>
        </p:blipFill>
        <p:spPr>
          <a:xfrm>
            <a:off x="6357960" y="1643040"/>
            <a:ext cx="2371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57120" y="714240"/>
            <a:ext cx="4572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узей А. И. Куприна, филиал Объединения государственных литературно-мемориальных музеев Пензенской области, открыт 6 сентября 1981 года. С пензенским краем А.И. Куприн связан рождением и ранними годами жизни. До четырех лет он жил в городе Наровчат Пензенской губернии.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Рисунок 2" descr="14175.jpg"/>
          <p:cNvPicPr/>
          <p:nvPr/>
        </p:nvPicPr>
        <p:blipFill>
          <a:blip r:embed="rId1"/>
          <a:stretch/>
        </p:blipFill>
        <p:spPr>
          <a:xfrm>
            <a:off x="521496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108443125.jpg"/>
          <p:cNvPicPr/>
          <p:nvPr/>
        </p:nvPicPr>
        <p:blipFill>
          <a:blip r:embed="rId2"/>
          <a:stretch/>
        </p:blipFill>
        <p:spPr>
          <a:xfrm>
            <a:off x="5500800" y="4000680"/>
            <a:ext cx="277308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500120" y="492912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узей расположен в одноэтажном, деревянном здании. Экспозиции музея посвящены: рассказу о жизни и творчестве А.И. Куприна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7" name="Рисунок 2" descr="photo-29.jpg"/>
          <p:cNvPicPr/>
          <p:nvPr/>
        </p:nvPicPr>
        <p:blipFill>
          <a:blip r:embed="rId1"/>
          <a:stretch/>
        </p:blipFill>
        <p:spPr>
          <a:xfrm>
            <a:off x="1000080" y="642960"/>
            <a:ext cx="5807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00040" y="4500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узее работает литературный лекторий, ведется работа с детьми дошкольного возраста. Имеется архив и научная библиотека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Рисунок 2" descr="04_vystavka.jpg"/>
          <p:cNvPicPr/>
          <p:nvPr/>
        </p:nvPicPr>
        <p:blipFill>
          <a:blip r:embed="rId1"/>
          <a:stretch/>
        </p:blipFill>
        <p:spPr>
          <a:xfrm>
            <a:off x="214200" y="500040"/>
            <a:ext cx="5276880" cy="39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500040" y="4500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узее работает литературный лекторий, ведется работа с детьми дошкольного возраста. Имеется архив и научная библиотека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Рисунок 2" descr="04_vystavka.jpg"/>
          <p:cNvPicPr/>
          <p:nvPr/>
        </p:nvPicPr>
        <p:blipFill>
          <a:blip r:embed="rId1"/>
          <a:stretch/>
        </p:blipFill>
        <p:spPr>
          <a:xfrm>
            <a:off x="214200" y="500040"/>
            <a:ext cx="5276880" cy="39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00042165_coverr.jpg"/>
          <p:cNvPicPr/>
          <p:nvPr/>
        </p:nvPicPr>
        <p:blipFill>
          <a:blip r:embed="rId1"/>
          <a:stretch/>
        </p:blipFill>
        <p:spPr>
          <a:xfrm>
            <a:off x="250920" y="620640"/>
            <a:ext cx="2539800" cy="33782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00042185_coverr.jpg"/>
          <p:cNvPicPr/>
          <p:nvPr/>
        </p:nvPicPr>
        <p:blipFill>
          <a:blip r:embed="rId2"/>
          <a:stretch/>
        </p:blipFill>
        <p:spPr>
          <a:xfrm>
            <a:off x="6983280" y="620640"/>
            <a:ext cx="21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53.jpg"/>
          <p:cNvPicPr/>
          <p:nvPr/>
        </p:nvPicPr>
        <p:blipFill>
          <a:blip r:embed="rId3"/>
          <a:stretch/>
        </p:blipFill>
        <p:spPr>
          <a:xfrm>
            <a:off x="2050920" y="3068640"/>
            <a:ext cx="2592360" cy="3384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b36612.jpg"/>
          <p:cNvPicPr/>
          <p:nvPr/>
        </p:nvPicPr>
        <p:blipFill>
          <a:blip r:embed="rId4"/>
          <a:stretch/>
        </p:blipFill>
        <p:spPr>
          <a:xfrm>
            <a:off x="4932360" y="3068640"/>
            <a:ext cx="2324160" cy="336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Картинка 1 из 7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07920"/>
            <a:ext cx="417672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547344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Взрослые скворцы окрашены в черный с металлическим отливом цвет. Присмотревшись можно увидеть красноватый, фиолетовый и зеленоватый отливы в оперении. Осенью на концах контурного пера имеются белые пятнышки, как бы покрывающие тело птицы жемчужной россыпью. Клюв весной желтый, а к осени темнеет. У молодых тусклое буроватое оперение, которое в первую же осень жизни сменяется на взрослый наряд.</a:t>
            </a:r>
            <a:br>
              <a:rPr sz="1800"/>
            </a:b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        Весной скворцы одними из самых первых прилетают на места гнездования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Питается различной животной и растительной пищей, по окончании периода гнездования собирается большими плотными стаями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Гнездится преимущественно у жилищ человека, занимая специально для скворцов сделанные и вывешенные искусственные гнездовья, ниши под балконами и крышами и т. п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8" name="Picture 7" descr="http://www.songbirdgarden.com/store/prodimages/EuropeanStarling-1.jpg"/>
          <p:cNvPicPr/>
          <p:nvPr/>
        </p:nvPicPr>
        <p:blipFill>
          <a:blip r:embed="rId1"/>
          <a:stretch/>
        </p:blipFill>
        <p:spPr>
          <a:xfrm>
            <a:off x="5616720" y="1413000"/>
            <a:ext cx="35272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859280" y="1557360"/>
            <a:ext cx="115272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2700360" y="2421000"/>
            <a:ext cx="223200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211640" y="3933720"/>
            <a:ext cx="86508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84720" y="4797360"/>
            <a:ext cx="8636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3348000" y="5516640"/>
            <a:ext cx="129528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859280" y="1557360"/>
            <a:ext cx="115272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700360" y="2421000"/>
            <a:ext cx="223200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211640" y="3933720"/>
            <a:ext cx="86508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4284720" y="4797360"/>
            <a:ext cx="8636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348000" y="5516640"/>
            <a:ext cx="129528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2700360" y="1484280"/>
            <a:ext cx="79200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419640" y="3357720"/>
            <a:ext cx="1728720" cy="2872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348000" y="4221000"/>
            <a:ext cx="647640" cy="2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4427640" y="5732640"/>
            <a:ext cx="1081080" cy="28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924360" y="6093000"/>
            <a:ext cx="863640" cy="28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3906720" y="111600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1008534-A0003BF9.jpg"/>
          <p:cNvPicPr/>
          <p:nvPr/>
        </p:nvPicPr>
        <p:blipFill>
          <a:blip r:embed="rId2"/>
          <a:stretch/>
        </p:blipFill>
        <p:spPr>
          <a:xfrm>
            <a:off x="357120" y="857160"/>
            <a:ext cx="3759120" cy="53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57160" y="385776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Иванович Куприн родилс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6 августа (7 сентября) 1870 года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захолустном городке Наровчате Пензенской губернии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Рисунок 2" descr="photo-29.jpg"/>
          <p:cNvPicPr/>
          <p:nvPr/>
        </p:nvPicPr>
        <p:blipFill>
          <a:blip r:embed="rId1"/>
          <a:stretch/>
        </p:blipFill>
        <p:spPr>
          <a:xfrm>
            <a:off x="3929040" y="857160"/>
            <a:ext cx="415440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fp19.jpg"/>
          <p:cNvPicPr/>
          <p:nvPr/>
        </p:nvPicPr>
        <p:blipFill>
          <a:blip r:embed="rId2"/>
          <a:stretch/>
        </p:blipFill>
        <p:spPr>
          <a:xfrm>
            <a:off x="928800" y="10717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929040" y="1214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ца своего, умершего от холеры, когда мальчику был всего год, Куприн не помнил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74 году он переезжает с матерью в Москву и поселяется в общей палате вдовьего дома (Сиротский пансион)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Рисунок 2" descr="kuprin.jpg"/>
          <p:cNvPicPr/>
          <p:nvPr/>
        </p:nvPicPr>
        <p:blipFill>
          <a:blip r:embed="rId1"/>
          <a:stretch/>
        </p:blipFill>
        <p:spPr>
          <a:xfrm>
            <a:off x="714240" y="1928880"/>
            <a:ext cx="22226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4929120" y="1071720"/>
            <a:ext cx="3857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 Алексеевна Куприна, так звали его мать, урожденная княжна Куланчакова, "обладала сильным, непреклонным характером и высоким благородством"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" name="Picture 2" descr="Любовь Алексеевна Куприна — мать писателя"/>
          <p:cNvPicPr/>
          <p:nvPr/>
        </p:nvPicPr>
        <p:blipFill>
          <a:blip r:embed="rId1"/>
          <a:stretch/>
        </p:blipFill>
        <p:spPr>
          <a:xfrm>
            <a:off x="285840" y="928800"/>
            <a:ext cx="43765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429080" y="114300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76 году из-за тяжелого материального положения Любовь Алексеевна была вынуждена отдать сына в сиротское училище. Семилетний мальчик надел первую в своей жизни форму - парусиновые панталоны и парусиновую рубашку, обшитую вокруг ворота и вокруг рукавов форменной кумачовой лентой". Казенная обстановка причиняла мальчику жестокие страдания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Рисунок 2" descr="1998229.jpg"/>
          <p:cNvPicPr/>
          <p:nvPr/>
        </p:nvPicPr>
        <p:blipFill>
          <a:blip r:embed="rId1"/>
          <a:stretch/>
        </p:blipFill>
        <p:spPr>
          <a:xfrm>
            <a:off x="500040" y="714240"/>
            <a:ext cx="3429000" cy="567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6:35:48Z</dcterms:created>
  <dc:creator>Admin</dc:creator>
  <dc:description/>
  <dc:language>en-US</dc:language>
  <cp:lastModifiedBy>Даниил</cp:lastModifiedBy>
  <dcterms:modified xsi:type="dcterms:W3CDTF">2017-02-14T13:01:29Z</dcterms:modified>
  <cp:revision>20</cp:revision>
  <dc:subject/>
  <dc:title>Слайд 1</dc:title>
</cp:coreProperties>
</file>