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EC4-ED42-4B6C-9E68-77A5CF65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287-52FE-4F0A-8907-4D1A8DFC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666-CDE4-4577-A3FF-47ADE43C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F9B-8F33-41A4-AB60-0BEB03A7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D307-D2F1-4C51-A2F2-2C5ADF2D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84FF-4FDB-44DB-A51D-E16066F8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2B83-D049-48B1-BC40-9A48F6DD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630C-0465-4E2B-B20E-225B1DAD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281F-D24E-4183-957B-D9909305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0163-D651-4027-864C-F838FB50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F9EA-C8E7-4283-8091-AF80E29E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DC6-4EAC-4E39-9CE8-1D3369EA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CA56-59A1-45EF-8292-96C1C73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E64B-C0B0-4EC7-9D1D-C3243D8C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9688-0041-4C0F-9A82-61CEBCBA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9616-AB19-40D2-8775-6ADC02E9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1270-2F5F-4B7E-9A03-64B29097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465-DA18-4CC7-9176-C81E2C3F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5B0-364C-45EC-AA02-9C08DE2F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C2E-0A3C-4C8D-93B8-A889ADFB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968-1D6E-4D46-9EDB-1424A4CD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DD9-2BA1-4716-89EC-32116D9A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C65-BBED-4202-B56E-01CD285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18E-8F20-4027-B7C9-4BCDEFF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369C-8C29-4FA1-8D4E-629DBF6DC0F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4456-522E-4128-AC96-BA4F5CCBF66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tickipolevye.narod.ru/img/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684360" y="170028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Здравствуйте, те, кто весел сегодня,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Здравствуйте, те, кто грустит,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Здравствуйте, те, кто общается с радостью,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Здравствуйте, те, кто молчит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mbria"/>
              </a:rPr>
              <a:t>Улыбнитесь, пожалуйста, те, кто готов работать сегодня с полной отдачей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85840" y="6429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1880 году он сдал вступительные экзамены во Вторую московскую военную гимназию, которая два года спустя была преобразована в кадетский корпус. И снова форма: "Чёрная суконная курточка, без пояса, с синими погонами, восемью медными пуговицами в один ряд и красными петлицами на воротнике"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6" name="Рисунок 2" descr="kuprin_molod.jpg"/>
          <p:cNvPicPr/>
          <p:nvPr/>
        </p:nvPicPr>
        <p:blipFill>
          <a:blip r:embed="rId1"/>
          <a:stretch/>
        </p:blipFill>
        <p:spPr>
          <a:xfrm>
            <a:off x="5500800" y="1285920"/>
            <a:ext cx="24289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929040" y="40006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Осенью 1888 года Куприн поступил в Третье Александровское юнкерское училище в Москве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8" name="Рисунок 2" descr="kabinet.jpg"/>
          <p:cNvPicPr/>
          <p:nvPr/>
        </p:nvPicPr>
        <p:blipFill>
          <a:blip r:embed="rId1"/>
          <a:stretch/>
        </p:blipFill>
        <p:spPr>
          <a:xfrm>
            <a:off x="571680" y="1143000"/>
            <a:ext cx="360972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4286160" y="23572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же в кадетском корпусе родилась настоящая, глубокая любовь будущего писателя к литературе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0" name="Рисунок 2" descr="buninu.jpg"/>
          <p:cNvPicPr/>
          <p:nvPr/>
        </p:nvPicPr>
        <p:blipFill>
          <a:blip r:embed="rId1"/>
          <a:stretch/>
        </p:blipFill>
        <p:spPr>
          <a:xfrm>
            <a:off x="714240" y="1000080"/>
            <a:ext cx="330696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28760" y="178596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яжелая болезнь (рак) помешала Куприну возобновить творческую работу. 25 августа 1938 года Александр Иванович Куприн скончался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2" name="Рисунок 2" descr="kuprin1900.jpg"/>
          <p:cNvPicPr/>
          <p:nvPr/>
        </p:nvPicPr>
        <p:blipFill>
          <a:blip r:embed="rId1"/>
          <a:stretch/>
        </p:blipFill>
        <p:spPr>
          <a:xfrm>
            <a:off x="6357960" y="1643040"/>
            <a:ext cx="2371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57120" y="714240"/>
            <a:ext cx="457200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узей А. И. Куприна, филиал Объединения государственных литературно-мемориальных музеев Пензенской области, открыт 6 сентября 1981 года. С пензенским краем А.И. Куприн связан рождением и ранними годами жизни. До четырех лет он жил в городе Наровчат Пензенской губернии. 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4" name="Рисунок 2" descr="14175.jpg"/>
          <p:cNvPicPr/>
          <p:nvPr/>
        </p:nvPicPr>
        <p:blipFill>
          <a:blip r:embed="rId1"/>
          <a:stretch/>
        </p:blipFill>
        <p:spPr>
          <a:xfrm>
            <a:off x="5214960" y="107172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" descr="108443125.jpg"/>
          <p:cNvPicPr/>
          <p:nvPr/>
        </p:nvPicPr>
        <p:blipFill>
          <a:blip r:embed="rId2"/>
          <a:stretch/>
        </p:blipFill>
        <p:spPr>
          <a:xfrm>
            <a:off x="5500800" y="4000680"/>
            <a:ext cx="277308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500120" y="492912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узей расположен в одноэтажном, деревянном здании. Экспозиции музея посвящены: рассказу о жизни и творчестве А.И. Куприна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7" name="Рисунок 2" descr="photo-29.jpg"/>
          <p:cNvPicPr/>
          <p:nvPr/>
        </p:nvPicPr>
        <p:blipFill>
          <a:blip r:embed="rId1"/>
          <a:stretch/>
        </p:blipFill>
        <p:spPr>
          <a:xfrm>
            <a:off x="1000080" y="642960"/>
            <a:ext cx="58071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00040" y="45007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музее работает литературный лекторий, ведется работа с детьми дошкольного возраста. Имеется архив и научная библиотека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9" name="Рисунок 2" descr="04_vystavka.jpg"/>
          <p:cNvPicPr/>
          <p:nvPr/>
        </p:nvPicPr>
        <p:blipFill>
          <a:blip r:embed="rId1"/>
          <a:stretch/>
        </p:blipFill>
        <p:spPr>
          <a:xfrm>
            <a:off x="214200" y="500040"/>
            <a:ext cx="5276880" cy="39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500040" y="45007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музее работает литературный лекторий, ведется работа с детьми дошкольного возраста. Имеется архив и научная библиотека.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Рисунок 2" descr="04_vystavka.jpg"/>
          <p:cNvPicPr/>
          <p:nvPr/>
        </p:nvPicPr>
        <p:blipFill>
          <a:blip r:embed="rId1"/>
          <a:stretch/>
        </p:blipFill>
        <p:spPr>
          <a:xfrm>
            <a:off x="214200" y="500040"/>
            <a:ext cx="5276880" cy="39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00042165_coverr.jpg"/>
          <p:cNvPicPr/>
          <p:nvPr/>
        </p:nvPicPr>
        <p:blipFill>
          <a:blip r:embed="rId1"/>
          <a:stretch/>
        </p:blipFill>
        <p:spPr>
          <a:xfrm>
            <a:off x="250920" y="620640"/>
            <a:ext cx="2539800" cy="33782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00042185_coverr.jpg"/>
          <p:cNvPicPr/>
          <p:nvPr/>
        </p:nvPicPr>
        <p:blipFill>
          <a:blip r:embed="rId2"/>
          <a:stretch/>
        </p:blipFill>
        <p:spPr>
          <a:xfrm>
            <a:off x="6983280" y="620640"/>
            <a:ext cx="2160720" cy="35290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" descr="53.jpg"/>
          <p:cNvPicPr/>
          <p:nvPr/>
        </p:nvPicPr>
        <p:blipFill>
          <a:blip r:embed="rId3"/>
          <a:stretch/>
        </p:blipFill>
        <p:spPr>
          <a:xfrm>
            <a:off x="2050920" y="3068640"/>
            <a:ext cx="2592360" cy="3384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b36612.jpg"/>
          <p:cNvPicPr/>
          <p:nvPr/>
        </p:nvPicPr>
        <p:blipFill>
          <a:blip r:embed="rId4"/>
          <a:stretch/>
        </p:blipFill>
        <p:spPr>
          <a:xfrm>
            <a:off x="4932360" y="3068640"/>
            <a:ext cx="2324160" cy="336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Картинка 1 из 7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907920"/>
            <a:ext cx="417672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84360" y="1413000"/>
            <a:ext cx="72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Живёт у нас под крышей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признанный артис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целый день мы слыши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удожественный свис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в полях туманы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роса блести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он, проснувшись рано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же вовсю свисти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вистит не славы ради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ради всяких благ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просто в небо глядя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 сердца! Просто так!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водит он рул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 нескольку минут..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требуя нагр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 свой талант и труд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2050920" y="476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ергей Михалко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кворец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547344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4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0000"/>
                </a:solidFill>
                <a:latin typeface="Calibri"/>
              </a:rPr>
              <a:t>Взрослые скворцы окрашены в черный с металлическим отливом цвет. Присмотревшись можно увидеть красноватый, фиолетовый и зеленоватый отливы в оперении. Осенью на концах контурного пера имеются белые пятнышки, как бы покрывающие тело птицы жемчужной россыпью. Клюв весной желтый, а к осени темнеет. У молодых тусклое буроватое оперение, которое в первую же осень жизни сменяется на взрослый наряд.</a:t>
            </a:r>
            <a:br>
              <a:rPr sz="1800"/>
            </a:br>
            <a:r>
              <a:rPr b="1" i="1" lang="ru-RU" sz="1800" spc="-1" strike="noStrike">
                <a:solidFill>
                  <a:srgbClr val="6c0000"/>
                </a:solidFill>
                <a:latin typeface="Calibri"/>
              </a:rPr>
              <a:t>        Весной скворцы одними из самых первых прилетают на места гнездования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0000"/>
                </a:solidFill>
                <a:latin typeface="Calibri"/>
              </a:rPr>
              <a:t>Питается различной животной и растительной пищей, по окончании периода гнездования собирается большими плотными стаями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c0000"/>
                </a:solidFill>
                <a:latin typeface="Calibri"/>
              </a:rPr>
              <a:t>Гнездится преимущественно у жилищ человека, занимая специально для скворцов сделанные и вывешенные искусственные гнездовья, ниши под балконами и крышами и т. п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38" name="Picture 7" descr="http://www.songbirdgarden.com/store/prodimages/EuropeanStarling-1.jpg"/>
          <p:cNvPicPr/>
          <p:nvPr/>
        </p:nvPicPr>
        <p:blipFill>
          <a:blip r:embed="rId1"/>
          <a:stretch/>
        </p:blipFill>
        <p:spPr>
          <a:xfrm>
            <a:off x="5616720" y="1413000"/>
            <a:ext cx="35272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684360" y="1413000"/>
            <a:ext cx="72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Живёт у нас под крышей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признанный артис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целый день мы слыши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удожественный свис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в полях туманы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роса блести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он, проснувшись рано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же вовсю свисти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вистит не славы ради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ради всяких благ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просто в небо глядя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 сердца! Просто так!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водит он рул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 нескольку минут..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требуя нагр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 свой талант и труд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2050920" y="476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ергей Михалко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кворец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4859280" y="1557360"/>
            <a:ext cx="1152720" cy="21600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2700360" y="2421000"/>
            <a:ext cx="2232000" cy="2872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4211640" y="3933720"/>
            <a:ext cx="865080" cy="2872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4284720" y="4797360"/>
            <a:ext cx="86364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3348000" y="5516640"/>
            <a:ext cx="1295280" cy="21600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684360" y="1413000"/>
            <a:ext cx="72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Живёт у нас под крышей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признанный артис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целый день мы слыши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Художественный свис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в полях туманы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Ещё роса блести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он, проснувшись рано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же вовсю свистит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вистит не славы ради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ради всяких благ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 просто в небо глядя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 сердца! Просто так!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водит он рул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 нескольку минут..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 требуя награды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 свой талант и труд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2050920" y="476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ергей Михалков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Скворец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4859280" y="1557360"/>
            <a:ext cx="1152720" cy="21600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700360" y="2421000"/>
            <a:ext cx="2232000" cy="2872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4211640" y="3933720"/>
            <a:ext cx="865080" cy="2872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4284720" y="4797360"/>
            <a:ext cx="863640" cy="35712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3348000" y="5516640"/>
            <a:ext cx="1295280" cy="21600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2700360" y="1484280"/>
            <a:ext cx="792000" cy="21600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3419640" y="3357720"/>
            <a:ext cx="1728720" cy="2872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3348000" y="4221000"/>
            <a:ext cx="647640" cy="2876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4427640" y="5732640"/>
            <a:ext cx="1081080" cy="288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3924360" y="6093000"/>
            <a:ext cx="863640" cy="288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3" descr=""/>
          <p:cNvPicPr/>
          <p:nvPr/>
        </p:nvPicPr>
        <p:blipFill>
          <a:blip r:embed="rId1"/>
          <a:stretch/>
        </p:blipFill>
        <p:spPr>
          <a:xfrm>
            <a:off x="3906720" y="1116000"/>
            <a:ext cx="4114800" cy="3102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1008534-A0003BF9.jpg"/>
          <p:cNvPicPr/>
          <p:nvPr/>
        </p:nvPicPr>
        <p:blipFill>
          <a:blip r:embed="rId2"/>
          <a:stretch/>
        </p:blipFill>
        <p:spPr>
          <a:xfrm>
            <a:off x="357120" y="857160"/>
            <a:ext cx="3759120" cy="533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57160" y="3857760"/>
            <a:ext cx="70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Иванович Куприн родился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6 августа (7 сентября) 1870 года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захолустном городке Наровчате Пензенской губернии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Рисунок 2" descr="photo-29.jpg"/>
          <p:cNvPicPr/>
          <p:nvPr/>
        </p:nvPicPr>
        <p:blipFill>
          <a:blip r:embed="rId1"/>
          <a:stretch/>
        </p:blipFill>
        <p:spPr>
          <a:xfrm>
            <a:off x="3929040" y="857160"/>
            <a:ext cx="415440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" descr="fp19.jpg"/>
          <p:cNvPicPr/>
          <p:nvPr/>
        </p:nvPicPr>
        <p:blipFill>
          <a:blip r:embed="rId2"/>
          <a:stretch/>
        </p:blipFill>
        <p:spPr>
          <a:xfrm>
            <a:off x="928800" y="107172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3929040" y="121428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ца своего, умершего от холеры, когда мальчику был всего год, Куприн не помнил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1874 году он переезжает с матерью в Москву и поселяется в общей палате вдовьего дома (Сиротский пансион)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Рисунок 2" descr="kuprin.jpg"/>
          <p:cNvPicPr/>
          <p:nvPr/>
        </p:nvPicPr>
        <p:blipFill>
          <a:blip r:embed="rId1"/>
          <a:stretch/>
        </p:blipFill>
        <p:spPr>
          <a:xfrm>
            <a:off x="714240" y="1928880"/>
            <a:ext cx="22226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4929120" y="1071720"/>
            <a:ext cx="3857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юбовь Алексеевна Куприна, так звали его мать, урожденная княжна Куланчакова, "обладала сильным, непреклонным характером и высоким благородством"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2" name="Picture 2" descr="Любовь Алексеевна Куприна — мать писателя"/>
          <p:cNvPicPr/>
          <p:nvPr/>
        </p:nvPicPr>
        <p:blipFill>
          <a:blip r:embed="rId1"/>
          <a:stretch/>
        </p:blipFill>
        <p:spPr>
          <a:xfrm>
            <a:off x="285840" y="928800"/>
            <a:ext cx="437652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4429080" y="1143000"/>
            <a:ext cx="442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1876 году из-за тяжелого материального положения Любовь Алексеевна была вынуждена отдать сына в сиротское училище. Семилетний мальчик надел первую в своей жизни форму - парусиновые панталоны и парусиновую рубашку, обшитую вокруг ворота и вокруг рукавов форменной кумачовой лентой". Казенная обстановка причиняла мальчику жестокие страдания.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" name="Рисунок 2" descr="1998229.jpg"/>
          <p:cNvPicPr/>
          <p:nvPr/>
        </p:nvPicPr>
        <p:blipFill>
          <a:blip r:embed="rId1"/>
          <a:stretch/>
        </p:blipFill>
        <p:spPr>
          <a:xfrm>
            <a:off x="500040" y="714240"/>
            <a:ext cx="3429000" cy="567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6:35:48Z</dcterms:created>
  <dc:creator>Admin</dc:creator>
  <dc:description/>
  <dc:language>en-US</dc:language>
  <cp:lastModifiedBy>Даниил</cp:lastModifiedBy>
  <dcterms:modified xsi:type="dcterms:W3CDTF">2017-02-14T13:01:29Z</dcterms:modified>
  <cp:revision>20</cp:revision>
  <dc:subject/>
  <dc:title>Слайд 1</dc:title>
</cp:coreProperties>
</file>