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7A4-8F18-421C-9427-4D0EA77F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58B-D928-40D5-B8C5-CBB640F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C31-4F72-47B4-9117-7A08D942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638-64B0-46CB-84DA-ABD79E7F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94A-885D-4E6D-B453-7E946E49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11F-21BA-47DB-8FF4-159C95BF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F32-C60A-4F51-B7D1-0666956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C54-FFEF-429D-9081-4A23895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4C2-DD50-4849-AB60-9149BBD9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4BC-F815-4BB9-8777-682105C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B0D-FADB-4D95-889F-DCF9DE4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DDB-4D98-4FDD-906A-FE67070D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85C3-296F-4536-8183-542036A3A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32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Спешите делать добрые де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воспитател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БОУ «Детский с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ного вида № 5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ицкая Еле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:\Documents and Settings\Алена\Рабочий стол\добрые дела\107055644_BJLPrBmswgY.jpg"/>
          <p:cNvPicPr/>
          <p:nvPr/>
        </p:nvPicPr>
        <p:blipFill>
          <a:blip r:embed="rId1"/>
          <a:stretch/>
        </p:blipFill>
        <p:spPr>
          <a:xfrm>
            <a:off x="0" y="3429000"/>
            <a:ext cx="4456080" cy="342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Алена\Рабочий стол\добрые дела\the-sims-3-supernatural_20120613_1632294204.jpg"/>
          <p:cNvPicPr/>
          <p:nvPr/>
        </p:nvPicPr>
        <p:blipFill>
          <a:blip r:embed="rId1"/>
          <a:stretch/>
        </p:blipFill>
        <p:spPr>
          <a:xfrm>
            <a:off x="2627280" y="69840"/>
            <a:ext cx="3889440" cy="671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Алена\Рабочий стол\добрые дела\13799171803356.jpg"/>
          <p:cNvPicPr/>
          <p:nvPr/>
        </p:nvPicPr>
        <p:blipFill>
          <a:blip r:embed="rId2"/>
          <a:stretch/>
        </p:blipFill>
        <p:spPr>
          <a:xfrm>
            <a:off x="0" y="0"/>
            <a:ext cx="5580000" cy="693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Алена\Рабочий стол\добрые дела\ура28_enl.jpg"/>
          <p:cNvPicPr/>
          <p:nvPr/>
        </p:nvPicPr>
        <p:blipFill>
          <a:blip r:embed="rId3"/>
          <a:stretch/>
        </p:blipFill>
        <p:spPr>
          <a:xfrm>
            <a:off x="4140360" y="0"/>
            <a:ext cx="3240000" cy="201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Алена\Рабочий стол\добрые дела\images_2777.jpg"/>
          <p:cNvPicPr/>
          <p:nvPr/>
        </p:nvPicPr>
        <p:blipFill>
          <a:blip r:embed="rId4"/>
          <a:stretch/>
        </p:blipFill>
        <p:spPr>
          <a:xfrm>
            <a:off x="403056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Алена\Рабочий стол\добрые дела\1(10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Алена\Рабочий стол\добрые дела\ВАЛЕНТИНА_ОСЕЕВА.jpeg"/>
          <p:cNvPicPr/>
          <p:nvPr/>
        </p:nvPicPr>
        <p:blipFill>
          <a:blip r:embed="rId2"/>
          <a:stretch/>
        </p:blipFill>
        <p:spPr>
          <a:xfrm>
            <a:off x="3348000" y="1484280"/>
            <a:ext cx="3745080" cy="4867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2411280" y="47628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А. Осеева: «Синие листья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: «Семью свою нужно люби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3538440" cy="1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Плохое настроение у нас в семье с ут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И потому в семье у нас не ладятся 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У дедушки у нашего весь день болит сп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У бабушки у старенькой кружится голо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Папуля гвоздь хотел забить, по пальцу вдруг поп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У мамы ужин подгорел, в семье у нас сканд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Давайте будем их мирить, семью свою нужно люб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Друг другу улыбнемся и за руки возьмем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Дружно все обнимемся и тогда помирим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38292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Documents and Settings\Алена\Рабочий стол\добрые дела\большая-семья-счастливая-совместно-25341270.jpg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42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6600" spc="-1" strike="noStrike" u="sng">
                <a:solidFill>
                  <a:srgbClr val="333399"/>
                </a:solidFill>
                <a:uFillTx/>
                <a:latin typeface="Arial"/>
              </a:rPr>
              <a:t>Море Добро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брота 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лосерд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радани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юбовь,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е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очь люд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i?id=364540626-12-72&amp;n=21"/>
          <p:cNvPicPr/>
          <p:nvPr/>
        </p:nvPicPr>
        <p:blipFill>
          <a:blip r:embed="rId1"/>
          <a:stretch/>
        </p:blipFill>
        <p:spPr>
          <a:xfrm>
            <a:off x="4643280" y="1628640"/>
            <a:ext cx="432144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i?id=18535346-18-72&amp;n=21"/>
          <p:cNvPicPr/>
          <p:nvPr/>
        </p:nvPicPr>
        <p:blipFill>
          <a:blip r:embed="rId2"/>
          <a:stretch/>
        </p:blipFill>
        <p:spPr>
          <a:xfrm>
            <a:off x="4643280" y="4437000"/>
            <a:ext cx="432144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i?id=458297474-37-72&amp;n=21"/>
          <p:cNvPicPr/>
          <p:nvPr/>
        </p:nvPicPr>
        <p:blipFill>
          <a:blip r:embed="rId3"/>
          <a:stretch/>
        </p:blipFill>
        <p:spPr>
          <a:xfrm>
            <a:off x="250920" y="115920"/>
            <a:ext cx="1457280" cy="14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Алена\Рабочий стол\добрые дела\1357066150_krasivie_kartinki_s_dobrim_utrom-65 (1).jpg"/>
          <p:cNvPicPr/>
          <p:nvPr/>
        </p:nvPicPr>
        <p:blipFill>
          <a:blip r:embed="rId1"/>
          <a:stretch/>
        </p:blipFill>
        <p:spPr>
          <a:xfrm>
            <a:off x="0" y="0"/>
            <a:ext cx="4032360" cy="315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jLABtunwI9o"/>
          <p:cNvPicPr/>
          <p:nvPr/>
        </p:nvPicPr>
        <p:blipFill>
          <a:blip r:embed="rId2"/>
          <a:stretch/>
        </p:blipFill>
        <p:spPr>
          <a:xfrm>
            <a:off x="0" y="2967120"/>
            <a:ext cx="4029120" cy="389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978-5-353-03963-1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есня «Улыб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улыбки хмурый день свет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улыбки в небе радуга просн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елись улыбкою сво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она к тебе не раз ещё вернётся.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огда наверняка, вдруг запляшут обла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узнечик запиликает на скрипке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голубого ручейка начинается р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, а доброе идет лишь от улыбки.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От улыбки станет всем теп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лону даже маленькой ули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ускай повсюду на Зем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но лампочки включаются улыбки.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 тот - же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От улыбки солнечной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станет плакать самый грустный дожд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нный лес простится с тиш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ахлопает в зелёные ладоши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 тот - ж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680000" y="1484280"/>
            <a:ext cx="4464000" cy="537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i?id=649447670-34-72&amp;n=21"/>
          <p:cNvPicPr/>
          <p:nvPr/>
        </p:nvPicPr>
        <p:blipFill>
          <a:blip r:embed="rId2"/>
          <a:stretch/>
        </p:blipFill>
        <p:spPr>
          <a:xfrm>
            <a:off x="324000" y="260280"/>
            <a:ext cx="1504800" cy="14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Documents and Settings\Алена\Рабочий стол\добрые дела\1174564.jpg"/>
          <p:cNvPicPr/>
          <p:nvPr/>
        </p:nvPicPr>
        <p:blipFill>
          <a:blip r:embed="rId1"/>
          <a:stretch/>
        </p:blipFill>
        <p:spPr>
          <a:xfrm>
            <a:off x="6012000" y="2565360"/>
            <a:ext cx="255096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Алена\Рабочий стол\добрые дела\nuts.jpg"/>
          <p:cNvPicPr/>
          <p:nvPr/>
        </p:nvPicPr>
        <p:blipFill>
          <a:blip r:embed="rId2"/>
          <a:stretch/>
        </p:blipFill>
        <p:spPr>
          <a:xfrm>
            <a:off x="611280" y="2565360"/>
            <a:ext cx="2305080" cy="282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Алена\Рабочий стол\добрые дела\press1.jpg"/>
          <p:cNvPicPr/>
          <p:nvPr/>
        </p:nvPicPr>
        <p:blipFill>
          <a:blip r:embed="rId3"/>
          <a:stretch/>
        </p:blipFill>
        <p:spPr>
          <a:xfrm>
            <a:off x="3203640" y="2565360"/>
            <a:ext cx="2498760" cy="28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Documents and Settings\Алена\Рабочий стол\добрые дела\polza-i-vred-greckogo-oreha.jpg"/>
          <p:cNvPicPr/>
          <p:nvPr/>
        </p:nvPicPr>
        <p:blipFill>
          <a:blip r:embed="rId4"/>
          <a:stretch/>
        </p:blipFill>
        <p:spPr>
          <a:xfrm>
            <a:off x="4140360" y="260280"/>
            <a:ext cx="317808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Documents and Settings\Алена\Рабочий стол\добрые дела\gretskiy-oreh-4.jpg"/>
          <p:cNvPicPr/>
          <p:nvPr/>
        </p:nvPicPr>
        <p:blipFill>
          <a:blip r:embed="rId5"/>
          <a:stretch/>
        </p:blipFill>
        <p:spPr>
          <a:xfrm>
            <a:off x="1835280" y="260280"/>
            <a:ext cx="2160360" cy="173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160020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для добрых дел д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и славится о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лив ты, когда ус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много добрых де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е в жизни так меш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ьет оно и униж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ь для добрых дел д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и славится она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Жизнь дана на добрые дела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4" descr="C:\Users\Мисс Янио\Desktop\1269363975_1darite-lyudyam-dobro.jpeg"/>
          <p:cNvPicPr/>
          <p:nvPr/>
        </p:nvPicPr>
        <p:blipFill>
          <a:blip r:embed="rId1"/>
          <a:stretch/>
        </p:blipFill>
        <p:spPr>
          <a:xfrm>
            <a:off x="4643280" y="2133720"/>
            <a:ext cx="4321440" cy="46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i?id=269845733-19-72&amp;n=21"/>
          <p:cNvPicPr/>
          <p:nvPr/>
        </p:nvPicPr>
        <p:blipFill>
          <a:blip r:embed="rId2"/>
          <a:stretch/>
        </p:blipFill>
        <p:spPr>
          <a:xfrm>
            <a:off x="684360" y="5229360"/>
            <a:ext cx="2663640" cy="162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Добрая фея и злая и колду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Алена\Рабочий стол\добрые дела\13799171803356.jpg"/>
          <p:cNvPicPr/>
          <p:nvPr/>
        </p:nvPicPr>
        <p:blipFill>
          <a:blip r:embed="rId1"/>
          <a:stretch/>
        </p:blipFill>
        <p:spPr>
          <a:xfrm>
            <a:off x="4716360" y="1268280"/>
            <a:ext cx="3489480" cy="511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Алена\Рабочий стол\добрые дела\the-sims-3-supernatural_20120613_1632294204.jpg"/>
          <p:cNvPicPr/>
          <p:nvPr/>
        </p:nvPicPr>
        <p:blipFill>
          <a:blip r:embed="rId2"/>
          <a:stretch/>
        </p:blipFill>
        <p:spPr>
          <a:xfrm>
            <a:off x="539640" y="1268280"/>
            <a:ext cx="3000600" cy="518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гадай к какому произведению относится данная иллюстра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1022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 И. Чуковский «Доктор Айбол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1413000"/>
            <a:ext cx="4043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С. Пушкин «Сказка о рыбаке и рыб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Алена\Рабочий стол\добрые дела\129826_original.jpg"/>
          <p:cNvPicPr/>
          <p:nvPr/>
        </p:nvPicPr>
        <p:blipFill>
          <a:blip r:embed="rId1"/>
          <a:stretch/>
        </p:blipFill>
        <p:spPr>
          <a:xfrm>
            <a:off x="468360" y="2421000"/>
            <a:ext cx="2852640" cy="41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лена\Рабочий стол\добрые дела\the-fisherman-and-the-fish-bbbeba-h900.jpg"/>
          <p:cNvPicPr/>
          <p:nvPr/>
        </p:nvPicPr>
        <p:blipFill>
          <a:blip r:embed="rId2"/>
          <a:stretch/>
        </p:blipFill>
        <p:spPr>
          <a:xfrm>
            <a:off x="3895560" y="3068640"/>
            <a:ext cx="524844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Алена\Рабочий стол\добрые дела\the-sims-3-supernatural_20120613_1632294204.jpg"/>
          <p:cNvPicPr/>
          <p:nvPr/>
        </p:nvPicPr>
        <p:blipFill>
          <a:blip r:embed="rId3"/>
          <a:stretch/>
        </p:blipFill>
        <p:spPr>
          <a:xfrm>
            <a:off x="3348000" y="1314360"/>
            <a:ext cx="3672000" cy="522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7499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345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 Д. Ушинский «Слепая лошад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7640" y="549000"/>
            <a:ext cx="4114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Т. Аксаков «Аленький цветоч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Алена\Рабочий стол\добрые дела\06lab730b1267627748.jpg"/>
          <p:cNvPicPr/>
          <p:nvPr/>
        </p:nvPicPr>
        <p:blipFill>
          <a:blip r:embed="rId1"/>
          <a:stretch/>
        </p:blipFill>
        <p:spPr>
          <a:xfrm>
            <a:off x="324000" y="2421000"/>
            <a:ext cx="4829040" cy="32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Алена\Рабочий стол\000122.jpg"/>
          <p:cNvPicPr/>
          <p:nvPr/>
        </p:nvPicPr>
        <p:blipFill>
          <a:blip r:embed="rId2"/>
          <a:stretch/>
        </p:blipFill>
        <p:spPr>
          <a:xfrm>
            <a:off x="5292720" y="2349360"/>
            <a:ext cx="3267000" cy="334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0320" y="-1413000"/>
            <a:ext cx="543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3610080" cy="14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народная сказка: «Крошечка - Хавроше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172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 Толстой: «Два товарищ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Алена\Рабочий стол\добрые дела\0_8a395_5840371d_orig.jpg"/>
          <p:cNvPicPr/>
          <p:nvPr/>
        </p:nvPicPr>
        <p:blipFill>
          <a:blip r:embed="rId1"/>
          <a:stretch/>
        </p:blipFill>
        <p:spPr>
          <a:xfrm>
            <a:off x="650880" y="2174760"/>
            <a:ext cx="3652920" cy="395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Алена\Рабочий стол\добрые дела\Dva-tovaritcha.jpg"/>
          <p:cNvPicPr/>
          <p:nvPr/>
        </p:nvPicPr>
        <p:blipFill>
          <a:blip r:embed="rId2"/>
          <a:stretch/>
        </p:blipFill>
        <p:spPr>
          <a:xfrm>
            <a:off x="4356000" y="2565360"/>
            <a:ext cx="4735440" cy="345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8T09:55:02Z</dcterms:created>
  <dc:creator>Сашенька</dc:creator>
  <dc:description/>
  <dc:language>en-US</dc:language>
  <cp:lastModifiedBy>Садик</cp:lastModifiedBy>
  <dcterms:modified xsi:type="dcterms:W3CDTF">2017-02-16T08:27:46Z</dcterms:modified>
  <cp:revision>119</cp:revision>
  <dc:subject/>
  <dc:title>Слайд 1</dc:title>
</cp:coreProperties>
</file>