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3B9-DF74-4C1D-B6EC-646092DD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4B4-3B16-4C62-8D22-24A92E9F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680-F56C-43EE-AB21-EBE20D09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D78-0655-40BD-942F-D30D285E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84C-F19F-460C-B8F9-524C26EA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AEE-8AE2-4551-BA6F-0EDBF7A2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859-B5F5-4EA3-9278-734B50EA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7EE-DBA0-4AE3-AD85-A55A51FD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20B-44CF-4B28-A6ED-7EFDF7F5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C97-0341-471F-831A-1E613BC8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9D2-0486-460F-AFB0-DAD8495F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562-7216-4064-98B6-2F34144E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895B-253D-4440-9E1A-E65A988FF0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846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br>
              <a:rPr sz="32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Спешите делать добрые де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воспитател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ДБОУ «Детский са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бинированного вида № 5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ицкая Елена Никола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:\Documents and Settings\Алена\Рабочий стол\добрые дела\107055644_BJLPrBmswgY.jpg"/>
          <p:cNvPicPr/>
          <p:nvPr/>
        </p:nvPicPr>
        <p:blipFill>
          <a:blip r:embed="rId1"/>
          <a:stretch/>
        </p:blipFill>
        <p:spPr>
          <a:xfrm>
            <a:off x="0" y="3429000"/>
            <a:ext cx="4456080" cy="342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Алена\Рабочий стол\добрые дела\the-sims-3-supernatural_20120613_1632294204.jpg"/>
          <p:cNvPicPr/>
          <p:nvPr/>
        </p:nvPicPr>
        <p:blipFill>
          <a:blip r:embed="rId1"/>
          <a:stretch/>
        </p:blipFill>
        <p:spPr>
          <a:xfrm>
            <a:off x="2627280" y="69840"/>
            <a:ext cx="3889440" cy="6718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Documents and Settings\Алена\Рабочий стол\добрые дела\13799171803356.jpg"/>
          <p:cNvPicPr/>
          <p:nvPr/>
        </p:nvPicPr>
        <p:blipFill>
          <a:blip r:embed="rId2"/>
          <a:stretch/>
        </p:blipFill>
        <p:spPr>
          <a:xfrm>
            <a:off x="0" y="0"/>
            <a:ext cx="5580000" cy="6931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Алена\Рабочий стол\добрые дела\ура28_enl.jpg"/>
          <p:cNvPicPr/>
          <p:nvPr/>
        </p:nvPicPr>
        <p:blipFill>
          <a:blip r:embed="rId3"/>
          <a:stretch/>
        </p:blipFill>
        <p:spPr>
          <a:xfrm>
            <a:off x="4140360" y="0"/>
            <a:ext cx="3240000" cy="2017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Алена\Рабочий стол\добрые дела\images_2777.jpg"/>
          <p:cNvPicPr/>
          <p:nvPr/>
        </p:nvPicPr>
        <p:blipFill>
          <a:blip r:embed="rId4"/>
          <a:stretch/>
        </p:blipFill>
        <p:spPr>
          <a:xfrm>
            <a:off x="403056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Алена\Рабочий стол\добрые дела\1(10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Алена\Рабочий стол\добрые дела\ВАЛЕНТИНА_ОСЕЕВА.jpeg"/>
          <p:cNvPicPr/>
          <p:nvPr/>
        </p:nvPicPr>
        <p:blipFill>
          <a:blip r:embed="rId2"/>
          <a:stretch/>
        </p:blipFill>
        <p:spPr>
          <a:xfrm>
            <a:off x="3348000" y="1484280"/>
            <a:ext cx="3745080" cy="48672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8"/>
          <p:cNvSpPr/>
          <p:nvPr/>
        </p:nvSpPr>
        <p:spPr>
          <a:xfrm>
            <a:off x="2411280" y="47628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А. Осеева: «Синие листья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: «Семью свою нужно любить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3538440" cy="1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413000"/>
            <a:ext cx="4040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Плохое настроение у нас в семье с утр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И потому в семье у нас не ладятся д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У дедушки у нашего весь день болит спи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У бабушки у старенькой кружится голо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Папуля гвоздь хотел забить, по пальцу вдруг попа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У мамы ужин подгорел, в семье у нас сканд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Давайте будем их мирить, семью свою нужно люби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Друг другу улыбнемся и за руки возьмем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Дружно все обнимемся и тогда помиримс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382920" cy="1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:\Documents and Settings\Алена\Рабочий стол\добрые дела\большая-семья-счастливая-совместно-25341270.jpg"/>
          <p:cNvPicPr/>
          <p:nvPr/>
        </p:nvPicPr>
        <p:blipFill>
          <a:blip r:embed="rId1"/>
          <a:stretch/>
        </p:blipFill>
        <p:spPr>
          <a:xfrm>
            <a:off x="4572000" y="1916280"/>
            <a:ext cx="4321080" cy="420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6600" spc="-1" strike="noStrike" u="sng">
                <a:solidFill>
                  <a:srgbClr val="333399"/>
                </a:solidFill>
                <a:uFillTx/>
                <a:latin typeface="Arial"/>
              </a:rPr>
              <a:t>Море Доброт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764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брота –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илосерди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страдани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юбовь,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е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мочь людя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i?id=364540626-12-72&amp;n=21"/>
          <p:cNvPicPr/>
          <p:nvPr/>
        </p:nvPicPr>
        <p:blipFill>
          <a:blip r:embed="rId1"/>
          <a:stretch/>
        </p:blipFill>
        <p:spPr>
          <a:xfrm>
            <a:off x="4643280" y="1628640"/>
            <a:ext cx="4321440" cy="316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i?id=18535346-18-72&amp;n=21"/>
          <p:cNvPicPr/>
          <p:nvPr/>
        </p:nvPicPr>
        <p:blipFill>
          <a:blip r:embed="rId2"/>
          <a:stretch/>
        </p:blipFill>
        <p:spPr>
          <a:xfrm>
            <a:off x="4643280" y="4437000"/>
            <a:ext cx="4321440" cy="2421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i?id=458297474-37-72&amp;n=21"/>
          <p:cNvPicPr/>
          <p:nvPr/>
        </p:nvPicPr>
        <p:blipFill>
          <a:blip r:embed="rId3"/>
          <a:stretch/>
        </p:blipFill>
        <p:spPr>
          <a:xfrm>
            <a:off x="250920" y="115920"/>
            <a:ext cx="1457280" cy="142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Алена\Рабочий стол\добрые дела\1357066150_krasivie_kartinki_s_dobrim_utrom-65 (1).jpg"/>
          <p:cNvPicPr/>
          <p:nvPr/>
        </p:nvPicPr>
        <p:blipFill>
          <a:blip r:embed="rId1"/>
          <a:stretch/>
        </p:blipFill>
        <p:spPr>
          <a:xfrm>
            <a:off x="0" y="0"/>
            <a:ext cx="4032360" cy="3154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jLABtunwI9o"/>
          <p:cNvPicPr/>
          <p:nvPr/>
        </p:nvPicPr>
        <p:blipFill>
          <a:blip r:embed="rId2"/>
          <a:stretch/>
        </p:blipFill>
        <p:spPr>
          <a:xfrm>
            <a:off x="0" y="2967120"/>
            <a:ext cx="4029120" cy="3890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978-5-353-03963-1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есня «Улыбка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улыбки хмурый день свет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улыбки в небе радуга просн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елись улыбкою сво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она к тебе не раз ещё вернётся.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пев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огда наверняка, вдруг запляшут облак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узнечик запиликает на скрипке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голубого ручейка начинается рек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у, а доброе идет лишь от улыбки.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От улыбки станет всем теп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лону даже маленькой улит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пускай повсюду на Зем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вно лампочки включаются улыбки.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пев: тот - же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От улыбки солнечной 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станет плакать самый грустный дожд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нный лес простится с тиш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захлопает в зелёные ладоши.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пев: тот - ж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680000" y="1484280"/>
            <a:ext cx="4464000" cy="537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i?id=649447670-34-72&amp;n=21"/>
          <p:cNvPicPr/>
          <p:nvPr/>
        </p:nvPicPr>
        <p:blipFill>
          <a:blip r:embed="rId2"/>
          <a:stretch/>
        </p:blipFill>
        <p:spPr>
          <a:xfrm>
            <a:off x="324000" y="260280"/>
            <a:ext cx="1504800" cy="142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C:\Documents and Settings\Алена\Рабочий стол\добрые дела\1174564.jpg"/>
          <p:cNvPicPr/>
          <p:nvPr/>
        </p:nvPicPr>
        <p:blipFill>
          <a:blip r:embed="rId1"/>
          <a:stretch/>
        </p:blipFill>
        <p:spPr>
          <a:xfrm>
            <a:off x="6012000" y="2565360"/>
            <a:ext cx="2550960" cy="287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Documents and Settings\Алена\Рабочий стол\добрые дела\nuts.jpg"/>
          <p:cNvPicPr/>
          <p:nvPr/>
        </p:nvPicPr>
        <p:blipFill>
          <a:blip r:embed="rId2"/>
          <a:stretch/>
        </p:blipFill>
        <p:spPr>
          <a:xfrm>
            <a:off x="611280" y="2565360"/>
            <a:ext cx="2305080" cy="2822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:\Documents and Settings\Алена\Рабочий стол\добрые дела\press1.jpg"/>
          <p:cNvPicPr/>
          <p:nvPr/>
        </p:nvPicPr>
        <p:blipFill>
          <a:blip r:embed="rId3"/>
          <a:stretch/>
        </p:blipFill>
        <p:spPr>
          <a:xfrm>
            <a:off x="3203640" y="2565360"/>
            <a:ext cx="2498760" cy="28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:\Documents and Settings\Алена\Рабочий стол\добрые дела\polza-i-vred-greckogo-oreha.jpg"/>
          <p:cNvPicPr/>
          <p:nvPr/>
        </p:nvPicPr>
        <p:blipFill>
          <a:blip r:embed="rId4"/>
          <a:stretch/>
        </p:blipFill>
        <p:spPr>
          <a:xfrm>
            <a:off x="4140360" y="260280"/>
            <a:ext cx="317808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C:\Documents and Settings\Алена\Рабочий стол\добрые дела\gretskiy-oreh-4.jpg"/>
          <p:cNvPicPr/>
          <p:nvPr/>
        </p:nvPicPr>
        <p:blipFill>
          <a:blip r:embed="rId5"/>
          <a:stretch/>
        </p:blipFill>
        <p:spPr>
          <a:xfrm>
            <a:off x="1835280" y="260280"/>
            <a:ext cx="2160360" cy="173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8000" y="1600200"/>
            <a:ext cx="453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для добрых дел д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и славится о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астлив ты, когда усп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ть много добрых де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лое в жизни так меша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ьет оно и унижа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для добрых дел д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и славится она!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46836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Жизнь дана на добрые дела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Picture 4" descr="C:\Users\Мисс Янио\Desktop\1269363975_1darite-lyudyam-dobro.jpeg"/>
          <p:cNvPicPr/>
          <p:nvPr/>
        </p:nvPicPr>
        <p:blipFill>
          <a:blip r:embed="rId1"/>
          <a:stretch/>
        </p:blipFill>
        <p:spPr>
          <a:xfrm>
            <a:off x="4643280" y="2133720"/>
            <a:ext cx="4321440" cy="46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i?id=269845733-19-72&amp;n=21"/>
          <p:cNvPicPr/>
          <p:nvPr/>
        </p:nvPicPr>
        <p:blipFill>
          <a:blip r:embed="rId2"/>
          <a:stretch/>
        </p:blipFill>
        <p:spPr>
          <a:xfrm>
            <a:off x="684360" y="5229360"/>
            <a:ext cx="2663640" cy="162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Добрая фея и злая и колду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Documents and Settings\Алена\Рабочий стол\добрые дела\13799171803356.jpg"/>
          <p:cNvPicPr/>
          <p:nvPr/>
        </p:nvPicPr>
        <p:blipFill>
          <a:blip r:embed="rId1"/>
          <a:stretch/>
        </p:blipFill>
        <p:spPr>
          <a:xfrm>
            <a:off x="4716360" y="1268280"/>
            <a:ext cx="3489480" cy="5116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Алена\Рабочий стол\добрые дела\the-sims-3-supernatural_20120613_1632294204.jpg"/>
          <p:cNvPicPr/>
          <p:nvPr/>
        </p:nvPicPr>
        <p:blipFill>
          <a:blip r:embed="rId2"/>
          <a:stretch/>
        </p:blipFill>
        <p:spPr>
          <a:xfrm>
            <a:off x="539640" y="1268280"/>
            <a:ext cx="3000600" cy="518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Угадай к какому произведению относится данная иллюстрац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10220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 И. Чуковский «Доктор Айбол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1413000"/>
            <a:ext cx="4043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С. Пушкин «Сказка о рыбаке и рыб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Documents and Settings\Алена\Рабочий стол\добрые дела\129826_original.jpg"/>
          <p:cNvPicPr/>
          <p:nvPr/>
        </p:nvPicPr>
        <p:blipFill>
          <a:blip r:embed="rId1"/>
          <a:stretch/>
        </p:blipFill>
        <p:spPr>
          <a:xfrm>
            <a:off x="468360" y="2421000"/>
            <a:ext cx="2852640" cy="410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Алена\Рабочий стол\добрые дела\the-fisherman-and-the-fish-bbbeba-h900.jpg"/>
          <p:cNvPicPr/>
          <p:nvPr/>
        </p:nvPicPr>
        <p:blipFill>
          <a:blip r:embed="rId2"/>
          <a:stretch/>
        </p:blipFill>
        <p:spPr>
          <a:xfrm>
            <a:off x="3895560" y="3068640"/>
            <a:ext cx="524844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Documents and Settings\Алена\Рабочий стол\добрые дела\the-sims-3-supernatural_20120613_1632294204.jpg"/>
          <p:cNvPicPr/>
          <p:nvPr/>
        </p:nvPicPr>
        <p:blipFill>
          <a:blip r:embed="rId3"/>
          <a:stretch/>
        </p:blipFill>
        <p:spPr>
          <a:xfrm>
            <a:off x="3348000" y="1314360"/>
            <a:ext cx="3672000" cy="522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7499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345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 Д. Ушинский «Слепая лошад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7640" y="549000"/>
            <a:ext cx="411480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Т. Аксаков «Аленький цветоче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Documents and Settings\Алена\Рабочий стол\добрые дела\06lab730b1267627748.jpg"/>
          <p:cNvPicPr/>
          <p:nvPr/>
        </p:nvPicPr>
        <p:blipFill>
          <a:blip r:embed="rId1"/>
          <a:stretch/>
        </p:blipFill>
        <p:spPr>
          <a:xfrm>
            <a:off x="324000" y="2421000"/>
            <a:ext cx="4829040" cy="32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Алена\Рабочий стол\000122.jpg"/>
          <p:cNvPicPr/>
          <p:nvPr/>
        </p:nvPicPr>
        <p:blipFill>
          <a:blip r:embed="rId2"/>
          <a:stretch/>
        </p:blipFill>
        <p:spPr>
          <a:xfrm>
            <a:off x="5292720" y="2349360"/>
            <a:ext cx="3267000" cy="334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0320" y="-1413000"/>
            <a:ext cx="543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3610080" cy="14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ая народная сказка: «Крошечка - Хавроше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1720" cy="97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в Толстой: «Два товарищ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Алена\Рабочий стол\добрые дела\0_8a395_5840371d_orig.jpg"/>
          <p:cNvPicPr/>
          <p:nvPr/>
        </p:nvPicPr>
        <p:blipFill>
          <a:blip r:embed="rId1"/>
          <a:stretch/>
        </p:blipFill>
        <p:spPr>
          <a:xfrm>
            <a:off x="650880" y="2174760"/>
            <a:ext cx="3652920" cy="395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Алена\Рабочий стол\добрые дела\Dva-tovaritcha.jpg"/>
          <p:cNvPicPr/>
          <p:nvPr/>
        </p:nvPicPr>
        <p:blipFill>
          <a:blip r:embed="rId2"/>
          <a:stretch/>
        </p:blipFill>
        <p:spPr>
          <a:xfrm>
            <a:off x="4356000" y="2565360"/>
            <a:ext cx="4735440" cy="345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8T09:55:02Z</dcterms:created>
  <dc:creator>Сашенька</dc:creator>
  <dc:description/>
  <dc:language>en-US</dc:language>
  <cp:lastModifiedBy>Садик</cp:lastModifiedBy>
  <dcterms:modified xsi:type="dcterms:W3CDTF">2017-02-16T08:27:46Z</dcterms:modified>
  <cp:revision>119</cp:revision>
  <dc:subject/>
  <dc:title>Слайд 1</dc:title>
</cp:coreProperties>
</file>