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8.wmf" ContentType="image/x-wmf"/>
  <Override PartName="/ppt/media/image1.gif" ContentType="image/gif"/>
  <Override PartName="/ppt/media/image4.wmf" ContentType="image/x-wmf"/>
  <Override PartName="/ppt/media/image2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3.gif" ContentType="image/gi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5EE-8E08-4755-ACD9-0BF7B625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A3A-F8FE-48C2-A037-AEC0CC6F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02473-F1D5-4643-90BB-FEDA9FB7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DEE69-9CAC-4D4D-9B47-A0ECE760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AAD53-2CC0-4A76-9C72-2DC6D940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81C83-AD4A-4D2A-945B-9525D158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7EC83-1A71-4F1A-9F11-026C7D9D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AC84E-7EBA-44DA-9A1E-E94D5BCD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0DC05-19E0-49BD-9EAD-A56B32C5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573F4-EE40-4961-9B2F-C421B693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A2250-A58A-4C56-8DAE-58492DA8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A33E3-7248-416A-AE36-39DA2335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FEE-9D69-4190-A10A-99C076A5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3A21B-B39B-46F8-87BD-3B2CB78B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9E2D7-53F7-40E3-8727-8F905807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4DC82-1777-4D07-BDCF-58942F74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CD5AC-72F7-4724-9205-8E6CA91A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5DED7-7F5B-49C0-B828-A0095D84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90B9D-F573-47E3-8C22-ADA75AE0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5A158-DC53-4FCA-87E4-D3E1D468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581A3-635E-4461-9CC7-7BB093F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EF9F2-63C6-421B-9A99-40130473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C5C2B-9449-4AC5-AEC3-F94022F1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F75-1769-45DA-B45B-BC90268A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6EB8D-8948-4B93-A68D-F8AAB970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54CC54-FC1D-4257-AC29-AFB6A821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07AB2A-92AD-49D7-8D1E-0B72F1F6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206699-29F9-4E5C-9030-B7723106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D54BD2-1152-4813-A4C9-CB612808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3EE8A8-947B-4D8B-A374-E3165C10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2A97F8-E258-4442-AE77-CE13859D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CCB944-DD91-4380-9CE9-8068DB15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AE287F-92EC-44AC-925A-B5334CA9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84FB4E-EF2C-4A27-86BB-92D96D12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A659-A99A-4336-9059-7A94DB97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C3FCE5-329E-4D28-A738-BBDED01D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B8664D-6EFE-4887-A1DD-9DAE13BA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56BA53-9B26-4DB2-B7BC-8E15EEDA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55FD7-47C7-4941-832E-94F62063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5DB8F-346F-4BBB-AC89-E649786C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F937C-30C2-4814-AFFB-F1060330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98EEB-43B9-44DA-B112-8D73F499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83024-3DBD-4817-89C2-06ED14FC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D2996-27B1-4B4A-BCB8-9E3240F6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25A50-B6D3-4C3E-AAF8-ADFAB15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206C-76BE-4604-8F5E-9A0052F9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9578C-4EF4-4DFE-9687-0481F019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4ABD4-5E11-44AA-9BDB-B18DA2D4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4FD2D-4AC8-4FBF-A197-B62638C0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4A51F-5325-4E51-88D0-8A86B441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55D32-45F4-4D3E-8205-EB4ECC24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BD594F-E2DE-42D1-B48C-BFF3AADD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E89ABB-F55D-476A-8962-44247308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D6FC13-D8C2-4D1A-AC92-A91A1AF9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235E65-C5DD-4676-A2DF-D40B3570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E687E0-5330-402A-A342-B666CA4E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4F29-8697-4316-91A7-2379CE52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25EADC-AA7F-4301-83AB-5559EFD7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585915-8B49-4837-9674-2A64108C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E2763B-148B-4C50-AF28-B001A2E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D558AE-B1D0-4B1C-88EE-CBF359B9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7F9C1F-5FE9-403F-ABAF-DB741D9C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07607A-F1D6-487E-839D-BECE026A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730756-9193-4327-9F58-17C41592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7FDC-E089-4592-B98E-6164A99B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68CE-5586-434F-BDFF-629384CD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C8B5-5343-4E67-9636-9B03B537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1BF6-A877-4367-B2F5-FB07CFC6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F8C-A67F-47A7-9D67-879B7473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D107-5D3C-430F-89F5-F084F4D2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F701-D003-4B22-A1DE-70ADD80B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14CA-79A1-4FB5-B15E-00AABDF2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CEFD-C847-451F-AC77-09F5960A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DF45-D147-4EEB-89F1-6704FC4A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67B51-AADF-4DE1-9891-65B8DF13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78C03-5350-408E-87D2-35B8AE01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64DB-0669-4780-8378-D637D282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4C929-D59D-4669-8773-8D804AFD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4156-45D0-41CF-88D7-691AC98D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0C9-1676-4AB8-8A1B-8F11ADA8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5F48-C71A-4D55-96C3-DF8A437B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D9E3-B5F9-41C3-9337-835817BA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8887-2A9B-4B8F-99C7-687492D9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E9D3-D8DA-4231-92A6-0D292CE1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FFA3D-46C2-485E-8759-7D261F7E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B1DE-F454-42C4-837C-B0E2DA60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1B98-9A78-435B-BE93-B3BBB82A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C32ED-A46D-4F67-B294-C8DD0DF9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74EB-C70F-4B88-95D0-37733B29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E6B0-07BB-4E38-AC8A-C89EF282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031-CBF5-4E21-A088-32C5B74B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5CAC-21E1-4B8F-9BA7-A49D383F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1C28-29A2-4D13-B484-6C5C6A56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42ED8-F708-4558-8911-63491CEC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7C831-E1D8-450D-A04F-05B36CDB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FD31-296A-4F80-B17E-CA61B924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028B7-6DED-4B21-9C5C-2C8F6E22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0A247-6E18-4954-9DF2-328AFDA3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12457-EBC5-4B45-8777-A8439CDF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9A64-19D6-42F1-A30B-CC20A77C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E3F8E-DB48-469D-8679-17C8FC13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2E6-9AC4-4E5C-9909-DAA0CEA2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50893-AA4F-4D72-9B62-8FBD0AFB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C1B37-30CD-473C-A41D-FDA7461C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1FF46-63FB-4E3E-A729-C734B64A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24F20-B498-442C-BB70-8570F7E0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327D0-F030-4A92-BE03-52791A03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18362-25C4-40CA-B9E2-E033A50A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36FB-B646-4EB4-8D03-C30E81FE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51553-BD5D-446C-A9A7-AD7109E7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AF320-BBB3-4BFE-BE50-39E7F6CB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40B0A-488B-469E-8F9C-59D6B0D4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308-0150-42DD-8600-2CF6E785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EB674-4AA2-4627-BB06-4A86C8FD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147A1-1CF4-446E-AACF-475B6734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0ACCF-3189-4FE2-ADF7-34C69354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90022-F8A6-4CA7-8F92-0DBF0C9E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2DF3D-0E02-45B1-A5CC-61EEAE9D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42D25-77E8-492B-9828-A00E2EB7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5E410-EEB0-4352-9C16-D60A3E60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BFC4E-9583-4E95-A565-D0C235DE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2FC50-38B8-40D8-9E4B-A0C7A698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3236B-78F2-49E0-8FE7-022C3F5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D19-D334-490E-B6BE-92D94FC7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67191-C9EB-443B-A2B3-FBA38F3B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EDAC2-9215-4BE5-AB5A-03FEA9B5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4C3BF-5485-4CB2-928C-EE06489F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64645-1920-4E48-9F5D-56DEB384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76828-AEF1-498F-9399-F06CB2DA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D776E-B247-4D78-ABC5-95CA5B76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6C0EB-6B7E-4046-A394-AD8D0D1C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7D5E2-2AB1-497C-AD8C-E5976CC8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F41C5-8B96-45CC-9777-B2D7B300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30D3-54CC-4376-9B3B-16316D59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4FD-B41C-4130-9E43-8B057644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72915-6268-4923-A9B7-8B5384E9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AC98C-FBEB-41E6-A866-75736FCA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49288-371D-4C8E-A512-A5699BBA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C9875-5BBE-4B5C-B1F7-7EE289EA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AD565-F89A-48F8-9B01-2EBF08B8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00D80-E28A-4EC9-B543-1BD0A5A9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3169D-0C8B-4E76-9CCF-F941A9C2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CB250-DBC4-475A-BC57-5EBC3F5D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A0D5B-6714-43D6-8457-3E52AC4A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B323D-85EE-4FFC-927B-F2B89A13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4A0-3BF6-4498-8062-03F5F029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57635-8BD2-4FB5-A051-51D4E211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5E914-2AB1-447E-89B5-E9778EF1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99110-E493-4020-8171-D7511E21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EFD0D-4A5C-4B4E-8D00-5FDD47EC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49894-0D5B-424F-9655-93FFE696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768D6-94EB-4807-A0CD-366EC4DF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BE17E-0D16-4DCB-BAA0-6409EE70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C0615-4229-4E51-AD66-2FE31F6F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7D67A-6867-4D13-BA8C-725245E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67063-80A5-4B59-A056-5FC4F8F1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DB2C-E94F-4068-A911-90FB2F1E3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939B-19DE-40FD-95AA-D8E5DD26AC45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dt" idx="2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6C18-FE52-4BCE-B26A-0A5B50BF31D4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dt" idx="32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8C86-F991-4B00-A7A2-E0EC3BE3A70C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084B-C36A-4FC5-ADFF-61096962528B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9279-D313-417F-BAA0-09C8A012923A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D9DA-6A20-4E07-B2D1-0084B0DE4F6E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BBBF-9183-4964-BD93-BDC98963F84B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dt" idx="1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6811-621B-4961-821B-5E5C982B53DF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3D96-F7DC-44E3-A8B9-AADB3FF47677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B5BA-C212-46D8-B0DA-EF67FD390812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CA84-980C-4A85-97FC-CB7D333A0AC7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20D7-5D06-4714-A644-5F68541C31BE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-643320"/>
            <a:ext cx="85345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Добрый день!!!</a:t>
            </a:r>
            <a:endParaRPr b="0" lang="en-US" sz="54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48" name="Picture 2" descr="D:\картинки\картинки1\AG00052_.GIF"/>
          <p:cNvPicPr/>
          <p:nvPr/>
        </p:nvPicPr>
        <p:blipFill>
          <a:blip r:embed="rId1"/>
          <a:stretch/>
        </p:blipFill>
        <p:spPr>
          <a:xfrm>
            <a:off x="2411280" y="1557360"/>
            <a:ext cx="4470480" cy="2792520"/>
          </a:xfrm>
          <a:prstGeom prst="rect">
            <a:avLst/>
          </a:prstGeom>
          <a:ln w="0">
            <a:noFill/>
          </a:ln>
        </p:spPr>
      </p:pic>
      <p:sp>
        <p:nvSpPr>
          <p:cNvPr id="649" name="Прямоугольник 6"/>
          <p:cNvSpPr/>
          <p:nvPr/>
        </p:nvSpPr>
        <p:spPr>
          <a:xfrm>
            <a:off x="285840" y="4643280"/>
            <a:ext cx="8858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b2627"/>
                </a:solidFill>
                <a:latin typeface="Georgia"/>
              </a:rPr>
              <a:t>«Готовность ребенка к школьному обучению и адаптация в школ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ла: педагог-психолог Жагарина М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Понимание картин со скрытым смыслом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Цель: выявить уровень сформированности нравственных качеств личности и поведени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?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Что ты можешь сказать об этой картинке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то поступил хорошо и кто поступил плохо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2" descr="C:\Documents and Settings\Алексей\Рабочий стол\Семинар Готовность к школе\сюж.картина.bmp"/>
          <p:cNvPicPr/>
          <p:nvPr/>
        </p:nvPicPr>
        <p:blipFill>
          <a:blip r:embed="rId1"/>
          <a:stretch/>
        </p:blipFill>
        <p:spPr>
          <a:xfrm>
            <a:off x="5019840" y="1371600"/>
            <a:ext cx="3779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Понимание содержания литературных текстов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Цель: выявить понимание смысла текста, умение сделать вывод и воспроизвести рассказ в логической последовательности, оценить уровень развития речи (звукопроизношение, грамматический строй речи, словарный запас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Понимание серии картин, связанных единым сюжетом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79" name="Picture 4" descr="C:\Documents and Settings\Алексей\Рабочий стол\Семинар Готовность к школе\Весна.bmp"/>
          <p:cNvPicPr/>
          <p:nvPr/>
        </p:nvPicPr>
        <p:blipFill>
          <a:blip r:embed="rId1"/>
          <a:stretch/>
        </p:blipFill>
        <p:spPr>
          <a:xfrm>
            <a:off x="2286000" y="1714680"/>
            <a:ext cx="2306520" cy="307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C:\Documents and Settings\Алексей\Рабочий стол\Семинар Готовность к школе\Зима.bmp"/>
          <p:cNvPicPr/>
          <p:nvPr/>
        </p:nvPicPr>
        <p:blipFill>
          <a:blip r:embed="rId2"/>
          <a:stretch/>
        </p:blipFill>
        <p:spPr>
          <a:xfrm>
            <a:off x="0" y="1428840"/>
            <a:ext cx="2244600" cy="29970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" descr="C:\Documents and Settings\Алексей\Рабочий стол\Семинар Готовность к школе\Лето.bmp"/>
          <p:cNvPicPr/>
          <p:nvPr/>
        </p:nvPicPr>
        <p:blipFill>
          <a:blip r:embed="rId3"/>
          <a:stretch/>
        </p:blipFill>
        <p:spPr>
          <a:xfrm>
            <a:off x="4714920" y="2192400"/>
            <a:ext cx="2301840" cy="2997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C:\Documents and Settings\Алексей\Рабочий стол\Семинар Готовность к школе\Осень.bmp"/>
          <p:cNvPicPr/>
          <p:nvPr/>
        </p:nvPicPr>
        <p:blipFill>
          <a:blip r:embed="rId4"/>
          <a:stretch/>
        </p:blipFill>
        <p:spPr>
          <a:xfrm>
            <a:off x="6929280" y="3486240"/>
            <a:ext cx="2214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оказатели готовности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285480" y="1571400"/>
            <a:ext cx="850428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2. Способность к саморегуляции учебной деятельности (осозн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цели, умение планировать действия п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стижению целей, контролирова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езультаты, ориентироваться н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)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buClr>
                <a:srgbClr val="3891a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Тест Керна – Ирасека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buClr>
                <a:srgbClr val="3891a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Тест копирования бессмысленных            слогов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8" descr="D:\картинки\Копия Картинки\PERSON.WMF"/>
          <p:cNvPicPr/>
          <p:nvPr/>
        </p:nvPicPr>
        <p:blipFill>
          <a:blip r:embed="rId1"/>
          <a:stretch/>
        </p:blipFill>
        <p:spPr>
          <a:xfrm>
            <a:off x="6143760" y="4143240"/>
            <a:ext cx="1357200" cy="24400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5" descr="D:\картинки\Копия Картинки\CHILD3.WMF"/>
          <p:cNvPicPr/>
          <p:nvPr/>
        </p:nvPicPr>
        <p:blipFill>
          <a:blip r:embed="rId2"/>
          <a:stretch/>
        </p:blipFill>
        <p:spPr>
          <a:xfrm>
            <a:off x="7500960" y="571680"/>
            <a:ext cx="12175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оказатели готовности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285920"/>
            <a:ext cx="85042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Способность удерживать в памяти небольшие порции информации, указания учителя, необходимые для выполнения задания (кратковременная память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Методика «10 слов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Способность осуществлять умозаключения, рассуждать, обобщать, классифицир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Методика Э.Ф. Замбацявичен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«Исследование словесно-логическог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мышления младших школьников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9" name="Picture 7" descr="D:\картинки\Копия Картинки\PACIFR2.WMF"/>
          <p:cNvPicPr/>
          <p:nvPr/>
        </p:nvPicPr>
        <p:blipFill>
          <a:blip r:embed="rId1"/>
          <a:stretch/>
        </p:blipFill>
        <p:spPr>
          <a:xfrm>
            <a:off x="7143840" y="4857840"/>
            <a:ext cx="17539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Методика Э.Ф. Замбацявичене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«Исследование словесно-логическ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мышления младших школьников»</a:t>
            </a:r>
            <a:br>
              <a:rPr sz="2600"/>
            </a:br>
            <a:endParaRPr b="0" lang="en-US" sz="2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1357200"/>
            <a:ext cx="89298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 сапога всегда есть…(шнурок, пряжка, подошва, ремешки, пуговицы) (В теплых краях живет…(медведь, олень, волк, верблюд, пингвин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году…(24 месяца, 12 месяцев, 3 месяца, 4 месяца, 7 месяцев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нашей стране не живет…(соловей, аист, синица, страус, скворец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есяц зимы… (сентябрь, октябрь, февраль, ноябрь, март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ец старше своего сына…(редко, всегда, часто, никогда, иногда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ремя суток… (август, осень, суббота, утро, каникулы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 дерева всегда есть… (листья, цветы, плоды, корень, тень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ремя года… (август, осень, суббота, утро, каникулы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ассажирский транспорт…(комбайн, самосвал, автобус, экскаватор, тепловоз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357120"/>
            <a:ext cx="85345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2-й субтест</a:t>
            </a:r>
            <a:br>
              <a:rPr sz="3300"/>
            </a:b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28760" y="1213920"/>
            <a:ext cx="85010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юльпан, лилия, фасоль, ромашка, фиал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ка, озеро, море, мост, пруд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укла, прыгалка, песок, мяч, юл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тол, ковер, кресло, кровать, табуре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поль, береза, орешник, липа, осин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урица, петух, орел, гусь, индю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кружность, треугольник, четырехугольник, указка, квадра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ша, Витя, Стасик, Петров, Кол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исло, деление, умножение, вычитание, сложени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еселый, быстрый, грустный, вкусный, осторожны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3-й субтест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14200" y="1285920"/>
            <a:ext cx="85917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гурец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______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воздика____________________________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вощ                     Сорняк, роса, садик, цветок, земл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город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Сад_________________________________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рковь              Забор, грибы, яблоня, колодец, скамей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Учитель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рач_________________________________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еник                Очки, больница, палата, больной, лекарств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Цветок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тица________________________________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аза                     Клюв, чайка, гнездо, перья, хвос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ерчатка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апог_______________________________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ука                     Чулки, подошва, кожа, нога, щет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4-й субтест</a:t>
            </a:r>
            <a:br>
              <a:rPr sz="3300"/>
            </a:b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143000" y="1527120"/>
            <a:ext cx="7662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кунь, карась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етла, лопата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Лето, зима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гурец, помидор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ирень, орешник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Шкаф, диван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юнь, июль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ень, ночь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лон, муравей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ерево, цветок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Обработка результатов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ксимальное количество баллов, которые можно набрать за решение всех четырех субтестов – 40 (100% оценки успешности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успешности определяется по формуле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У=Х100%/40,  где Х – сумма баллов по всем теста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сокий уровень успешности – 4-й уровень – равен 32 баллам и более (80-100%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ый – 3-й уровень – 31,5-26 баллов (79-65%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иже среднего – 2-й уровень – 25,5-20 баллов (64,9-50%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изкий – 1-й уровень – 19,5 и ниже (49,9% и ниже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42600" y="-285840"/>
            <a:ext cx="819324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ab2627"/>
                </a:solidFill>
                <a:latin typeface="Georgia"/>
              </a:rPr>
              <a:t>Готовность ребенка к школьному обучению и адаптация в школе</a:t>
            </a:r>
            <a:br>
              <a:rPr sz="3200"/>
            </a:br>
            <a:endParaRPr b="0" lang="en-US" sz="32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1357200"/>
            <a:ext cx="8929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бенок, поступающий в школу, должен быть зрелым в физиологическом и социальном отношении, он должен достичь определенного уровня умственного и эмоционально-волевого развит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4" descr="D:\картинки\Копия Картинки\CHICKEGG.WMF"/>
          <p:cNvPicPr/>
          <p:nvPr/>
        </p:nvPicPr>
        <p:blipFill>
          <a:blip r:embed="rId1"/>
          <a:stretch/>
        </p:blipFill>
        <p:spPr>
          <a:xfrm>
            <a:off x="3857760" y="3249720"/>
            <a:ext cx="33447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оказатели готовности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5. Словарное развитие и способность фонематического восприятия (слуха)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Тест фонематического слух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2" name="Picture 3" descr="D:\картинки\картинки1\HH01291_.WMF"/>
          <p:cNvPicPr/>
          <p:nvPr/>
        </p:nvPicPr>
        <p:blipFill>
          <a:blip r:embed="rId1"/>
          <a:stretch/>
        </p:blipFill>
        <p:spPr>
          <a:xfrm>
            <a:off x="6215040" y="3929040"/>
            <a:ext cx="2338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320" y="-428760"/>
            <a:ext cx="853452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Рефлексивная технология 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«Сбор чемодана в дорогу»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нового Вы узнали сегодня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аше отношение к проведенному занятию, в том числ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желания, корректив? Самоощущ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5" name="Picture 10" descr="D:\картинки\Копия Картинки\TRUCK2.WMF"/>
          <p:cNvPicPr/>
          <p:nvPr/>
        </p:nvPicPr>
        <p:blipFill>
          <a:blip r:embed="rId1"/>
          <a:stretch/>
        </p:blipFill>
        <p:spPr>
          <a:xfrm>
            <a:off x="571680" y="4286160"/>
            <a:ext cx="4595760" cy="20718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9" descr="D:\картинки\Копия Картинки\SUNRISE.WMF"/>
          <p:cNvPicPr/>
          <p:nvPr/>
        </p:nvPicPr>
        <p:blipFill>
          <a:blip r:embed="rId2"/>
          <a:stretch/>
        </p:blipFill>
        <p:spPr>
          <a:xfrm>
            <a:off x="6072120" y="3417840"/>
            <a:ext cx="28242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-714240"/>
            <a:ext cx="853452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b2627"/>
                </a:solidFill>
                <a:latin typeface="Georgia"/>
              </a:rPr>
              <a:t>Готовность ребенка к школьному обучению и адаптация в школе</a:t>
            </a:r>
            <a:br>
              <a:rPr sz="3600"/>
            </a:br>
            <a:endParaRPr b="0" lang="en-US" sz="32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785960" y="1527120"/>
            <a:ext cx="7020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ебная деятельность требует определенного запаса знаний об окружающем мире, сформированности элементарных понятий. Ребенок должен владеть мыслительными операциями, уметь обобщать и дифференцировать предметы и явления окружающего мира, уметь планировать свою деятельность и осуществлять самоконтрол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2" descr="D:\картинки\картинки1\BD19582_.GIF"/>
          <p:cNvPicPr/>
          <p:nvPr/>
        </p:nvPicPr>
        <p:blipFill>
          <a:blip r:embed="rId1"/>
          <a:stretch/>
        </p:blipFill>
        <p:spPr>
          <a:xfrm>
            <a:off x="214200" y="2286000"/>
            <a:ext cx="17337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-500400"/>
            <a:ext cx="85345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b2627"/>
                </a:solidFill>
                <a:latin typeface="Georgia"/>
              </a:rPr>
              <a:t>Готовность ребенка к школьному обучению и адаптация в школе</a:t>
            </a:r>
            <a:br>
              <a:rPr sz="3200"/>
            </a:br>
            <a:endParaRPr b="0" lang="en-US" sz="32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ажны положительное отношение к учению, способность к саморегуляции поведения и проявление волевых усилий для выполнения поставленных задач. Не менее важны навыки речевого общения, развитая мелкая моторика руки и зрительно-двигательная координац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8" name="Picture 4" descr="D:\картинки\картинки1\HH00687_.WMF"/>
          <p:cNvPicPr/>
          <p:nvPr/>
        </p:nvPicPr>
        <p:blipFill>
          <a:blip r:embed="rId1"/>
          <a:stretch/>
        </p:blipFill>
        <p:spPr>
          <a:xfrm>
            <a:off x="4071960" y="4500720"/>
            <a:ext cx="1666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28760" y="-571680"/>
            <a:ext cx="8534160" cy="22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b2627"/>
                </a:solidFill>
                <a:latin typeface="Georgia"/>
              </a:rPr>
              <a:t>Готовность ребенка к школьному обучению и адаптация в школе</a:t>
            </a:r>
            <a:br>
              <a:rPr sz="3600"/>
            </a:br>
            <a:endParaRPr b="0" lang="en-US" sz="32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13840" y="1371240"/>
            <a:ext cx="428652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Ребенок к школе не готов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если он не умеет планировать и контролировать свои действия, мотивация учения низкая (ориентируется только на данные органов чувств), не умеет слушать другого человека и выполнять логические операции в форме поняти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1640" y="1371240"/>
            <a:ext cx="4429080" cy="4986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Ребенок к школе готов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, если он умеет планировать и контролировать свои действия (или стремится к этому), ориентируется на скрытые свойства предметов, на закономерности окружающего мира, стремится использовать их в своих действиях, умеет слушать другого человека и умеет (или стремится) выполнять логические операции в форме словесных понятий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оказатели готовности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14200" y="135720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особность ребенка к умственной активности (инициативность и настойчивость в умственной деятельности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особность к саморегуляции учебной деятельности (осознание цели, умение планировать действия по достижению целей, контролировать результаты, ориентироваться на образец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особность удерживать в памяти небольшие порции информации, указания учителя, необходимые для выполнения задания (кратковременная память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особность осуществлять элементарные умозаключения, рассуждать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ловарное развитие и способность фонематического восприятия (слуха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оказатели готовности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Осведомленность ребенка, запас представлений об окружающем мире, речевое развит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Методика «Нелепицы»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Понимание серии картин, связанных единым сюжето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Понимание содержания литературных текстов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Понимание загадок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Понимание карти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6" name="Picture 6" descr="D:\картинки\Копия Картинки\CHILD5.WMF"/>
          <p:cNvPicPr/>
          <p:nvPr/>
        </p:nvPicPr>
        <p:blipFill>
          <a:blip r:embed="rId1"/>
          <a:stretch/>
        </p:blipFill>
        <p:spPr>
          <a:xfrm>
            <a:off x="571680" y="4929120"/>
            <a:ext cx="13618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428760"/>
            <a:ext cx="85345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Методика «Нелепицы»</a:t>
            </a:r>
            <a:br>
              <a:rPr sz="3300"/>
            </a:b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1371240"/>
            <a:ext cx="414324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Цель: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ценить элементарные образные представления ребенка об окружающем мире, о логических связях и отношениях между объектами. Оценить умение рассуждать логически и грамматически верно выражать свои мысл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9" name="Picture 2" descr="C:\Documents and Settings\Алексей\Рабочий стол\Семинар Готовность к школе\Нелепицы.bmp"/>
          <p:cNvPicPr/>
          <p:nvPr/>
        </p:nvPicPr>
        <p:blipFill>
          <a:blip r:embed="rId1"/>
          <a:stretch/>
        </p:blipFill>
        <p:spPr>
          <a:xfrm>
            <a:off x="4857840" y="1371600"/>
            <a:ext cx="37526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Понимание картин со скрытым смыслом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Цель: выявить способность ребенка понять сюжет в целом, определить мысли и чувства людей на основании мимики, жестов персонажей, установить причинно-следственные связи, которые лежат в основе изображенной ситуа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2" descr="C:\Documents and Settings\Алексей\Рабочий стол\Семинар Готовность к школе\понимание картин.bmp"/>
          <p:cNvPicPr/>
          <p:nvPr/>
        </p:nvPicPr>
        <p:blipFill>
          <a:blip r:embed="rId1"/>
          <a:stretch/>
        </p:blipFill>
        <p:spPr>
          <a:xfrm>
            <a:off x="4981680" y="1371600"/>
            <a:ext cx="374652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39:27Z</dcterms:created>
  <dc:creator>Алексей</dc:creator>
  <dc:description/>
  <dc:language>en-US</dc:language>
  <cp:lastModifiedBy>Марина</cp:lastModifiedBy>
  <dcterms:modified xsi:type="dcterms:W3CDTF">2017-02-17T14:18:21Z</dcterms:modified>
  <cp:revision>24</cp:revision>
  <dc:subject/>
  <dc:title>               Готовность ребенка к школьному обучению и адаптация в школе </dc:title>
</cp:coreProperties>
</file>