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8.wmf" ContentType="image/x-wmf"/>
  <Override PartName="/ppt/media/image1.gif" ContentType="image/gif"/>
  <Override PartName="/ppt/media/image4.wmf" ContentType="image/x-wmf"/>
  <Override PartName="/ppt/media/image2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3.gif" ContentType="image/gi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FE8-9BB9-402E-9511-7AD545F9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971-09B6-4633-A41D-3FC46A00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49384-D5FC-43FA-AA3F-BEB87CE0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77583-1F61-4772-B040-9562E8DE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0B059-95E9-402C-A8C8-022B3572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AC5B9-2CD0-4F82-9632-0C77CA6A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F1BBE-0BD5-466A-9B48-F29FCB2D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CFF30-715D-4811-BCB0-2D56D28A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E716F-BFCB-4154-9C5E-DBAABCC5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E0633-09E3-4DFC-8440-2BE5D432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34574-25CB-40BB-A8CC-68CFAE9C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72F33-AC84-4841-8A2B-6A4C2B24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F26-BADB-4F13-8116-D4C23A88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4105B-4A35-4EC4-BCB5-947D7591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AB682-1D69-4647-BBB5-20EC5861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B05C9-754C-479A-B9C3-56AB3AB3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3B3CEB-4EF0-4FE2-B35B-94517EE6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71A0B-9AC1-4C3F-B8FB-625FDE23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4498D-F15C-49A5-99FB-E4376DDB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105E23-27D8-479D-A44A-DF566B03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FF098-45F9-4F65-BB9B-7738667E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76C28-7C0E-45CD-85C6-E93002B7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9F9D4-C772-4AD5-A71C-5CA476DA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C8F-21FC-4751-9FE8-13487AAE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3C598-967E-46C5-BB3A-D5D853DD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949CC0-86B0-479C-979E-2E03E5A6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F6A65B-73CE-4EC1-A2DE-9CE6FC0D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032AA2-22D5-46C6-BF95-537B4102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619206-7295-457D-A949-D54EB1B6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BFD9C9-9B38-42FF-A99E-C409F8E0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092D92-70B3-4FA4-89BB-F3ED9025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345878-BB91-4BE8-8F4B-F211A3E2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B87593-6FB1-49D9-B270-7F0289BB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2F2ADE-B4F2-4B11-BA2B-493027DE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C44A-77D2-415D-9EB3-DEDBE26A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954479-2DE8-4BAD-9D0A-E5D567A9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BBAB12-1B8D-4FDA-8641-649070C4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7643D7-0CC0-451F-B96C-C41C2803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5FDA7-8FEA-4EA0-929F-BB1B39F7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ADBF2-79D8-4F51-B557-D9A03E7C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48B34-B304-4EF8-9D6B-824393CD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36B5F-55EB-4BCC-A9BE-12876D96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1C016-378A-4F80-9A95-33B804B1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073F5-6E44-4677-8340-68A884EC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7C06D-7FC0-4554-912F-FC5DA122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4F48-8BA4-4CCB-AC16-E3F782F5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1B9E9-0228-4069-B58C-AC15D5F0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21ED9-7A43-4F1B-B58E-617DD52B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8E951-DAA1-4204-ACFF-94163D5A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40806-BC6A-45FF-AD0D-213CE7AF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86C03-8F2B-4688-859E-CBE0CC11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7EDE06-2053-4625-A376-6F42FFEC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71EC3F-F7CB-46CF-A497-C3E6157F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985AA3-76A9-4665-B927-E9F6E023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D58B97-7C98-4907-800A-CAB10AED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A2061E-5AC9-4718-9EB3-4E466082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8505-9378-4F28-9CBF-7F891398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B259BF-CD72-49CC-AC61-5EEB4100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CD6326-AA08-4595-B92D-179EF049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FF271D-CA92-410D-A093-36EB43DF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AF3369-2CBF-4F37-97B0-0ED2F652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2AF15D-08C2-456F-8E90-5010EADF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963AD1-07C5-40DF-8429-88E537CB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746C30-EF27-45F9-BCF2-79A97ECD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FC72-BEFF-4E18-99B9-CF182BD5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3517-C3C3-4EF0-8BC7-45437B57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5E94-C4FE-4292-89F8-50B76E4A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DD83-73C5-4B96-9B99-54D80207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CE3-875E-4D7E-8E8E-A56863E8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AAC3-B1BD-49EF-BB45-FFCAAA6E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91F5-11B1-4B7C-8676-23B2154B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07E8-BA01-4547-86B8-1E74F132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0F2E-3CA2-41F6-92BB-778B6992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0F51-93E7-44F1-ABF6-B1CA4D94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8BA7-C36E-4C56-8D04-4D8D21A3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56EA0-E840-4072-BCE4-EE815ADE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BB412-EF32-43FB-9DAA-734C3B23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D7F2-F3FF-461B-83F4-B8634DAC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6CCD-C381-4A16-A936-50CA3E35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2EE-A69A-4767-89E9-E4581B1D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0B78-FAC3-4BBB-8EC5-8C873C09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13D5E-B048-4C77-AD2F-031C577F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2BC0A-2A9D-4B35-9EE1-ACA99D42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E7B4-37E0-4163-90A0-4B0E363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94E3C-D4DA-4490-A49F-86CA6908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CA6A-FAE2-4CCC-884A-9FCC7A64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11344-1E3F-4EF4-9F05-B4945286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8A4A8-2AFF-43AB-91CF-ADDBA50C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47E06-4EFE-4347-8C82-5C00D070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BC55C-B7F0-4AC5-8B3B-D7B892FD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08B-07A7-44BC-B442-B0BA59BE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BC2B6-04EF-4102-9897-F982C654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48C68-8A9B-4E1D-B715-01DFBE24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C9B9B-7CB2-4857-8533-E3EE0B66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3FBC4-0011-4551-B660-0C00B4C6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07246-6368-4AB5-A4E6-DD596187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C3F2B-05CB-491C-B6D4-91736BFA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EA0B7-A217-4DEB-B63B-A7FFE50F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B3B72-4E37-43F5-A1CF-527EA2EE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64A6E-7B81-4B93-90B6-E9D2B3F9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77339-6703-4D76-906A-7948D838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A5C-E529-4306-9A50-AE61C618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35DEA-FB8B-42A4-A9C9-F76D04BB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A1251-60D4-48FD-92CA-133C58DE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B2E80-0A7B-4228-88B8-0719F2AF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8ACED-2DCE-48F4-98E7-05E09DBE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57EDE-CE86-4A94-9AE0-FC79DA32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36DD9-AE8F-4652-9F8D-4765B4F8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B6567-F42C-44B7-8A50-D3136246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2B9C5-8335-43D4-87E0-32FFF310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89A0D-C009-4EE0-B17C-B334E1DE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44490-7B32-485F-A6D3-CEF72D55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A489-27D1-4389-A441-5AE7ED7A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92D10-B98B-45C0-9978-014F9DDB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A5FAC-D7D8-4334-BEF6-61D9C0C5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46D3F-6DFF-4078-94AC-975F7F09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C7DF9-A548-493B-90C6-70FB016D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9EBE6-DE75-4D8E-8F6B-F4B73E15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2DFF0-055B-4392-9594-B7EE1528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0CCF6-A316-4638-97CB-C1527780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C6163-F933-4A77-AE62-A9B8ABCE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8AF58-2DA2-472C-B63C-9696738F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2D971-A838-402E-927F-B62544C4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005-530C-4672-BC03-26FA3C31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E020E-6F78-4734-8CB7-0FB5E33A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3FBD6-BD76-49B8-BBBA-F01B668F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CC4DE-E168-4CA1-9F8F-EBFBD8FB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3BF1E-B1FA-4017-9C96-9691AF62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3DA7E-FBD7-4049-BBAD-69620925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73EB2-3932-4F2A-9182-3C021320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6C3A8-680D-4672-A3AC-A7ACD968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CF99B-F172-4419-B654-BB9AD337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6EA1F-A2E8-4A6E-86F8-ED4B044E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6DB96-0662-420E-BBFD-8D8076AA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FF7-C499-4D17-8CB1-875583CC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DC18F-1BA2-4530-B63C-D44E59BE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E7AAE-661F-443A-B453-DD2C251A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30510-5048-4683-AC49-7D42181B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AA63E-A3E4-45E3-9D1A-40D15750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523F6-A388-481A-B7E7-4EB7DDD9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90C58-4662-4333-B05F-C7990B23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056F7-31E3-4B1B-A66D-F0B08A6D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61727-CDF6-420D-8EDA-AED6E36C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63924-90A1-4CC0-B416-1090EAAA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74428-5B13-46C3-A9D0-E3BF7394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1D8-B1A9-447F-806A-9111FB22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6DDBA-A877-4564-B2FD-2B23569D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93B57-BF23-44B6-9A13-52DA105B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37FA5-2A2E-466A-81A0-D405EFA8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CB5D7-AF1E-4A46-B9FD-684CF074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79756-53C9-4E01-871C-A3A44B56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22CCB-BAD4-40B2-85F2-60595BB4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4E679-4EC7-40D3-9A0D-0F61B630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5A1DB-597E-4D15-AFE0-4B06EBBD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5A7F1-A898-49D9-877D-10AF381F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9CC1C-9584-483B-A748-6D1045B4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A43A-9CBA-42DE-A9B8-E6F37A3351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D6CB-9EA2-42AD-BC66-14BA5FE88CEF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dt" idx="2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CB93-EE90-4191-B912-69B2FE39BF9D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dt" idx="32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C2BB-3694-4CBF-A894-D0FC207ECA6D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7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C1D0-EFC4-40FC-86B2-12FB7EA55F58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4EA8-B8DA-4806-AFAF-7949BA14076A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6EFA-BB7F-45B6-88DB-40D46920EA4C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6B70-FB86-4AEB-8D67-05FE21F12A47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dt" idx="1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D7F1-DBA3-4464-8521-2433BC59ED35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28CF-F545-4A34-B1E7-2144262009BA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1BB6-ECA4-4130-A2A2-62EEB436BA26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10C9-4A53-4172-AB54-B2D23C3DDD98}" type="slidenum">
              <a:rPr b="0" lang="ru-RU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6799-D68E-42A4-BDC6-785C7A05E8F6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-643320"/>
            <a:ext cx="85345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Добрый день!!!</a:t>
            </a:r>
            <a:endParaRPr b="0" lang="en-US" sz="54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48" name="Picture 2" descr="D:\картинки\картинки1\AG00052_.GIF"/>
          <p:cNvPicPr/>
          <p:nvPr/>
        </p:nvPicPr>
        <p:blipFill>
          <a:blip r:embed="rId1"/>
          <a:stretch/>
        </p:blipFill>
        <p:spPr>
          <a:xfrm>
            <a:off x="2411280" y="1557360"/>
            <a:ext cx="4470480" cy="2792520"/>
          </a:xfrm>
          <a:prstGeom prst="rect">
            <a:avLst/>
          </a:prstGeom>
          <a:ln w="0">
            <a:noFill/>
          </a:ln>
        </p:spPr>
      </p:pic>
      <p:sp>
        <p:nvSpPr>
          <p:cNvPr id="649" name="Прямоугольник 6"/>
          <p:cNvSpPr/>
          <p:nvPr/>
        </p:nvSpPr>
        <p:spPr>
          <a:xfrm>
            <a:off x="285840" y="4643280"/>
            <a:ext cx="8858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b2627"/>
                </a:solidFill>
                <a:latin typeface="Georgia"/>
              </a:rPr>
              <a:t>«Готовность ребенка к школьному обучению и адаптация в школ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ила: педагог-психолог Жагарина М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Понимание картин со скрытым смыслом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Цель: выявить уровень сформированности нравственных качеств личности и поведения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?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Что ты можешь сказать об этой картинке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то поступил хорошо и кто поступил плохо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2" descr="C:\Documents and Settings\Алексей\Рабочий стол\Семинар Готовность к школе\сюж.картина.bmp"/>
          <p:cNvPicPr/>
          <p:nvPr/>
        </p:nvPicPr>
        <p:blipFill>
          <a:blip r:embed="rId1"/>
          <a:stretch/>
        </p:blipFill>
        <p:spPr>
          <a:xfrm>
            <a:off x="5019840" y="1371600"/>
            <a:ext cx="37796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Понимание содержания литературных текстов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Цель: выявить понимание смысла текста, умение сделать вывод и воспроизвести рассказ в логической последовательности, оценить уровень развития речи (звукопроизношение, грамматический строй речи, словарный запас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4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Понимание серии картин, связанных единым сюжетом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79" name="Picture 4" descr="C:\Documents and Settings\Алексей\Рабочий стол\Семинар Готовность к школе\Весна.bmp"/>
          <p:cNvPicPr/>
          <p:nvPr/>
        </p:nvPicPr>
        <p:blipFill>
          <a:blip r:embed="rId1"/>
          <a:stretch/>
        </p:blipFill>
        <p:spPr>
          <a:xfrm>
            <a:off x="2286000" y="1714680"/>
            <a:ext cx="2306520" cy="307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5" descr="C:\Documents and Settings\Алексей\Рабочий стол\Семинар Готовность к школе\Зима.bmp"/>
          <p:cNvPicPr/>
          <p:nvPr/>
        </p:nvPicPr>
        <p:blipFill>
          <a:blip r:embed="rId2"/>
          <a:stretch/>
        </p:blipFill>
        <p:spPr>
          <a:xfrm>
            <a:off x="0" y="1428840"/>
            <a:ext cx="2244600" cy="29970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" descr="C:\Documents and Settings\Алексей\Рабочий стол\Семинар Готовность к школе\Лето.bmp"/>
          <p:cNvPicPr/>
          <p:nvPr/>
        </p:nvPicPr>
        <p:blipFill>
          <a:blip r:embed="rId3"/>
          <a:stretch/>
        </p:blipFill>
        <p:spPr>
          <a:xfrm>
            <a:off x="4714920" y="2192400"/>
            <a:ext cx="2301840" cy="2997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" descr="C:\Documents and Settings\Алексей\Рабочий стол\Семинар Готовность к школе\Осень.bmp"/>
          <p:cNvPicPr/>
          <p:nvPr/>
        </p:nvPicPr>
        <p:blipFill>
          <a:blip r:embed="rId4"/>
          <a:stretch/>
        </p:blipFill>
        <p:spPr>
          <a:xfrm>
            <a:off x="6929280" y="3486240"/>
            <a:ext cx="2214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Показатели готовности: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285480" y="1571400"/>
            <a:ext cx="850428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3891a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2. Способность к саморегуляции учебной деятельности (осознан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цели, умение планировать действия п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остижению целей, контролирова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езультаты, ориентироваться н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)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99"/>
              </a:spcBef>
              <a:buClr>
                <a:srgbClr val="3891a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Тест Керна – Ирасека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99"/>
              </a:spcBef>
              <a:buClr>
                <a:srgbClr val="3891a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Тест копирования бессмысленных            слогов</a:t>
            </a: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5" name="Picture 8" descr="D:\картинки\Копия Картинки\PERSON.WMF"/>
          <p:cNvPicPr/>
          <p:nvPr/>
        </p:nvPicPr>
        <p:blipFill>
          <a:blip r:embed="rId1"/>
          <a:stretch/>
        </p:blipFill>
        <p:spPr>
          <a:xfrm>
            <a:off x="6143760" y="4143240"/>
            <a:ext cx="1357200" cy="24400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5" descr="D:\картинки\Копия Картинки\CHILD3.WMF"/>
          <p:cNvPicPr/>
          <p:nvPr/>
        </p:nvPicPr>
        <p:blipFill>
          <a:blip r:embed="rId2"/>
          <a:stretch/>
        </p:blipFill>
        <p:spPr>
          <a:xfrm>
            <a:off x="7500960" y="571680"/>
            <a:ext cx="12175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Показатели готовности: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01320" y="1285920"/>
            <a:ext cx="85042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Способность удерживать в памяти небольшие порции информации, указания учителя, необходимые для выполнения задания (кратковременная память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Методика «10 слов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.Способность осуществлять умозаключения, рассуждать, обобщать, классифициров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Методика Э.Ф. Замбацявичен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«Исследование словесно-логического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мышления младших школьников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9" name="Picture 7" descr="D:\картинки\Копия Картинки\PACIFR2.WMF"/>
          <p:cNvPicPr/>
          <p:nvPr/>
        </p:nvPicPr>
        <p:blipFill>
          <a:blip r:embed="rId1"/>
          <a:stretch/>
        </p:blipFill>
        <p:spPr>
          <a:xfrm>
            <a:off x="7143840" y="4857840"/>
            <a:ext cx="17539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Методика Э.Ф. Замбацявичене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«Исследование словесно-логического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Georgia"/>
              </a:rPr>
              <a:t>мышления младших школьников»</a:t>
            </a:r>
            <a:br>
              <a:rPr sz="2600"/>
            </a:br>
            <a:endParaRPr b="0" lang="en-US" sz="26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1357200"/>
            <a:ext cx="89298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 сапога всегда есть…(шнурок, пряжка, подошва, ремешки, пуговицы) (В теплых краях живет…(медведь, олень, волк, верблюд, пингвин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году…(24 месяца, 12 месяцев, 3 месяца, 4 месяца, 7 месяцев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нашей стране не живет…(соловей, аист, синица, страус, скворец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Месяц зимы… (сентябрь, октябрь, февраль, ноябрь, март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ец старше своего сына…(редко, всегда, часто, никогда, иногда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ремя суток… (август, осень, суббота, утро, каникулы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 дерева всегда есть… (листья, цветы, плоды, корень, тень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ремя года… (август, осень, суббота, утро, каникулы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ассажирский транспорт…(комбайн, самосвал, автобус, экскаватор, тепловоз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357120"/>
            <a:ext cx="85345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2-й субтест</a:t>
            </a:r>
            <a:br>
              <a:rPr sz="3300"/>
            </a:b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28760" y="1213920"/>
            <a:ext cx="850104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юльпан, лилия, фасоль, ромашка, фиал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ка, озеро, море, мост, пруд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укла, прыгалка, песок, мяч, юл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тол, ковер, кресло, кровать, табуре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поль, береза, орешник, липа, осин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урица, петух, орел, гусь, индюк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кружность, треугольник, четырехугольник, указка, квадра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аша, Витя, Стасик, Петров, Кол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исло, деление, умножение, вычитание, сложени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еселый, быстрый, грустный, вкусный, осторожны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3-й субтест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14200" y="1285920"/>
            <a:ext cx="859176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гурец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______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воздика____________________________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вощ                     Сорняк, роса, садик, цветок, земл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город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Сад_________________________________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орковь              Забор, грибы, яблоня, колодец, скамей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Учитель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рач_________________________________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ченик                Очки, больница, палата, больной, лекарство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Цветок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тица________________________________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аза                     Клюв, чайка, гнездо, перья, хвос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ерчатка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апог_______________________________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ука                     Чулки, подошва, кожа, нога, щет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9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4-й субтест</a:t>
            </a:r>
            <a:br>
              <a:rPr sz="3300"/>
            </a:b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143000" y="1527120"/>
            <a:ext cx="7662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кунь, карась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етла, лопата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Лето, зима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гурец, помидор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ирень, орешник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Шкаф, диван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юнь, июль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ень, ночь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лон, муравей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ерево, цветок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Обработка результатов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214200" y="1527120"/>
            <a:ext cx="8591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ксимальное количество баллов, которые можно набрать за решение всех четырех субтестов – 40 (100% оценки успешности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успешности определяется по формуле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У=Х100%/40,  где Х – сумма баллов по всем теста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01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сокий уровень успешности – 4-й уровень – равен 32 баллам и более (80-100%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01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рмальный – 3-й уровень – 31,5-26 баллов (79-65%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01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иже среднего – 2-й уровень – 25,5-20 баллов (64,9-50%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01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изкий – 1-й уровень – 19,5 и ниже (49,9% и ниже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42600" y="-285840"/>
            <a:ext cx="819324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ab2627"/>
                </a:solidFill>
                <a:latin typeface="Georgia"/>
              </a:rPr>
              <a:t>Готовность ребенка к школьному обучению и адаптация в школе</a:t>
            </a:r>
            <a:br>
              <a:rPr sz="3200"/>
            </a:br>
            <a:endParaRPr b="0" lang="en-US" sz="32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-360" y="1357200"/>
            <a:ext cx="8929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бенок, поступающий в школу, должен быть зрелым в физиологическом и социальном отношении, он должен достичь определенного уровня умственного и эмоционально-волевого развит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Picture 4" descr="D:\картинки\Копия Картинки\CHICKEGG.WMF"/>
          <p:cNvPicPr/>
          <p:nvPr/>
        </p:nvPicPr>
        <p:blipFill>
          <a:blip r:embed="rId1"/>
          <a:stretch/>
        </p:blipFill>
        <p:spPr>
          <a:xfrm>
            <a:off x="3857760" y="3249720"/>
            <a:ext cx="33447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Показатели готовности: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5. Словарное развитие и способность фонематического восприятия (слуха)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Тест фонематического слух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2" name="Picture 3" descr="D:\картинки\картинки1\HH01291_.WMF"/>
          <p:cNvPicPr/>
          <p:nvPr/>
        </p:nvPicPr>
        <p:blipFill>
          <a:blip r:embed="rId1"/>
          <a:stretch/>
        </p:blipFill>
        <p:spPr>
          <a:xfrm>
            <a:off x="6215040" y="3929040"/>
            <a:ext cx="23385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320" y="-428760"/>
            <a:ext cx="853452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Рефлексивная технология 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«Сбор чемодана в дорогу»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о нового Вы узнали сегодня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аше отношение к проведенному занятию, в том числ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желания, корректив? Самоощущени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5" name="Picture 10" descr="D:\картинки\Копия Картинки\TRUCK2.WMF"/>
          <p:cNvPicPr/>
          <p:nvPr/>
        </p:nvPicPr>
        <p:blipFill>
          <a:blip r:embed="rId1"/>
          <a:stretch/>
        </p:blipFill>
        <p:spPr>
          <a:xfrm>
            <a:off x="571680" y="4286160"/>
            <a:ext cx="4595760" cy="20718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9" descr="D:\картинки\Копия Картинки\SUNRISE.WMF"/>
          <p:cNvPicPr/>
          <p:nvPr/>
        </p:nvPicPr>
        <p:blipFill>
          <a:blip r:embed="rId2"/>
          <a:stretch/>
        </p:blipFill>
        <p:spPr>
          <a:xfrm>
            <a:off x="6072120" y="3417840"/>
            <a:ext cx="28242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-714240"/>
            <a:ext cx="853452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b2627"/>
                </a:solidFill>
                <a:latin typeface="Georgia"/>
              </a:rPr>
              <a:t>Готовность ребенка к школьному обучению и адаптация в школе</a:t>
            </a:r>
            <a:br>
              <a:rPr sz="3600"/>
            </a:br>
            <a:endParaRPr b="0" lang="en-US" sz="32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785960" y="1527120"/>
            <a:ext cx="7020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чебная деятельность требует определенного запаса знаний об окружающем мире, сформированности элементарных понятий. Ребенок должен владеть мыслительными операциями, уметь обобщать и дифференцировать предметы и явления окружающего мира, уметь планировать свою деятельность и осуществлять самоконтроль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5" name="Picture 2" descr="D:\картинки\картинки1\BD19582_.GIF"/>
          <p:cNvPicPr/>
          <p:nvPr/>
        </p:nvPicPr>
        <p:blipFill>
          <a:blip r:embed="rId1"/>
          <a:stretch/>
        </p:blipFill>
        <p:spPr>
          <a:xfrm>
            <a:off x="214200" y="2286000"/>
            <a:ext cx="17337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-500400"/>
            <a:ext cx="85345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b2627"/>
                </a:solidFill>
                <a:latin typeface="Georgia"/>
              </a:rPr>
              <a:t>Готовность ребенка к школьному обучению и адаптация в школе</a:t>
            </a:r>
            <a:br>
              <a:rPr sz="3200"/>
            </a:br>
            <a:endParaRPr b="0" lang="en-US" sz="32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ажны положительное отношение к учению, способность к саморегуляции поведения и проявление волевых усилий для выполнения поставленных задач. Не менее важны навыки речевого общения, развитая мелкая моторика руки и зрительно-двигательная координац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8" name="Picture 4" descr="D:\картинки\картинки1\HH00687_.WMF"/>
          <p:cNvPicPr/>
          <p:nvPr/>
        </p:nvPicPr>
        <p:blipFill>
          <a:blip r:embed="rId1"/>
          <a:stretch/>
        </p:blipFill>
        <p:spPr>
          <a:xfrm>
            <a:off x="4071960" y="4500720"/>
            <a:ext cx="1666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28760" y="-571680"/>
            <a:ext cx="8534160" cy="22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b2627"/>
                </a:solidFill>
                <a:latin typeface="Georgia"/>
              </a:rPr>
              <a:t>Готовность ребенка к школьному обучению и адаптация в школе</a:t>
            </a:r>
            <a:br>
              <a:rPr sz="3600"/>
            </a:br>
            <a:endParaRPr b="0" lang="en-US" sz="32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13840" y="1371240"/>
            <a:ext cx="428652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Ребенок к школе не готов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если он не умеет планировать и контролировать свои действия, мотивация учения низкая (ориентируется только на данные органов чувств), не умеет слушать другого человека и выполнять логические операции в форме понятий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1640" y="1371240"/>
            <a:ext cx="4429080" cy="4986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Ребенок к школе готов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, если он умеет планировать и контролировать свои действия (или стремится к этому), ориентируется на скрытые свойства предметов, на закономерности окружающего мира, стремится использовать их в своих действиях, умеет слушать другого человека и умеет (или стремится) выполнять логические операции в форме словесных понятий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Показатели готовности: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14200" y="1357200"/>
            <a:ext cx="8715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пособность ребенка к умственной активности (инициативность и настойчивость в умственной деятельности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пособность к саморегуляции учебной деятельности (осознание цели, умение планировать действия по достижению целей, контролировать результаты, ориентироваться на образец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пособность удерживать в памяти небольшие порции информации, указания учителя, необходимые для выполнения задания (кратковременная память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пособность осуществлять элементарные умозаключения, рассуждать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ловарное развитие и способность фонематического восприятия (слуха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ab2627"/>
                </a:solidFill>
                <a:latin typeface="Georgia"/>
              </a:rPr>
              <a:t>Показатели готовности: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Осведомленность ребенка, запас представлений об окружающем мире, речевое развит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Методика «Нелепицы»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Понимание серии картин, связанных единым сюжето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Понимание содержания литературных текстов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Понимание загадок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Понимание карти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0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6" name="Picture 6" descr="D:\картинки\Копия Картинки\CHILD5.WMF"/>
          <p:cNvPicPr/>
          <p:nvPr/>
        </p:nvPicPr>
        <p:blipFill>
          <a:blip r:embed="rId1"/>
          <a:stretch/>
        </p:blipFill>
        <p:spPr>
          <a:xfrm>
            <a:off x="571680" y="4929120"/>
            <a:ext cx="13618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428760"/>
            <a:ext cx="85345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Методика «Нелепицы»</a:t>
            </a:r>
            <a:br>
              <a:rPr sz="3300"/>
            </a:b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1371240"/>
            <a:ext cx="414324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Цель: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ценить элементарные образные представления ребенка об окружающем мире, о логических связях и отношениях между объектами. Оценить умение рассуждать логически и грамматически верно выражать свои мысл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9" name="Picture 2" descr="C:\Documents and Settings\Алексей\Рабочий стол\Семинар Готовность к школе\Нелепицы.bmp"/>
          <p:cNvPicPr/>
          <p:nvPr/>
        </p:nvPicPr>
        <p:blipFill>
          <a:blip r:embed="rId1"/>
          <a:stretch/>
        </p:blipFill>
        <p:spPr>
          <a:xfrm>
            <a:off x="4857840" y="1371600"/>
            <a:ext cx="37526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Понимание картин со скрытым смыслом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Цель: выявить способность ребенка понять сюжет в целом, определить мысли и чувства людей на основании мимики, жестов персонажей, установить причинно-следственные связи, которые лежат в основе изображенной ситуаци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2" descr="C:\Documents and Settings\Алексей\Рабочий стол\Семинар Готовность к школе\понимание картин.bmp"/>
          <p:cNvPicPr/>
          <p:nvPr/>
        </p:nvPicPr>
        <p:blipFill>
          <a:blip r:embed="rId1"/>
          <a:stretch/>
        </p:blipFill>
        <p:spPr>
          <a:xfrm>
            <a:off x="4981680" y="1371600"/>
            <a:ext cx="374652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6:39:27Z</dcterms:created>
  <dc:creator>Алексей</dc:creator>
  <dc:description/>
  <dc:language>en-US</dc:language>
  <cp:lastModifiedBy>Марина</cp:lastModifiedBy>
  <dcterms:modified xsi:type="dcterms:W3CDTF">2017-02-17T14:18:21Z</dcterms:modified>
  <cp:revision>24</cp:revision>
  <dc:subject/>
  <dc:title>               Готовность ребенка к школьному обучению и адаптация в школе </dc:title>
</cp:coreProperties>
</file>