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E89-DC29-494B-A65B-BDED4514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A79-3622-4999-96EA-007ECE96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DF8-2811-4929-81C5-6959DB51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F7F-46CF-4B0E-BE9C-5DF5F6DF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18BE-59B0-4BE9-B293-5785405B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AB14-A791-41BA-AFBE-DE7FE282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C44F-8B10-462E-97CE-AC232AC2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CDAB-409A-4120-861D-263B1870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0A22-CA2D-40B1-B510-794628B0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A370-8AB3-4EAC-96A6-186EF3C8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D2ED-55A0-48C2-973A-DC80A2D9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D2A-4971-4FF6-B51F-D2567FD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F706-6713-48B9-B773-F86D21B6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C849-8CA8-41B5-B8A4-83A20176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3642-E24C-4D0D-82C6-0F25991C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9F17-3BC3-4C6C-8170-35831229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33AD-760F-421F-86CB-3EC357C4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FDE9-B698-4801-8345-48D677A2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70E7E-1448-48B0-A2C0-147F46DE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92E4-BED0-43C1-A9AF-2ACC3B40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AC075-3AEC-417B-8BB6-DB221ADB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0765-768A-4F44-9B77-7349325C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FA1-9E01-4A92-9C5C-5DF9C6FD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E8D4-82BD-4E1D-B947-AE397F5F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886FB-D740-4583-B5C1-7CE1512D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1D91-0662-4E85-9CF7-0B3DA53D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A15D-DFE8-449D-9795-4FD2D2C7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47B7-F997-4B80-9D27-1C586AFA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ABF2-FD6B-4EF9-BDDC-457ACB79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FB99-E505-436E-976A-8DCADE5B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41C9C-28EF-4B09-BF44-9B752F1E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D10D-FACE-4512-9153-B3F34DEA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CD504-96AD-4FD3-86B6-8E3D5535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CA3-3955-4024-85B0-B6A32F54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6767-1003-4C01-AD3C-A15CA930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81EC-8A22-41CE-9290-EAF39A55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8914-3442-40BC-A446-02B00E3F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A1BB6-CF0C-479F-AC6A-D37451A6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C567-35A8-4B4A-B02C-114345AF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537B-DA63-4297-9EE6-343E051C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0AF27-9128-4E8A-B556-46820C01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FF48-22CA-4E47-A613-6F8AEF81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9F3F4-8968-43F6-B7BC-0CBB5E4E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06983-D3BA-4D53-91E4-0F5CDD27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D19-CC13-4E56-8100-FA0E0F90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DC72-747D-475F-80BC-4576DAF0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FBB8F-60CB-4562-B342-392AD12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06A5C-D5F4-4D0C-B982-2D7EDA8F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56360-5206-4D49-AB06-83B45ACF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97E54-48B0-41E1-AE30-7D04B44C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9033F-A0C7-474C-B2C4-0AAD5AD4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45C58-BF44-4E57-96F7-5175B1B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FA3CC-F6FB-4D2D-B5FA-BDC4097A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07F42-2FDB-4838-8D20-047BAFC5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833E8-C635-415F-B5E8-A244838A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346-6312-4367-9046-6AE51D0D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2D8B9-E046-4B27-93A9-37AE5ACE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2DC-5B24-4784-B209-9608D0D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229-7D33-4FEF-93D0-77E70EF2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636-483D-4E59-A8F7-8395A05A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867C-6B44-42F6-BF3F-D6DFD31072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F939-2C85-4B97-9394-D25BBBA4F5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D25C-6EE0-42DB-9FDF-4470B934D3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74C7-81FC-497A-88F6-B2752FEBD6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8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8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8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AE78-2970-422C-BC0C-B11B5E84C8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default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611280" y="2349360"/>
            <a:ext cx="763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ражданин – Отечества достойный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69920" y="260280"/>
            <a:ext cx="360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539640" y="1268280"/>
            <a:ext cx="7993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нышевский Николай Гаврилович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атриот - это человек, служащий родине, а родина - это прежде всего народ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95280" y="0"/>
            <a:ext cx="8136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значит быть патрио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rodina1"/>
          <p:cNvPicPr/>
          <p:nvPr/>
        </p:nvPicPr>
        <p:blipFill>
          <a:blip r:embed="rId1"/>
          <a:stretch/>
        </p:blipFill>
        <p:spPr>
          <a:xfrm>
            <a:off x="1116000" y="3645000"/>
            <a:ext cx="3233880" cy="2425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IMG_2006-07-25-01"/>
          <p:cNvPicPr/>
          <p:nvPr/>
        </p:nvPicPr>
        <p:blipFill>
          <a:blip r:embed="rId2"/>
          <a:stretch/>
        </p:blipFill>
        <p:spPr>
          <a:xfrm>
            <a:off x="4859280" y="3213000"/>
            <a:ext cx="33433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611280" y="2349360"/>
            <a:ext cx="763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жданин – Отечества достойный 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5280" y="0"/>
            <a:ext cx="8136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то такой граждани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700280"/>
            <a:ext cx="8209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жданин – это человек, который принадлежит к постоянному населению данного государства, подчиняется его законам и имеет определенные права и обяза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паспорт"/>
          <p:cNvPicPr/>
          <p:nvPr/>
        </p:nvPicPr>
        <p:blipFill>
          <a:blip r:embed="rId1"/>
          <a:stretch/>
        </p:blipFill>
        <p:spPr>
          <a:xfrm>
            <a:off x="5219640" y="4221000"/>
            <a:ext cx="2735280" cy="2024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карта"/>
          <p:cNvPicPr/>
          <p:nvPr/>
        </p:nvPicPr>
        <p:blipFill>
          <a:blip r:embed="rId2"/>
          <a:stretch/>
        </p:blipFill>
        <p:spPr>
          <a:xfrm>
            <a:off x="1187280" y="4292640"/>
            <a:ext cx="31417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611280" y="2349360"/>
            <a:ext cx="763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e1"/>
                </a:solidFill>
                <a:latin typeface="Times New Roman"/>
              </a:rPr>
              <a:t>Гражданин – Отечества достойный сы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755640" y="260280"/>
            <a:ext cx="8136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бы вы поступили, ес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611280" y="1484280"/>
            <a:ext cx="8280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. Загорелся соседний лес или 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 Человек, оказавшийся в беде, попросил деньги в дол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 Потребовалась кровь для ранен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 Необходимо сходить пешком за 10 километров и принести лекарство для постороннего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 В разговоре, оскорбительно отозвались о твое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11280" y="2349360"/>
            <a:ext cx="763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e1"/>
                </a:solidFill>
                <a:latin typeface="Times New Roman"/>
              </a:rPr>
              <a:t>Гражданин – Отечества достойный сы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755640" y="260280"/>
            <a:ext cx="8136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еперь представьте, что точно такие же решения принял ДРУГОЙ человек, 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11280" y="1125360"/>
            <a:ext cx="8280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 Загорелся твой до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В беде оказался ты, и деньги понадобились тебе или твоим род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Кровь понадобилась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4. В лекарстве нуждаешься ты или твои род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5. Оскорбили тебя са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611280" y="2349360"/>
            <a:ext cx="763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жданин – Отечества достойный 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24000" y="0"/>
            <a:ext cx="813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а и обязанности граждан Росс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2594_konstituzia"/>
          <p:cNvPicPr/>
          <p:nvPr/>
        </p:nvPicPr>
        <p:blipFill>
          <a:blip r:embed="rId1"/>
          <a:stretch/>
        </p:blipFill>
        <p:spPr>
          <a:xfrm>
            <a:off x="2666880" y="1557360"/>
            <a:ext cx="33102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24000" y="0"/>
            <a:ext cx="813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ждане РФ обязаны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468360" y="1125360"/>
            <a:ext cx="2376360" cy="2159280"/>
          </a:xfrm>
          <a:prstGeom prst="rightArrow">
            <a:avLst>
              <a:gd name="adj1" fmla="val 50000"/>
              <a:gd name="adj2" fmla="val 27513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rot="20338800">
            <a:off x="395280" y="3357360"/>
            <a:ext cx="2376360" cy="1511280"/>
          </a:xfrm>
          <a:prstGeom prst="rightArrow">
            <a:avLst>
              <a:gd name="adj1" fmla="val 50000"/>
              <a:gd name="adj2" fmla="val 39310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 rot="16200000">
            <a:off x="3037680" y="3522960"/>
            <a:ext cx="2708280" cy="396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 rot="12685200">
            <a:off x="6011640" y="2923560"/>
            <a:ext cx="2376360" cy="2290680"/>
          </a:xfrm>
          <a:prstGeom prst="rightArrow">
            <a:avLst>
              <a:gd name="adj1" fmla="val 50000"/>
              <a:gd name="adj2" fmla="val 25935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rot="10800000">
            <a:off x="5795640" y="1052640"/>
            <a:ext cx="2376360" cy="2232000"/>
          </a:xfrm>
          <a:prstGeom prst="rightArrow">
            <a:avLst>
              <a:gd name="adj1" fmla="val 50000"/>
              <a:gd name="adj2" fmla="val 26617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39640" y="1773360"/>
            <a:ext cx="2195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людать конституцию и другие законы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 rot="20334000">
            <a:off x="539640" y="3789000"/>
            <a:ext cx="158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щать оте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6372360" y="1700280"/>
            <a:ext cx="219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чь памятники истории и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 rot="2002200">
            <a:off x="6372000" y="3789360"/>
            <a:ext cx="219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жно относиться к природным богатст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3348000" y="5084640"/>
            <a:ext cx="2195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тить законно установленные налоги и с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6" descr="миж"/>
          <p:cNvPicPr/>
          <p:nvPr/>
        </p:nvPicPr>
        <p:blipFill>
          <a:blip r:embed="rId1"/>
          <a:stretch/>
        </p:blipFill>
        <p:spPr>
          <a:xfrm>
            <a:off x="2987640" y="198900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1844640"/>
            <a:ext cx="770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эт и гражданин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ожет сын глядеть спокойн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горе матери родной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будет гражданин достойны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отчизне холоден душой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24000" y="0"/>
            <a:ext cx="813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ывок из стихо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1628640"/>
            <a:ext cx="82090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перо"/>
          <p:cNvPicPr/>
          <p:nvPr/>
        </p:nvPicPr>
        <p:blipFill>
          <a:blip r:embed="rId1"/>
          <a:stretch/>
        </p:blipFill>
        <p:spPr>
          <a:xfrm>
            <a:off x="900000" y="4221000"/>
            <a:ext cx="14162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468360" y="1844640"/>
            <a:ext cx="770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24000" y="0"/>
            <a:ext cx="813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395280" y="1773360"/>
            <a:ext cx="87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тветить на вопро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что знач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ыть достойным гражданином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default"/>
          <p:cNvPicPr/>
          <p:nvPr/>
        </p:nvPicPr>
        <p:blipFill>
          <a:blip r:embed="rId1"/>
          <a:stretch/>
        </p:blipFill>
        <p:spPr>
          <a:xfrm>
            <a:off x="2916360" y="4076640"/>
            <a:ext cx="30956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0:37:02Z</dcterms:created>
  <dc:creator>Customer</dc:creator>
  <dc:description/>
  <dc:language>en-US</dc:language>
  <cp:lastModifiedBy>Елена</cp:lastModifiedBy>
  <dcterms:modified xsi:type="dcterms:W3CDTF">2017-02-17T19:26:53Z</dcterms:modified>
  <cp:revision>25</cp:revision>
  <dc:subject/>
  <dc:title>Слайд 1</dc:title>
</cp:coreProperties>
</file>