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CED-B42C-4229-81EC-9C1AD279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FDD-E252-4413-A3B1-2B2A7B57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652-1AF6-4A90-8696-0B5566E9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C19-15A8-43D5-A3D9-855BC9DA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C2CA-B97D-461E-A3B8-7B2829D9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1BF5-CEA4-4087-BF35-34707076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6022-0D40-430E-9518-FBCCFEC9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56E6-521D-45BB-8FD7-05C72596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E1D-F1B1-4E8D-9FC0-4D2E979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04FC-2300-4383-B347-3293392F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CC76-3076-49B6-97E3-CA61075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CBF-128D-4E3E-BBAD-6429DF58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69D-1CB2-41CB-9D83-2E872E9C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1CA1-ECAA-4AF9-ADED-A5C12E21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165E-54B9-47AE-BBC9-02A2703C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963B-468F-493E-A1F3-07A36730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7AD5-5DFA-422C-A9A7-B891A1C6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D15F-3D42-4F72-8CE4-D7BBC282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D087-A02C-4CD2-A589-E64C092B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B3E1-D908-4F50-9444-39BF52A1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1F93-946A-4FFC-887D-979B4431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A7E7-76C1-465A-B7D6-A4F576C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F07-CD5C-4201-BC02-B9FE980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5D99-D8D2-43BD-A919-C4800C00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784F-2292-4958-BAF8-8CBA5D4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4585-B9A8-4ECF-904E-339D3FA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9FB3-DB4C-4302-8472-B2EB0FB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A4F6-ED39-4BAC-AFDD-AEB08E6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3D72-DC81-4839-BD3B-1E70D9FE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38C5-5C99-45D7-9844-33621E4C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8FDCE-0B4D-43A5-B495-EE880A5B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2D1DA-60F4-4BF9-9201-4A4099F0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818D-8F54-4018-94E4-3FD7C8C7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F7C-8AD5-4C40-952D-64BEFFDB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454E8-C273-439A-BFE2-372396A4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DF0D-1783-4BCF-BB12-1313F30A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6647-5B71-4ABC-8292-5792991C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14534-F930-41BF-BD1D-856199F0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A8EE-C0F9-4F8A-98F3-B564C3E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3503-8B44-4570-8F71-3D72A7D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1F1A-A04F-4211-B656-F84655DC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D10F-BE65-4A4B-B26E-572CCCCC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7A03-8B29-4891-AF3B-52D71D8C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BB62-A8A0-449F-A908-ADC472C9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FF5-2015-4D83-9F8A-70D6CDF4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9572-CF71-49DC-B549-21DBC02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98B50-3E3B-4D0E-9EA3-C348E7BB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D035-04C3-44EF-AB3E-34300675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7D9FB-E7F6-46C2-BFF8-61B4589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8ADE-CC6F-41BD-833B-AC4B6D8D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4D77-3E04-407F-BE0B-94322F8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C0ED-10C8-475E-82EF-59D200F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89A6C-B7EE-44DC-A016-10ADF44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78BBB-C1B3-4FB6-A849-89C685D0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8C44-3C93-4710-B8C6-0FE7D907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CAC-7498-491B-A05D-4148270C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99B0E-A1AF-47E4-A5BE-E72D1C52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E16-4422-449B-B627-33DCF08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2D5-484B-4466-B8B4-DFEB87F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587-AEE4-494F-98E6-A18BF9D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F4C8-E688-4CCB-9895-D7E100B61E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FF4D-9C3C-454B-A642-DA333BE102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29A-A321-4152-A9A4-2949907138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82D2-4425-4915-87FA-D27B9CAAFD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FA8F-3D23-4E05-85BB-A861E6A22A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default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ражданин – Отечества достойный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69920" y="260280"/>
            <a:ext cx="36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539640" y="1268280"/>
            <a:ext cx="7993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нышевский Николай Гаврилович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атриот - это человек, служащий родине, а родина - это прежде всего наро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95280" y="0"/>
            <a:ext cx="8136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значит быть патриот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rodina1"/>
          <p:cNvPicPr/>
          <p:nvPr/>
        </p:nvPicPr>
        <p:blipFill>
          <a:blip r:embed="rId1"/>
          <a:stretch/>
        </p:blipFill>
        <p:spPr>
          <a:xfrm>
            <a:off x="1116000" y="3645000"/>
            <a:ext cx="3233880" cy="2425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IMG_2006-07-25-01"/>
          <p:cNvPicPr/>
          <p:nvPr/>
        </p:nvPicPr>
        <p:blipFill>
          <a:blip r:embed="rId2"/>
          <a:stretch/>
        </p:blipFill>
        <p:spPr>
          <a:xfrm>
            <a:off x="4859280" y="3213000"/>
            <a:ext cx="33433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ин – Отечества достойный 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5280" y="0"/>
            <a:ext cx="8136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то такой граждани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700280"/>
            <a:ext cx="820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жданин – это человек, который принадлежит к постоянному населению данного государства, подчиняется его законам и имеет определенные права и обяза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паспорт"/>
          <p:cNvPicPr/>
          <p:nvPr/>
        </p:nvPicPr>
        <p:blipFill>
          <a:blip r:embed="rId1"/>
          <a:stretch/>
        </p:blipFill>
        <p:spPr>
          <a:xfrm>
            <a:off x="5219640" y="4221000"/>
            <a:ext cx="2735280" cy="202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карта"/>
          <p:cNvPicPr/>
          <p:nvPr/>
        </p:nvPicPr>
        <p:blipFill>
          <a:blip r:embed="rId2"/>
          <a:stretch/>
        </p:blipFill>
        <p:spPr>
          <a:xfrm>
            <a:off x="1187280" y="4292640"/>
            <a:ext cx="31417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e1"/>
                </a:solidFill>
                <a:latin typeface="Times New Roman"/>
              </a:rPr>
              <a:t>Гражданин – Отечества достойный сы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55640" y="260280"/>
            <a:ext cx="8136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бы вы поступили, ес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611280" y="1484280"/>
            <a:ext cx="8280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. Загорелся соседний лес или 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 Человек, оказавшийся в беде, попросил деньги в дол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требовалась кровь для ранен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Необходимо сходить пешком за 10 километров и принести лекарство для постороннего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В разговоре, оскорбительно отозвались о твое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e1"/>
                </a:solidFill>
                <a:latin typeface="Times New Roman"/>
              </a:rPr>
              <a:t>Гражданин – Отечества достойный сы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755640" y="260280"/>
            <a:ext cx="8136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еперь представьте, что точно такие же решения принял ДРУГОЙ человек, 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11280" y="1125360"/>
            <a:ext cx="8280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Загорелся твой д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В беде оказался ты, и деньги понадобились тебе или твоим род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Кровь понадобилась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4. В лекарстве нуждаешься ты или твои ро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5. Оскорбили тебя са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611280" y="2349360"/>
            <a:ext cx="763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ин – Отечества достойный 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 и обязанности граждан Росс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2594_konstituzia"/>
          <p:cNvPicPr/>
          <p:nvPr/>
        </p:nvPicPr>
        <p:blipFill>
          <a:blip r:embed="rId1"/>
          <a:stretch/>
        </p:blipFill>
        <p:spPr>
          <a:xfrm>
            <a:off x="2666880" y="1557360"/>
            <a:ext cx="33102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ждане РФ обязан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468360" y="1125360"/>
            <a:ext cx="2376360" cy="2159280"/>
          </a:xfrm>
          <a:prstGeom prst="rightArrow">
            <a:avLst>
              <a:gd name="adj1" fmla="val 50000"/>
              <a:gd name="adj2" fmla="val 27513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rot="20338800">
            <a:off x="395280" y="3357360"/>
            <a:ext cx="2376360" cy="1511280"/>
          </a:xfrm>
          <a:prstGeom prst="rightArrow">
            <a:avLst>
              <a:gd name="adj1" fmla="val 50000"/>
              <a:gd name="adj2" fmla="val 39310"/>
            </a:avLst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 rot="16200000">
            <a:off x="3037680" y="3522960"/>
            <a:ext cx="2708280" cy="396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 rot="12685200">
            <a:off x="6011640" y="2923560"/>
            <a:ext cx="2376360" cy="2290680"/>
          </a:xfrm>
          <a:prstGeom prst="rightArrow">
            <a:avLst>
              <a:gd name="adj1" fmla="val 50000"/>
              <a:gd name="adj2" fmla="val 25935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rot="10800000">
            <a:off x="5795640" y="1052640"/>
            <a:ext cx="2376360" cy="2232000"/>
          </a:xfrm>
          <a:prstGeom prst="rightArrow">
            <a:avLst>
              <a:gd name="adj1" fmla="val 50000"/>
              <a:gd name="adj2" fmla="val 26617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39640" y="1773360"/>
            <a:ext cx="21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людать конституцию и другие закон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 rot="20334000">
            <a:off x="539640" y="378900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щать оте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6372360" y="1700280"/>
            <a:ext cx="219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чь памятники истории и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 rot="2002200">
            <a:off x="6372000" y="3789360"/>
            <a:ext cx="219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жно относиться к природным богатст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3348000" y="5084640"/>
            <a:ext cx="21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тить законно установленные налоги и с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6" descr="миж"/>
          <p:cNvPicPr/>
          <p:nvPr/>
        </p:nvPicPr>
        <p:blipFill>
          <a:blip r:embed="rId1"/>
          <a:stretch/>
        </p:blipFill>
        <p:spPr>
          <a:xfrm>
            <a:off x="2987640" y="198900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1844640"/>
            <a:ext cx="770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эт и граждани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может сын глядеть спокойн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горе матери родной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будет гражданин достой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отчизне холоден душой…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ывок из стихо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1628640"/>
            <a:ext cx="8209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перо"/>
          <p:cNvPicPr/>
          <p:nvPr/>
        </p:nvPicPr>
        <p:blipFill>
          <a:blip r:embed="rId1"/>
          <a:stretch/>
        </p:blipFill>
        <p:spPr>
          <a:xfrm>
            <a:off x="900000" y="4221000"/>
            <a:ext cx="14162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68360" y="1844640"/>
            <a:ext cx="770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24000" y="0"/>
            <a:ext cx="8135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95280" y="1773360"/>
            <a:ext cx="87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ить на вопро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что зна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ыть достойным гражданином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default"/>
          <p:cNvPicPr/>
          <p:nvPr/>
        </p:nvPicPr>
        <p:blipFill>
          <a:blip r:embed="rId1"/>
          <a:stretch/>
        </p:blipFill>
        <p:spPr>
          <a:xfrm>
            <a:off x="2916360" y="4076640"/>
            <a:ext cx="3095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0:37:02Z</dcterms:created>
  <dc:creator>Customer</dc:creator>
  <dc:description/>
  <dc:language>en-US</dc:language>
  <cp:lastModifiedBy>Елена</cp:lastModifiedBy>
  <dcterms:modified xsi:type="dcterms:W3CDTF">2017-02-17T19:26:53Z</dcterms:modified>
  <cp:revision>25</cp:revision>
  <dc:subject/>
  <dc:title>Слайд 1</dc:title>
</cp:coreProperties>
</file>