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F08-2832-4384-ADCA-4F5F28A8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2CB-E45C-4602-A340-061D97A9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9FC-B795-4F91-97D3-4D755A71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D9B-F3C1-4340-9E15-84FFB63F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C22-A431-47DF-912C-0D0C2E19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586-E82E-4FEF-8479-F0DAB003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50B-5722-445E-9D49-F192ED5B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83C-215B-444A-993D-FE5864C4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C7C-1833-4E0D-BFB6-3137B642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D53-7CC7-47FC-BD1D-017B24EB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425-A2D8-435F-90CB-9C346DD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4C6-0704-49AC-A6E4-84EC1497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1A37-777F-47FA-A7BB-BC997C727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95280" y="4381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«Средняя общеобразовательная школа № 6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900000" y="1413000"/>
            <a:ext cx="712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спользование компьютерных технологий в проект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з опыта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932360" y="414972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адрина О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635280" y="587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жевск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755640" y="33336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бщие правила оформления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68360" y="1052640"/>
            <a:ext cx="820908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ое стилевое оформ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иль может включать: определенный шрифт   (гарнитура и цвет), цвет фона или фоновый рисунок, декоративный элемент небольшого размера и др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не рекомендуется использовать в стилевом                               оформлении презентации более трех цветов и более трех типов шриф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формление слайда не должно отвлекать внимание слушателей от его содержательной ча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все слайды презентации должны быть выдержаны в одном сти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755640" y="260280"/>
            <a:ext cx="79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держание и расположение информацио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оков слай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50920" y="1268280"/>
            <a:ext cx="86421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информационных блоков не должно быть много (3-5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рекомендуемый размер одного информационного блока - не более половины размера слайд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желательно присутствие на странице блоков с разнотипной информацией (текст, графики, диаграммы, таблицы, рисунки), дополняющие друг друг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ключевые слова в информационном блоке необходимо выдели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информационные блоки лучше располагать горизонтально, связанные по смыслу блоки - слева напра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наиболее важную информацию следует поместить в центр слай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835280" y="2924280"/>
            <a:ext cx="58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574560" y="260280"/>
            <a:ext cx="83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ребования, предъявляемые к проектным мет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24000" y="1042920"/>
            <a:ext cx="8569080" cy="57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 значимой в исследовательском или творческом плане проблемы или задачи, требующей интегрированного знания, исследовательского поиска для ее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ческая, теоретическая, познавательная значимость предполагаем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ая деятельность учащихся: индивидуально, в паре, в группе на уроке и вне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ирование содержательной части проекта, с указанием поэтапных результатов и распределением р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исследовательских методов: определение проблемы, вытекающих из нее задач исследования, выдвижение гипотезы решения, обсуждения методов исследования, оформление конечных результатов, анализ полученных данных, подведение итогов, корректировка,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979640" y="3333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апы работы над проек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95280" y="1197000"/>
            <a:ext cx="8424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жение темы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сование общей линии разработки проекта и формирования групп, обсуждение предлагаемого плана работы и путей сбора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ормлени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476360" y="26028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амятка для работы над про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68360" y="907920"/>
            <a:ext cx="8496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значьте проблему, проверьте всем ли понятна зада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ите совместный мозговой шту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ажайте всех в своей группе, у каждого свои 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шайте каждого, делайте за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итесь своими знаниями, талантом и мастер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критикуйте слишком резко других, и не расстраивайтесь когда критикуют в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редоточьтесь на работе, не отвлекайте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давайтесь, даже плохое начало может принести хороший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ите между собой индивидуальные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ьте готовы к компромис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4000" y="33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мятка для работы над проектом в старших клас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98100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0920" y="1268280"/>
            <a:ext cx="8640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the title to you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a plan of your activity, choose what you can d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aw, write, record, take an interview, compose a song, write a poem or a play, look through newspapers and magazines to find information (etc.) Each member should contribute to th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the way you are going to speak in support of you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to speak English while working on your project, d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t let unimportant things distract you. Try to keep discussions centered on you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692360" y="26028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лгоритм обсуждени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50920" y="981000"/>
            <a:ext cx="86421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y what project you liked most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nformation was the most useful for you. What new information can you find in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an you tell about the cooperation within the group, whether any problems Is it necessary to improve the project, what should b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 any language problems? What should be done with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rememb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t criticize too harshly. Let your advice be helpful. Your opinion is very important. 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547640" y="26028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лише для презентаци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95280" y="907920"/>
            <a:ext cx="8353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d like to represent a projec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It was done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We’ve chosen this topic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Our project is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First w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d like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And now have a look at… that illustrat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692360" y="1890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лише для обсуждени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95280" y="907920"/>
            <a:ext cx="8353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ry. I 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t understand why…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y opin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’d like to know…                                  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my point of view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ld you explain, please…               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consider… to b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ve a good (boring) description of…                    The project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fer a clear (poor) explanation why…                         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d some new (old) information about…                    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nt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good suggestion about…                                           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rr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incing arguments for/against…                            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esentation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hotos are…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692360" y="333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ритерии оценивани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1413000"/>
            <a:ext cx="8353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тветствие содержания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облюдение всех аспектов пл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Соответствие лексики теме и возра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авильность и разнообраз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мматических структ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Эстетизм офор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6:07:46Z</dcterms:created>
  <dc:creator>FuckYouBill</dc:creator>
  <dc:description/>
  <dc:language>en-US</dc:language>
  <cp:lastModifiedBy>Руслан</cp:lastModifiedBy>
  <dcterms:modified xsi:type="dcterms:W3CDTF">2017-02-17T18:36:57Z</dcterms:modified>
  <cp:revision>6</cp:revision>
  <dc:subject/>
  <dc:title>Слайд 1</dc:title>
</cp:coreProperties>
</file>