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0AE-A03B-4B73-9FA1-3EB26BDD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E73-D1DB-44A4-BFDA-B9069DB9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0BB-4C97-443C-99D9-59B80A0F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628-0F77-42CC-BF4E-58B95BD2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804-18A7-43DD-8560-2EA3F736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560-ED08-4D82-8DFE-DB9B632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AB2-28D1-42B2-B879-679CDFF7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21D-E901-4848-B804-19CA3051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DE7-5496-4EB5-9923-792A2C21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844-7CE7-46D2-B4BB-6E7F52C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179-E9BB-417E-992D-645D747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17D-0695-4C2D-8CDD-4380693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48EE-45AC-4787-8EE1-0BC9610CD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95280" y="4381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 № 6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00000" y="1413000"/>
            <a:ext cx="712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спользование компьютерных технологий в проект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з опыт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932360" y="414972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адрина О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35280" y="587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жевск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755640" y="3333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бщие правила оформления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68360" y="1052640"/>
            <a:ext cx="82090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ое стилевое оформ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иль может включать: определенный шрифт   (гарнитура и цвет), цвет фона или фоновый рисунок, декоративный элемент небольшого размера и др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не рекомендуется использовать в стилевом                               оформлении презентации более трех цветов и более трех типов шриф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формление слайда не должно отвлекать внимание слушателей от его содержательной ча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все слайды презентации должны быть выдержаны в одном сти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55640" y="260280"/>
            <a:ext cx="79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держание и расположение информацио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оков слай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50920" y="1268280"/>
            <a:ext cx="86421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нформационных блоков не должно быть много (3-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рекомендуемый размер одного информационного блока - не более половины размера слайд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желательно присутствие на странице блоков с разнотипной информацией (текст, графики, диаграммы, таблицы, рисунки), дополняющие друг дру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ключевые слова в информационном блоке необходимо выдели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нформационные блоки лучше располагать горизонтально, связанные по смыслу блоки - слева напра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аиболее важную информацию следует поместить в центр слай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35280" y="292428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574560" y="26028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ребования, предъявляемые к проектным мет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4000" y="1042920"/>
            <a:ext cx="8569080" cy="57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значимой в исследовательском или творческом плане проблемы или задачи, требующей интегрированного знания, исследовательского поиска для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, теоретическая, познавательная значимость предполагаем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: индивидуально, в паре, в группе на уроке и вне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ирование содержательной части проекта, с указанием поэтапных результатов и распределением р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исследовательских методов: определение проблемы, вытекающих из нее задач исследования, выдвижение гипотезы решения, обсуждения методов исследования, оформление конечных результатов, анализ полученных данных, подведение итогов, корректировка,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979640" y="333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5280" y="1197000"/>
            <a:ext cx="84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жение темы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ование общей линии разработки проекта и формирования групп, обсуждение предлагаемого плана работы и путей сбор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ормлени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76360" y="2602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мятка для работы над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907920"/>
            <a:ext cx="8496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значьте проблему, проверьте всем ли понятна зад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совместный мозговой шту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ажайте всех в своей группе, у каждого свои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шайте каждого, делайте за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итесь своими знаниями, талантом и мастер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ритикуйте слишком резко других, и не расстраивайтесь когда критикуют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редоточьтесь на работе, не отвлекай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давайтесь, даже плохое начало может принести хороши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между собой индивидуальные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те готовы к компромис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33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мятка для работы над проектом в старших 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98100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1268280"/>
            <a:ext cx="8640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title to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of your activity, choose what you can 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aw, write, record, take an interview, compose a song, write a poem or a play, look through newspapers and magazines to find information (etc.) Each member should contribute to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way you are going to speak in support of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to speak English while working on your project, d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t let unimportant things distract you. Try to keep discussions centered on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692360" y="260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лгоритм обсужд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981000"/>
            <a:ext cx="8642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y what project you liked most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formation was the most useful for you. What new information can you find in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an you tell about the cooperation within the group, whether any problems Is it necessary to improve the project, what should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any language problems? What should be done wit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rememb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t criticize too harshly. Let your advice be helpful. Your opinion is very important.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547640" y="26028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ише для презент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95280" y="907920"/>
            <a:ext cx="8353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d like to represent a proj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It was done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We’ve chosen this topic beca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Our project is ab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First 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d like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nd now have a look at… that illustra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692360" y="189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ише для обсужд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5280" y="907920"/>
            <a:ext cx="8353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ry. I 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t understand why…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y opin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’d like to know…         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my point of vie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you explain, please…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consider… to b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ve a good (boring) description of…                    The project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er a clear (poor) explanation why…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d some new (old) information about…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nt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good suggestion about…                  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r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incing arguments for/against…                            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esentation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hotos are…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692360" y="333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ритерии оценива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1413000"/>
            <a:ext cx="835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ие содержания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блюдение всех аспектов пл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ответствие лексики теме и возра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ильность и разнообраз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ческих структ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Эстетизм офор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6:07:46Z</dcterms:created>
  <dc:creator>FuckYouBill</dc:creator>
  <dc:description/>
  <dc:language>en-US</dc:language>
  <cp:lastModifiedBy>Руслан</cp:lastModifiedBy>
  <dcterms:modified xsi:type="dcterms:W3CDTF">2017-02-17T18:36:57Z</dcterms:modified>
  <cp:revision>6</cp:revision>
  <dc:subject/>
  <dc:title>Слайд 1</dc:title>
</cp:coreProperties>
</file>