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CAA-F838-4346-B142-2E22B9C4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88C-F0BB-400E-AD29-7FDD01F8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E6E-73E4-4AB8-8E1F-87B47691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14D-4966-4DB0-8A94-4A1B73FB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F624-9409-4B47-BB7F-3B15F0C4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F606-D0C7-46AB-9F46-AD3D7C5B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DB9B-4A6E-4540-97BB-46D24849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F454-42FC-4BFD-8D54-43AC8786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C5A3-DD92-410F-8B12-290A5A40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1529-832D-45FF-BE3C-39292B58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C6C6-7AF5-4EC7-A010-F1194651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0C8-0CE5-4B5E-872E-F12B2BB9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54D6-6B27-45A0-9699-066040B9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B481-E858-4FB8-91D2-86C9CCF0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45DD-4F37-44BB-AFB4-02550234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16C8-CB51-48A6-A695-CA0C970B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8AED-D911-49CF-816D-14000041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020-EBF0-4346-A0C9-B7C2CF17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615-0081-41AA-BB1F-2C327920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EA9-FDD2-4916-AAAD-60F54312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453-369C-47BD-9893-8EAD5AC4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F2B-E33C-4A98-95DD-557A516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AC6-7E7E-40D5-8283-7E758D29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C39-DED4-45E7-9C82-2A23361F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F8DA-0058-4737-85ED-473B022F0B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055F-ABC4-4EA8-AEB5-4A82E07DA4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Конкурс «Я и моё имя»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15640" y="1412640"/>
            <a:ext cx="6985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Написать фамилии, которые образовалис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т професс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т наружности или внешнего вида челове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т названия живот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т растен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Конкурс «Объясни значение пословиц»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137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«Спасибо» - великое дел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Что посеешь, то и пожнёш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Учись доброму – дурное на ум не пойдё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ак проживёшь – так и прослывёш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 доброе дело говори смел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Ласковое слово лучше мягкого пирог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Жизнь дана на добрые дел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Худо жить без ласкового слов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610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онкурс «Веселый математик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6425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прыгунья-стрекоза из басни И. Крылова утверждает, что она тоже готовилась к зим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о каждые сутки ровно половину их она спала, третью часть времени – танцевала, а шестую – пел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колько времени стрекоза готовилась к зиме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0 1 2 3 4 5 6 7 8 9  Что больше сумма или произведение этих ч-л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Есть пять одинаковых по размерам кубиков, но один немного легче остальных. Как с помощью весов, но без гирь, найти самый легкий кубик. Сравнивать на весах не больше двух раз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инни -Пух и Пятачок пошли в поход и взяли с собой веревку  - вдруг пригодится. На этой веревке они завязали 4 узелка. Сколько частей получилось на верёвке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рыгунья-стрекоза из басни И. Крылова утверждает, что она тоже готовилась к зим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 каждые сутки ровно половину их она спала, третью часть времени – танцевала, а шестую – пел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колько времени стрекоза готовилась к зиме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вет: Нискольк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0 1 2 3 4 5 6 7 8 9  Что больше сумма или произведение этих ч-л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вет: Сумм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сть пять одинаковых по размерам кубиков, но один немного легче остальных. Как с помощью весов, но без гирь, найти самый легкий кубик. Сравнивать на весах не больше двух раз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вет: первый раз по два кубика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инни -Пух и Пятачок пошли в поход и взяли с собой веревку  - вдруг пригодится. На этой веревке они завязали 4 узелка. Сколько частей получилось на верёвке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вет: пять частей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Кто из сказочных героев мог дать такие объявлен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Продаю пиявок .Цена договорна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 Организуем курсы выживания для выезжающих в джунг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. Обучаю художественному свис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. Туристическая фирма предлагает путешествие «Верхом на Волке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. Ветеринарные услуги с выездом в любую часть св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6. Золотые яйца . Дорог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7. Отнесу пирожки вашей бабуш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то из сказочных героев мог дать такие объявления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. Продаю пиявок. Цена договорная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Дуремар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. Организуем курсы выживания для выезжающих в джунгли. (Маугли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. Обучаю художественному свист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Соловей-разбойник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4. Туристическая фирма предлагает путешествие «Верхом на Волке»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Иван-Царевич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5. Ветеринарные услуги с выездом в любую часть света. (Айболит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6. Золотые яйца. Дорого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Курочка-Ряба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7.Отнесу пирожки вашей бабушк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Красная Шапочка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онкурс «Забавные приключения в стране слов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1.Черёмуха - муха + п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2.Железо – лезо + луна – на + доктор – тор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3. По + звон +око – ко +чник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4.Оса + н + карта – рта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5.Море – ре +зал – ал + г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6.Немой – мой +рвать – ать +ы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7.Ми + краб – аб +об + ы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Забавные приключения в стране слов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1. Черёмуха - муха + п = чере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2. Железо – лезо + луна – на + доктор – тор = желудо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3. По + звон +око – ко +чник = позвоночни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4.Оса + н + карта – рта =осан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5.Море – ре +зал – ал + г =моз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6. Немой – мой +рвать – ать +ы =нер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7. Ми + краб – аб +об + ы =микроб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12:47Z</dcterms:created>
  <dc:creator>User</dc:creator>
  <dc:description/>
  <dc:language>en-US</dc:language>
  <cp:lastModifiedBy>User</cp:lastModifiedBy>
  <dcterms:modified xsi:type="dcterms:W3CDTF">2011-01-28T05:54:08Z</dcterms:modified>
  <cp:revision>6</cp:revision>
  <dc:subject/>
  <dc:title>Конкурс «Я и моё имя» </dc:title>
</cp:coreProperties>
</file>