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C34-EDC6-4456-A1CB-994152C3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8A9-9BAB-4A07-A137-552892C1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773-75D2-4C57-8B6F-0E23593E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755-0ADC-4E8F-B841-85263A85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96AB-56FD-4CF1-A946-13B3FBB2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9ECF-4307-4F36-807C-F28C53C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625F-2337-49E9-A0CA-C84D7A2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631-BE0E-4A9B-A59B-548D6BF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6A31-BB20-466D-AB39-04561B0D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50F-A1DE-4CDD-A74F-2C1491B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802-7243-420C-A8BA-B46DB21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FB9-93AC-4909-9E2A-E72FEE8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8A7F-915D-4674-B279-7A14F7E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7B36-7578-4AA6-B178-8784074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811-09D4-4B73-AB72-32BFF34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780-506F-4B88-A2D2-4A3CA440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AB22-A85C-410E-915E-7B733726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411-0A84-4029-BE9A-91E2E34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81A-3432-44EC-8EB0-86491A23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F66-B58E-4D87-985F-3FA7261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A7F-EA4B-4EBB-AB18-2B628E8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0C0-A9FC-495E-98BB-E30AEB6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C11-8E20-4A40-AC96-D17AEFD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37E-AE5D-4D2C-99A9-FEEFC92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B4A-6C18-4972-8A84-49D9034065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FF5-5D6B-4C89-93EC-4E824F3A34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Конкурс «Я и моё имя»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15640" y="1412640"/>
            <a:ext cx="698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Написать фамилии, которые образовалис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професс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наружности или внешнего вида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названия живот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от раст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онкурс «Объясни значение пословиц»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«Спасибо» - великое д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Что посеешь, то и пожнёш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чись доброму – дурное на ум не пойдё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ак проживёшь – так и прослывёш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 доброе дело говори смел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Ласковое слово лучше мягкого пирог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Жизнь дана на добрые де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Худо жить без ласкового сло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610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Веселый математик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6425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прыгунья-стрекоза из басни И. Крылова утверждает, что она тоже готовилась к зи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о каждые сутки ровно половину их она спала, третью часть времени – танцевала, а шестую – пе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колько времени стрекоза готовилась к зиме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0 1 2 3 4 5 6 7 8 9  Что больше сумма или произведение этих ч-л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Есть пять одинаковых по размерам кубиков, но один немного легче остальных. Как с помощью весов, но без гирь, найти самый легкий кубик. Сравнивать на весах не больше двух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инни -Пух и Пятачок пошли в поход и взяли с собой веревку  - вдруг пригодится. На этой веревке они завязали 4 узелка. Сколько частей получилось на верёвке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рыгунья-стрекоза из басни И. Крылова утверждает, что она тоже готовилась к зим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 каждые сутки ровно половину их она спала, третью часть времени – танцевала, а шестую – пел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колько времени стрекоза готовилась к зим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Нискольк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0 1 2 3 4 5 6 7 8 9  Что больше сумма или произведение этих ч-л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Сум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сть пять одинаковых по размерам кубиков, но один немного легче остальных. Как с помощью весов, но без гирь, найти самый легкий кубик. Сравнивать на весах не больше двух ра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первый раз по два кубика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инни -Пух и Пятачок пошли в поход и взяли с собой веревку  - вдруг пригодится. На этой веревке они завязали 4 узелка. Сколько частей получилось на верёвк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вет: пять частей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Кто из сказочных героев мог дать такие объявлен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Продаю пиявок .Цена договорн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 Организуем курсы выживания для выезжающих в джунг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 Обучаю художественному свис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Туристическая фирма предлагает путешествие «Верхом на Волке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. Ветеринарные услуги с выездом в любую часть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6. Золотые яйца . Дор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7. Отнесу пирожки вашей бабуш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то из сказочных героев мог дать такие объявле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Продаю пиявок. Цена договорна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Дуремар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Организуем курсы выживания для выезжающих в джунгли. (Маугли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. Обучаю художественному свист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Соловей-разбойник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4. Туристическая фирма предлагает путешествие «Верхом на Волке»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Иван-Царевич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5. Ветеринарные услуги с выездом в любую часть света. (Айболит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. Золотые яйца. Доро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Курочка-Ряба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7.Отнесу пирожки вашей бабушк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Красная Шапочка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нкурс «Забавные приключения в стране слов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.Черёмуха - муха + п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2.Железо – лезо + луна – на + доктор – тор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. По + звон +око – ко +чник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4.Оса + н + карта – рта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.Море – ре +зал – ал + г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6.Немой – мой +рвать – ать +ы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.Ми + краб – аб +об + ы =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Забавные приключения в стране слов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. Черёмуха - муха + п = чере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2. Железо – лезо + луна – на + доктор – тор = желу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3. По + звон +око – ко +чник = позвоночни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4.Оса + н + карта – рта =осан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5.Море – ре +зал – ал + г =моз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6. Немой – мой +рвать – ать +ы =нер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7. Ми + краб – аб +об + ы =микроб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2:47Z</dcterms:created>
  <dc:creator>User</dc:creator>
  <dc:description/>
  <dc:language>en-US</dc:language>
  <cp:lastModifiedBy>User</cp:lastModifiedBy>
  <dcterms:modified xsi:type="dcterms:W3CDTF">2011-01-28T05:54:08Z</dcterms:modified>
  <cp:revision>6</cp:revision>
  <dc:subject/>
  <dc:title>Конкурс «Я и моё имя» </dc:title>
</cp:coreProperties>
</file>