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AFF-0B62-4039-9F26-52419CE1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2F5-7601-4521-8205-F2E7F00E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F31-BD98-4C04-852A-64A0694D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9D2-19CD-4B35-A3DA-651943ED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0AD-E00E-4FF7-93F8-8C942F88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005-4BE1-4552-961A-6AEB427E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14E-CFBA-460A-B038-FD2675E2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694-9C4E-4E6D-8068-CE5AF7C0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C67-2AF4-4714-B1BC-AB8F1933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316-0287-48A0-A1AA-D7C2D107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D1E-9F61-4171-9C61-85D4FCB3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F16-A109-4A65-B3BA-6CA17292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CA63-B913-4F3D-A5BB-F0B331DB70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Как назвать всё, что изображено на фотографиях, одним слов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Табличка 4"/>
          <p:cNvSpPr/>
          <p:nvPr/>
        </p:nvSpPr>
        <p:spPr>
          <a:xfrm>
            <a:off x="1835280" y="5857920"/>
            <a:ext cx="5429160" cy="1000080"/>
          </a:xfrm>
          <a:custGeom>
            <a:avLst/>
            <a:gdLst>
              <a:gd name="textAreaLeft" fmla="*/ 117720 w 5429160"/>
              <a:gd name="textAreaRight" fmla="*/ 5311440 w 5429160"/>
              <a:gd name="textAreaTop" fmla="*/ 117720 h 1000080"/>
              <a:gd name="textAreaBottom" fmla="*/ 882360 h 1000080"/>
            </a:gdLst>
            <a:ahLst/>
            <a:rect l="textAreaLeft" t="textAreaTop" r="textAreaRight" b="textAreaBottom"/>
            <a:pathLst>
              <a:path w="11722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3626" y="21600"/>
                </a:lnTo>
                <a:arcTo wR="3600" hR="3600" stAng="10800000" swAng="5400000"/>
                <a:lnTo>
                  <a:pt x="11722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e6e0ec"/>
              </a:gs>
              <a:gs pos="100000">
                <a:srgbClr val="96ab94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Arial Black"/>
              </a:rPr>
              <a:t>Это учре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img1.liveinternet.ru/images/foto/b/2/700/1853700/f_8387617.jpg"/>
          <p:cNvPicPr/>
          <p:nvPr/>
        </p:nvPicPr>
        <p:blipFill>
          <a:blip r:embed="rId1"/>
          <a:stretch/>
        </p:blipFill>
        <p:spPr>
          <a:xfrm>
            <a:off x="3203640" y="1125360"/>
            <a:ext cx="2838240" cy="194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http://scienceport.ru/sites/default/files/3_76.jpg"/>
          <p:cNvPicPr/>
          <p:nvPr/>
        </p:nvPicPr>
        <p:blipFill>
          <a:blip r:embed="rId2"/>
          <a:stretch/>
        </p:blipFill>
        <p:spPr>
          <a:xfrm>
            <a:off x="0" y="1101600"/>
            <a:ext cx="2857680" cy="2017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http://files.adme.ru/files/comment/part_432/4310155_1291891782.jpg"/>
          <p:cNvPicPr/>
          <p:nvPr/>
        </p:nvPicPr>
        <p:blipFill>
          <a:blip r:embed="rId3"/>
          <a:stretch/>
        </p:blipFill>
        <p:spPr>
          <a:xfrm>
            <a:off x="6195960" y="3286080"/>
            <a:ext cx="2948040" cy="2214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http://www.pionertur.ru/assets/images/KARTINKI/moscow/muzey.jpg"/>
          <p:cNvPicPr/>
          <p:nvPr/>
        </p:nvPicPr>
        <p:blipFill>
          <a:blip r:embed="rId4"/>
          <a:stretch/>
        </p:blipFill>
        <p:spPr>
          <a:xfrm>
            <a:off x="6267600" y="1071720"/>
            <a:ext cx="266220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http://static.diary.ru/userdir/6/6/0/4/660465/38564563.jpg"/>
          <p:cNvPicPr/>
          <p:nvPr/>
        </p:nvPicPr>
        <p:blipFill>
          <a:blip r:embed="rId5"/>
          <a:stretch/>
        </p:blipFill>
        <p:spPr>
          <a:xfrm>
            <a:off x="0" y="3357720"/>
            <a:ext cx="285264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http://s52.radikal.ru/i137/0912/66/8514c75de805.jpg"/>
          <p:cNvPicPr/>
          <p:nvPr/>
        </p:nvPicPr>
        <p:blipFill>
          <a:blip r:embed="rId6"/>
          <a:stretch/>
        </p:blipFill>
        <p:spPr>
          <a:xfrm>
            <a:off x="3071880" y="3340080"/>
            <a:ext cx="29289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  <a:ea typeface="Arial"/>
              </a:rPr>
              <a:t>Театр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 Black"/>
              </a:rPr>
              <a:t>Большой теа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4716360" y="2565360"/>
            <a:ext cx="44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</a:rPr>
              <a:t>Детский музыкальный театр им Натальи Са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http://s52.radikal.ru/i137/0912/66/8514c75de805.jpg"/>
          <p:cNvPicPr/>
          <p:nvPr/>
        </p:nvPicPr>
        <p:blipFill>
          <a:blip r:embed="rId1"/>
          <a:stretch/>
        </p:blipFill>
        <p:spPr>
          <a:xfrm>
            <a:off x="0" y="1357200"/>
            <a:ext cx="456408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http://www.muzklondike.ru/u/image/Teatr_imSatc.jpg"/>
          <p:cNvPicPr/>
          <p:nvPr/>
        </p:nvPicPr>
        <p:blipFill>
          <a:blip r:embed="rId2"/>
          <a:stretch/>
        </p:blipFill>
        <p:spPr>
          <a:xfrm>
            <a:off x="6143760" y="500040"/>
            <a:ext cx="2714400" cy="1846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http://mosday.ru/photos/45_1078.jpg"/>
          <p:cNvPicPr/>
          <p:nvPr/>
        </p:nvPicPr>
        <p:blipFill>
          <a:blip r:embed="rId3"/>
          <a:stretch/>
        </p:blipFill>
        <p:spPr>
          <a:xfrm>
            <a:off x="4638600" y="3857760"/>
            <a:ext cx="450540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Black"/>
              </a:rPr>
              <a:t>Театр зверей имени Дур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http://www.ugolokdurova.ru/files/imagecache/fullsize/STR_8193.JPG"/>
          <p:cNvPicPr/>
          <p:nvPr/>
        </p:nvPicPr>
        <p:blipFill>
          <a:blip r:embed="rId1"/>
          <a:stretch/>
        </p:blipFill>
        <p:spPr>
          <a:xfrm>
            <a:off x="5391000" y="765000"/>
            <a:ext cx="3753000" cy="251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http://www.yourmoscow.ru/picture/iddoc/p_durova_1/$file/durova_b1.jpg"/>
          <p:cNvPicPr/>
          <p:nvPr/>
        </p:nvPicPr>
        <p:blipFill>
          <a:blip r:embed="rId2"/>
          <a:stretch/>
        </p:blipFill>
        <p:spPr>
          <a:xfrm>
            <a:off x="0" y="1714680"/>
            <a:ext cx="4762440" cy="3578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http://www.ugolokdurova.ru/files/imagecache/fullsize/STR_1167.jpg"/>
          <p:cNvPicPr/>
          <p:nvPr/>
        </p:nvPicPr>
        <p:blipFill>
          <a:blip r:embed="rId3"/>
          <a:stretch/>
        </p:blipFill>
        <p:spPr>
          <a:xfrm>
            <a:off x="4867200" y="4000680"/>
            <a:ext cx="427680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8000" y="549360"/>
            <a:ext cx="3995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Библиот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115920" y="4724280"/>
            <a:ext cx="33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</a:rPr>
              <a:t>Библиотека и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</a:rPr>
              <a:t>Ле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3780000" y="587700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Arial Black"/>
              </a:rPr>
              <a:t>Российская Государственная детская библиот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http://img1.liveinternet.ru/images/attach/c/0/53/118/53118682_Rossiyskaya_gosudarstvennaya_biblioteka_8.jpg"/>
          <p:cNvPicPr/>
          <p:nvPr/>
        </p:nvPicPr>
        <p:blipFill>
          <a:blip r:embed="rId1"/>
          <a:stretch/>
        </p:blipFill>
        <p:spPr>
          <a:xfrm>
            <a:off x="4716360" y="2714760"/>
            <a:ext cx="4427640" cy="310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http://shkolazhizni.ru/img/content/i39/39322_or.jpg"/>
          <p:cNvPicPr/>
          <p:nvPr/>
        </p:nvPicPr>
        <p:blipFill>
          <a:blip r:embed="rId2"/>
          <a:stretch/>
        </p:blipFill>
        <p:spPr>
          <a:xfrm>
            <a:off x="0" y="0"/>
            <a:ext cx="49212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На какие две группы их можно раздел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Табличка 3"/>
          <p:cNvSpPr/>
          <p:nvPr/>
        </p:nvSpPr>
        <p:spPr>
          <a:xfrm>
            <a:off x="0" y="1197000"/>
            <a:ext cx="4357800" cy="914400"/>
          </a:xfrm>
          <a:custGeom>
            <a:avLst/>
            <a:gdLst>
              <a:gd name="textAreaLeft" fmla="*/ 107640 w 4357800"/>
              <a:gd name="textAreaRight" fmla="*/ 4250160 w 43578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029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9308" y="21600"/>
                </a:lnTo>
                <a:arcTo wR="3600" hR="3600" stAng="10800000" swAng="5400000"/>
                <a:lnTo>
                  <a:pt x="1029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e6e0ec"/>
              </a:gs>
              <a:gs pos="100000">
                <a:srgbClr val="96ab94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Образовате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Табличка 4"/>
          <p:cNvSpPr/>
          <p:nvPr/>
        </p:nvSpPr>
        <p:spPr>
          <a:xfrm>
            <a:off x="4859280" y="1268280"/>
            <a:ext cx="4284720" cy="914400"/>
          </a:xfrm>
          <a:custGeom>
            <a:avLst/>
            <a:gdLst>
              <a:gd name="textAreaLeft" fmla="*/ 107640 w 4284720"/>
              <a:gd name="textAreaRight" fmla="*/ 4177080 w 42847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0118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7583" y="21600"/>
                </a:lnTo>
                <a:arcTo wR="3600" hR="3600" stAng="10800000" swAng="5400000"/>
                <a:lnTo>
                  <a:pt x="10118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e6e0ec"/>
              </a:gs>
              <a:gs pos="100000">
                <a:srgbClr val="96ab94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Учреждения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5"/>
          <p:cNvSpPr/>
          <p:nvPr/>
        </p:nvSpPr>
        <p:spPr>
          <a:xfrm>
            <a:off x="214200" y="2500200"/>
            <a:ext cx="3214800" cy="5000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 Black"/>
                <a:ea typeface="Arial"/>
              </a:rPr>
              <a:t>шк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6"/>
          <p:cNvSpPr/>
          <p:nvPr/>
        </p:nvSpPr>
        <p:spPr>
          <a:xfrm>
            <a:off x="214200" y="3214800"/>
            <a:ext cx="3357720" cy="5713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 Black"/>
                <a:ea typeface="Arial"/>
              </a:rPr>
              <a:t>гимн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7"/>
          <p:cNvSpPr/>
          <p:nvPr/>
        </p:nvSpPr>
        <p:spPr>
          <a:xfrm>
            <a:off x="214200" y="4071960"/>
            <a:ext cx="3429000" cy="6429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 Black"/>
                <a:ea typeface="Arial"/>
              </a:rPr>
              <a:t>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8"/>
          <p:cNvSpPr/>
          <p:nvPr/>
        </p:nvSpPr>
        <p:spPr>
          <a:xfrm>
            <a:off x="5572080" y="2357280"/>
            <a:ext cx="3214800" cy="5716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 Black"/>
                <a:ea typeface="Arial"/>
              </a:rPr>
              <a:t>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9"/>
          <p:cNvSpPr/>
          <p:nvPr/>
        </p:nvSpPr>
        <p:spPr>
          <a:xfrm>
            <a:off x="5643720" y="3143160"/>
            <a:ext cx="3071520" cy="6429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 Black"/>
                <a:ea typeface="Arial"/>
              </a:rPr>
              <a:t>теа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0"/>
          <p:cNvSpPr/>
          <p:nvPr/>
        </p:nvSpPr>
        <p:spPr>
          <a:xfrm>
            <a:off x="5643720" y="3929040"/>
            <a:ext cx="3143160" cy="7858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  <a:ea typeface="Arial"/>
              </a:rPr>
              <a:t>библи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2"/>
          <p:cNvSpPr/>
          <p:nvPr/>
        </p:nvSpPr>
        <p:spPr>
          <a:xfrm>
            <a:off x="214200" y="4929120"/>
            <a:ext cx="3357720" cy="5716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  <a:ea typeface="Arial"/>
              </a:rPr>
              <a:t>универс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3"/>
          <p:cNvSpPr/>
          <p:nvPr/>
        </p:nvSpPr>
        <p:spPr>
          <a:xfrm>
            <a:off x="285840" y="5715000"/>
            <a:ext cx="3143160" cy="6285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 Black"/>
                <a:ea typeface="Arial"/>
              </a:rPr>
              <a:t>консерва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4"/>
          <p:cNvSpPr/>
          <p:nvPr/>
        </p:nvSpPr>
        <p:spPr>
          <a:xfrm>
            <a:off x="5643720" y="5929200"/>
            <a:ext cx="3214440" cy="7146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 Black"/>
                <a:ea typeface="Arial"/>
              </a:rPr>
              <a:t>выставочный з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5"/>
          <p:cNvSpPr/>
          <p:nvPr/>
        </p:nvSpPr>
        <p:spPr>
          <a:xfrm>
            <a:off x="5572080" y="4857840"/>
            <a:ext cx="3286080" cy="7142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  <a:ea typeface="Arial"/>
              </a:rPr>
              <a:t>концертный з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 Black"/>
                <a:ea typeface="Arial"/>
              </a:rPr>
              <a:t>После школы дети идут учиться в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колледжи</a:t>
            </a:r>
            <a:r>
              <a:rPr b="0" lang="ru-RU" sz="2800" spc="-1" strike="noStrike">
                <a:solidFill>
                  <a:srgbClr val="0000ff"/>
                </a:solidFill>
                <a:latin typeface="Arial Black"/>
                <a:ea typeface="Arial"/>
              </a:rPr>
              <a:t>,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техникумы</a:t>
            </a:r>
            <a:r>
              <a:rPr b="0" lang="ru-RU" sz="2800" spc="-1" strike="noStrike">
                <a:solidFill>
                  <a:srgbClr val="0000ff"/>
                </a:solidFill>
                <a:latin typeface="Arial Black"/>
                <a:ea typeface="Arial"/>
              </a:rPr>
              <a:t>,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университеты</a:t>
            </a:r>
            <a:r>
              <a:rPr b="1" lang="ru-RU" sz="2800" spc="-1" strike="noStrike">
                <a:solidFill>
                  <a:srgbClr val="0000ff"/>
                </a:solidFill>
                <a:latin typeface="Arial Black"/>
                <a:ea typeface="Arial"/>
              </a:rPr>
              <a:t>, где вместе со знаниями приобретают профессию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http://www.edu-inform.ru/upload/iblock/160/16039d9a82ad874249f200f5792a9329.jpg"/>
          <p:cNvPicPr/>
          <p:nvPr/>
        </p:nvPicPr>
        <p:blipFill>
          <a:blip r:embed="rId1"/>
          <a:stretch/>
        </p:blipFill>
        <p:spPr>
          <a:xfrm>
            <a:off x="4932360" y="4325760"/>
            <a:ext cx="3311640" cy="2532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www.nam-pokursu.ru/public/files/images/pk19-2.jpg"/>
          <p:cNvPicPr/>
          <p:nvPr/>
        </p:nvPicPr>
        <p:blipFill>
          <a:blip r:embed="rId2"/>
          <a:stretch/>
        </p:blipFill>
        <p:spPr>
          <a:xfrm>
            <a:off x="0" y="1571760"/>
            <a:ext cx="3357720" cy="246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://trainclub.ru/images/news/brynskiy_zd_kolledz.jpg"/>
          <p:cNvPicPr/>
          <p:nvPr/>
        </p:nvPicPr>
        <p:blipFill>
          <a:blip r:embed="rId3"/>
          <a:stretch/>
        </p:blipFill>
        <p:spPr>
          <a:xfrm>
            <a:off x="0" y="4229280"/>
            <a:ext cx="3500280" cy="262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http://aktualno.ru/images/content_news/22_Glavniii_sait_5190_ptu_625x415_big.jpg"/>
          <p:cNvPicPr/>
          <p:nvPr/>
        </p:nvPicPr>
        <p:blipFill>
          <a:blip r:embed="rId4"/>
          <a:stretch/>
        </p:blipFill>
        <p:spPr>
          <a:xfrm>
            <a:off x="4929120" y="1512720"/>
            <a:ext cx="4000680" cy="2625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Консерватор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mk.ru/upload/iblock_mk/475/ee/70/7e/DETAIL_PICTURE_556031.jpg"/>
          <p:cNvPicPr/>
          <p:nvPr/>
        </p:nvPicPr>
        <p:blipFill>
          <a:blip r:embed="rId1"/>
          <a:stretch/>
        </p:blipFill>
        <p:spPr>
          <a:xfrm>
            <a:off x="0" y="90792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4643280" y="1989000"/>
            <a:ext cx="42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Black"/>
                <a:ea typeface="Arial"/>
              </a:rPr>
              <a:t>Университ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http://img1.liveinternet.ru/images/attach/c/2/69/388/69388398_mgu1.jpg"/>
          <p:cNvPicPr/>
          <p:nvPr/>
        </p:nvPicPr>
        <p:blipFill>
          <a:blip r:embed="rId2"/>
          <a:stretch/>
        </p:blipFill>
        <p:spPr>
          <a:xfrm>
            <a:off x="4548240" y="3286080"/>
            <a:ext cx="459576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 Black"/>
                <a:ea typeface="Arial"/>
              </a:rPr>
              <a:t>Музе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1000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Arial"/>
                <a:ea typeface="Arial"/>
              </a:rPr>
              <a:t>Много сотен лет назад люди начали собирать и хранить вещи, чем – то им дорогие и памятные. Такие собрания, или коллекции, оружия, книг, украшения во времена Древней Руси хранили в соборах и монастырях и почти никому не показывали. Только в 1719 году при </a:t>
            </a:r>
            <a:r>
              <a:rPr b="1" lang="ru-RU" sz="3000" spc="-1" strike="noStrike">
                <a:solidFill>
                  <a:srgbClr val="10253f"/>
                </a:solidFill>
                <a:latin typeface="Arial Black"/>
                <a:ea typeface="Arial"/>
              </a:rPr>
              <a:t>Петре Первом </a:t>
            </a:r>
            <a:r>
              <a:rPr b="1" lang="ru-RU" sz="3000" spc="-1" strike="noStrike">
                <a:solidFill>
                  <a:srgbClr val="10253f"/>
                </a:solidFill>
                <a:latin typeface="Arial"/>
                <a:ea typeface="Arial"/>
              </a:rPr>
              <a:t>открыли в Петербурге </a:t>
            </a:r>
            <a:r>
              <a:rPr b="1" lang="ru-RU" sz="3000" spc="-1" strike="noStrike">
                <a:solidFill>
                  <a:srgbClr val="953735"/>
                </a:solidFill>
                <a:latin typeface="Arial Black"/>
                <a:ea typeface="Arial"/>
              </a:rPr>
              <a:t>Кунсткамеру</a:t>
            </a:r>
            <a:r>
              <a:rPr b="1" lang="ru-RU" sz="3000" spc="-1" strike="noStrike">
                <a:solidFill>
                  <a:srgbClr val="10253f"/>
                </a:solidFill>
                <a:latin typeface="Arial"/>
                <a:ea typeface="Arial"/>
              </a:rPr>
              <a:t> – </a:t>
            </a:r>
            <a:r>
              <a:rPr b="1" lang="ru-RU" sz="3000" spc="-1" strike="noStrike" u="sng">
                <a:solidFill>
                  <a:srgbClr val="10253f"/>
                </a:solidFill>
                <a:uFillTx/>
                <a:latin typeface="Arial Black"/>
                <a:ea typeface="Arial"/>
              </a:rPr>
              <a:t>собрание диковинок для всеобщего обозрения</a:t>
            </a:r>
            <a:r>
              <a:rPr b="1" lang="ru-RU" sz="3000" spc="-1" strike="noStrike">
                <a:solidFill>
                  <a:srgbClr val="10253f"/>
                </a:solidFill>
                <a:latin typeface="Arial"/>
                <a:ea typeface="Arial"/>
              </a:rPr>
              <a:t>. Это был </a:t>
            </a:r>
            <a:r>
              <a:rPr b="1" lang="ru-RU" sz="3000" spc="-1" strike="noStrike" u="sng">
                <a:solidFill>
                  <a:srgbClr val="10253f"/>
                </a:solidFill>
                <a:uFillTx/>
                <a:latin typeface="Arial Black"/>
                <a:ea typeface="Arial"/>
              </a:rPr>
              <a:t>первый русский музей</a:t>
            </a:r>
            <a:r>
              <a:rPr b="1" lang="ru-RU" sz="3000" spc="-1" strike="noStrike">
                <a:solidFill>
                  <a:srgbClr val="10253f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5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С тех пор у нас появилось немало государственных музеев. В них собраны картины, скульптуры, рукописи, самые различные вещи. Музеи бывают разные.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Зоологические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– в них чучела животных, коллекции насекомых и бабочек.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Геологические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– там собраны образцы минералов. Есть музеи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ботанические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,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исторические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,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театральные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,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музыкальные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Arial Black"/>
                <a:ea typeface="Arial"/>
              </a:rPr>
              <a:t>Музей изобразительных искусств имени А.С. Пушкина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http://img1.liveinternet.ru/images/attach/c/0/48/91/48091443_Gosudarstvennnuyy_muzey_Pushkina.jpg"/>
          <p:cNvPicPr/>
          <p:nvPr/>
        </p:nvPicPr>
        <p:blipFill>
          <a:blip r:embed="rId1"/>
          <a:stretch/>
        </p:blipFill>
        <p:spPr>
          <a:xfrm>
            <a:off x="0" y="836640"/>
            <a:ext cx="4992840" cy="37447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5"/>
          <p:cNvSpPr/>
          <p:nvPr/>
        </p:nvSpPr>
        <p:spPr>
          <a:xfrm>
            <a:off x="0" y="4724280"/>
            <a:ext cx="52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Arial"/>
                <a:ea typeface="Arial"/>
              </a:rPr>
              <a:t>Хранятся бесценные художественные сокровища – картины и скульп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ttp://newsoffice.ru/wp-content/uploads/1b.jpg"/>
          <p:cNvPicPr/>
          <p:nvPr/>
        </p:nvPicPr>
        <p:blipFill>
          <a:blip r:embed="rId2"/>
          <a:stretch/>
        </p:blipFill>
        <p:spPr>
          <a:xfrm>
            <a:off x="5359320" y="4076640"/>
            <a:ext cx="3784680" cy="252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http://lifeglobe.net/media/entry/338/0_1155_2ec6452d_XL_1.jpg"/>
          <p:cNvPicPr/>
          <p:nvPr/>
        </p:nvPicPr>
        <p:blipFill>
          <a:blip r:embed="rId3"/>
          <a:stretch/>
        </p:blipFill>
        <p:spPr>
          <a:xfrm>
            <a:off x="5407200" y="1052640"/>
            <a:ext cx="3736800" cy="280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  <a:ea typeface="Arial"/>
              </a:rPr>
              <a:t>Третьяковская галере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http://img1.liveinternet.ru/images/attach/c/1/59/895/59895123_The_State_Tretyakov_Gallery.jpg"/>
          <p:cNvPicPr/>
          <p:nvPr/>
        </p:nvPicPr>
        <p:blipFill>
          <a:blip r:embed="rId1"/>
          <a:stretch/>
        </p:blipFill>
        <p:spPr>
          <a:xfrm>
            <a:off x="4357800" y="836640"/>
            <a:ext cx="4786200" cy="31957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0" y="907920"/>
            <a:ext cx="41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Галерея основана купцом Павлом Третьяков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Экспозиция музея посвящена русскому искусству: это живописные картины, скульптуры, иконы, образцы декоративно-прикладного искус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http://www.greenwich-hotel.ru/blog/public/images/galleryblock/67/b_d5860e0797691d22a8ed0cfc525bbdcc.jpg"/>
          <p:cNvPicPr/>
          <p:nvPr/>
        </p:nvPicPr>
        <p:blipFill>
          <a:blip r:embed="rId2"/>
          <a:stretch/>
        </p:blipFill>
        <p:spPr>
          <a:xfrm>
            <a:off x="1785960" y="4324320"/>
            <a:ext cx="3805200" cy="2533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Оружейная пал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http://oblvesti.ru/images/photos/medium/article6998.jpg"/>
          <p:cNvPicPr/>
          <p:nvPr/>
        </p:nvPicPr>
        <p:blipFill>
          <a:blip r:embed="rId1"/>
          <a:stretch/>
        </p:blipFill>
        <p:spPr>
          <a:xfrm>
            <a:off x="285840" y="4500720"/>
            <a:ext cx="3311280" cy="212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http://www.combeta.ru/UPLOAD/Image/image001%285%29.jpg"/>
          <p:cNvPicPr/>
          <p:nvPr/>
        </p:nvPicPr>
        <p:blipFill>
          <a:blip r:embed="rId2"/>
          <a:stretch/>
        </p:blipFill>
        <p:spPr>
          <a:xfrm>
            <a:off x="0" y="714240"/>
            <a:ext cx="4857840" cy="357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http://i046.radikal.ru/0710/5f/0656bcf71d55.jpg"/>
          <p:cNvPicPr/>
          <p:nvPr/>
        </p:nvPicPr>
        <p:blipFill>
          <a:blip r:embed="rId3"/>
          <a:stretch/>
        </p:blipFill>
        <p:spPr>
          <a:xfrm>
            <a:off x="4929120" y="3786120"/>
            <a:ext cx="2587680" cy="3071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http://s44.radikal.ru/i106/1102/69/f2d367ebe73d.jpg"/>
          <p:cNvPicPr/>
          <p:nvPr/>
        </p:nvPicPr>
        <p:blipFill>
          <a:blip r:embed="rId4"/>
          <a:stretch/>
        </p:blipFill>
        <p:spPr>
          <a:xfrm>
            <a:off x="5857920" y="928800"/>
            <a:ext cx="3049560" cy="2695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22:27:29Z</dcterms:created>
  <dc:creator>Лена</dc:creator>
  <dc:description/>
  <dc:language>en-US</dc:language>
  <cp:lastModifiedBy>Sosh1kab26</cp:lastModifiedBy>
  <dcterms:modified xsi:type="dcterms:W3CDTF">2017-02-17T06:31:38Z</dcterms:modified>
  <cp:revision>97</cp:revision>
  <dc:subject/>
  <dc:title>Культура и образование</dc:title>
</cp:coreProperties>
</file>