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6A4F-AB7E-4EFA-8F16-AE523421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D70F-8F23-4DB0-A62A-7A87B692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8BC0-7459-4D27-A66F-29A20812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5F89-6BD8-4033-9B3F-25BD02348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568A-1A31-48C9-92E3-DD87CF9C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263E-C3D4-476C-B56B-42DDC20B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AE2B-F0B8-4193-B3C1-69F6403F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15ED-69D9-4DB3-8AF9-924B2A0C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3D94-5515-4656-8CF5-37453FCD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1B3D-9657-442B-8FA0-CF2C9C85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30D8-C79C-4DC4-959A-D0462981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D8FB-E035-41A9-B167-2699C892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3C64-6204-4967-8557-5EBC500A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E47A-14E6-4E8B-B9C0-1A933CF6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9D5F-0752-474E-948E-BE427371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F38F-A667-4D66-BBEB-CB10CD71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5842-CB7D-4673-83A3-6472BD49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D260-4870-4E3A-84EB-CEB4A349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CC8E-596D-4385-9165-FD5649D1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512C-8CB6-4A91-B651-66C6509C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C7D1-03D5-4AB5-8C9A-FCC972BF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B782-2EFD-4D7E-8733-A6346141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3A39-0324-47C9-AD07-B44C65A2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3723-2094-4399-926A-761C0623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B048-CFEB-4C62-A35F-7A468229B3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50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9A3E-C7BB-4494-AAF4-457BC1BEDD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5" descr="ima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070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684360" y="1700280"/>
            <a:ext cx="807084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Детский сад № 226 ОО «РЖД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ЕДАГОГИЧЕСКИЙ СОВЕТ: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«Инновационные подходы к экологическому образованию дошкольник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в условиях реализации ФГОС»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71640" y="5084640"/>
            <a:ext cx="723888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Северобайкальс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2015 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ути реализации экологического образования в соответствии с ФГОС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99640" y="1557000"/>
            <a:ext cx="77835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Экологическое воспитание дошкольников в соответствии с ФГОС ДО может быть реализовано двумя путями: чере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1187280" y="4076640"/>
            <a:ext cx="2953080" cy="1584360"/>
          </a:xfrm>
          <a:prstGeom prst="rect">
            <a:avLst/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основную програм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Прямоугольник 4"/>
          <p:cNvSpPr/>
          <p:nvPr/>
        </p:nvSpPr>
        <p:spPr>
          <a:xfrm>
            <a:off x="4859280" y="4076640"/>
            <a:ext cx="2952720" cy="1584360"/>
          </a:xfrm>
          <a:prstGeom prst="rect">
            <a:avLst/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парциальную програм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Выгнутая влево стрелка 5"/>
          <p:cNvSpPr/>
          <p:nvPr/>
        </p:nvSpPr>
        <p:spPr>
          <a:xfrm>
            <a:off x="324000" y="2205000"/>
            <a:ext cx="792000" cy="3095640"/>
          </a:xfrm>
          <a:custGeom>
            <a:avLst/>
            <a:gdLst>
              <a:gd name="textAreaLeft" fmla="*/ 105840 w 792000"/>
              <a:gd name="textAreaRight" fmla="*/ 686160 w 792000"/>
              <a:gd name="textAreaTop" fmla="*/ 699480 h 3095640"/>
              <a:gd name="textAreaBottom" fmla="*/ 229716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64" stAng="-5400000" swAng="-5400000"/>
                <a:lnTo>
                  <a:pt x="0" y="11146"/>
                </a:lnTo>
                <a:arcTo wR="21600" hR="9764" stAng="10800000" swAng="-3615850"/>
                <a:lnTo>
                  <a:pt x="16200" y="21290"/>
                </a:lnTo>
                <a:lnTo>
                  <a:pt x="21600" y="20218"/>
                </a:lnTo>
                <a:lnTo>
                  <a:pt x="16200" y="18526"/>
                </a:lnTo>
                <a:lnTo>
                  <a:pt x="16200" y="19217"/>
                </a:lnTo>
                <a:arcTo wR="21600" hR="9764" stAng="7184150" swAng="3505636"/>
                <a:lnTo>
                  <a:pt x="54" y="10455"/>
                </a:lnTo>
                <a:arcTo wR="21600" hR="9764" stAng="-10689785" swAng="5289785"/>
                <a:close/>
              </a:path>
              <a:path fill="darkenLess" w="21600" h="21600">
                <a:moveTo>
                  <a:pt x="21600" y="0"/>
                </a:moveTo>
                <a:arcTo wR="21600" hR="9764" stAng="-5400000" swAng="-5400000"/>
                <a:lnTo>
                  <a:pt x="0" y="9764"/>
                </a:lnTo>
                <a:arcTo wR="21600" hR="9764" stAng="10800000" swAng="-110215"/>
                <a:lnTo>
                  <a:pt x="54" y="10455"/>
                </a:lnTo>
                <a:arcTo wR="21600" hR="9764" stAng="-10689785" swAng="5289785"/>
                <a:close/>
              </a:path>
            </a:pathLst>
          </a:cu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Выгнутая вправо стрелка 6"/>
          <p:cNvSpPr/>
          <p:nvPr/>
        </p:nvSpPr>
        <p:spPr>
          <a:xfrm>
            <a:off x="8244000" y="2421000"/>
            <a:ext cx="684000" cy="3024000"/>
          </a:xfrm>
          <a:custGeom>
            <a:avLst/>
            <a:gdLst>
              <a:gd name="textAreaLeft" fmla="*/ 91440 w 684000"/>
              <a:gd name="textAreaRight" fmla="*/ 592560 w 684000"/>
              <a:gd name="textAreaTop" fmla="*/ 691920 h 3024000"/>
              <a:gd name="textAreaBottom" fmla="*/ 22467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884" stAng="-5400000" swAng="5400000"/>
                <a:lnTo>
                  <a:pt x="21600" y="11105"/>
                </a:lnTo>
                <a:arcTo wR="21600" hR="9884" stAng="0" swAng="3633955"/>
                <a:lnTo>
                  <a:pt x="5400" y="21286"/>
                </a:lnTo>
                <a:lnTo>
                  <a:pt x="0" y="20379"/>
                </a:lnTo>
                <a:lnTo>
                  <a:pt x="5400" y="18843"/>
                </a:lnTo>
                <a:lnTo>
                  <a:pt x="5400" y="19454"/>
                </a:lnTo>
                <a:arcTo wR="21600" hR="9884" stAng="3633955" swAng="-3536631"/>
                <a:lnTo>
                  <a:pt x="21559" y="10495"/>
                </a:lnTo>
                <a:arcTo wR="21600" hR="9884" stAng="-97324" swAng="-5302676"/>
                <a:close/>
              </a:path>
              <a:path fill="darkenLess" w="21600" h="21600">
                <a:moveTo>
                  <a:pt x="0" y="0"/>
                </a:moveTo>
                <a:arcTo wR="21600" hR="9884" stAng="-5400000" swAng="5400000"/>
                <a:lnTo>
                  <a:pt x="21600" y="11105"/>
                </a:lnTo>
                <a:arcTo wR="21600" hR="9884" stAng="0" swAng="-97324"/>
                <a:lnTo>
                  <a:pt x="21559" y="10495"/>
                </a:lnTo>
                <a:arcTo wR="21600" hR="9884" stAng="-97324" swAng="-5302676"/>
                <a:close/>
              </a:path>
            </a:pathLst>
          </a:cu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Экологическое образование в образовательных област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Схема 3" descr=""/>
          <p:cNvPicPr/>
          <p:nvPr/>
        </p:nvPicPr>
        <p:blipFill>
          <a:blip r:embed="rId1"/>
          <a:stretch/>
        </p:blipFill>
        <p:spPr>
          <a:xfrm>
            <a:off x="1036800" y="1542960"/>
            <a:ext cx="764352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Экологическое образование в образовательных област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70c0"/>
                </a:solidFill>
                <a:latin typeface="Verdana"/>
              </a:rPr>
              <a:t>Социально-коммуникативное развитие</a:t>
            </a:r>
            <a:r>
              <a:rPr b="0" lang="ru-RU" sz="21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правлено </a:t>
            </a:r>
            <a:r>
              <a:rPr b="0" lang="ru-RU" sz="2100" spc="-1" strike="noStrike" u="sng">
                <a:solidFill>
                  <a:srgbClr val="c00000"/>
                </a:solidFill>
                <a:uFillTx/>
                <a:latin typeface="Verdana"/>
              </a:rPr>
              <a:t>на усвоение норм и ценностей, принятых в обществе</a:t>
            </a:r>
            <a:r>
              <a:rPr b="0" lang="ru-RU" sz="2100" spc="-1" strike="noStrike">
                <a:solidFill>
                  <a:srgbClr val="c00000"/>
                </a:solidFill>
                <a:latin typeface="Verdana"/>
              </a:rPr>
              <a:t>, </a:t>
            </a:r>
            <a:r>
              <a:rPr b="0" lang="ru-RU" sz="2100" spc="-1" strike="noStrike" u="sng">
                <a:solidFill>
                  <a:srgbClr val="c00000"/>
                </a:solidFill>
                <a:uFillTx/>
                <a:latin typeface="Verdana"/>
              </a:rPr>
              <a:t>включая моральные и нравственные ценности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Verdana"/>
              </a:rPr>
              <a:t>;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развитие общения и взаимодействия ребёнка со взрослыми и сверстниками; </a:t>
            </a:r>
            <a:r>
              <a:rPr b="0" lang="ru-RU" sz="2100" spc="-1" strike="noStrike" u="sng">
                <a:solidFill>
                  <a:srgbClr val="c00000"/>
                </a:solidFill>
                <a:uFillTx/>
                <a:latin typeface="Verdana"/>
              </a:rPr>
              <a:t>становление самостоятельности, целенаправленности и саморегуляции собственных действий</a:t>
            </a:r>
            <a:r>
              <a:rPr b="0" lang="ru-RU" sz="2100" spc="-1" strike="noStrike">
                <a:solidFill>
                  <a:srgbClr val="c00000"/>
                </a:solidFill>
                <a:latin typeface="Verdana"/>
              </a:rPr>
              <a:t>; </a:t>
            </a:r>
            <a:r>
              <a:rPr b="0" lang="ru-RU" sz="2100" spc="-1" strike="noStrike" u="sng">
                <a:solidFill>
                  <a:srgbClr val="c00000"/>
                </a:solidFill>
                <a:uFillTx/>
                <a:latin typeface="Verdana"/>
              </a:rPr>
              <a:t>развитие социального и эмоционального интеллекта, эмоциональной отзывчивости, сопереживания,</a:t>
            </a:r>
            <a:r>
              <a:rPr b="0" lang="ru-RU" sz="21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формирование готовности к совместной деятельности со сверстниками, формирование уважительного отношения и чувства принадлежности к своей семье и к сообществу детей и взрослых в Организации; формирование позитивных установок к различным видам труда и творчества; </a:t>
            </a:r>
            <a:r>
              <a:rPr b="0" lang="ru-RU" sz="2100" spc="-1" strike="noStrike" u="sng">
                <a:solidFill>
                  <a:srgbClr val="c00000"/>
                </a:solidFill>
                <a:uFillTx/>
                <a:latin typeface="Verdana"/>
              </a:rPr>
              <a:t>формирование основ безопасного поведения в быту, социуме, природе</a:t>
            </a:r>
            <a:r>
              <a:rPr b="0" lang="ru-RU" sz="2100" spc="-1" strike="noStrike">
                <a:solidFill>
                  <a:srgbClr val="c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Экологическое образование в образовательных област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99640" y="1557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70c0"/>
                </a:solidFill>
                <a:latin typeface="Verdana"/>
              </a:rPr>
              <a:t>Познавательное развитие</a:t>
            </a:r>
            <a:r>
              <a:rPr b="0" lang="ru-RU" sz="21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u-RU" sz="2100" spc="-1" strike="noStrike" u="sng">
                <a:solidFill>
                  <a:srgbClr val="c00000"/>
                </a:solidFill>
                <a:uFillTx/>
                <a:latin typeface="Verdana"/>
              </a:rPr>
              <a:t>предполагает развитие интересов детей, любознательности и познавательной мотивации; формирование познавательных действий, становление сознания; развитие воображения и творческой активности; формирование первичных представлений о себе, других людях, объектах окружающего мира, о свойствах и отношениях объектов окружающего мира о малой родине и Отечестве,</a:t>
            </a:r>
            <a:r>
              <a:rPr b="0" lang="ru-RU" sz="21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u-RU" sz="2100" spc="-1" strike="noStrike" u="sng">
                <a:solidFill>
                  <a:srgbClr val="c00000"/>
                </a:solidFill>
                <a:uFillTx/>
                <a:latin typeface="Verdana"/>
              </a:rPr>
              <a:t>представлений о социокультурных ценностях нашего народа</a:t>
            </a:r>
            <a:r>
              <a:rPr b="0" lang="ru-RU" sz="2100" spc="-1" strike="noStrike">
                <a:solidFill>
                  <a:srgbClr val="c00000"/>
                </a:solidFill>
                <a:latin typeface="Verdana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б отечественных традициях и праздниках, </a:t>
            </a:r>
            <a:r>
              <a:rPr b="0" lang="ru-RU" sz="2100" spc="-1" strike="noStrike" u="sng">
                <a:solidFill>
                  <a:srgbClr val="c00000"/>
                </a:solidFill>
                <a:uFillTx/>
                <a:latin typeface="Verdana"/>
              </a:rPr>
              <a:t>о планете Земля как общем доме людей, об особенностях её природы,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ногообразии стран и народов мир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Экологическое образование в образовательных област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71280" y="1557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70c0"/>
                </a:solidFill>
                <a:latin typeface="Verdana"/>
              </a:rPr>
              <a:t>Речевое развитие</a:t>
            </a:r>
            <a:r>
              <a:rPr b="0" lang="ru-RU" sz="25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ключает владение речью как средством общения и культуры; </a:t>
            </a:r>
            <a:r>
              <a:rPr b="0" lang="ru-RU" sz="2500" spc="-1" strike="noStrike" u="sng">
                <a:solidFill>
                  <a:srgbClr val="c00000"/>
                </a:solidFill>
                <a:uFillTx/>
                <a:latin typeface="Verdana"/>
              </a:rPr>
              <a:t>обогащение активного словаря;</a:t>
            </a:r>
            <a:r>
              <a:rPr b="0" lang="ru-RU" sz="25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u-RU" sz="2500" spc="-1" strike="noStrike" u="sng">
                <a:solidFill>
                  <a:srgbClr val="c00000"/>
                </a:solidFill>
                <a:uFillTx/>
                <a:latin typeface="Verdana"/>
              </a:rPr>
              <a:t>развитие связной, грамматически правильной диалогической и монологической речи</a:t>
            </a:r>
            <a:r>
              <a:rPr b="0" lang="ru-RU" sz="2500" spc="-1" strike="noStrike">
                <a:solidFill>
                  <a:srgbClr val="c00000"/>
                </a:solidFill>
                <a:latin typeface="Verdana"/>
              </a:rPr>
              <a:t>; </a:t>
            </a:r>
            <a:r>
              <a:rPr b="0" lang="ru-RU" sz="2500" spc="-1" strike="noStrike" u="sng">
                <a:solidFill>
                  <a:srgbClr val="c00000"/>
                </a:solidFill>
                <a:uFillTx/>
                <a:latin typeface="Verdana"/>
              </a:rPr>
              <a:t>развитие речевого творчества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; развитие звуковой и интонационной культуры речи, фонематического слуха; </a:t>
            </a:r>
            <a:r>
              <a:rPr b="0" lang="ru-RU" sz="2500" spc="-1" strike="noStrike" u="sng">
                <a:solidFill>
                  <a:srgbClr val="c00000"/>
                </a:solidFill>
                <a:uFillTx/>
                <a:latin typeface="Verdana"/>
              </a:rPr>
              <a:t>знакомство с книжной культурой, детской литературой, понимание на слух текстов различных жанров детской литературы</a:t>
            </a:r>
            <a:r>
              <a:rPr b="0" lang="ru-RU" sz="2500" spc="-1" strike="noStrike">
                <a:solidFill>
                  <a:srgbClr val="c00000"/>
                </a:solidFill>
                <a:latin typeface="Verdana"/>
              </a:rPr>
              <a:t>;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формирование звуковой аналитико­синтетической активности как предпосылки обучения грамот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Экологическое образование в образовательных област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13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70c0"/>
                </a:solidFill>
                <a:latin typeface="Verdana"/>
              </a:rPr>
              <a:t>Художественно-эстетическое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развитие предполагает развитие предпосылок </a:t>
            </a:r>
            <a:r>
              <a:rPr b="0" lang="ru-RU" sz="2500" spc="-1" strike="noStrike" u="sng">
                <a:solidFill>
                  <a:srgbClr val="c00000"/>
                </a:solidFill>
                <a:uFillTx/>
                <a:latin typeface="Verdana"/>
              </a:rPr>
              <a:t>ценностно-смыслового восприятия</a:t>
            </a:r>
            <a:r>
              <a:rPr b="0" lang="ru-RU" sz="25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 понимания произведений искусства (словесного, музыкального, изобразительного</a:t>
            </a:r>
            <a:r>
              <a:rPr b="0" lang="ru-RU" sz="2500" spc="-1" strike="noStrike">
                <a:solidFill>
                  <a:srgbClr val="c00000"/>
                </a:solidFill>
                <a:latin typeface="Verdana"/>
              </a:rPr>
              <a:t>), </a:t>
            </a:r>
            <a:r>
              <a:rPr b="0" lang="ru-RU" sz="2500" spc="-1" strike="noStrike" u="sng">
                <a:solidFill>
                  <a:srgbClr val="c00000"/>
                </a:solidFill>
                <a:uFillTx/>
                <a:latin typeface="Verdana"/>
              </a:rPr>
              <a:t>мира природы;</a:t>
            </a:r>
            <a:r>
              <a:rPr b="0" lang="ru-RU" sz="25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u-RU" sz="2500" spc="-1" strike="noStrike" u="sng">
                <a:solidFill>
                  <a:srgbClr val="c00000"/>
                </a:solidFill>
                <a:uFillTx/>
                <a:latin typeface="Verdana"/>
              </a:rPr>
              <a:t>становление эстетического отношения к окружающему миру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; формирование элементарных представлений о видах искусства; восприятие музыки, художественной литературы, фольклора; </a:t>
            </a:r>
            <a:r>
              <a:rPr b="0" lang="ru-RU" sz="2500" spc="-1" strike="noStrike" u="sng">
                <a:solidFill>
                  <a:srgbClr val="c00000"/>
                </a:solidFill>
                <a:uFillTx/>
                <a:latin typeface="Verdana"/>
              </a:rPr>
              <a:t>стимулирование сопереживания персонажам художественных произведений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; реализацию самостоятельной творческой деятельности детей (изобразительной, конструктивно-модельной, музыкальной и др.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Экологическое образование в образовательных област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13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70c0"/>
                </a:solidFill>
                <a:latin typeface="Verdana"/>
              </a:rPr>
              <a:t>Физическое развитие</a:t>
            </a:r>
            <a:r>
              <a:rPr b="0" lang="ru-RU" sz="19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ключает приобретение опыта в следующих видах деятельности детей: двигательной, в том числе связанной с выполнением упражнений, направленных на развитие таких физических качеств, как координация и гибкость; способствующих правильному формированию опорно-двигательной системы организма, развитию равновесия, координации движения, крупной и мелкой моторики обеих рук, а также с правильным, не наносящем ущерба организму, выполнением основных движений (ходьба, бег, мягкие прыжки, повороты в обе стороны), формирование начальных представлений о некоторых видах спорта, овладение подвижными играми с правилами; становление целенаправленности и саморегуляции в двигательной сфере</a:t>
            </a:r>
            <a:r>
              <a:rPr b="0" lang="ru-RU" sz="1900" spc="-1" strike="noStrike">
                <a:solidFill>
                  <a:srgbClr val="c00000"/>
                </a:solidFill>
                <a:latin typeface="Verdana"/>
              </a:rPr>
              <a:t>; </a:t>
            </a:r>
            <a:r>
              <a:rPr b="0" lang="ru-RU" sz="1900" spc="-1" strike="noStrike" u="sng">
                <a:solidFill>
                  <a:srgbClr val="c00000"/>
                </a:solidFill>
                <a:uFillTx/>
                <a:latin typeface="Verdana"/>
              </a:rPr>
              <a:t>становление ценностей здорового образа жизни, овладение его элементарными нормами и правилами (в питании, двигательном режиме, закаливании, при формировании полезных привычек и др.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Схема 1" descr=""/>
          <p:cNvPicPr/>
          <p:nvPr/>
        </p:nvPicPr>
        <p:blipFill>
          <a:blip r:embed="rId1"/>
          <a:stretch/>
        </p:blipFill>
        <p:spPr>
          <a:xfrm>
            <a:off x="244440" y="182520"/>
            <a:ext cx="779004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Система знаний о природе для дошкольников должна включать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Схема 3" descr=""/>
          <p:cNvPicPr/>
          <p:nvPr/>
        </p:nvPicPr>
        <p:blipFill>
          <a:blip r:embed="rId1"/>
          <a:stretch/>
        </p:blipFill>
        <p:spPr>
          <a:xfrm>
            <a:off x="920880" y="1908000"/>
            <a:ext cx="769284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Экологообразовательные технологии в целом включают три этапа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2" name="Схема 3" descr=""/>
          <p:cNvPicPr/>
          <p:nvPr/>
        </p:nvPicPr>
        <p:blipFill>
          <a:blip r:embed="rId1"/>
          <a:stretch/>
        </p:blipFill>
        <p:spPr>
          <a:xfrm>
            <a:off x="1500120" y="1390680"/>
            <a:ext cx="6838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А. Г. Асмолов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«Стандарт дошкольного образования – это стандарт поддержки разнообразия детства, стандарт развития личности ребенка. Стандарт дошкольного образования ставит цель, чтобы дети остались почемучками.»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Ценностные аспекты, необходимые для формирования образа мира и понимания детьми взаимосвязи между человеком и природой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Схема 3" descr=""/>
          <p:cNvPicPr/>
          <p:nvPr/>
        </p:nvPicPr>
        <p:blipFill>
          <a:blip r:embed="rId1"/>
          <a:stretch/>
        </p:blipFill>
        <p:spPr>
          <a:xfrm>
            <a:off x="1511280" y="1390680"/>
            <a:ext cx="6121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Овал 6"/>
          <p:cNvSpPr/>
          <p:nvPr/>
        </p:nvSpPr>
        <p:spPr>
          <a:xfrm>
            <a:off x="1476360" y="1628640"/>
            <a:ext cx="6551640" cy="52293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равственные качества личности, несущие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кологический смысл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7" name="Схема 5" descr=""/>
          <p:cNvPicPr/>
          <p:nvPr/>
        </p:nvPicPr>
        <p:blipFill>
          <a:blip r:embed="rId1"/>
          <a:stretch/>
        </p:blipFill>
        <p:spPr>
          <a:xfrm>
            <a:off x="1689120" y="2041560"/>
            <a:ext cx="610704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Особенности отношения дошкольников к природ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Схема 3" descr=""/>
          <p:cNvPicPr/>
          <p:nvPr/>
        </p:nvPicPr>
        <p:blipFill>
          <a:blip r:embed="rId1"/>
          <a:stretch/>
        </p:blipFill>
        <p:spPr>
          <a:xfrm>
            <a:off x="1504800" y="1390680"/>
            <a:ext cx="72183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6920" y="301320"/>
            <a:ext cx="7856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Работа по формированию экологического отношения детей к природе строится в нескольких направлениях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28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азвитие эмоционального влечения и интереса к природе, выработка нравственных, эстетических чувств, привычек и воспитание вол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формирование потребностей, мотивов, установок личности, ценностных ориентации, направленных на субъектное восприятие объектов природы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формирование личностно значимых целей экологической деятельност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0920" y="30132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иды экологически ориентированной деятельности детей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ознавательн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Ценностно-ориентационн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актическ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Игровая деяте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Художественно-эстетическ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Изобразительное творче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итературное творче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оммуникативн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Формы организации работы по экологическому образованию в детском саду по ФГОС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71280" y="2420640"/>
            <a:ext cx="7993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тральная психодидактическая технология стандарта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В программе «От рождения до школы»  (под ред.</a:t>
            </a:r>
            <a:r>
              <a:rPr b="1" i="1" lang="ru-RU" sz="2800" spc="-1" strike="noStrike">
                <a:solidFill>
                  <a:srgbClr val="006666"/>
                </a:solidFill>
                <a:latin typeface="Arial"/>
              </a:rPr>
              <a:t> Н. Е. Вераксы; Т. С. Комаровой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)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это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23640" y="1827360"/>
            <a:ext cx="8359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г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смотр и обсуждени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ультфильмов, видеофильмов, телепереда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тение и обсуждени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граммных произвед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здание ситу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блюд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зготовлени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метов для иг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ектная деятель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формление выставо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иктори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сценирование и драматизац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ассматривание и обсужд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Диаграмма 3" descr=""/>
          <p:cNvPicPr/>
          <p:nvPr/>
        </p:nvPicPr>
        <p:blipFill>
          <a:blip r:embed="rId1"/>
          <a:stretch/>
        </p:blipFill>
        <p:spPr>
          <a:xfrm>
            <a:off x="433440" y="396720"/>
            <a:ext cx="8107200" cy="606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Диаграмма 1" descr=""/>
          <p:cNvPicPr/>
          <p:nvPr/>
        </p:nvPicPr>
        <p:blipFill>
          <a:blip r:embed="rId1"/>
          <a:stretch/>
        </p:blipFill>
        <p:spPr>
          <a:xfrm>
            <a:off x="390600" y="974880"/>
            <a:ext cx="8362800" cy="54864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Сравнительный анализ по возрастным группам (%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сновные вопрос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.Нужно ли экологически воспитывать детей дошкольного возраста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.Занимаются ли сегодня экологическим воспитанием детей в ДОО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3.Предусматривают ли ФГОС экологическое образование в детском саду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2" name="Прямая со стрелкой 14"/>
          <p:cNvCxnSpPr/>
          <p:nvPr/>
        </p:nvCxnSpPr>
        <p:spPr>
          <a:xfrm flipH="1">
            <a:off x="2915640" y="1197000"/>
            <a:ext cx="1943640" cy="3528000"/>
          </a:xfrm>
          <a:prstGeom prst="straightConnector1">
            <a:avLst/>
          </a:prstGeom>
          <a:ln w="41400">
            <a:solidFill>
              <a:srgbClr val="33cccc"/>
            </a:solidFill>
            <a:miter/>
            <a:tailEnd len="med" type="arrow" w="med"/>
          </a:ln>
        </p:spPr>
      </p:cxnSp>
      <p:sp>
        <p:nvSpPr>
          <p:cNvPr id="103" name="Прямоугольник 3"/>
          <p:cNvSpPr/>
          <p:nvPr/>
        </p:nvSpPr>
        <p:spPr>
          <a:xfrm>
            <a:off x="2282040" y="549360"/>
            <a:ext cx="52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Экологическое образование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1042920" y="1844640"/>
            <a:ext cx="2233800" cy="1800360"/>
          </a:xfrm>
          <a:prstGeom prst="rect">
            <a:avLst/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Система знаний и ум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3780000" y="1844640"/>
            <a:ext cx="2232000" cy="1728720"/>
          </a:xfrm>
          <a:prstGeom prst="rect">
            <a:avLst/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Ценностные ориента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Прямоугольник 7"/>
          <p:cNvSpPr/>
          <p:nvPr/>
        </p:nvSpPr>
        <p:spPr>
          <a:xfrm>
            <a:off x="2411280" y="4797360"/>
            <a:ext cx="5329440" cy="1152720"/>
          </a:xfrm>
          <a:prstGeom prst="rect">
            <a:avLst/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Экологическая ответственность личности за состояние и улучшение социоприродной среды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Прямоугольник 8"/>
          <p:cNvSpPr/>
          <p:nvPr/>
        </p:nvSpPr>
        <p:spPr>
          <a:xfrm>
            <a:off x="6588000" y="1844640"/>
            <a:ext cx="2233800" cy="1655640"/>
          </a:xfrm>
          <a:prstGeom prst="rect">
            <a:avLst/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Нравственно-этические и эстетические отнош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8" name="Прямая со стрелкой 9"/>
          <p:cNvCxnSpPr/>
          <p:nvPr/>
        </p:nvCxnSpPr>
        <p:spPr>
          <a:xfrm flipH="1">
            <a:off x="2986920" y="1125000"/>
            <a:ext cx="1872360" cy="575640"/>
          </a:xfrm>
          <a:prstGeom prst="straightConnector1">
            <a:avLst/>
          </a:prstGeom>
          <a:ln w="41400">
            <a:solidFill>
              <a:srgbClr val="33cccc"/>
            </a:solidFill>
            <a:miter/>
            <a:tailEnd len="med" type="arrow" w="med"/>
          </a:ln>
        </p:spPr>
      </p:cxnSp>
      <p:cxnSp>
        <p:nvCxnSpPr>
          <p:cNvPr id="109" name="Прямая со стрелкой 10"/>
          <p:cNvCxnSpPr/>
          <p:nvPr/>
        </p:nvCxnSpPr>
        <p:spPr>
          <a:xfrm>
            <a:off x="4858920" y="1196640"/>
            <a:ext cx="1080" cy="577080"/>
          </a:xfrm>
          <a:prstGeom prst="straightConnector1">
            <a:avLst/>
          </a:prstGeom>
          <a:ln w="41400">
            <a:solidFill>
              <a:srgbClr val="33cccc"/>
            </a:solidFill>
            <a:miter/>
            <a:tailEnd len="med" type="arrow" w="med"/>
          </a:ln>
        </p:spPr>
      </p:cxnSp>
      <p:cxnSp>
        <p:nvCxnSpPr>
          <p:cNvPr id="110" name="Прямая со стрелкой 13"/>
          <p:cNvCxnSpPr/>
          <p:nvPr/>
        </p:nvCxnSpPr>
        <p:spPr>
          <a:xfrm>
            <a:off x="4859280" y="1125360"/>
            <a:ext cx="2449800" cy="504000"/>
          </a:xfrm>
          <a:prstGeom prst="straightConnector1">
            <a:avLst/>
          </a:prstGeom>
          <a:ln w="41400">
            <a:solidFill>
              <a:srgbClr val="33ccc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66"/>
                </a:solidFill>
                <a:uFillTx/>
                <a:latin typeface="Arial"/>
              </a:rPr>
              <a:t>Цель</a:t>
            </a:r>
            <a:br>
              <a:rPr sz="4000"/>
            </a:br>
            <a:r>
              <a:rPr b="1" lang="ru-RU" sz="4000" spc="-1" strike="noStrike" u="sng">
                <a:solidFill>
                  <a:srgbClr val="006666"/>
                </a:solidFill>
                <a:uFillTx/>
                <a:latin typeface="Arial"/>
              </a:rPr>
              <a:t> экологического образования </a:t>
            </a:r>
            <a:br>
              <a:rPr sz="4000"/>
            </a:br>
            <a:r>
              <a:rPr b="1" lang="ru-RU" sz="4000" spc="-1" strike="noStrike" u="sng">
                <a:solidFill>
                  <a:srgbClr val="006666"/>
                </a:solidFill>
                <a:uFillTx/>
                <a:latin typeface="Arial"/>
              </a:rPr>
              <a:t>в ДОУ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69800" y="2565360"/>
            <a:ext cx="7313400" cy="33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Verdana"/>
              </a:rPr>
              <a:t>– </a:t>
            </a:r>
            <a:r>
              <a:rPr b="0" lang="ru-RU" sz="4400" spc="-1" strike="noStrike">
                <a:solidFill>
                  <a:srgbClr val="002060"/>
                </a:solidFill>
                <a:latin typeface="Verdana"/>
              </a:rPr>
              <a:t>формирование экологически воспитанной личности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562720" y="1557000"/>
            <a:ext cx="3581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4" name="Прямая со стрелкой 10"/>
          <p:cNvCxnSpPr/>
          <p:nvPr/>
        </p:nvCxnSpPr>
        <p:spPr>
          <a:xfrm>
            <a:off x="3419640" y="3141360"/>
            <a:ext cx="289440" cy="432360"/>
          </a:xfrm>
          <a:prstGeom prst="straightConnector1">
            <a:avLst/>
          </a:prstGeom>
          <a:ln w="4140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езультат экологического воспита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Прямоугольник 4"/>
          <p:cNvSpPr/>
          <p:nvPr/>
        </p:nvSpPr>
        <p:spPr>
          <a:xfrm>
            <a:off x="1042920" y="3573360"/>
            <a:ext cx="3097440" cy="1800360"/>
          </a:xfrm>
          <a:prstGeom prst="rect">
            <a:avLst/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Экологические знания и ум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Прямоугольник 5"/>
          <p:cNvSpPr/>
          <p:nvPr/>
        </p:nvSpPr>
        <p:spPr>
          <a:xfrm>
            <a:off x="5364000" y="2708280"/>
            <a:ext cx="3095640" cy="2160720"/>
          </a:xfrm>
          <a:prstGeom prst="rect">
            <a:avLst/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Готовность и умения осуществлять разнообразные деятельности в природ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1332000" y="1844640"/>
            <a:ext cx="3240000" cy="1224000"/>
          </a:xfrm>
          <a:prstGeom prst="rect">
            <a:avLst/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Экологическая культура лич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0" name="Прямая со стрелкой 8"/>
          <p:cNvCxnSpPr/>
          <p:nvPr/>
        </p:nvCxnSpPr>
        <p:spPr>
          <a:xfrm>
            <a:off x="3058920" y="1483920"/>
            <a:ext cx="361080" cy="289440"/>
          </a:xfrm>
          <a:prstGeom prst="straightConnector1">
            <a:avLst/>
          </a:prstGeom>
          <a:ln w="4140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" name="Прямая со стрелкой 11"/>
          <p:cNvCxnSpPr/>
          <p:nvPr/>
        </p:nvCxnSpPr>
        <p:spPr>
          <a:xfrm>
            <a:off x="4572000" y="2133720"/>
            <a:ext cx="2232720" cy="504000"/>
          </a:xfrm>
          <a:prstGeom prst="straightConnector1">
            <a:avLst/>
          </a:prstGeom>
          <a:ln w="4140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2" name="Прямая со стрелкой 13"/>
          <p:cNvCxnSpPr/>
          <p:nvPr/>
        </p:nvCxnSpPr>
        <p:spPr>
          <a:xfrm flipH="1">
            <a:off x="3131640" y="1196640"/>
            <a:ext cx="1512000" cy="2088360"/>
          </a:xfrm>
          <a:prstGeom prst="straightConnector1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</p:cxnSp>
      <p:cxnSp>
        <p:nvCxnSpPr>
          <p:cNvPr id="123" name="Прямая со стрелкой 11"/>
          <p:cNvCxnSpPr>
            <a:endCxn id="124" idx="0"/>
          </p:cNvCxnSpPr>
          <p:nvPr/>
        </p:nvCxnSpPr>
        <p:spPr>
          <a:xfrm>
            <a:off x="4642920" y="1196640"/>
            <a:ext cx="1081800" cy="2088360"/>
          </a:xfrm>
          <a:prstGeom prst="straightConnector1">
            <a:avLst/>
          </a:prstGeom>
          <a:ln w="57240">
            <a:solidFill>
              <a:srgbClr val="33cccc"/>
            </a:solidFill>
            <a:miter/>
            <a:tailEnd len="med" type="arrow" w="med"/>
          </a:ln>
        </p:spPr>
      </p:cxn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999200" cy="750960"/>
          </a:xfrm>
          <a:prstGeom prst="rect">
            <a:avLst/>
          </a:prstGeom>
          <a:solidFill>
            <a:srgbClr val="0a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Элементы экологической культуры личности 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820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Таким образом, сущность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экологической культуры может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быть представлена «как органическое единство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экологически развитых сознания, эмоционально-психических состояний и экологически обоснованной практической деятельности»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(Б.Т.Лихачев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971640" y="1773360"/>
            <a:ext cx="2305080" cy="1150920"/>
          </a:xfrm>
          <a:prstGeom prst="rect">
            <a:avLst/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экологическое восприяти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1835280" y="3284640"/>
            <a:ext cx="2305080" cy="1152360"/>
          </a:xfrm>
          <a:prstGeom prst="rect">
            <a:avLst/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экологические знания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4572000" y="3284640"/>
            <a:ext cx="2303640" cy="1152360"/>
          </a:xfrm>
          <a:prstGeom prst="rect">
            <a:avLst/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экологическое отношени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6372360" y="1773360"/>
            <a:ext cx="2303280" cy="1150920"/>
          </a:xfrm>
          <a:prstGeom prst="rect">
            <a:avLst/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экологическое чувствовани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3635280" y="1773360"/>
            <a:ext cx="2305080" cy="1150920"/>
          </a:xfrm>
          <a:prstGeom prst="rect">
            <a:avLst/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экологическое мышлени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1" name="Прямая со стрелкой 9"/>
          <p:cNvCxnSpPr/>
          <p:nvPr/>
        </p:nvCxnSpPr>
        <p:spPr>
          <a:xfrm flipH="1">
            <a:off x="2483640" y="1125000"/>
            <a:ext cx="2159640" cy="575640"/>
          </a:xfrm>
          <a:prstGeom prst="straightConnector1">
            <a:avLst/>
          </a:prstGeom>
          <a:ln w="57240">
            <a:solidFill>
              <a:srgbClr val="33cccc"/>
            </a:solidFill>
            <a:miter/>
            <a:tailEnd len="med" type="arrow" w="med"/>
          </a:ln>
        </p:spPr>
      </p:cxnSp>
      <p:cxnSp>
        <p:nvCxnSpPr>
          <p:cNvPr id="132" name="Прямая со стрелкой 10"/>
          <p:cNvCxnSpPr/>
          <p:nvPr/>
        </p:nvCxnSpPr>
        <p:spPr>
          <a:xfrm>
            <a:off x="4642920" y="1125360"/>
            <a:ext cx="1080" cy="648360"/>
          </a:xfrm>
          <a:prstGeom prst="straightConnector1">
            <a:avLst/>
          </a:prstGeom>
          <a:ln w="57240">
            <a:solidFill>
              <a:srgbClr val="33cccc"/>
            </a:solidFill>
            <a:miter/>
            <a:tailEnd len="med" type="arrow" w="med"/>
          </a:ln>
        </p:spPr>
      </p:cxnSp>
      <p:cxnSp>
        <p:nvCxnSpPr>
          <p:cNvPr id="133" name="Прямая со стрелкой 12"/>
          <p:cNvCxnSpPr>
            <a:endCxn id="129" idx="0"/>
          </p:cNvCxnSpPr>
          <p:nvPr/>
        </p:nvCxnSpPr>
        <p:spPr>
          <a:xfrm>
            <a:off x="4643280" y="1125360"/>
            <a:ext cx="2882160" cy="648360"/>
          </a:xfrm>
          <a:prstGeom prst="straightConnector1">
            <a:avLst/>
          </a:prstGeom>
          <a:ln w="57240">
            <a:solidFill>
              <a:srgbClr val="33ccc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4920" y="301320"/>
            <a:ext cx="8288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Задачи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экологического образования в детском сад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806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1.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Развитие у детей элементов экологического созн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2.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Развитие у детей навыков экологически ориентированной деятель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3.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Развитие    положительного   опыта    эмоционально-чувственного восприятия прир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4.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Развитие осознанного отношения к природ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ФГОС о познании природы детьм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95280" y="182736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Ребенок проявляет любознательность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, задает вопросы взрослым и сверстника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ffc000"/>
                </a:solidFill>
                <a:latin typeface="Verdana"/>
              </a:rPr>
              <a:t>интересуется причинно-следственными связям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92d050"/>
                </a:solidFill>
                <a:latin typeface="Verdana"/>
              </a:rPr>
              <a:t>пытается самостоятельно придумывать объяснения явлениям природы</a:t>
            </a:r>
            <a:r>
              <a:rPr b="0" lang="ru-RU" sz="2400" spc="-1" strike="noStrike">
                <a:solidFill>
                  <a:srgbClr val="00b050"/>
                </a:solidFill>
                <a:latin typeface="Verdana"/>
              </a:rPr>
              <a:t>... склонен наблюдать, экспериментировать. </a:t>
            </a:r>
            <a:r>
              <a:rPr b="0" lang="ru-RU" sz="2400" spc="-1" strike="noStrike">
                <a:solidFill>
                  <a:srgbClr val="00b0f0"/>
                </a:solidFill>
                <a:latin typeface="Verdana"/>
              </a:rPr>
              <a:t>Обладает начальными знаниями о себе, природном и социальном мире... </a:t>
            </a: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Обладает элементарными представлениями из области живой природы, естествознани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19:21:58Z</dcterms:created>
  <dc:creator>Мусатова</dc:creator>
  <dc:description/>
  <dc:language>en-US</dc:language>
  <cp:lastModifiedBy>Александра</cp:lastModifiedBy>
  <dcterms:modified xsi:type="dcterms:W3CDTF">2017-02-17T10:56:45Z</dcterms:modified>
  <cp:revision>43</cp:revision>
  <dc:subject/>
  <dc:title>Инновационные подходы к экологическому образованию дошкольников в условиях введения ФГОС </dc:title>
</cp:coreProperties>
</file>