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EDB-7329-4FB2-933B-2E729672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012-0484-4B7C-ADF2-1F47A81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E74-4402-45A4-AAA4-53CDEEBC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CFC-43A4-44AB-880F-3F256747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8DD-8503-4D8D-B886-4293E1C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775-BFEB-4210-9C7A-D42B0035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874-DB8E-4DBC-8779-628ED05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59E-A371-449F-B15F-BF1535F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53F-8B67-4BF6-963C-85452A96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B25-F0F0-4E56-9363-AD9B0E4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F75-7217-4A2F-B8AA-6EAE0C4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76D-427B-4EE0-BDAC-00EC559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0B1C-B72D-4CD8-8BDE-19091CC5F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264000">
            <a:off x="304920" y="2819160"/>
            <a:ext cx="1143000" cy="81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1313800">
            <a:off x="2743200" y="5105160"/>
            <a:ext cx="987480" cy="66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538200">
            <a:off x="3733560" y="2742840"/>
            <a:ext cx="3352680" cy="290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21412200">
            <a:off x="1904760" y="1905120"/>
            <a:ext cx="1390680" cy="168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477120" y="1219320"/>
            <a:ext cx="1939680" cy="248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-152280" y="4870440"/>
            <a:ext cx="2743200" cy="198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276720" y="609480"/>
            <a:ext cx="25905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1364800">
            <a:off x="228600" y="2743200"/>
            <a:ext cx="121932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600600">
            <a:off x="3747600" y="3033720"/>
            <a:ext cx="3200400" cy="26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2193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743200" y="5105520"/>
            <a:ext cx="914400" cy="61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 rot="21259200">
            <a:off x="1828800" y="1908000"/>
            <a:ext cx="1606680" cy="1762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-228600" y="50292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352680" y="730080"/>
            <a:ext cx="24386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17:27:01Z</dcterms:created>
  <dc:creator>Пользователь</dc:creator>
  <dc:description/>
  <dc:language>en-US</dc:language>
  <cp:lastModifiedBy>Пользователь</cp:lastModifiedBy>
  <dcterms:modified xsi:type="dcterms:W3CDTF">2015-03-21T12:07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