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2B91-1DB0-4D62-934D-D5FC0FF7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9DA7-2076-4495-A666-A14BE885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1837-9BB6-4942-B2C2-59C2083A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6BA9-AEF2-4889-8835-48E13B4D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DDEA-A54F-4150-A5AE-4D29A0B7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066-1A34-4136-9C59-776CCEDD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44F9-F440-428F-9279-C1A1167C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114-4CEB-4834-97DC-392AA008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5A8B-780F-488E-A68B-EC13D0A3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148B-4C75-463F-BE4A-0B260817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5074-C531-4728-B93A-03E43CDC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46B1-D730-4876-B590-B4D1D78B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6108-98F4-427B-B626-124C6558C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21264000">
            <a:off x="304920" y="2819160"/>
            <a:ext cx="1143000" cy="811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21313800">
            <a:off x="2743200" y="5105160"/>
            <a:ext cx="987480" cy="66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 rot="538200">
            <a:off x="3733560" y="2742840"/>
            <a:ext cx="3352680" cy="2906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 rot="21412200">
            <a:off x="1904760" y="1905120"/>
            <a:ext cx="1390680" cy="1685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477120" y="1219320"/>
            <a:ext cx="1939680" cy="2487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-152280" y="4870440"/>
            <a:ext cx="2743200" cy="1987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276720" y="609480"/>
            <a:ext cx="259056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21364800">
            <a:off x="228600" y="2743200"/>
            <a:ext cx="1219320" cy="865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 rot="600600">
            <a:off x="3747600" y="3033720"/>
            <a:ext cx="3200400" cy="261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477120" y="1219320"/>
            <a:ext cx="1960560" cy="2514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743200" y="5105520"/>
            <a:ext cx="914400" cy="617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 rot="21259200">
            <a:off x="1828800" y="1908000"/>
            <a:ext cx="1606680" cy="1762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-228600" y="5029200"/>
            <a:ext cx="281952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3352680" y="730080"/>
            <a:ext cx="243864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0T17:27:01Z</dcterms:created>
  <dc:creator>Пользователь</dc:creator>
  <dc:description/>
  <dc:language>en-US</dc:language>
  <cp:lastModifiedBy>Пользователь</cp:lastModifiedBy>
  <dcterms:modified xsi:type="dcterms:W3CDTF">2015-03-21T12:07:2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