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9.png" ContentType="image/pn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3BF1-3766-44E9-9966-D78A123F2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5ADB-C010-41A8-BDEF-1DF17B9D79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E5E-E49E-4565-9259-0782994E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834-0DF2-4E98-8F85-2084A894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C75-1A1A-434C-A146-DF8E7804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C31-6343-447B-98A7-1CAC3F5B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28F9-0BE8-4BBF-AFE0-034E74B0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7C91-9463-498A-A404-395F7105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CBA8-2975-48CB-8704-D597215A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2EA8-E458-4082-9353-9658D3D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BD54-B142-470C-B746-EE67112F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3CD1-4525-4207-928F-1A80C6E6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94FA-25AA-4B19-9C24-DAC32A6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B37-151E-4019-854E-47798158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6033-6DAA-49CE-A646-906A455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579D-77E6-4058-873F-E2D3911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F61F-A67E-41AA-ACAD-9C598B4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12BF-29D2-43EE-8B86-ED6D33EC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C55D-9A9A-4CFD-A6EB-8D345766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C33E-FDEA-4151-8520-4BD5BAC3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EE221-BA28-41B7-ACBE-8B46B455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75953-137F-4090-9965-2F351D6C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4E94-A2FC-42E1-8D37-4AF79D79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4A7F-E51F-4FC5-8F6D-FB83D618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390-7EC6-439D-9309-B77276BA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A5C0-324D-47C1-88DE-775DEF6F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F26C-BC50-436E-9028-6AA74C9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62EB-EBD3-4241-B45A-8CB00148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2CC8-CF42-46D7-BA44-EC6CFE84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6B04-C1CC-456B-BA63-A42C2B70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3BBF-7019-478A-9F78-93839177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3CC9-1A4D-4768-8B7E-431C9002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A681-D84F-42DB-B95F-6AA4E0D5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5819-8252-43F7-9C63-3956966C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4FF8-8927-4E04-B612-E792E9D0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3B9-5F0F-4DBC-8319-D4F780F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1C7B-F00A-4653-A56D-B1C2053A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7D6BE-F034-4EE5-984C-7EB803D0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BF11-D6F5-4700-9291-3B3C4F33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CF9F0-C179-466E-9048-488E7DF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FED0-72A2-4058-8910-205BCAC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A154-ADC7-4627-8795-2099D4F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1755-2A58-4FFE-9AD8-BFDB372E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0DDD-E918-4B61-8D06-B1656C45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069A-634D-4C50-A6E4-A1E27ED0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D6955-F390-4699-BBAD-D34C8C3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CDE-522B-429C-B549-81B79340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D29B-6A97-4EB0-A2DE-F71B2562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C202-AC23-42EF-8AEA-BF0A03A3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D1BE-0D63-4E36-A94B-2C09CD52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4DB6C-02B3-47BC-9A16-4BA5B91D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0F370-64B5-4179-A870-EFB6039E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9C2A-A9C2-4804-AD25-F0CFF625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B7031-7BDF-4E62-BF11-26688DBB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C50F6-9B85-416C-B702-6B72F95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0B19-F396-4AB2-9127-D93830EE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83FA-EEB0-45FC-9A37-52B86578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7AF-41E3-4C3A-9E67-B2E23C1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7E85A-C337-4164-8F57-0D6CDFDD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C52-1631-497E-9E83-90D4A07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178-8FD8-4429-AE79-C1AED878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467-5BD2-42A0-B46B-25EE61E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789C-D91F-4109-92D5-CD8B510AA74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0228-16A6-4FF1-B058-6013611B34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803E-C4CB-4807-872D-11F1888344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0FDB-E820-49C8-A947-1920F50EA57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2C2D-1672-4CBF-9312-BEC5830841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5" descr=""/>
          <p:cNvPicPr/>
          <p:nvPr/>
        </p:nvPicPr>
        <p:blipFill>
          <a:blip r:embed="rId2"/>
          <a:stretch/>
        </p:blipFill>
        <p:spPr>
          <a:xfrm>
            <a:off x="828720" y="1023840"/>
            <a:ext cx="7576920" cy="17985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8" descr=""/>
          <p:cNvPicPr/>
          <p:nvPr/>
        </p:nvPicPr>
        <p:blipFill>
          <a:blip r:embed="rId3"/>
          <a:stretch/>
        </p:blipFill>
        <p:spPr>
          <a:xfrm>
            <a:off x="1609560" y="2975040"/>
            <a:ext cx="53038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19320" y="9907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греч.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narkē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0" lang="ru-RU" sz="2200" spc="-1" strike="noStrike">
                <a:solidFill>
                  <a:srgbClr val="2a6d7d"/>
                </a:solidFill>
                <a:latin typeface="Calibri"/>
              </a:rPr>
              <a:t>оцепенение, сон,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mani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0" lang="ru-RU" sz="2200" spc="-1" strike="noStrike">
                <a:solidFill>
                  <a:srgbClr val="2a6d7d"/>
                </a:solidFill>
                <a:latin typeface="Calibri"/>
              </a:rPr>
              <a:t>безумие, страсть, влече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роническое, усиливающееся с течением времени заболевание, вызванное употреблением веществ-наркотиков, характеризующееся фазным течением выражающееся в физической и психической зависимости потребителя от наркотиков, постепенно приводящей к разрушению его организм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Прямоугольник 3" descr=""/>
          <p:cNvPicPr/>
          <p:nvPr/>
        </p:nvPicPr>
        <p:blipFill>
          <a:blip r:embed="rId1"/>
          <a:stretch/>
        </p:blipFill>
        <p:spPr>
          <a:xfrm>
            <a:off x="865080" y="-19080"/>
            <a:ext cx="6261120" cy="1006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4"/>
          <p:cNvPicPr/>
          <p:nvPr/>
        </p:nvPicPr>
        <p:blipFill>
          <a:blip r:embed="rId2"/>
          <a:stretch/>
        </p:blipFill>
        <p:spPr>
          <a:xfrm>
            <a:off x="152280" y="3962520"/>
            <a:ext cx="213372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Picture 5" descr="665-heroin-edit-"/>
          <p:cNvPicPr/>
          <p:nvPr/>
        </p:nvPicPr>
        <p:blipFill>
          <a:blip r:embed="rId3"/>
          <a:stretch/>
        </p:blipFill>
        <p:spPr>
          <a:xfrm>
            <a:off x="2438280" y="4191120"/>
            <a:ext cx="1843200" cy="1600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4"/>
          <a:stretch/>
        </p:blipFill>
        <p:spPr>
          <a:xfrm>
            <a:off x="4419720" y="4486320"/>
            <a:ext cx="2133360" cy="1609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5"/>
          <a:stretch/>
        </p:blipFill>
        <p:spPr>
          <a:xfrm>
            <a:off x="6705720" y="5029200"/>
            <a:ext cx="23050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4" descr=""/>
          <p:cNvPicPr/>
          <p:nvPr/>
        </p:nvPicPr>
        <p:blipFill>
          <a:blip r:embed="rId1"/>
          <a:stretch/>
        </p:blipFill>
        <p:spPr>
          <a:xfrm>
            <a:off x="1792440" y="208080"/>
            <a:ext cx="4852800" cy="101124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1"/>
          <p:cNvSpPr/>
          <p:nvPr/>
        </p:nvSpPr>
        <p:spPr>
          <a:xfrm>
            <a:off x="1071720" y="1236600"/>
            <a:ext cx="7643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91a7"/>
                </a:solidFill>
                <a:latin typeface="Corbel"/>
              </a:rPr>
              <a:t>«Непреодолимое влечение»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связано с психической (психологической), а иногда и физической (физиологической) зависимостью от наркотиков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лич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rbel"/>
              </a:rPr>
              <a:t>позитивную привязанно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— приём наркотика для достижения приятного эффекта (эйфория, чувство бодрости, повышенное настрое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rbel"/>
              </a:rPr>
              <a:t>негативную привязанно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— приём наркотика для того, чтобы избавиться от напряжения и плохого самочувств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32d2e"/>
                </a:solidFill>
                <a:latin typeface="Corbel"/>
              </a:rPr>
              <a:t>Физическая зависимо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означает тягостные и даже мучительные ощущения, болезненное состояние при перерыве в постоянном приёме наркотиков (т. н. абстинентный синдром,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ломк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.  От этих ощущений избавляет возобновление приёма наркот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857160" y="5000760"/>
            <a:ext cx="1971720" cy="1528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3"/>
          <a:stretch/>
        </p:blipFill>
        <p:spPr>
          <a:xfrm>
            <a:off x="2857680" y="5000760"/>
            <a:ext cx="1857240" cy="1476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4"/>
          <a:stretch/>
        </p:blipFill>
        <p:spPr>
          <a:xfrm>
            <a:off x="4786200" y="5000760"/>
            <a:ext cx="2286000" cy="1433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5"/>
          <a:stretch/>
        </p:blipFill>
        <p:spPr>
          <a:xfrm>
            <a:off x="7143840" y="5000760"/>
            <a:ext cx="19288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066320" y="1905120"/>
            <a:ext cx="5867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потребление наркоти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основе </a:t>
            </a:r>
            <a:r>
              <a:rPr b="0" lang="ru-RU" sz="1800" spc="-1" strike="noStrike">
                <a:solidFill>
                  <a:srgbClr val="c0654c"/>
                </a:solidFill>
                <a:latin typeface="Calibri"/>
              </a:rPr>
              <a:t>коноп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гашиш, марихуана), </a:t>
            </a:r>
            <a:r>
              <a:rPr b="0" lang="ru-RU" sz="1800" spc="-1" strike="noStrike">
                <a:solidFill>
                  <a:srgbClr val="c0654c"/>
                </a:solidFill>
                <a:latin typeface="Calibri"/>
              </a:rPr>
              <a:t>ма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пий, морфин, героин), </a:t>
            </a:r>
            <a:r>
              <a:rPr b="0" lang="ru-RU" sz="1800" spc="-1" strike="noStrike">
                <a:solidFill>
                  <a:srgbClr val="c0654c"/>
                </a:solidFill>
                <a:latin typeface="Calibri"/>
              </a:rPr>
              <a:t>ко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кокаин) и многих других, включая современные </a:t>
            </a:r>
            <a:r>
              <a:rPr b="0" lang="ru-RU" sz="1800" spc="-1" strike="noStrike">
                <a:solidFill>
                  <a:srgbClr val="c0654c"/>
                </a:solidFill>
                <a:latin typeface="Calibri"/>
              </a:rPr>
              <a:t>синтезированные наркот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пример ЛСД, амфетамины и экстази.</a:t>
            </a:r>
            <a:r>
              <a:rPr b="0" lang="ru-RU" sz="1800" spc="-1" strike="noStrike">
                <a:solidFill>
                  <a:srgbClr val="ffcd2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Прямоугольник 4" descr=""/>
          <p:cNvPicPr/>
          <p:nvPr/>
        </p:nvPicPr>
        <p:blipFill>
          <a:blip r:embed="rId1"/>
          <a:stretch/>
        </p:blipFill>
        <p:spPr>
          <a:xfrm>
            <a:off x="871560" y="208080"/>
            <a:ext cx="6692760" cy="1749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1714680" cy="139212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5"/>
          <p:cNvSpPr/>
          <p:nvPr/>
        </p:nvSpPr>
        <p:spPr>
          <a:xfrm>
            <a:off x="3124080" y="33526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Токсиком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потребление препаратов, не рассматриваемых в качестве наркотиков, химических и растительных вещ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3200400" y="47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8631"/>
                </a:solidFill>
                <a:latin typeface="Calibri"/>
              </a:rPr>
              <a:t>Алкоголиз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ристрастие к напиткам, содержащим этиловый спир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1219320" y="6019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a01a"/>
                </a:solidFill>
                <a:latin typeface="Calibri"/>
              </a:rPr>
              <a:t>Табакокур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ристрастие к никотин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3"/>
          <a:stretch/>
        </p:blipFill>
        <p:spPr>
          <a:xfrm>
            <a:off x="1295280" y="3276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4"/>
          <a:stretch/>
        </p:blipFill>
        <p:spPr>
          <a:xfrm>
            <a:off x="1219320" y="4724280"/>
            <a:ext cx="1885680" cy="1176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5"/>
          <a:stretch/>
        </p:blipFill>
        <p:spPr>
          <a:xfrm>
            <a:off x="6095880" y="5181480"/>
            <a:ext cx="26672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142640" y="121896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 indent="-1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комания-это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отально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т.е. затрагивающее все стороны внутреннего мира, отношений с другими людьми и способов существования) поражение личности, из чего следует изменение системы ценностей человека, что является основной составляющей жизненного прогресса. А это в свою очередь приводит к тому, что наркоманы становятся не только "грузом" общества, но и представляют собой реальную угрозу для н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8" name="Заголовок 3" descr=""/>
          <p:cNvPicPr/>
          <p:nvPr/>
        </p:nvPicPr>
        <p:blipFill>
          <a:blip r:embed="rId1"/>
          <a:stretch/>
        </p:blipFill>
        <p:spPr>
          <a:xfrm>
            <a:off x="1219320" y="103320"/>
            <a:ext cx="7132680" cy="100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3773520" cy="2362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772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143000" y="99036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 отсутствии препарата, вызвавшего зависимость, начинается ломка. Но т. к. в большинстве своем наркоманы не имеют материальной возможности доставать препарат честным путем, они вынуждены идти на различного рода преступления, что приводит в конечном итоге к криминализации общества.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2/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совершеннолетних наркоманов становятся преступниками, другая треть успевают повзрослеть, конечно, за исключением тех, кого наркомания отправляет на кладбище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комания в стране набирает обороты: в России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80%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х преступлений совершаются в состоянии наркотического или алкогольного опьяне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Заголовок 3" descr=""/>
          <p:cNvPicPr/>
          <p:nvPr/>
        </p:nvPicPr>
        <p:blipFill>
          <a:blip r:embed="rId1"/>
          <a:stretch/>
        </p:blipFill>
        <p:spPr>
          <a:xfrm>
            <a:off x="712800" y="-19080"/>
            <a:ext cx="8639280" cy="1006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2244960" cy="1676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3"/>
          <a:stretch/>
        </p:blipFill>
        <p:spPr>
          <a:xfrm>
            <a:off x="3657600" y="3352680"/>
            <a:ext cx="2468520" cy="1676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638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1214280" y="1643040"/>
            <a:ext cx="757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К настоящему времени сформировалось два основных подхода к наркополити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91a7"/>
                </a:solidFill>
                <a:latin typeface="Corbel"/>
              </a:rPr>
              <a:t>традиционный подход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кцентирует внимание собственно на борьбе с наркомани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75a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75a8d"/>
                </a:solidFill>
                <a:latin typeface="Corbel"/>
              </a:rPr>
              <a:t>новые подходы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на борьбе с ее отрицательными послед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радиционная политика борьбы с наркоманией основана на сочетании информационного, социально-профилактического, медико-биологического и репрессивного подходов. Каждый из них имеет свои преимущества и недоста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нформационный подход ориентирует на сознательное восприятие норм и ценностей общества. Речь идет о пропаганде здорового образа жизни и об информировании о негативных последствиях наркопотре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Заголовок 3" descr=""/>
          <p:cNvPicPr/>
          <p:nvPr/>
        </p:nvPicPr>
        <p:blipFill>
          <a:blip r:embed="rId1"/>
          <a:stretch/>
        </p:blipFill>
        <p:spPr>
          <a:xfrm>
            <a:off x="907920" y="-92160"/>
            <a:ext cx="83091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1143000" y="142920"/>
            <a:ext cx="77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Лечение наркомании</a:t>
            </a: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 – процесс непростой и длительный. Однако, если найти правильный подход к решению проблемы, пройти весь путь до конца, соблюдая рекомендации специалистов, лечение будет успешным. Путь к трезвости или выздоровлению проходит через несколько эта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  </a:t>
            </a: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Детоксикация</a:t>
            </a:r>
            <a:r>
              <a:rPr b="0" lang="ru-RU" sz="1800" spc="-1" strike="noStrike">
                <a:solidFill>
                  <a:srgbClr val="00b050"/>
                </a:solidFill>
                <a:latin typeface="Corbel"/>
              </a:rPr>
              <a:t> или снятие абстинентного синдрома( «ломки») 7-14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  </a:t>
            </a: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Реабилитация </a:t>
            </a:r>
            <a:r>
              <a:rPr b="0" lang="ru-RU" sz="1800" spc="-1" strike="noStrike">
                <a:solidFill>
                  <a:srgbClr val="00b050"/>
                </a:solidFill>
                <a:latin typeface="Corbel"/>
              </a:rPr>
              <a:t>3 месяца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Ресоциализация</a:t>
            </a:r>
            <a:r>
              <a:rPr b="0" lang="ru-RU" sz="1800" spc="-1" strike="noStrike">
                <a:solidFill>
                  <a:srgbClr val="00b050"/>
                </a:solidFill>
                <a:latin typeface="Corbel"/>
              </a:rPr>
              <a:t> ( возвращение в общество с поддержкой специалистов ) – сроки устанавливаются индивиду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Гоша\Рабочий стол\ыа.jpg"/>
          <p:cNvPicPr/>
          <p:nvPr/>
        </p:nvPicPr>
        <p:blipFill>
          <a:blip r:embed="rId1"/>
          <a:stretch/>
        </p:blipFill>
        <p:spPr>
          <a:xfrm>
            <a:off x="1258920" y="393372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C:\Documents and Settings\Гоша\Рабочий стол\6614_3.jpg"/>
          <p:cNvPicPr/>
          <p:nvPr/>
        </p:nvPicPr>
        <p:blipFill>
          <a:blip r:embed="rId2"/>
          <a:stretch/>
        </p:blipFill>
        <p:spPr>
          <a:xfrm>
            <a:off x="5003640" y="3789360"/>
            <a:ext cx="364356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1143000" y="142920"/>
            <a:ext cx="77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orbel"/>
              </a:rPr>
              <a:t>Первый этап начинается сразу после окончания употребления ПАВ, основная задача купирование абстинентного синдром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На втором этапе происходит устранение основных проявлений постабстинентного состояния 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Длительность обоих этапов составляет 1-2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rbel"/>
              </a:rPr>
              <a:t>На третьем этапе осуществляется поддерживающая терапия направленная на предотвращение рецидива заболевания. Обязательно включает психологическое, психотерапевтическое воздействие. Этот длится 1-1,5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C:\Documents and Settings\Гоша\Рабочий стол\1220682190_image015.jpg"/>
          <p:cNvPicPr/>
          <p:nvPr/>
        </p:nvPicPr>
        <p:blipFill>
          <a:blip r:embed="rId1"/>
          <a:stretch/>
        </p:blipFill>
        <p:spPr>
          <a:xfrm>
            <a:off x="1214280" y="3571920"/>
            <a:ext cx="46436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алет</cp:lastModifiedBy>
  <dcterms:modified xsi:type="dcterms:W3CDTF">2017-02-17T00:28:40Z</dcterms:modified>
  <cp:revision>12</cp:revision>
  <dc:subject/>
  <dc:title>Слайд 1</dc:title>
</cp:coreProperties>
</file>