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9.png" ContentType="image/pn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C71-C18A-421F-AFE8-38786ABCF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DED-92DB-4263-9F8B-816E110637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7D9-2AD9-4E93-9A84-DADF309E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AC0-AB5D-4DC2-B3A0-D7D66AA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0B3-410F-46AA-A9F6-93450888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4BE-A0DC-4E1F-B54E-B563193B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5CE0-F5ED-4BAD-979C-85CC485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70D6-DFEB-440C-A224-BB2F6C1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9ABB-CBE8-456E-B6B6-DD1969C9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17CA-7A4F-458B-A03B-ADE02378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EEAD-098F-43DE-9E68-B63A52E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4FF3-CDAD-4E04-AA6F-2233500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DD0-7393-4D02-8018-9433504F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CC6-AE16-4566-9D4A-4255579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E5A7-A2CD-45D0-9AD5-E254AC8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7D63-E47F-452E-BBA8-FF0894A9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1C09-AD03-4D32-B747-FF504ABD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0717-85EF-4DF0-83BA-E70E8C28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5B0F-BB6A-45B5-9553-9079AAD9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732A-FEF9-4E03-AA34-993FD4D0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F5F0-3E78-4091-8621-F9F16C9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1084-AB48-4528-84A1-62DA0EB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E71D-C20A-457D-BB75-C244B14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BDA0-021F-4787-BB39-7B5B93D0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C8D-C20B-43E6-859E-673FAD86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BADA2-BBA5-4C26-85BC-EE637D0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BAD1-65D9-4A7E-A901-D48EF4C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2995-E80A-4AE4-B736-F3CD271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C430-DE60-4819-A056-B0EBD86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73FD-3620-4B5F-B1DC-B6FD5FA2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68A2-3575-4D29-A062-A31AAB98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3FC4-E460-48BC-A060-F3DB02E7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3FAD-B8AE-42A1-B89D-071605A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B2D1B-EA6C-468E-91B8-CB40DD0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520F-F886-4CBB-84A1-4AEC9DB2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4B8-3959-4EB4-9781-D9EA418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AFB9-B70C-4EFF-9AA1-1D1F9AF9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E1C2-2F6D-494C-B86E-8A397DF5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A903-9EA7-46CF-B560-22891F79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6135-2B49-4F9D-BCF8-8A3AAD8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9637-836F-45B8-B1F2-192AF653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34A9-9B2E-4149-9026-CEEFA66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F107-6C22-441B-8EE9-3EF4A2F8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7A88-7E22-4D72-9556-EF18E049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0C0E-0E74-4D0E-A43A-A0FBAEA1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A2306-90DA-44EA-BAFE-92A3C4C0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80D-CC0B-4AF0-A3D5-4BB13CDC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0BF7-1EFA-43CA-A32A-1CD15653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3C36-BF9B-4E59-8438-AC33361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AE39-9114-455E-AB10-18471DD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CC08-FD51-4742-B55B-5F6B8D3E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4D7D-9D36-4BF6-A55B-6FE95AF3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8E829-8A68-4306-9939-FD2A29F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1719-1F9F-4DE3-833B-E3BE517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89F7-D1ED-4DF3-A561-76BBE291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7EC46-D13C-4B95-8944-530A8E8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36DD-0BFA-4F16-8BF6-48B533E3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4A-8864-4D72-86A8-8BBF13E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423E-60C3-43CC-A0E6-1CCA0AF8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5D9-DB7E-4292-97DE-18E8CEF2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555-5F0D-4665-84A0-93B44FA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084-9FA5-4C88-97BD-0923FA2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71B-E506-43BF-A7DE-6943F38099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EF6D-AA09-4FB0-8707-7E5E3D3EF0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FC1-9C3A-4BA9-B20E-EB78C4BE30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600-6B66-432B-8763-316037571D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24A-57C0-4A55-A54B-51D6773BF5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5" descr=""/>
          <p:cNvPicPr/>
          <p:nvPr/>
        </p:nvPicPr>
        <p:blipFill>
          <a:blip r:embed="rId2"/>
          <a:stretch/>
        </p:blipFill>
        <p:spPr>
          <a:xfrm>
            <a:off x="828720" y="1023840"/>
            <a:ext cx="7576920" cy="17985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8" descr=""/>
          <p:cNvPicPr/>
          <p:nvPr/>
        </p:nvPicPr>
        <p:blipFill>
          <a:blip r:embed="rId3"/>
          <a:stretch/>
        </p:blipFill>
        <p:spPr>
          <a:xfrm>
            <a:off x="1609560" y="2975040"/>
            <a:ext cx="53038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19320" y="9907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греч.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narkē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200" spc="-1" strike="noStrike">
                <a:solidFill>
                  <a:srgbClr val="2a6d7d"/>
                </a:solidFill>
                <a:latin typeface="Calibri"/>
              </a:rPr>
              <a:t>оцепенение, сон,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mani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200" spc="-1" strike="noStrike">
                <a:solidFill>
                  <a:srgbClr val="2a6d7d"/>
                </a:solidFill>
                <a:latin typeface="Calibri"/>
              </a:rPr>
              <a:t>безумие, страсть, влече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роническое, усиливающееся с течением времени заболевание, вызванное употреблением веществ-наркотиков, характеризующееся фазным течением выражающееся в физической и психической зависимости потребителя от наркотиков, постепенно приводящей к разрушению его организм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Прямоугольник 3" descr=""/>
          <p:cNvPicPr/>
          <p:nvPr/>
        </p:nvPicPr>
        <p:blipFill>
          <a:blip r:embed="rId1"/>
          <a:stretch/>
        </p:blipFill>
        <p:spPr>
          <a:xfrm>
            <a:off x="865080" y="-19080"/>
            <a:ext cx="6261120" cy="1006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4"/>
          <p:cNvPicPr/>
          <p:nvPr/>
        </p:nvPicPr>
        <p:blipFill>
          <a:blip r:embed="rId2"/>
          <a:stretch/>
        </p:blipFill>
        <p:spPr>
          <a:xfrm>
            <a:off x="152280" y="3962520"/>
            <a:ext cx="21337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Picture 5" descr="665-heroin-edit-"/>
          <p:cNvPicPr/>
          <p:nvPr/>
        </p:nvPicPr>
        <p:blipFill>
          <a:blip r:embed="rId3"/>
          <a:stretch/>
        </p:blipFill>
        <p:spPr>
          <a:xfrm>
            <a:off x="2438280" y="4191120"/>
            <a:ext cx="1843200" cy="1600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4"/>
          <a:stretch/>
        </p:blipFill>
        <p:spPr>
          <a:xfrm>
            <a:off x="4419720" y="4486320"/>
            <a:ext cx="2133360" cy="1609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5"/>
          <a:stretch/>
        </p:blipFill>
        <p:spPr>
          <a:xfrm>
            <a:off x="6705720" y="5029200"/>
            <a:ext cx="23050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4" descr=""/>
          <p:cNvPicPr/>
          <p:nvPr/>
        </p:nvPicPr>
        <p:blipFill>
          <a:blip r:embed="rId1"/>
          <a:stretch/>
        </p:blipFill>
        <p:spPr>
          <a:xfrm>
            <a:off x="1792440" y="208080"/>
            <a:ext cx="4852800" cy="10112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1"/>
          <p:cNvSpPr/>
          <p:nvPr/>
        </p:nvSpPr>
        <p:spPr>
          <a:xfrm>
            <a:off x="1071720" y="1236600"/>
            <a:ext cx="764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91a7"/>
                </a:solidFill>
                <a:latin typeface="Corbel"/>
              </a:rPr>
              <a:t>«Непреодолимое влечение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связано с психической (психологической), а иногда и физической (физиологической) зависимостью от наркотико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лич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rbel"/>
              </a:rPr>
              <a:t>позитивную привязанн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— приём наркотика для достижения приятного эффекта (эйфория, чувство бодрости, повышенное настрое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rbel"/>
              </a:rPr>
              <a:t>негативную привязанн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 — приём наркотика для того, чтобы избавиться от напряжения и плохого самочувств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32d2e"/>
                </a:solidFill>
                <a:latin typeface="Corbel"/>
              </a:rPr>
              <a:t>Физическая 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означает тягостные и даже мучительные ощущения, болезненное состояние при перерыве в постоянном приёме наркотиков (т. н. абстинентный синдром,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лом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.  От этих ощущений избавляет возобновление приёма наркот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857160" y="5000760"/>
            <a:ext cx="1971720" cy="1528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3"/>
          <a:stretch/>
        </p:blipFill>
        <p:spPr>
          <a:xfrm>
            <a:off x="2857680" y="5000760"/>
            <a:ext cx="1857240" cy="1476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4"/>
          <a:stretch/>
        </p:blipFill>
        <p:spPr>
          <a:xfrm>
            <a:off x="4786200" y="5000760"/>
            <a:ext cx="2286000" cy="1433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5"/>
          <a:stretch/>
        </p:blipFill>
        <p:spPr>
          <a:xfrm>
            <a:off x="7143840" y="5000760"/>
            <a:ext cx="1928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066320" y="1905120"/>
            <a:ext cx="5867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Употребление наркоти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основе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коноп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гашиш, марихуана),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ма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пий, морфин, героин),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ко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кокаин) и многих других, включая современные </a:t>
            </a:r>
            <a:r>
              <a:rPr b="0" lang="ru-RU" sz="1800" spc="-1" strike="noStrike">
                <a:solidFill>
                  <a:srgbClr val="c0654c"/>
                </a:solidFill>
                <a:latin typeface="Calibri"/>
              </a:rPr>
              <a:t>синтезированные наркот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пример ЛСД, амфетамины и экстази.</a:t>
            </a:r>
            <a:r>
              <a:rPr b="0" lang="ru-RU" sz="1800" spc="-1" strike="noStrike">
                <a:solidFill>
                  <a:srgbClr val="ffcd2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Прямоугольник 4" descr=""/>
          <p:cNvPicPr/>
          <p:nvPr/>
        </p:nvPicPr>
        <p:blipFill>
          <a:blip r:embed="rId1"/>
          <a:stretch/>
        </p:blipFill>
        <p:spPr>
          <a:xfrm>
            <a:off x="871560" y="208080"/>
            <a:ext cx="6692760" cy="1749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1714680" cy="13921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5"/>
          <p:cNvSpPr/>
          <p:nvPr/>
        </p:nvSpPr>
        <p:spPr>
          <a:xfrm>
            <a:off x="3124080" y="33526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Токсиком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потребление препаратов, не рассматриваемых в качестве наркотиков, химических и растительных вещ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320040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8631"/>
                </a:solidFill>
                <a:latin typeface="Calibri"/>
              </a:rPr>
              <a:t>Алкоголиз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истрастие к напиткам, содержащим этиловый спир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1219320" y="6019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a01a"/>
                </a:solidFill>
                <a:latin typeface="Calibri"/>
              </a:rPr>
              <a:t>Табакоку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истрастие к никотин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1885680" cy="1176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5"/>
          <a:stretch/>
        </p:blipFill>
        <p:spPr>
          <a:xfrm>
            <a:off x="6095880" y="5181480"/>
            <a:ext cx="26672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142640" y="12189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indent="-1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комания-это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отально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т.е. затрагивающее все стороны внутреннего мира, отношений с другими людьми и способов существования) поражение личности, из чего следует изменение системы ценностей человека, что является основной составляющей жизненного прогресса. А это в свою очередь приводит к тому, что наркоманы становятся не только "грузом" общества, но и представляют собой реальную угрозу для н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8" name="Заголовок 3" descr=""/>
          <p:cNvPicPr/>
          <p:nvPr/>
        </p:nvPicPr>
        <p:blipFill>
          <a:blip r:embed="rId1"/>
          <a:stretch/>
        </p:blipFill>
        <p:spPr>
          <a:xfrm>
            <a:off x="1219320" y="103320"/>
            <a:ext cx="7132680" cy="100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3773520" cy="2362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772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99036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 отсутствии препарата, вызвавшего зависимость, начинается ломка. Но т. к. в большинстве своем наркоманы не имеют материальной возможности доставать препарат честным путем, они вынуждены идти на различного рода преступления, что приводит в конечном итоге к криминализации общества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/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совершеннолетних наркоманов становятся преступниками, другая треть успевают повзрослеть, конечно, за исключением тех, кого наркомания отправляет на кладбище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95400" indent="-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комания в стране набирает обороты: в Росси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80%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х преступлений совершаются в состоянии наркотического или алкогольного опьянени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Заголовок 3" descr=""/>
          <p:cNvPicPr/>
          <p:nvPr/>
        </p:nvPicPr>
        <p:blipFill>
          <a:blip r:embed="rId1"/>
          <a:stretch/>
        </p:blipFill>
        <p:spPr>
          <a:xfrm>
            <a:off x="712800" y="-19080"/>
            <a:ext cx="8639280" cy="1006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2244960" cy="1676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2468520" cy="1676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63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1214280" y="1643040"/>
            <a:ext cx="757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К настоящему времени сформировалось два основных подхода к наркополити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91a7"/>
                </a:solidFill>
                <a:latin typeface="Corbel"/>
              </a:rPr>
              <a:t>традиционный подход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кцентирует внимание собственно на борьбе с наркомани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75a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5a8d"/>
                </a:solidFill>
                <a:latin typeface="Corbel"/>
              </a:rPr>
              <a:t>новые подходы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на борьбе с ее отрицательными послед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адиционная политика борьбы с наркоманией основана на сочетании информационного, социально-профилактического, медико-биологического и репрессивного подходов. Каждый из них имеет свои преимущества и недоста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формационный подход ориентирует на сознательное восприятие норм и ценностей общества. Речь идет о пропаганде здорового образа жизни и об информировании о негативных последствиях наркопотреб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Заголовок 3" descr=""/>
          <p:cNvPicPr/>
          <p:nvPr/>
        </p:nvPicPr>
        <p:blipFill>
          <a:blip r:embed="rId1"/>
          <a:stretch/>
        </p:blipFill>
        <p:spPr>
          <a:xfrm>
            <a:off x="907920" y="-92160"/>
            <a:ext cx="83091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1143000" y="14292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Лечение наркомании</a:t>
            </a: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 – процесс непростой и длительный. Однако, если найти правильный подход к решению проблемы, пройти весь путь до конца, соблюдая рекомендации специалистов, лечение будет успешным. Путь к трезвости или выздоровлению проходит через несколько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  </a:t>
            </a: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Детоксикация</a:t>
            </a: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 или снятие абстинентного синдрома( «ломки») 7-14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  </a:t>
            </a: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Реабилитация </a:t>
            </a: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3 месяца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rbel"/>
              </a:rPr>
              <a:t>Ресоциализация</a:t>
            </a: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 ( возвращение в общество с поддержкой специалистов ) – сроки устанавливаются индивиду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Гоша\Рабочий стол\ыа.jpg"/>
          <p:cNvPicPr/>
          <p:nvPr/>
        </p:nvPicPr>
        <p:blipFill>
          <a:blip r:embed="rId1"/>
          <a:stretch/>
        </p:blipFill>
        <p:spPr>
          <a:xfrm>
            <a:off x="1258920" y="39337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C:\Documents and Settings\Гоша\Рабочий стол\6614_3.jpg"/>
          <p:cNvPicPr/>
          <p:nvPr/>
        </p:nvPicPr>
        <p:blipFill>
          <a:blip r:embed="rId2"/>
          <a:stretch/>
        </p:blipFill>
        <p:spPr>
          <a:xfrm>
            <a:off x="5003640" y="3789360"/>
            <a:ext cx="364356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1143000" y="14292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Corbel"/>
              </a:rPr>
              <a:t>Первый этап начинается сразу после окончания употребления ПАВ, основная задача купирование абстинентного синдром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На втором этапе происходит устранение основных проявлений постабстинентного состояния 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Длительность обоих этапов составляет 1-2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rbel"/>
              </a:rPr>
              <a:t>На третьем этапе осуществляется поддерживающая терапия направленная на предотвращение рецидива заболевания. Обязательно включает психологическое, психотерапевтическое воздействие. Этот длится 1-1,5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C:\Documents and Settings\Гоша\Рабочий стол\1220682190_image015.jpg"/>
          <p:cNvPicPr/>
          <p:nvPr/>
        </p:nvPicPr>
        <p:blipFill>
          <a:blip r:embed="rId1"/>
          <a:stretch/>
        </p:blipFill>
        <p:spPr>
          <a:xfrm>
            <a:off x="1214280" y="3571920"/>
            <a:ext cx="46436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алет</cp:lastModifiedBy>
  <dcterms:modified xsi:type="dcterms:W3CDTF">2017-02-17T00:28:40Z</dcterms:modified>
  <cp:revision>12</cp:revision>
  <dc:subject/>
  <dc:title>Слайд 1</dc:title>
</cp:coreProperties>
</file>