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3F94-C14D-4BE7-BBB2-6E9A196CD1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6B4E-E14F-460B-881F-EC43FDF3E960}" type="slidenum">
              <a:rPr b="0" lang="ru-RU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7C78-388A-479B-951F-B7EE6A77BC39}" type="slidenum">
              <a:rPr b="0" lang="ru-RU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3F3A-3B2E-461C-90DE-63AA90933AF2}" type="slidenum">
              <a:rPr b="0" lang="ru-RU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9CDC-4734-4BA2-A554-C334D068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95E-C035-4BFB-A9DF-996E2135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7D95-597B-4F78-9018-DBBEA89F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4AFD-57CE-4099-8B89-758C4932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3BC0-ADCE-48BF-ADBF-E2E1E8DC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F2CB-E48A-47F7-BDE8-51BB0C00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1BED-042E-49E6-B235-22302F24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0A36-9166-40B4-8946-F27A7D97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F86E-8EB1-4B09-B4F0-C572AAC1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5079-4936-45FE-9065-4C42FCD3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4819-6170-4BF2-AD91-0EB59D03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D2B-578B-40BF-8369-195AFE63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ECE3-F96D-4ED9-9652-CFB7F475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4411-0CEB-4893-8A67-C3D43834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2728-C5ED-4372-8867-95AE887C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2DCA-B463-4DB9-8FEB-F635676AC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EE9D-6823-4270-AEB3-80823C4B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E38F-1075-46DC-B959-5EE541CA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676-97DD-424D-A60D-9D737F8B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73B-EA1B-483D-B24B-EE85EDDB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30AC-82CC-4CF6-B235-1430B566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3DD-797E-492C-A010-57DA5F55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07B4-5490-4C0F-B79F-D90DCF24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4D98-ED1F-47BA-89F8-6F10E1C7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8480" cy="6950160"/>
            <a:chOff x="-86760" y="-93600"/>
            <a:chExt cx="27784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92800" cy="3112560"/>
              <a:chOff x="-1080" y="2601000"/>
              <a:chExt cx="2692800" cy="31125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3560" y="4048560"/>
                <a:ext cx="1838160" cy="1665000"/>
                <a:chOff x="853560" y="4048560"/>
                <a:chExt cx="1838160" cy="16650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81240" y="3928320"/>
                  <a:ext cx="477360" cy="125820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82840" y="4978800"/>
                  <a:ext cx="110520" cy="51588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55920" y="5558760"/>
                  <a:ext cx="200880" cy="89640"/>
                </a:xfrm>
                <a:prstGeom prst="pie">
                  <a:avLst/>
                </a:pr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66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59FC-CB1D-4E00-BDFA-7B362F3DDF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19800" y="0"/>
            <a:ext cx="9050400" cy="6858000"/>
            <a:chOff x="-1980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382000" y="60120"/>
              <a:ext cx="3648600" cy="6122520"/>
              <a:chOff x="5382000" y="60120"/>
              <a:chExt cx="3648600" cy="61225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79000" y="345960"/>
                <a:ext cx="2118600" cy="2357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09880" y="1956960"/>
                <a:ext cx="907560" cy="8434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3440" y="2587320"/>
                <a:ext cx="440280" cy="39528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38880" y="667080"/>
                <a:ext cx="389160" cy="55080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30160" y="2629080"/>
                <a:ext cx="163440" cy="3315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26200" y="1238400"/>
                <a:ext cx="190440" cy="14256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12280" y="2919960"/>
                <a:ext cx="524520" cy="3268440"/>
              </a:xfrm>
              <a:prstGeom prst="pie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800"/>
              <a:ext cx="513360" cy="10303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7120" y="2000160"/>
              <a:ext cx="2001600" cy="24321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3320" cy="72864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7400" y="4532040"/>
              <a:ext cx="562680" cy="73656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9360" y="4728960"/>
              <a:ext cx="138240" cy="43488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91800" y="5195880"/>
              <a:ext cx="1761480" cy="16621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6560" y="1032840"/>
              <a:ext cx="1016640" cy="1263240"/>
              <a:chOff x="4156560" y="1032840"/>
              <a:chExt cx="101664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72360" y="1070640"/>
                <a:ext cx="285840" cy="3790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6600" y="1603800"/>
                <a:ext cx="488880" cy="315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6600" y="1962360"/>
                <a:ext cx="511200" cy="1602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16720" y="159120"/>
              <a:ext cx="895680" cy="822600"/>
              <a:chOff x="5616720" y="159120"/>
              <a:chExt cx="895680" cy="8226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28320" y="650520"/>
                <a:ext cx="179280" cy="362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678280" y="330120"/>
                <a:ext cx="305280" cy="3009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22600" y="258840"/>
                <a:ext cx="319320" cy="1533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72720" y="5249880"/>
              <a:ext cx="1056240" cy="830160"/>
              <a:chOff x="972720" y="5249880"/>
              <a:chExt cx="1056240" cy="83016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2160" y="5509800"/>
                <a:ext cx="251280" cy="2995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7000" y="5725440"/>
                <a:ext cx="430200" cy="2487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3720" y="5374800"/>
                <a:ext cx="450000" cy="12672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6920" y="365400"/>
              <a:ext cx="1692360" cy="1146240"/>
              <a:chOff x="376920" y="365400"/>
              <a:chExt cx="1692360" cy="114624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8600" y="983160"/>
                <a:ext cx="355320" cy="53100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5280" y="508680"/>
                <a:ext cx="608400" cy="44136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9720" y="1022760"/>
                <a:ext cx="636120" cy="224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475760" y="3711960"/>
              <a:ext cx="1157400" cy="1608480"/>
              <a:chOff x="7475760" y="3711960"/>
              <a:chExt cx="1157400" cy="160848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530480" y="4756680"/>
                <a:ext cx="356040" cy="530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81560" y="4455720"/>
                <a:ext cx="609120" cy="44064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674840" y="3781080"/>
                <a:ext cx="636840" cy="224280"/>
              </a:xfrm>
              <a:prstGeom prst="pie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4640" y="3240"/>
              <a:ext cx="1370160" cy="140652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30440" y="160560"/>
              <a:ext cx="1082520" cy="94140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73760" y="1361160"/>
              <a:ext cx="524520" cy="4406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5200" y="1282320"/>
              <a:ext cx="195480" cy="3700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8440" y="0"/>
              <a:ext cx="196920" cy="19224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54560" y="1964520"/>
              <a:ext cx="624600" cy="3651480"/>
            </a:xfrm>
            <a:prstGeom prst="pie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BA63-52D7-46A7-B467-C69579DFDD92}" type="slidenum">
              <a:rPr b="0" lang="ru-RU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549360" y="2262240"/>
            <a:ext cx="8124840" cy="2475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928960" y="5000760"/>
            <a:ext cx="5572080" cy="1357200"/>
          </a:xfrm>
          <a:prstGeom prst="rect">
            <a:avLst/>
          </a:prstGeom>
          <a:solidFill>
            <a:srgbClr val="e1f4ff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Гезь Лариса Владимировн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Verdana"/>
              </a:rPr>
              <a:t>Учитель музыки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76" name="Прямоугольник 5"/>
          <p:cNvGrpSpPr/>
          <p:nvPr/>
        </p:nvGrpSpPr>
        <p:grpSpPr>
          <a:xfrm>
            <a:off x="798480" y="517680"/>
            <a:ext cx="7473960" cy="1079280"/>
            <a:chOff x="798480" y="517680"/>
            <a:chExt cx="7473960" cy="1079280"/>
          </a:xfrm>
        </p:grpSpPr>
        <p:pic>
          <p:nvPicPr>
            <p:cNvPr id="177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798480" y="517680"/>
              <a:ext cx="747396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57160" y="571680"/>
              <a:ext cx="73580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Verdana"/>
                </a:rPr>
                <a:t>Муниципальное автономное общеобразовательное учреждение</a:t>
              </a: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66"/>
                  </a:solidFill>
                  <a:latin typeface="Verdana"/>
                </a:rPr>
                <a:t>«Средняя общеобразовательная школа №80»</a:t>
              </a: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00000" y="142920"/>
            <a:ext cx="82440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Verdana"/>
              </a:rPr>
              <a:t>Практические приемы и методы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856800"/>
            <a:ext cx="8929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1. Упражнения на снятие эмоционального напряжения, психофизического зажима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(дыхательно-релаксационные, зрительно-релаксационные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2. Профилактика верхних дыхательных путей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(азбука дыхания, точечный массаж,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гимнастика голосового аппарата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3. Вокалотерапия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(упражнения с гласными У О А Э Ы, ритмодекламация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4. Пальчиковые игры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(направлены на активизацию мыслительной деятельности,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на развитие образного мышления, пластическое интонирование)</a:t>
            </a:r>
            <a:br>
              <a:rPr sz="2000"/>
            </a:b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5. Игры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(координационно-подвижные, коммуникативные,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Verdana"/>
              </a:rPr>
              <a:t>игры-разминки) </a:t>
            </a:r>
            <a:br>
              <a:rPr sz="2000"/>
            </a:b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499760" y="1642680"/>
            <a:ext cx="7209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гармонизируют психические процессы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развивают  дремлющие творческие возможности личности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помогают оздоровлению организма 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66"/>
                </a:solidFill>
                <a:latin typeface="Verdana"/>
              </a:rPr>
              <a:t>восстанавливают его жизненные силы</a:t>
            </a:r>
            <a:endParaRPr b="0" lang="en-US" sz="2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2" name="Picture 6" descr=""/>
          <p:cNvPicPr/>
          <p:nvPr/>
        </p:nvPicPr>
        <p:blipFill>
          <a:blip r:embed="rId1"/>
          <a:stretch/>
        </p:blipFill>
        <p:spPr>
          <a:xfrm>
            <a:off x="1571760" y="4143240"/>
            <a:ext cx="3143160" cy="2163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"/>
          <p:cNvPicPr/>
          <p:nvPr/>
        </p:nvPicPr>
        <p:blipFill>
          <a:blip r:embed="rId2"/>
          <a:stretch/>
        </p:blipFill>
        <p:spPr>
          <a:xfrm>
            <a:off x="5273640" y="4143240"/>
            <a:ext cx="3114720" cy="22147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1643040" y="103320"/>
            <a:ext cx="7043760" cy="111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ff"/>
                </a:solidFill>
                <a:latin typeface="Verdana"/>
              </a:rPr>
              <a:t>Занятия Арт-терапией</a:t>
            </a:r>
            <a:r>
              <a:rPr b="0" lang="ru-RU" sz="44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476000" y="1773360"/>
            <a:ext cx="73976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Verdana"/>
              </a:rPr>
              <a:t>Рисование форм восковыми мелками, пастелью, углем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r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Verdana"/>
              </a:rPr>
              <a:t>Динамическое рисование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r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Verdana"/>
              </a:rPr>
              <a:t>Пластицирование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r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Verdana"/>
              </a:rPr>
              <a:t>Шрафировка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r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Verdana"/>
              </a:rPr>
              <a:t>Живопись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285840" y="285840"/>
            <a:ext cx="7602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7" name="Прямоугольник 5" descr=""/>
          <p:cNvPicPr/>
          <p:nvPr/>
        </p:nvPicPr>
        <p:blipFill>
          <a:blip r:embed="rId1"/>
          <a:stretch/>
        </p:blipFill>
        <p:spPr>
          <a:xfrm>
            <a:off x="420840" y="208080"/>
            <a:ext cx="8515080" cy="2784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Dsc01552"/>
          <p:cNvPicPr/>
          <p:nvPr/>
        </p:nvPicPr>
        <p:blipFill>
          <a:blip r:embed="rId2"/>
          <a:stretch/>
        </p:blipFill>
        <p:spPr>
          <a:xfrm>
            <a:off x="1054080" y="3657600"/>
            <a:ext cx="3878280" cy="3139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3"/>
          <p:cNvSpPr txBox="1"/>
          <p:nvPr/>
        </p:nvSpPr>
        <p:spPr>
          <a:xfrm>
            <a:off x="684360" y="260280"/>
            <a:ext cx="82454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cc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ookman Old Style"/>
              </a:rPr>
              <a:t>Пластицирование - </a:t>
            </a:r>
            <a:endParaRPr b="1" lang="en-US" sz="1800" spc="1" strike="noStrike">
              <a:ln w="12600">
                <a:solidFill>
                  <a:srgbClr val="33cc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cc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ookman Old Style"/>
              </a:rPr>
              <a:t> </a:t>
            </a:r>
            <a:r>
              <a:rPr b="1" lang="en-US" sz="1800" spc="1" strike="noStrike">
                <a:ln w="12600">
                  <a:solidFill>
                    <a:srgbClr val="33cc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ookman Old Style"/>
              </a:rPr>
              <a:t>лепка из глины, воска.</a:t>
            </a:r>
            <a:endParaRPr b="1" lang="en-US" sz="1800" spc="1" strike="noStrike">
              <a:ln w="12600">
                <a:solidFill>
                  <a:srgbClr val="33cc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cc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ookman Old Style"/>
              </a:rPr>
              <a:t> </a:t>
            </a:r>
            <a:endParaRPr b="1" lang="en-US" sz="1800" spc="1" strike="noStrike">
              <a:ln w="12600">
                <a:solidFill>
                  <a:srgbClr val="33cc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3141360"/>
            <a:ext cx="874872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WordArt 5"/>
          <p:cNvSpPr txBox="1"/>
          <p:nvPr/>
        </p:nvSpPr>
        <p:spPr>
          <a:xfrm>
            <a:off x="1476360" y="3068640"/>
            <a:ext cx="626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рение в пространств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WordArt 7"/>
          <p:cNvSpPr txBox="1"/>
          <p:nvPr/>
        </p:nvSpPr>
        <p:spPr>
          <a:xfrm>
            <a:off x="1476360" y="4221000"/>
            <a:ext cx="6264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знание форм </a:t>
            </a:r>
            <a:endParaRPr b="0" lang="en-US" sz="1800" spc="1" strike="noStrike">
              <a:ln w="19080">
                <a:solidFill>
                  <a:srgbClr val="000066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пространстве</a:t>
            </a:r>
            <a:endParaRPr b="0" lang="en-US" sz="1800" spc="1" strike="noStrike">
              <a:ln w="19080">
                <a:solidFill>
                  <a:srgbClr val="000066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" name="WordArt 8"/>
          <p:cNvSpPr txBox="1"/>
          <p:nvPr/>
        </p:nvSpPr>
        <p:spPr>
          <a:xfrm>
            <a:off x="1547640" y="5589720"/>
            <a:ext cx="5977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дание образа по памя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AutoShape 9"/>
          <p:cNvSpPr/>
          <p:nvPr/>
        </p:nvSpPr>
        <p:spPr>
          <a:xfrm>
            <a:off x="3059280" y="191628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6" name="AutoShape 10"/>
          <p:cNvSpPr/>
          <p:nvPr/>
        </p:nvSpPr>
        <p:spPr>
          <a:xfrm>
            <a:off x="5003640" y="191628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332000" y="1557000"/>
            <a:ext cx="78120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Verdana"/>
              </a:rPr>
              <a:t>способствует снятию мышечных зажимов и усталости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Verdana"/>
              </a:rPr>
              <a:t>располагает к двигательной и эмоциональной разрядке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Verdana"/>
              </a:rPr>
              <a:t>развивает тактильные ощущения, внимание, пространственное и творческое воображение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Verdana"/>
              </a:rPr>
              <a:t>действенное средство в арттерапии гнева, агрессии, страхов, тревожности, замкнутости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1"/>
          <a:stretch/>
        </p:blipFill>
        <p:spPr>
          <a:xfrm>
            <a:off x="2928960" y="4786200"/>
            <a:ext cx="2435040" cy="17766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2"/>
          <a:stretch/>
        </p:blipFill>
        <p:spPr>
          <a:xfrm>
            <a:off x="5940360" y="4653000"/>
            <a:ext cx="2581200" cy="1928880"/>
          </a:xfrm>
          <a:prstGeom prst="rect">
            <a:avLst/>
          </a:prstGeom>
          <a:ln w="0">
            <a:noFill/>
          </a:ln>
        </p:spPr>
      </p:pic>
      <p:pic>
        <p:nvPicPr>
          <p:cNvPr id="200" name="Прямоугольник 5" descr=""/>
          <p:cNvPicPr/>
          <p:nvPr/>
        </p:nvPicPr>
        <p:blipFill>
          <a:blip r:embed="rId3"/>
          <a:stretch/>
        </p:blipFill>
        <p:spPr>
          <a:xfrm>
            <a:off x="1182600" y="-6480"/>
            <a:ext cx="7974000" cy="265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Содержимое 4" descr="IMG_0199.JPG"/>
          <p:cNvPicPr/>
          <p:nvPr/>
        </p:nvPicPr>
        <p:blipFill>
          <a:blip r:embed="rId1"/>
          <a:stretch/>
        </p:blipFill>
        <p:spPr>
          <a:xfrm rot="20430000">
            <a:off x="1482840" y="545760"/>
            <a:ext cx="2771640" cy="2079720"/>
          </a:xfrm>
          <a:prstGeom prst="rect">
            <a:avLst/>
          </a:prstGeom>
          <a:ln w="0">
            <a:noFill/>
          </a:ln>
        </p:spPr>
      </p:pic>
      <p:pic>
        <p:nvPicPr>
          <p:cNvPr id="202" name="Содержимое 5" descr="IMG_0206.JPG"/>
          <p:cNvPicPr/>
          <p:nvPr/>
        </p:nvPicPr>
        <p:blipFill>
          <a:blip r:embed="rId2"/>
          <a:stretch/>
        </p:blipFill>
        <p:spPr>
          <a:xfrm rot="1059000">
            <a:off x="5800320" y="685440"/>
            <a:ext cx="2727360" cy="2046240"/>
          </a:xfrm>
          <a:prstGeom prst="rect">
            <a:avLst/>
          </a:prstGeom>
          <a:ln w="0">
            <a:noFill/>
          </a:ln>
        </p:spPr>
      </p:pic>
      <p:pic>
        <p:nvPicPr>
          <p:cNvPr id="203" name="Содержимое 4" descr="IMG_0195.JPG"/>
          <p:cNvPicPr/>
          <p:nvPr/>
        </p:nvPicPr>
        <p:blipFill>
          <a:blip r:embed="rId3"/>
          <a:stretch/>
        </p:blipFill>
        <p:spPr>
          <a:xfrm rot="1663200">
            <a:off x="1355400" y="4205160"/>
            <a:ext cx="2616120" cy="1962360"/>
          </a:xfrm>
          <a:prstGeom prst="rect">
            <a:avLst/>
          </a:prstGeom>
          <a:ln w="0">
            <a:noFill/>
          </a:ln>
        </p:spPr>
      </p:pic>
      <p:pic>
        <p:nvPicPr>
          <p:cNvPr id="204" name="Содержимое 5" descr="IMG_0197.JPG"/>
          <p:cNvPicPr/>
          <p:nvPr/>
        </p:nvPicPr>
        <p:blipFill>
          <a:blip r:embed="rId4"/>
          <a:stretch/>
        </p:blipFill>
        <p:spPr>
          <a:xfrm rot="20410800">
            <a:off x="5905080" y="4252680"/>
            <a:ext cx="2687760" cy="2014560"/>
          </a:xfrm>
          <a:prstGeom prst="rect">
            <a:avLst/>
          </a:prstGeom>
          <a:ln w="0">
            <a:noFill/>
          </a:ln>
        </p:spPr>
      </p:pic>
      <p:pic>
        <p:nvPicPr>
          <p:cNvPr id="205" name="Содержимое 4" descr="IMG_0216.JPG"/>
          <p:cNvPicPr/>
          <p:nvPr/>
        </p:nvPicPr>
        <p:blipFill>
          <a:blip r:embed="rId5"/>
          <a:stretch/>
        </p:blipFill>
        <p:spPr>
          <a:xfrm>
            <a:off x="3500280" y="2571840"/>
            <a:ext cx="25005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2:38:03Z</dcterms:created>
  <dc:creator>Марина</dc:creator>
  <dc:description/>
  <dc:language>en-US</dc:language>
  <cp:lastModifiedBy>Дима</cp:lastModifiedBy>
  <dcterms:modified xsi:type="dcterms:W3CDTF">2017-02-16T18:54:17Z</dcterms:modified>
  <cp:revision>158</cp:revision>
  <dc:subject/>
  <dc:title>Слайд 1</dc:title>
</cp:coreProperties>
</file>