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4CA-F2B8-4885-A29B-6C4950CA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9B1-71A9-44B4-B130-39DBB4B5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8B4-4635-4AEB-9262-E7D0C2C5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8EA-99BD-469E-A620-C2489C13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E07-8833-423A-9A4C-91C969FA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D3C-8C5F-4892-9143-D5CA292D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17F-B4BA-4D1B-B31F-6BCA03C8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B41-3667-4ADA-B07C-5BC4C5F4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4D4-2066-47EC-9B52-FAD04E02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67C-E5CD-42BC-A4EC-9E0436C5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8EF-88C6-456A-AFDB-63ACCAFE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ED9-7AB1-4011-A5C0-8B63DDAC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81CD-9341-4766-B26F-88AB93307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1844640"/>
            <a:ext cx="712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Экологический проект в средней группе детского сада                                    «Природа родного кр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414972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350028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ип проект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нформационно-творче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4581360"/>
            <a:ext cx="633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и средней группы: Черная Т.П. Деграве Г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68360" y="1052640"/>
            <a:ext cx="712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блюдени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За сезонными явления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За деревья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За пти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Чьи следы?»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уд в природ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Установка кормуше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одкормка птиц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Уборка мусора,снег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атральная деятельность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Как готовятся звери к зиме?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На лесной опушке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Чудесное превращение»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ижные игр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Лиса и зайцы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Белка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Эстафета «Собери мусор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Охотники и утки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Хороводная игра «Во поле береза стояла»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50920" y="1916280"/>
            <a:ext cx="53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ворческая деятельность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Конструирование «Кормушки для птиц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Рисование «Берегите природу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Рисование «Деревья нашего участка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Конструирование «Хвойный лес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Лепка «Животные в лесу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Конструирование «Береза»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кспериментальная деятельность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Сравнение еловых и сосновых шише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Сравнение веточек сосны и ел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Рассматривание семян деревьев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Посадка семян сосны, ели, березы, клена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24000" y="2924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логическая виктори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По лесным тропинкам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18446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ключитель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0920" y="1844640"/>
            <a:ext cx="73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ники прое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дети средней группы «Гномики»,                          воспитатели, родител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2637000"/>
            <a:ext cx="72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туальность проекта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а проекта «Природа родного края в воспитании экологической культуры детей дошкольного возраста» выбрана нами не случайно. В современных условиях проблема экологического воспитания дошкольников приобретает особую остроту и актуальность. Именно в период дошкольного детства происходит становление человеческой личности, формирование начал экологической культуры. Поэтому очень важно разбудить в детях интерес к живой природе, воспитывать любовь к ней, научить беречь окружающи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81080" y="-304920"/>
            <a:ext cx="9525240" cy="716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6360" y="213372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знакомить детей с природой родного края, с разнообразием флоры и фауны. Сформировать у детей осознанно-правильное отношение к представителям живой природы; убеждение, что красота природы бесценна, поэтому её надо охран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3068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76360" y="476280"/>
            <a:ext cx="8137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Систематизировать знания об окружающем мир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Формировать элементарные представления о взаимосвязях в природ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Развивать поисково-исследовательскую деятельность детей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Расширять и систематизировать знания о растительном и животном мире родного края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Развивать познавательный интерес к объектам окружающего нас мира через чтение стихов о природе, через практическую деятельность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Развивать связную речь, обогащать словарь детей, образное и вариативное мышление, фантазию, воображение, творческие способности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Воспитывать любовь к природе родного края, восприятие её красоты и многообразия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жидаемые результаты проекта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Расширение знаний о растительном и животном мире нашей республики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Сформируется стремление к исследованию объектов природы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Научатся вести наблюдения за отдельными объектами природы, проводить простейшие исследования (сравнения) некоторых видов растений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Развитие у детей любознательности, творческих способностей, познавательной активности, коммуникативных навыков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Будут бережно относиться к природе, овладеют навыками экологически безопасного поведения в при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63640" y="3213000"/>
            <a:ext cx="58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ка проект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Постановка цели и задач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Подбор информационного материала по теме (стихи, приметы, иллюстрации, художественная литература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Разработка конспектов образо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17733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апы реал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2565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9640" y="10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ой эт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1557360"/>
            <a:ext cx="7416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седы на тем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Что такое природа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Деревья нашего края»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матривание картин и иллюстраций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. С. Меньшикова «Дикие животные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С. Н. Николаева, Н. Н. Меньшова «Картины из жизни животных»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тение произведений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. Сухомлинский «Стыдно перед совушкой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Успенский «История одной яблоньки», «Птицы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. Яшина «Покормите птиц зимой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Разучивание стихотворений о птицах, о животных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деревья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. Бианки «Лесной хор»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гадывание загадок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О птица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О диких животны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О деревья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О природе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35280" y="1773360"/>
            <a:ext cx="73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идактические игры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Природа – не природа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Кто в домике живет?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Найди перелетных и зимующих птиц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Найди по описанию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Найди, кого назову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Опиши, а мы отгадаем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Кого не стало?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Чьи следы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Назови ласково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Кто где?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35280" y="998640"/>
            <a:ext cx="6913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льчиковые игры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Есть у каждого свой дом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Воробьи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Птички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Кто спит зимой?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Осенние листья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Дикие животные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Осень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Зима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Зайка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Сорока»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гры на развитие дыхания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Чей листок раньше улетит?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Чья снежинка улетит дальше?»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гры на развитие координации слова с движением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На водопой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Елка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Медвежонок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Зайка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Дикие животны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700280"/>
            <a:ext cx="684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гры на развитие координации слова с движением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На водопой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Елка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Медвежонок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Зайка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Дикие животные»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гровые упражнения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Чему человек научился у птиц?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Что мы можем сделать для птиц? Животных? Деревьев?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Лес шумит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Хочу быть птичкой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Кто живет в лесу?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Дикие живо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7T10:05:54Z</dcterms:created>
  <dc:creator>user</dc:creator>
  <dc:description/>
  <dc:language>en-US</dc:language>
  <cp:lastModifiedBy>user</cp:lastModifiedBy>
  <dcterms:modified xsi:type="dcterms:W3CDTF">2017-02-17T11:25:40Z</dcterms:modified>
  <cp:revision>3</cp:revision>
  <dc:subject/>
  <dc:title>Слайд 1</dc:title>
</cp:coreProperties>
</file>