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72A-3270-4744-8BC0-F601D390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C13-99A2-496B-98D4-8575F7A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5B2-9B5C-475E-9E53-20610A8B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3FC-A625-4C4A-BCD3-8E65B6CC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096-B3D4-4C23-9C10-3D6E9D0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E4E-965A-4EDF-B246-11CECF24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F97-2B46-4FB6-8FD1-800C549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5CE-12D2-453E-AFB1-AB48DD2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21D-4FEF-47FC-B9DB-E09069BA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14D-C807-4611-A0B1-64FFF9B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60D-A3BA-4DD5-AF63-A317BFA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B87-ABDE-44FB-B948-DC93832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658-1B17-478D-B5D6-7928F0E4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1844640"/>
            <a:ext cx="712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кологический проект в средней группе детского сада                                    «Природа родного кр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41497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35002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 проект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нформационно-творч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581360"/>
            <a:ext cx="633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и средней группы: Черная Т.П. Деграве Г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68360" y="1052640"/>
            <a:ext cx="712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блюд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сезонными явлени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деревья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 пти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ьи следы?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уд в природ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становка корму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одкормка птиц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борка мусора,снег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атральная деятельность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Как готовятся звери к зиме?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На лесной опушк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удесное превращение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ижные игр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Лиса и зайцы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Белка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стафета «Собери мусор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Охотники и утки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Хороводная игра «Во поле береза стояла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0920" y="191628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ворческая деятельност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Кормушки для птиц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исование «Берегите природ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исование «Деревья нашего участ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Хвойный лес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Лепка «Животные в лес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Конструирование «Береза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кспериментальная деятельность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Сравнение еловых и сосновых шишек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Сравнение веточек сосны и е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ассматривание семян деревьев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садка семян сосны, ели, березы, клена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4000" y="2924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ая виктори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о лесным тропинкам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18446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ключительн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184464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дети средней группы «Гномики»,                          воспитатели, родител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2637000"/>
            <a:ext cx="72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уальность проекта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екта «Природа родного края в воспитании экологической культуры детей дошкольного возраста» выбрана нами не случайно. В современных условиях проблема экологического воспитания дошкольников приобретает особую остроту и актуальность. Именно в период дошкольного детства происходит становление человеческой личности, формирование начал экологической культуры. Поэтому очень важно разбудить в детях интерес к живой природе, воспитывать любовь к ней, научить беречь окружающи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-304920"/>
            <a:ext cx="952524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21337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знакомить детей с природой родного края, с разнообразием флоры и фауны. Сформировать у детей осознанно-правильное отношение к представителям живой природы; убеждение, что красота природы бесценна, поэтому её надо охра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476280"/>
            <a:ext cx="8137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Систематизировать знания об окружающем мир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Формировать элементарные представления о взаимосвязях в природ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поисково-исследовательскую деятельность детей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сширять и систематизировать знания о растительном и животном мире родного кра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познавательный интерес к объектам окружающего нас мира через чтение стихов о природе, через практическую деятельность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вать связную речь, обогащать словарь детей, образное и вариативное мышление, фантазию, воображение, творческие способност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Воспитывать любовь к природе родного края, восприятие её красоты и многообрази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жидаемые результаты проекта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сширение знаний о растительном и животном мире нашей республик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Сформируется стремление к исследованию объектов природы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Научатся вести наблюдения за отдельными объектами природы, проводить простейшие исследования (сравнения) некоторых видов растений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Развитие у детей любознательности, творческих способностей, познавательной активности, коммуникативных навыков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Будут бережно относиться к природе, овладеют навыками экологически безопасного поведения в при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3640" y="3213000"/>
            <a:ext cx="58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проект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становка цели и задач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Подбор информационного материала по теме (стихи, приметы, иллюстрации, художественная литература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Разработка конспектов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773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2565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10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й эт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741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седы на тем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Что такое природа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«Деревья нашего края»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атривание картин и иллюстраци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. С. Меньшикова «Дикие животные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. Н. Николаева, Н. Н. Меньшова «Картины из жизни животных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ение произведени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. Сухомлинский «Стыдно перед совушко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спенский «История одной яблоньки», «Птицы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. Яшина «Покормите птиц зимой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Разучивание стихотворений о птицах, о животны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деревья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. Бианки «Лесной хор»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гадывание загадок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птиц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диких животн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деревья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 природ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528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идактические игр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рирода – не природ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в домике живет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 перелетных и зимующих птиц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 по описанию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йди, кого назову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пиши, а мы отгадаем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ого не стало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ьи следы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зови ласково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где?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35280" y="998640"/>
            <a:ext cx="691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ьчиковые игр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сть у каждого свой дом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Воробьи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Птички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спит зимой?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сенние листья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Осень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им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Сорока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дыхан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ей листок раньше улетит?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ья снежинка улетит дальше?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координации слова с движением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 водопой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лка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Медвежонок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700280"/>
            <a:ext cx="68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ы на развитие координации слова с движением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На водопой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Елка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Медвежонок»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Зайка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»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гровые упражнения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ему человек научился у птиц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Что мы можем сделать для птиц? Животных? Деревьев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Лес шумит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Хочу быть птичкой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Кто живет в лесу?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«Дикие жив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7T10:05:54Z</dcterms:created>
  <dc:creator>user</dc:creator>
  <dc:description/>
  <dc:language>en-US</dc:language>
  <cp:lastModifiedBy>user</cp:lastModifiedBy>
  <dcterms:modified xsi:type="dcterms:W3CDTF">2017-02-17T11:25:40Z</dcterms:modified>
  <cp:revision>3</cp:revision>
  <dc:subject/>
  <dc:title>Слайд 1</dc:title>
</cp:coreProperties>
</file>