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8A3-D067-4E0A-A684-6CFDA9E1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620-7880-43CE-A05C-F728F31A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7D0-4D8E-4D76-B58E-CB8573A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37B-0286-45E5-9650-8028CFEB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5D4-CB52-499C-8283-508DC1A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2C9-E8D4-4579-846F-E85CAFB0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3E6A-2CA6-45DB-8BF9-FA38751B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F11A-B8E4-48E6-B9C1-3FF3693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B93-C521-4FFD-9AF5-2368B43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3CAF-EB5D-43D5-96A3-CB9D48F3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B31-1803-48F0-9F6D-31EA25B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4BD-BA58-4B9D-A9DF-CD417EE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A448-DB33-4B36-A11D-E9DA6D4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9C8E-1448-4B52-97C0-F3FA3BB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ABBB-1E2E-46CC-8165-426AF5BF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4799-6E8B-477C-B45D-DAC17CA5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0C17-2624-471A-8A8B-E7DF7C2A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35ED9-4FDE-4560-928F-0E5A7BEB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AE08-39F3-47CB-988D-27BDBCFB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C7DDF-6A51-4263-80A6-72939E4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BC0C3-6149-423E-BB04-58BEE3C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08FAC-B29A-4D4D-B2DD-21C6F60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D9D-F35B-401D-88AC-4A7081ED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91E91-D70D-43B8-B712-69841CF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63796-279A-41E7-905E-4590DD9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A7D0B-7A10-4E1F-AB9B-6EBD927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EBAC1-56E0-4519-832A-378B57FD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55A64-E1FC-4BDC-A261-01C3A75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38880-4CA2-4633-B458-ABFA5A1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49E49-53C9-4517-90CE-1AFC1334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A4736-82BE-4F78-B45D-B2EC8900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A54B0-683D-4DC7-AF16-6E538F9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4734E-51F8-4413-8A8F-1E3841B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EE8-819E-49DD-9A03-24AFCC37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64530-2251-4CC9-B8EA-DEFDD8D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3E95D-5AD3-40D5-803D-59737FD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3C8E6-CA07-4484-8A51-5B19BEC0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9B85F-EADA-4B01-ADFA-0194422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3E590-08AF-4122-9C1B-BBBEF83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6AD67-F83C-4868-9249-996404E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76C34-4C11-4A13-9FC7-27BA5FB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58C1D-7285-4669-980C-6A3A97EB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1B3DF-E911-4536-AB83-BB1EE252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12058-F2A8-49FB-B55F-78F02033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EBB-A3AA-4624-9FB7-066FBB0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03CBA-946F-4104-9223-3C6EB91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B6A8A-78A0-4425-A772-7F30B4D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F3BAA-3291-4A17-8BA3-A2E2DEEB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6DA08-9FB7-462A-B019-F8B210CE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25CB9-434F-4356-9B7E-C85D410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56D1C-FA7E-4D2A-ADBC-FF1524F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490B5-6262-46CB-AA49-799C41E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81265-CF67-46F9-A9C6-8B45659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53D2D-2DD7-4DE2-A140-93ECCDA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44E5B-609D-489D-9E4D-8D4C2767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555-3097-4A2B-947F-782CEC1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5B92E-A208-4F70-ABF9-B8A02717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4E00-B585-4CF1-96F2-98D726EB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ADF47-46AA-44E5-BD01-701B446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4401-7F8E-402E-95D7-EEBE5FE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8A4F-7258-4129-9211-9B7D26BE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251B-F9BF-43B0-A4FC-D10B205E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61B6-2064-4A81-923C-673C0A98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B5569-2195-42EB-A349-CDAAE75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6F72-4A96-42EA-8ECF-F85C6D2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AE85-1B3C-456E-928A-47A904F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1D2-1064-4417-BFCA-DE972F6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6DB8-4B50-4C97-9593-BF701BD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6B46-DD29-408D-8F81-9AED4C3B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A7FD0-0342-4143-B3F7-A6EC9300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DC3F4-3946-4FA0-9784-DC4E1A35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73A87-7815-4E2D-85C2-73B8AF48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A3B3D-4C63-4034-9B56-AF7423F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1E65C-2887-4743-AA23-1CDECE1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23B07-E014-40A1-84E9-3205958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9D7F7-2B8E-4030-9D4D-E64A2BA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94253-6805-430B-8243-A48FD5B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92F-A654-4C22-BE38-B06EE107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421DF-3E31-4A5F-8425-8EB3CB3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F7AEF-0076-48CC-A131-312A9D9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06E61-CB12-4D75-B192-EE436EBD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399BA-0080-463E-A94C-1AF410D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E6AD0-50F9-4932-9AB6-C370C4C9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6A773-1CA6-4F0E-8A41-96D53BC5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36C5-9CC0-42EF-BBCE-6B30E2D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2EDD-37A9-4D41-9AE5-B9F53522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99BF8-1AFA-4083-9CD8-60059B1F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61763-152A-4A34-833A-79C2129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4DC-8B51-4561-BEBE-3A495A6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12C7-8430-409B-A5F9-0084633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C7257-48AB-4019-ABFD-11EB20C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DCFDA-493E-4DA2-A0C1-50F2818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95A5-12BC-45F9-90E9-986E6BD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D7447-FF48-4868-9554-EE88D982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0C14-72B3-4E05-B032-4F20A1B3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8370-273C-40AE-B99B-CCD0342D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C31-8DE3-4A4B-94BA-7D4C0117E7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908-6BFB-4696-A8B6-C327A8711171}" type="slidenum">
              <a:rPr b="1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CD53-2896-4966-A04C-CF273DDB02C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4E2-BE47-41B1-AB12-79317D3955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62B4-859C-4BAC-8390-EC35B41FBA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1E4E-DD15-41BF-B02E-2349E2FEE1D9}" type="slidenum">
              <a:rPr b="1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550-4D02-460A-B110-F6764D79165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33F-DDDF-4EC0-BC82-FA35C47B0D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3880" y="1571760"/>
            <a:ext cx="812196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ПРОЯВЛЕНИЯ ГЕНОВ В РАЗВИТИИ. ПЛЕЙОТРОПНОЕ ДЕЙСТВИЕ ГЕНА.</a:t>
            </a:r>
            <a:endParaRPr b="0" lang="en-US" sz="48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366" name="Рисунок 3" descr="35.jpeg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2492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35.jpeg"/>
          <p:cNvPicPr/>
          <p:nvPr/>
        </p:nvPicPr>
        <p:blipFill>
          <a:blip r:embed="rId2"/>
          <a:stretch/>
        </p:blipFill>
        <p:spPr>
          <a:xfrm>
            <a:off x="0" y="6000840"/>
            <a:ext cx="22147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6" descr="43.jpg"/>
          <p:cNvPicPr/>
          <p:nvPr/>
        </p:nvPicPr>
        <p:blipFill>
          <a:blip r:embed="rId1"/>
          <a:stretch/>
        </p:blipFill>
        <p:spPr>
          <a:xfrm>
            <a:off x="1000080" y="1714680"/>
            <a:ext cx="304344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844520" y="1785600"/>
            <a:ext cx="38862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растений мутации затрагивающие синтез хлорофилла, приводит к ослаблению зеленой окраски листьев и стеблей, а также вызывает изменение высоты растения, количество и размеры листьев и цветков, продукции семян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аким образом, индивидуальное развитие организмов – результат точного баланса генов, реагирующего на многочисленные сигналы внешней среды. Нарушение этого баланса изменяет нормальный ход онтогенетических процессо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3" descr="44.jpg"/>
          <p:cNvPicPr/>
          <p:nvPr/>
        </p:nvPicPr>
        <p:blipFill>
          <a:blip r:embed="rId1"/>
          <a:stretch/>
        </p:blipFill>
        <p:spPr>
          <a:xfrm>
            <a:off x="1143000" y="4500720"/>
            <a:ext cx="2782800" cy="18572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46.jpg"/>
          <p:cNvPicPr/>
          <p:nvPr/>
        </p:nvPicPr>
        <p:blipFill>
          <a:blip r:embed="rId2"/>
          <a:stretch/>
        </p:blipFill>
        <p:spPr>
          <a:xfrm>
            <a:off x="4643280" y="4000680"/>
            <a:ext cx="3429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явление одного и того же гена может очень сильно изменяться у разных организмов. Это обусловлено, главным образом, влиянием генотипа данного организма и условиями внешней среды в которой протекает онтогенез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Хорошим примером является изменчивость по степени выраженности белой пятнистости у черно-пестрого ско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Рисунок 3" descr="39.jpg"/>
          <p:cNvPicPr/>
          <p:nvPr/>
        </p:nvPicPr>
        <p:blipFill>
          <a:blip r:embed="rId1"/>
          <a:stretch/>
        </p:blipFill>
        <p:spPr>
          <a:xfrm>
            <a:off x="5643720" y="2714760"/>
            <a:ext cx="3174840" cy="224784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40.jpg"/>
          <p:cNvPicPr/>
          <p:nvPr/>
        </p:nvPicPr>
        <p:blipFill>
          <a:blip r:embed="rId2"/>
          <a:stretch/>
        </p:blipFill>
        <p:spPr>
          <a:xfrm>
            <a:off x="642960" y="3429000"/>
            <a:ext cx="4951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Calibri"/>
              </a:rPr>
              <a:t>Н. В. Тимофеев-Ресовский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73" name="Содержимое 9" descr="timofeev-res.jpg"/>
          <p:cNvPicPr/>
          <p:nvPr/>
        </p:nvPicPr>
        <p:blipFill>
          <a:blip r:embed="rId1"/>
          <a:stretch/>
        </p:blipFill>
        <p:spPr>
          <a:xfrm>
            <a:off x="928800" y="1857240"/>
            <a:ext cx="3000240" cy="4337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1640" y="1714680"/>
            <a:ext cx="415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дложил называть изменчивость фенотипического выражения признака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кспрессивно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пособность гена проявляться в фенотипе назвал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пенетрантно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генов, характеризующихся варьирующей пенетрантностью, сильное влияние оказывает среда, в которой протекает развитие и генотип индивидуу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пример, пенетрантность гена, определяющего развитие зачаточных крыльев у дрозофилы, сильно зависит от температуры, в которой осуществляется развитие личинок и куколк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4" descr="41.jpg"/>
          <p:cNvPicPr/>
          <p:nvPr/>
        </p:nvPicPr>
        <p:blipFill>
          <a:blip r:embed="rId1"/>
          <a:stretch/>
        </p:blipFill>
        <p:spPr>
          <a:xfrm>
            <a:off x="0" y="0"/>
            <a:ext cx="2857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следование закономерностей проявления генов в ходе индивидуального развития у различных организмов позволяет сделать важный вывод.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Даже в тех случаях, когда признак наследуется сравнительно просто и определяется одним основным геном, в формировании признака участвуют другие гены и значительное влияние оказывает внешняя сре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Рисунок 3" descr="33.jpeg"/>
          <p:cNvPicPr/>
          <p:nvPr/>
        </p:nvPicPr>
        <p:blipFill>
          <a:blip r:embed="rId1"/>
          <a:stretch/>
        </p:blipFill>
        <p:spPr>
          <a:xfrm>
            <a:off x="6000840" y="5143680"/>
            <a:ext cx="2847960" cy="1560240"/>
          </a:xfrm>
          <a:prstGeom prst="rect">
            <a:avLst/>
          </a:prstGeom>
          <a:ln w="0">
            <a:noFill/>
          </a:ln>
        </p:spPr>
      </p:pic>
      <p:sp>
        <p:nvSpPr>
          <p:cNvPr id="379" name="Облако 5"/>
          <p:cNvSpPr/>
          <p:nvPr/>
        </p:nvSpPr>
        <p:spPr>
          <a:xfrm>
            <a:off x="357120" y="214200"/>
            <a:ext cx="2357640" cy="928800"/>
          </a:xfrm>
          <a:prstGeom prst="pie">
            <a:avLst/>
          </a:prstGeom>
          <a:solidFill>
            <a:srgbClr val="0070c0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тие генетических исследований позволило установить, что не только многочисленные генетические факторы и факторы среды влияют на проявление одного конкретного гена в ходе индивидуального развития, но и один ген способен оказывать влияние на работу многих генов и формирование большого количества признаков. Такое действие гена на процессы развития называю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множественным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плейотропны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14760"/>
            <a:ext cx="7905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Рассмотрим примеры плейотропного действия гена.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676a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09120" y="1856880"/>
            <a:ext cx="3886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мышей ген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гомозиготном состояние не только приводит к появлению розовой окраски радужной оболочки глаз, но и обусловливает снижение интенсивности роста, нарушение поведения, затруднения пережевывания пищи, ослабление материнского инстинкта 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Содержимое 6" descr="42.jpg"/>
          <p:cNvPicPr/>
          <p:nvPr/>
        </p:nvPicPr>
        <p:blipFill>
          <a:blip r:embed="rId1"/>
          <a:stretch/>
        </p:blipFill>
        <p:spPr>
          <a:xfrm>
            <a:off x="5214960" y="2143080"/>
            <a:ext cx="3429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8:48:34Z</dcterms:created>
  <dc:creator>Admin</dc:creator>
  <dc:description/>
  <dc:language>en-US</dc:language>
  <cp:lastModifiedBy>Admin</cp:lastModifiedBy>
  <dcterms:modified xsi:type="dcterms:W3CDTF">2011-05-11T11:09:01Z</dcterms:modified>
  <cp:revision>15</cp:revision>
  <dc:subject/>
  <dc:title>Проявления генов в развитии. Плейотропное действие гена.</dc:title>
</cp:coreProperties>
</file>