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304-B33B-49AC-8EC1-42D4B060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28B-7866-4206-A505-3358326E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58A-650F-4ADA-94F3-EFDB6C1B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EF6-1176-4D53-AD0B-7F6A2D5C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37FA-BD3A-4B7C-B6AC-488A3343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2FD9-79B9-46F9-96C1-D7C49B8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F5CD-0FFD-4282-9823-56ACF8E2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D54-5905-439C-8E97-CE53967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4D76-715E-4F6C-AD74-EF4F085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A1F1-543C-4BEC-81D8-B778ACA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151B-65DD-42F5-BCAE-BA1AC85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07D-FB69-435F-A42E-83C1303F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A6BF-6502-4FB0-BF7F-F565E60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C702-B51E-4726-8C8A-AF9B0DFB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748D-E5E5-4385-9E95-901D41E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872A-AFCF-46F0-BDCD-E64F7B53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0942-BE1F-41EA-8858-BBE96455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49007-6EB2-49CA-9143-6D45C984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DE7C7-FDBD-4821-B3AB-7CAF90A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24EED-4F33-40E3-A0C7-84003B38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0E4E6-B4B2-460A-B4CD-5A6C9433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B0537-369B-4236-83DA-6C2D936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C73-AC20-4B4E-B33A-033DC5BE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96934-5506-40BF-8D0F-66B9BDA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1EAC9-F908-4766-B102-CF02D1D1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32674-D8D7-49B0-8788-6DC69169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02819-B8A1-4DDF-81A0-06E31F4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33503-390A-46AD-9D2E-7E78A211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F5078-4DCA-44D3-B26F-C5EB8E7D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E468F-09C4-4437-ADBA-FC537D0C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0BB9E-0246-4F66-AB54-9BBA52B8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86DB3-93A1-449A-8F76-38EC0D0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077E8-756F-4D81-B2BE-B62690C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367-58D6-443F-995E-3E4AA06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43ACB-49C4-4D0F-A484-EDB5E08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117D1-22EC-4995-AD9E-4D146AB2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F7EEE-2706-4F00-AEBD-F84D1762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1EA07-1974-42B2-B6A7-8E19418B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555F3-1185-47B8-BDBE-9A69CC82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7F1C7-6BAA-499B-8ED8-BBFDB90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E7266-CB9B-4B04-98D6-B067E013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CBCDC-958A-4C65-86D6-A3EC16AC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5A418-8AD4-4C2B-86BF-343A7393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41EB0-5516-414C-BC48-C5A91FE2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96E-6B18-414A-B245-38909147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B93A2-E0E5-48FD-BCD5-DD928CBF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21FA0-DB7B-4CDA-9212-F471482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5BE32-2F96-486B-BDC0-92A4DF53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E544E-AC7F-420D-8A15-C490786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C7739-A8C8-4882-AEA6-AAAA8DFE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E7540-C2CB-44C8-94A4-DE92380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513D7-2009-4BD3-9BF4-AA994335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EA1D8-6365-4500-AB06-FDA8793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1DC27-A33A-4A28-A2C3-1771CF2E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21320-3382-49EF-9D5A-04FD92EF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DFA-85E3-4CE9-B6FF-638A9E09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BCB29-8A70-4146-8AA5-373B4EA5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F304-DA05-46D9-9016-D21F1C05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052C-5291-444B-8FE4-E17ECBC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395D-FC61-488C-A385-6554C386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BB34-88FA-4E99-8F2F-5F4CA872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446DB-1B09-4487-897E-EDEC3377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B733-7558-4E88-A40B-4BAB97B3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D1AB0-673F-4B43-B102-1CC5692A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5094-B911-4C52-BE49-133859A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1A24-11C2-40F1-84CD-1BD2A7F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5FC-9ED9-43E5-A3AA-99C7129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6F9A-AA0E-4A1A-A68E-C02B4FC9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C9BC7-9D3E-4E98-B6F1-08832835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FDAEB-06DC-4AB4-A0D5-7CE7EA86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F2544-350E-4E89-A809-181529C9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84009-3316-4912-BC98-1E79C226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B39EE-FC9A-4426-BFE9-FC5DA053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2CA48-F776-4542-B961-699F3BC7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C7989-9A18-47D2-AFAD-9D0BDDFF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0765E-1973-4ADF-B4AE-0B9AF13C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4FDE2-E84E-402D-B981-F81339E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C1A-ABB3-44AE-AF12-A52298C9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20794-F438-4754-AE93-AF3738E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988D7-74CE-4F0E-B0AB-ACFA5E1C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67B79-E6DD-4AAF-9A3D-31CD998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45E77-55EF-44B9-88F6-3F082B41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4744A-B9AB-4219-BD72-48AE99B1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6F83A-C08A-4BEC-BB36-5F45D0F7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A375-BEC7-4FFD-887F-5F014F4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62A12-1197-465B-87E2-13DE02A6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F421C-8C0C-4E4B-BF5D-109D181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E2224-E7FE-4D1F-B0B3-740119DC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E0A-7B33-487D-AC8F-B062B7AC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23CF8-57A3-422B-8583-CAE09B2D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6C341-8D2E-4235-9CC5-0A89500D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9B520-A9EC-42F3-8DE7-904FBD11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DFBC-5D1C-435F-BE94-3A81A70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37A0-8B86-427B-8CE1-07772286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A7165-4F8E-4BDE-949E-F7098DF0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6E6D-7295-458A-BD8F-F391F5A4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F19-CDD2-484E-BF2E-13A6A25E9D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1F8-7348-4287-9137-1020360FA308}" type="slidenum">
              <a:rPr b="1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CB17-DBF8-410B-8198-4523686115AC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45A-71B8-464A-A1CB-7FA3CD7E23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D00-0870-4229-9DD9-2A2FD1ECE8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28A-3DA9-40EA-BCD6-4CD066149D5C}" type="slidenum">
              <a:rPr b="1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CB75-DFFD-4415-99DA-D31D0DBD383A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60F7-36DC-481A-9CB4-B1B500752D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3880" y="1571760"/>
            <a:ext cx="812196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ПРОЯВЛЕНИЯ ГЕНОВ В РАЗВИТИИ. ПЛЕЙОТРОПНОЕ ДЕЙСТВИЕ ГЕНА.</a:t>
            </a:r>
            <a:endParaRPr b="0" lang="en-US" sz="48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366" name="Рисунок 3" descr="35.jpeg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12492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35.jpeg"/>
          <p:cNvPicPr/>
          <p:nvPr/>
        </p:nvPicPr>
        <p:blipFill>
          <a:blip r:embed="rId2"/>
          <a:stretch/>
        </p:blipFill>
        <p:spPr>
          <a:xfrm>
            <a:off x="0" y="6000840"/>
            <a:ext cx="22147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6" descr="43.jpg"/>
          <p:cNvPicPr/>
          <p:nvPr/>
        </p:nvPicPr>
        <p:blipFill>
          <a:blip r:embed="rId1"/>
          <a:stretch/>
        </p:blipFill>
        <p:spPr>
          <a:xfrm>
            <a:off x="1000080" y="1714680"/>
            <a:ext cx="304344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844520" y="1785600"/>
            <a:ext cx="38862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растений мутации затрагивающие синтез хлорофилла, приводит к ослаблению зеленой окраски листьев и стеблей, а также вызывает изменение высоты растения, количество и размеры листьев и цветков, продукции семян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аким образом, индивидуальное развитие организмов – результат точного баланса генов, реагирующего на многочисленные сигналы внешней среды. Нарушение этого баланса изменяет нормальный ход онтогенетических процессов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3" descr="44.jpg"/>
          <p:cNvPicPr/>
          <p:nvPr/>
        </p:nvPicPr>
        <p:blipFill>
          <a:blip r:embed="rId1"/>
          <a:stretch/>
        </p:blipFill>
        <p:spPr>
          <a:xfrm>
            <a:off x="1143000" y="4500720"/>
            <a:ext cx="2782800" cy="18572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46.jpg"/>
          <p:cNvPicPr/>
          <p:nvPr/>
        </p:nvPicPr>
        <p:blipFill>
          <a:blip r:embed="rId2"/>
          <a:stretch/>
        </p:blipFill>
        <p:spPr>
          <a:xfrm>
            <a:off x="4643280" y="4000680"/>
            <a:ext cx="3429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явление одного и того же гена может очень сильно изменяться у разных организмов. Это обусловлено, главным образом, влиянием генотипа данного организма и условиями внешней среды в которой протекает онтогенез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Хорошим примером является изменчивость по степени выраженности белой пятнистости у черно-пестрого ско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Рисунок 3" descr="39.jpg"/>
          <p:cNvPicPr/>
          <p:nvPr/>
        </p:nvPicPr>
        <p:blipFill>
          <a:blip r:embed="rId1"/>
          <a:stretch/>
        </p:blipFill>
        <p:spPr>
          <a:xfrm>
            <a:off x="5643720" y="2714760"/>
            <a:ext cx="3174840" cy="224784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4" descr="40.jpg"/>
          <p:cNvPicPr/>
          <p:nvPr/>
        </p:nvPicPr>
        <p:blipFill>
          <a:blip r:embed="rId2"/>
          <a:stretch/>
        </p:blipFill>
        <p:spPr>
          <a:xfrm>
            <a:off x="642960" y="3429000"/>
            <a:ext cx="4951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76a55"/>
                </a:solidFill>
                <a:latin typeface="Calibri"/>
              </a:rPr>
              <a:t>Н. В. Тимофеев-Ресовский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73" name="Содержимое 9" descr="timofeev-res.jpg"/>
          <p:cNvPicPr/>
          <p:nvPr/>
        </p:nvPicPr>
        <p:blipFill>
          <a:blip r:embed="rId1"/>
          <a:stretch/>
        </p:blipFill>
        <p:spPr>
          <a:xfrm>
            <a:off x="928800" y="1857240"/>
            <a:ext cx="3000240" cy="4337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1640" y="1714680"/>
            <a:ext cx="415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едложил называть изменчивость фенотипического выражения признака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кспрессивностью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пособность гена проявляться в фенотипе назвал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пенетрантностью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генов, характеризующихся варьирующей пенетрантностью, сильное влияние оказывает среда, в которой протекает развитие и генотип индивидуу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пример, пенетрантность гена, определяющего развитие зачаточных крыльев у дрозофилы, сильно зависит от температуры, в которой осуществляется развитие личинок и куколк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Рисунок 4" descr="41.jpg"/>
          <p:cNvPicPr/>
          <p:nvPr/>
        </p:nvPicPr>
        <p:blipFill>
          <a:blip r:embed="rId1"/>
          <a:stretch/>
        </p:blipFill>
        <p:spPr>
          <a:xfrm>
            <a:off x="0" y="0"/>
            <a:ext cx="2857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следование закономерностей проявления генов в ходе индивидуального развития у различных организмов позволяет сделать важный вывод.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Даже в тех случаях, когда признак наследуется сравнительно просто и определяется одним основным геном, в формировании признака участвуют другие гены и значительное влияние оказывает внешняя сре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Рисунок 3" descr="33.jpeg"/>
          <p:cNvPicPr/>
          <p:nvPr/>
        </p:nvPicPr>
        <p:blipFill>
          <a:blip r:embed="rId1"/>
          <a:stretch/>
        </p:blipFill>
        <p:spPr>
          <a:xfrm>
            <a:off x="6000840" y="5143680"/>
            <a:ext cx="2847960" cy="1560240"/>
          </a:xfrm>
          <a:prstGeom prst="rect">
            <a:avLst/>
          </a:prstGeom>
          <a:ln w="0">
            <a:noFill/>
          </a:ln>
        </p:spPr>
      </p:pic>
      <p:sp>
        <p:nvSpPr>
          <p:cNvPr id="379" name="Облако 5"/>
          <p:cNvSpPr/>
          <p:nvPr/>
        </p:nvSpPr>
        <p:spPr>
          <a:xfrm>
            <a:off x="357120" y="214200"/>
            <a:ext cx="2357640" cy="928800"/>
          </a:xfrm>
          <a:prstGeom prst="pie">
            <a:avLst/>
          </a:prstGeom>
          <a:solidFill>
            <a:srgbClr val="0070c0"/>
          </a:solidFill>
          <a:ln w="190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витие генетических исследований позволило установить, что не только многочисленные генетические факторы и факторы среды влияют на проявление одного конкретного гена в ходе индивидуального развития, но и один ген способен оказывать влияние на работу многих генов и формирование большого количества признаков. Такое действие гена на процессы развития называю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множественным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плейотропны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14760"/>
            <a:ext cx="7905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ассмотрим примеры плейотропного действия гена.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676a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09120" y="1856880"/>
            <a:ext cx="38862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мышей ген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гомозиготном состояние не только приводит к появлению розовой окраски радужной оболочки глаз, но и обусловливает снижение интенсивности роста, нарушение поведения, затруднения пережевывания пищи, ослабление материнского инстинкта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Содержимое 6" descr="42.jpg"/>
          <p:cNvPicPr/>
          <p:nvPr/>
        </p:nvPicPr>
        <p:blipFill>
          <a:blip r:embed="rId1"/>
          <a:stretch/>
        </p:blipFill>
        <p:spPr>
          <a:xfrm>
            <a:off x="5214960" y="2143080"/>
            <a:ext cx="3429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8:48:34Z</dcterms:created>
  <dc:creator>Admin</dc:creator>
  <dc:description/>
  <dc:language>en-US</dc:language>
  <cp:lastModifiedBy>Admin</cp:lastModifiedBy>
  <dcterms:modified xsi:type="dcterms:W3CDTF">2011-05-11T11:09:01Z</dcterms:modified>
  <cp:revision>15</cp:revision>
  <dc:subject/>
  <dc:title>Проявления генов в развитии. Плейотропное действие гена.</dc:title>
</cp:coreProperties>
</file>