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0B4-0107-4974-AF2F-C030E018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6F14-D4C2-404B-8332-94581581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0AC2-789E-4235-8286-8884DEE8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9F7-12F9-459E-9C13-D2F8CFB6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D92E-3249-43AC-BA16-E952720A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D81C-EE8B-42FE-8026-5D1048FD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D492-78F9-4A38-B789-935B7230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71AB-BF69-4540-B2E4-49F9F697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93AF-7F12-4C9A-B330-E8A5B585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3BC3-0EC4-4F3F-9F53-7F1C6A1B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85FF-B291-4C45-B40E-117CEAD9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0B3F-AA6C-4F01-94A3-96550F9A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D477-93E1-41BF-869C-ADD3D405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BC88-1BCB-48A9-8D3C-A3C3FF35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FE6D-7F89-4149-B06D-A94D2B60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780F-E02D-4369-83CE-DE27CB41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53D7-9AEB-4187-8998-9CC9F36C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D3E6-98AC-4A19-B131-57C94472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27DB-D125-470E-AA56-A85B7E10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1C35-14AA-4FFD-8ABE-F656B16B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1063-82F4-4740-89F7-51AA2C47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498B-3FAC-44EF-95B8-ABF8889B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6400-ED2E-4325-ACAC-868054A1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21E2-1B7C-49A5-B4C1-2854ED1D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9f2936"/>
              </a:gs>
              <a:gs pos="100000">
                <a:srgbClr val="8c242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f29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1253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912531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a2834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2733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7232e"/>
                  </a:gs>
                  <a:gs pos="100000">
                    <a:srgbClr val="9f29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62733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c242f"/>
                  </a:gs>
                  <a:gs pos="100000">
                    <a:srgbClr val="9f293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12531"/>
                  </a:gs>
                  <a:gs pos="100000">
                    <a:srgbClr val="9f293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c242f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62733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c242f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1253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125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2531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7232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9125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2222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f2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f2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f2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3642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f2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62733"/>
                  </a:gs>
                  <a:gs pos="100000">
                    <a:srgbClr val="9f293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62733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a2834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f29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936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f29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936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323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6b0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B312-8F18-4AF0-911F-F6DCE020AF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f29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1253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912531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a2834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2733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7232e"/>
                  </a:gs>
                  <a:gs pos="100000">
                    <a:srgbClr val="9f29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62733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c242f"/>
                  </a:gs>
                  <a:gs pos="100000">
                    <a:srgbClr val="9f293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12531"/>
                  </a:gs>
                  <a:gs pos="100000">
                    <a:srgbClr val="9f293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c242f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62733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c242f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1253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125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2531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7232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9125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2222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f2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f2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8c24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f2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3642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f2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62733"/>
                  </a:gs>
                  <a:gs pos="100000">
                    <a:srgbClr val="9f293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a2303c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62733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f2936"/>
                  </a:gs>
                  <a:gs pos="100000">
                    <a:srgbClr val="9627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a2834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f29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936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f29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936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323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6b0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CB17-F2FF-4AF9-884C-D78853292F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7143840" cy="3286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1f28"/>
                </a:solidFill>
                <a:latin typeface="Arial"/>
              </a:rPr>
              <a:t>Профилактика подросткового</a:t>
            </a:r>
            <a:br>
              <a:rPr sz="4400"/>
            </a:br>
            <a:r>
              <a:rPr b="1" lang="ru-RU" sz="4400" spc="-1" strike="noStrike">
                <a:solidFill>
                  <a:srgbClr val="771f28"/>
                </a:solidFill>
                <a:latin typeface="Arial"/>
              </a:rPr>
              <a:t>суицида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1714680" y="4214880"/>
            <a:ext cx="6286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чугова Лиана Викторовн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 МОАУ СОШ № 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картешка (88)"/>
          <p:cNvPicPr/>
          <p:nvPr/>
        </p:nvPicPr>
        <p:blipFill>
          <a:blip r:embed="rId1"/>
          <a:stretch/>
        </p:blipFill>
        <p:spPr>
          <a:xfrm>
            <a:off x="6885000" y="0"/>
            <a:ext cx="2259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A0CPTNM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588000" y="4797360"/>
            <a:ext cx="2556000" cy="2060640"/>
          </a:xfrm>
          <a:prstGeom prst="rect">
            <a:avLst/>
          </a:prstGeom>
          <a:ln w="9360">
            <a:solidFill>
              <a:srgbClr val="660099"/>
            </a:solidFill>
            <a:miter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оведенческие признаки суицидального поведения:</a:t>
            </a:r>
            <a:endParaRPr b="0" lang="en-US" sz="36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8893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ность к неоправданно рискованным поступк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физического недовольства, безразличное отношение к себе, окружающим, «бесчувственность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взаимодействие с окружающими (стремление к контакту, поиски сочувствия, обращение за помощью к врачу) либо нелюдимость, избегание контактов с окружающ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ние непоправимой беды, стр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ие нару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Ситуационные признаки суицидального поведения: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285840" y="1500120"/>
            <a:ext cx="8572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 изолирован, чувствует себя отверженны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ет в нестабильном окружен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ает себя жертвой насилия - физического, сексуального или эмоциональног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нимал раньше попытки суицид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склонность к самоубийству вследствие того, что оно совершалось кем-то из друзей, знакомых или членов семь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ес тяжелую потер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шком критически настроен по отношению к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фото 6"/>
          <p:cNvPicPr/>
          <p:nvPr/>
        </p:nvPicPr>
        <p:blipFill>
          <a:blip r:embed="rId1"/>
          <a:stretch/>
        </p:blipFill>
        <p:spPr>
          <a:xfrm>
            <a:off x="6800760" y="3720960"/>
            <a:ext cx="2343240" cy="31244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Что могут увидеть родители: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250920" y="1440000"/>
            <a:ext cx="81439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настроения, питания, изменения с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отношении к своей внешности, самоизоляци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к теме смер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лание посещать кружки, школ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ьезные изменения в состоянии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равила беседы с подростком, размышляющем о суициде: 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 слушать собеседни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к. подростки часто страдают от одиночества и невозможности излить душ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формулировать вопрос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покойно и доходчиво расспрашивая о сути тревожащей ситуации и о том, какая помощь необходим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ыражать удивле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ышанным и не осуждать ребенка за любые, даже самые шокирующие высказыва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равила беседы с подростком, размышляющем о суициде: 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ори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настаивать на том, что его беда ничтожна, что ему живется лучше други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ться развеять романтическо-трагедийный орео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й подростка о собственной смер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длагать неоправданных утеш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подчеркнуть временный характер проблем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иться вселить в подростка надежд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она должна быть реалистичной и направленной на укрепление его сил и возмож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250920" y="836640"/>
            <a:ext cx="87138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ждение вашего ребёнка было желанным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771f2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1f28"/>
                </a:solidFill>
                <a:latin typeface="Arial"/>
              </a:rPr>
              <a:t>Вы каждый день его целуете, говорите ласковые слова или шутите с ним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 с ним каждый вечер разговариваете по душам и обсуждаете прожитый им день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771f2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1f28"/>
                </a:solidFill>
                <a:latin typeface="Arial"/>
              </a:rPr>
              <a:t>Раз в неделю проводите с ним досуг (кино, концерт, театр, посещение родственников, поход на лыжах и т.д.)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 обсуждаете с ним создавшиеся семейные проблемы, ситуации, планы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771f2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1f28"/>
                </a:solidFill>
                <a:latin typeface="Arial"/>
              </a:rPr>
              <a:t>Вы обсуждаете с ним его имидж, моду, манеру одеваться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ы знаете его друзей (чем они занимаются, где живут)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1f28"/>
                </a:solidFill>
                <a:latin typeface="Arial"/>
              </a:rPr>
              <a:t>Анкета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3"/>
          <p:cNvSpPr/>
          <p:nvPr/>
        </p:nvSpPr>
        <p:spPr>
          <a:xfrm>
            <a:off x="324000" y="333360"/>
            <a:ext cx="871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в курсе его времяпрепровождения, хобби, заняти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771f28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1f28"/>
                </a:solidFill>
                <a:latin typeface="Arial"/>
              </a:rPr>
              <a:t>Вы в курсе его влюблённости, симпати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знаете о его недругах, недоброжелателях, врага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771f28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1f28"/>
                </a:solidFill>
                <a:latin typeface="Arial"/>
              </a:rPr>
              <a:t>Вы знаете, какой его любимый предмет в школ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знаете, кто у него любимый учитель в школ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771f28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1f28"/>
                </a:solidFill>
                <a:latin typeface="Arial"/>
              </a:rPr>
              <a:t>Вы знаете, какой у него самый нелюбимый учитель в школ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первым идёте на примирение, разговор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 не оскорбляете и не унижаете своего ребён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26716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Рекомендации родителям: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1699920"/>
            <a:ext cx="85010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в коем случае не оставля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шенными проблемы, касающиеся сохранения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го и психического здоровья ребен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ировать вместе с сыном или дочерью каждую трудную ситуаци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ребенка с раннего детства принимать ответственность за свои поступки и решения, предвидеть последствия поступк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фото 2"/>
          <p:cNvPicPr/>
          <p:nvPr/>
        </p:nvPicPr>
        <p:blipFill>
          <a:blip r:embed="rId1"/>
          <a:stretch/>
        </p:blipFill>
        <p:spPr>
          <a:xfrm>
            <a:off x="5943600" y="23760"/>
            <a:ext cx="31431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Рекомендации родителям: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57120" y="1143000"/>
            <a:ext cx="85010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в ребенке привычку рассказывать родителям не только о своих достижениях, но и о тревогах, сомнениях, страха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паздывать с ответами на его вопросы по различным проблемам физиолог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ронизировать над ребенком, если в какой-то ситуации он оказался слабым физически и морально, помочь ему и поддержать его, указать возможные пути решения возникшей проблем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Рекомендации родителям: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57120" y="1285920"/>
            <a:ext cx="85010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дить с ним работу служб, которые могут оказать помощь в ситуации, сопряженной с риском для жизни; записать соответствующие номера телефон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ть свои рабочие номера телефонов, а также номера телефонов людей, которым родители сами доверя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кее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938920" y="4224240"/>
            <a:ext cx="3205080" cy="2633760"/>
          </a:xfrm>
          <a:prstGeom prst="rect">
            <a:avLst/>
          </a:prstGeom>
          <a:ln w="9360">
            <a:solidFill>
              <a:srgbClr val="66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2502000"/>
            <a:ext cx="4554360" cy="960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6600" spc="-1" strike="noStrike" u="sng">
                <a:solidFill>
                  <a:srgbClr val="771f28"/>
                </a:solidFill>
                <a:uFillTx/>
                <a:latin typeface="Arial"/>
              </a:rPr>
              <a:t>Суицид -</a:t>
            </a:r>
            <a:r>
              <a:rPr b="0" lang="ru-RU" sz="6600" spc="-1" strike="noStrike" u="sng">
                <a:solidFill>
                  <a:srgbClr val="771f28"/>
                </a:solidFill>
                <a:uFillTx/>
                <a:latin typeface="Arial"/>
              </a:rPr>
              <a:t> </a:t>
            </a:r>
            <a:endParaRPr b="0" lang="en-US" sz="66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3644640"/>
            <a:ext cx="41180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1f28"/>
                </a:solidFill>
                <a:latin typeface="Arial"/>
              </a:rPr>
              <a:t>умышленное самоповреждение со смертельным исходом (лишение себя жизн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фото12"/>
          <p:cNvPicPr/>
          <p:nvPr/>
        </p:nvPicPr>
        <p:blipFill>
          <a:blip r:embed="rId1"/>
          <a:stretch/>
        </p:blipFill>
        <p:spPr>
          <a:xfrm>
            <a:off x="4638600" y="3429000"/>
            <a:ext cx="4305240" cy="28843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7"/>
          <p:cNvSpPr/>
          <p:nvPr/>
        </p:nvSpPr>
        <p:spPr>
          <a:xfrm>
            <a:off x="609480" y="457200"/>
            <a:ext cx="80010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d96b77"/>
                </a:solidFill>
                <a:latin typeface="Tahoma"/>
              </a:rPr>
              <a:t>Когда мы теряем ребенка из-за болезни ил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96b77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d96b77"/>
                </a:solidFill>
                <a:latin typeface="Tahoma"/>
              </a:rPr>
              <a:t>несчастного случая – это огромное горе,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96b77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d96b77"/>
                </a:solidFill>
                <a:latin typeface="Tahoma"/>
              </a:rPr>
              <a:t>но когда ребенок сам  преры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96b77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d96b77"/>
                </a:solidFill>
                <a:latin typeface="Tahoma"/>
              </a:rPr>
              <a:t>свой жизненный путь – это непоправимая трагед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87280" y="509760"/>
            <a:ext cx="7072560" cy="149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323232"/>
              </a:solidFill>
              <a:latin typeface="Arial"/>
            </a:endParaRPr>
          </a:p>
        </p:txBody>
      </p:sp>
      <p:pic>
        <p:nvPicPr>
          <p:cNvPr id="259" name="Picture 8" descr="people072"/>
          <p:cNvPicPr/>
          <p:nvPr/>
        </p:nvPicPr>
        <p:blipFill>
          <a:blip r:embed="rId1"/>
          <a:stretch/>
        </p:blipFill>
        <p:spPr>
          <a:xfrm>
            <a:off x="1643040" y="2000160"/>
            <a:ext cx="536256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Статистика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112840" y="1352160"/>
            <a:ext cx="6562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р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500 тысяч до 1 миллион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ей в г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% люд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-24 лет)   -  суицидальные мыс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CA3QJ2ZR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360" y="115920"/>
            <a:ext cx="1887840" cy="26827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1"/>
          <p:cNvSpPr/>
          <p:nvPr/>
        </p:nvSpPr>
        <p:spPr>
          <a:xfrm>
            <a:off x="611280" y="328464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% юношей, 10 % девуше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уицидальные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Ф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0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и подростков в г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%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тремление покончить собой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%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ремление привлечь  к себе вним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Мотивы суицидального поведения детей и подростков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285840" y="1628640"/>
            <a:ext cx="8607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живание </a:t>
            </a: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обиды, одиночест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чужденности и непоним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йствительная или мнимая </a:t>
            </a: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утрата любв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ей, неразделенное чувство, рев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реживания, связанные со </a:t>
            </a: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смертью, развод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уходом родителей из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Чувство </a:t>
            </a: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вины, сты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корблен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любия, самообв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Боязнь позо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смешек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ребенок на перекладине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35080" y="4357800"/>
            <a:ext cx="1820880" cy="2347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Мотивы суицидального поведения детей и подростков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285840" y="1571760"/>
            <a:ext cx="8858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Страх наказ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желание извин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Любовные неуда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ексуальные эксцессы, берем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Чувство ме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лобы, протеста, угроза или вымогатель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Желание привлечь к себе вним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звать сочувствие, избежать неприятных последствий, уйти от трудной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Сочувствие или </a:t>
            </a: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одражан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а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ям книг или филь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914040" y="298440"/>
            <a:ext cx="797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"СЛУШАЙТЕ МЕНЯ ДЕНЬ, ХОТЬ ЧАС, ТОЛЬКО МИНУТКУ, ЧТОБЫ НЕ ПРИШЛОСЬ МНЕ ПОГИБНУТЬ ОТ УЖАСА ДИКОГО ОДИНОЧЕСТВА. О БОЖЕ, ЕСТЬ ЛИ КТО, ЧТОБ УСЛЫШАТЬ МЕНЯ?"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                                   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СЕНЕ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roditeli"/>
          <p:cNvPicPr/>
          <p:nvPr/>
        </p:nvPicPr>
        <p:blipFill>
          <a:blip r:embed="rId1"/>
          <a:stretch/>
        </p:blipFill>
        <p:spPr>
          <a:xfrm>
            <a:off x="533520" y="3124080"/>
            <a:ext cx="3554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Словесные признаки суицидального поведения: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357120" y="1500120"/>
            <a:ext cx="8429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ые или косвенные сообщения о суицидальных намерен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тки, иронические высказывания о желании умереть, о бессмысленности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рения в своей беспомощности и зависимости от друг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щ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вин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о конкретном плане суици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оведенческие признаки суицидального поведения:</a:t>
            </a:r>
            <a:endParaRPr b="0" lang="en-US" sz="36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85840" y="1642680"/>
            <a:ext cx="857232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скливое выражение ли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ность к нытью, капризность, эгоцентрическая направленность на свои страдания, слезлив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ка, грусть, уныние, угнетенность, мрачная угрюмость, злобность, раздражительность, ворчлив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юзжание, неприязненное, враждебное отношение к окружающим, чувство ненависти к благополучию окружающ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оведенческие признаки суицидального поведения:</a:t>
            </a:r>
            <a:endParaRPr b="0" lang="en-US" sz="36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8581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Гипермим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ышенная, часто неестественная мимика) или </a:t>
            </a:r>
            <a:r>
              <a:rPr b="0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амим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сутствие мимических реакц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ий монотонный голос, </a:t>
            </a:r>
            <a:r>
              <a:rPr b="0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замедленная реч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раткость или отсутствие ответов или </a:t>
            </a:r>
            <a:r>
              <a:rPr b="0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ускоренная экспрессивная ре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, патетические интонации, причи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9f2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двигательная заторможенность или бездеятельность, </a:t>
            </a:r>
            <a:r>
              <a:rPr b="0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адинам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се время лежит на диване) или </a:t>
            </a:r>
            <a:r>
              <a:rPr b="0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двигательное возбужд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0:37:23Z</dcterms:created>
  <dc:creator>психолог</dc:creator>
  <dc:description/>
  <dc:language>en-US</dc:language>
  <cp:lastModifiedBy>Админ</cp:lastModifiedBy>
  <dcterms:modified xsi:type="dcterms:W3CDTF">2014-05-07T06:35:52Z</dcterms:modified>
  <cp:revision>101</cp:revision>
  <dc:subject/>
  <dc:title>Профилактика суицида среди детей и подростков</dc:title>
</cp:coreProperties>
</file>