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E96-2B07-4D44-94AE-B810081D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07A-8D1D-4E16-90C7-C16ABE8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11F-FCEB-49F6-8B1B-5FD55BB4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97B-489C-4632-85D0-387D017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27C-FDA9-4C20-9513-9923E2B5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ADDF-3ED5-44FD-BBF1-AADA93E7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698-3AEB-48B7-8907-DA48EE8F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CFBC-850B-4EF5-AF25-2BB82A7E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0E42-B01F-40F5-913D-3136152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C24-B196-419B-80A1-CA16183B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F00E-4223-4898-8A0F-8AED13F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8B5-A908-4401-9A99-35AC411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E4C9-5C43-4598-AC9B-D630E5A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B774-6F80-4741-AD81-0F8D6AB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4AC-E323-43DA-B8D0-48C72FB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547-910D-43A8-8A28-C3AFCFD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BDED-75CF-4713-9D7C-88A152C2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66C-8674-45B0-98B9-415D1102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6A3-6083-43FE-B027-2A70405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CF6-01EE-4F68-98BC-93615A8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3EF-3FA9-4F49-A714-A25ED18E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1AB-B09F-40B1-8DEB-313180A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15E-3D55-49E8-AE87-820EF86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9C0-9F10-4E86-A632-72A44B03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f2936"/>
              </a:gs>
              <a:gs pos="100000">
                <a:srgbClr val="8c242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232e"/>
                  </a:gs>
                  <a:gs pos="100000">
                    <a:srgbClr val="9f29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723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222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3642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323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E5E-45F7-44E7-82E1-8B753F0988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232e"/>
                  </a:gs>
                  <a:gs pos="100000">
                    <a:srgbClr val="9f29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723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222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3642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323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FFE-378A-401D-8C28-CC2A0B1C5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714384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1f28"/>
                </a:solidFill>
                <a:latin typeface="Arial"/>
              </a:rPr>
              <a:t>Профилактика подросткового</a:t>
            </a:r>
            <a:br>
              <a:rPr sz="4400"/>
            </a:br>
            <a:r>
              <a:rPr b="1" lang="ru-RU" sz="4400" spc="-1" strike="noStrike">
                <a:solidFill>
                  <a:srgbClr val="771f28"/>
                </a:solidFill>
                <a:latin typeface="Arial"/>
              </a:rPr>
              <a:t>суицид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1714680" y="4214880"/>
            <a:ext cx="6286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чугова Лиана Викторовн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МОАУ СОШ №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картешка (88)"/>
          <p:cNvPicPr/>
          <p:nvPr/>
        </p:nvPicPr>
        <p:blipFill>
          <a:blip r:embed="rId1"/>
          <a:stretch/>
        </p:blipFill>
        <p:spPr>
          <a:xfrm>
            <a:off x="6885000" y="0"/>
            <a:ext cx="2259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A0CPTNM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588000" y="4797360"/>
            <a:ext cx="2556000" cy="2060640"/>
          </a:xfrm>
          <a:prstGeom prst="rect">
            <a:avLst/>
          </a:prstGeom>
          <a:ln w="9360">
            <a:solidFill>
              <a:srgbClr val="660099"/>
            </a:solidFill>
            <a:miter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893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неоправданно рискованным поступ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физического недовольства, безразличное отношение к себе, окружающим, «бесчувственность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взаимодействие с окружающими (стремление к контакту, поиски сочувствия, обращение за помощью к врачу) либо нелюдимость, избегание контактов с окружающ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ние непоправимой беды, ст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итуационные признаки суицидального поведения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285840" y="150012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изолирован, чувствует себя отверженны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т в нестабильном окруж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ет себя жертвой насилия - физического, сексуального или эмоционально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л раньше попытки суици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клонность к самоубийству вследствие того, что оно совершалось кем-то из друзей, знакомых или членов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 тяжелую потер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критически настроен по отношению к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фото 6"/>
          <p:cNvPicPr/>
          <p:nvPr/>
        </p:nvPicPr>
        <p:blipFill>
          <a:blip r:embed="rId1"/>
          <a:stretch/>
        </p:blipFill>
        <p:spPr>
          <a:xfrm>
            <a:off x="6800760" y="3720960"/>
            <a:ext cx="2343240" cy="3124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Что могут увидеть родители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250920" y="1440000"/>
            <a:ext cx="8143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настроения, питания, изменения с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отношении к своей внешности, самоизоля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теме смер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посещать кружки,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ые изменения в состояни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а беседы с подростком, размышляющем о суициде: 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слушать собесед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подростки часто страдают от одиночества и невозможности излить душ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формулировать вопро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окойно и доходчиво расспрашивая о сути тревожащей ситуации и о том, какая помощь необходи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ражать удив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ышанным и не осуждать ребенка за любые, даже самые шокирующие высказы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а беседы с подростком, размышляющем о суициде: 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ори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настаивать на том, что его беда ничтожна, что ему живется лучше друг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ться развеять романтическо-трагедийный орео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 подростка о собственной смер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лагать неоправданных уте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подчеркнуть временный характер пробл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ься вселить в подростка надеж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она должна быть реалистичной и направленной на укрепление его сил и возмож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836640"/>
            <a:ext cx="8713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ждение вашего ребёнка было желанны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Вы каждый день его целуете, говорите ласковые слова или шутите с ни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с ним каждый вечер разговариваете по душам и обсуждаете прожитый им ден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Раз в неделю проводите с ним досуг (кино, концерт, театр, посещение родственников, поход на лыжах и т.д.)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обсуждаете с ним создавшиеся семейные проблемы, ситуации, планы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Вы обсуждаете с ним его имидж, моду, манеру одеватьс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 знаете его друзей (чем они занимаются, где живут)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1f28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324000" y="333360"/>
            <a:ext cx="871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в курсе его времяпрепровождения, хобби, занят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в курсе его влюблённости, симпат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знаете о его недругах, недоброжелателях, враг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знаете, какой его любимый предмет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знаете, кто у него любимый учитель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знаете, какой у него самый нелюбимый учитель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первым идёте на примирение, разгов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 не оскорбляете и не унижаете своего ребён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699920"/>
            <a:ext cx="8501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оставл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ыми проблемы, касающиеся сохранени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го и психического здоровья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ть вместе с сыном или дочерью каждую трудную ситуа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с раннего детства принимать ответственность за свои поступки и решения, предвидеть последствия поступ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фото 2"/>
          <p:cNvPicPr/>
          <p:nvPr/>
        </p:nvPicPr>
        <p:blipFill>
          <a:blip r:embed="rId1"/>
          <a:stretch/>
        </p:blipFill>
        <p:spPr>
          <a:xfrm>
            <a:off x="5943600" y="23760"/>
            <a:ext cx="31431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7120" y="1143000"/>
            <a:ext cx="8501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ребенке привычку рассказывать родителям не только о своих достижениях, но и о тревогах, сомнениях, страх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аздывать с ответами на его вопросы по различным проблемам физиолог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ронизировать над ребенком, если в какой-то ситуации он оказался слабым физически и морально, помочь ему и поддержать его, указать возможные пути решения возникшей пробл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7120" y="128592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ь с ним работу служб, которые могут оказать помощь в ситуации, сопряженной с риском для жизни; записать соответствующие номера телефон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вои рабочие номера телефонов, а также номера телефонов людей, которым родители сами доверя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ке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938920" y="4224240"/>
            <a:ext cx="3205080" cy="2633760"/>
          </a:xfrm>
          <a:prstGeom prst="rect">
            <a:avLst/>
          </a:prstGeom>
          <a:ln w="9360">
            <a:solidFill>
              <a:srgbClr val="66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502000"/>
            <a:ext cx="455436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771f28"/>
                </a:solidFill>
                <a:uFillTx/>
                <a:latin typeface="Arial"/>
              </a:rPr>
              <a:t>Суицид -</a:t>
            </a:r>
            <a:r>
              <a:rPr b="0" lang="ru-RU" sz="6600" spc="-1" strike="noStrike" u="sng">
                <a:solidFill>
                  <a:srgbClr val="771f28"/>
                </a:solidFill>
                <a:uFillTx/>
                <a:latin typeface="Arial"/>
              </a:rPr>
              <a:t> </a:t>
            </a:r>
            <a:endParaRPr b="0" lang="en-US" sz="6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3644640"/>
            <a:ext cx="4118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1f28"/>
                </a:solidFill>
                <a:latin typeface="Arial"/>
              </a:rPr>
              <a:t>умышленное самоповреждение со смертельным исходом (лишение себя жи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фото12"/>
          <p:cNvPicPr/>
          <p:nvPr/>
        </p:nvPicPr>
        <p:blipFill>
          <a:blip r:embed="rId1"/>
          <a:stretch/>
        </p:blipFill>
        <p:spPr>
          <a:xfrm>
            <a:off x="4638600" y="3429000"/>
            <a:ext cx="4305240" cy="28843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609480" y="45720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Когда мы теряем ребенка из-за болезни и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несчастного случая – это огромное горе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но когда ребенок сам  прер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свой жизненный путь – это непоправимая трагед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509760"/>
            <a:ext cx="7072560" cy="149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259" name="Picture 8" descr="people072"/>
          <p:cNvPicPr/>
          <p:nvPr/>
        </p:nvPicPr>
        <p:blipFill>
          <a:blip r:embed="rId1"/>
          <a:stretch/>
        </p:blipFill>
        <p:spPr>
          <a:xfrm>
            <a:off x="1643040" y="2000160"/>
            <a:ext cx="53625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12840" y="1352160"/>
            <a:ext cx="65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500 тысяч до 1 миллио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люд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24 лет)   -  суицидальные мыс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A3QJ2Z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360" y="115920"/>
            <a:ext cx="1887840" cy="2682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611280" y="3284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% юношей, 10 % девуше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уицидальн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и подростков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емление покончить собо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емление привлечь  к себ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Мотивы суицидального поведения детей и подростков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285840" y="1628640"/>
            <a:ext cx="860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живание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обиды, одиноч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чужденности и непо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йствительная или мнимая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трата любв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, неразделенное чувство, ре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живания, связанные со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мертью, развод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ходом родителей из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увство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ины, сты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орбл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юбия, самообв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Боязнь поз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смешек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ребенок на перекладин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5080" y="4357800"/>
            <a:ext cx="1820880" cy="2347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Мотивы суицидального поведения детей и подростков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85840" y="157176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трах наказ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желание извин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Любовные неу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ксуальные эксцессы, бе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Чувство м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лобы, протеста, угроза или вымог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Желание привлечь к себе вним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вать сочувствие, избежать неприятных последствий, уйти от труд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очувствие или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дража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м книг или филь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14040" y="29844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"СЛУШАЙТЕ МЕНЯ ДЕНЬ, ХОТЬ ЧАС, ТОЛЬКО МИНУТКУ, ЧТОБЫ НЕ ПРИШЛОСЬ МНЕ ПОГИБНУТЬ ОТ УЖАСА ДИКОГО ОДИНОЧЕСТВА. О БОЖЕ, ЕСТЬ ЛИ КТО, ЧТОБ УСЛЫШАТЬ МЕНЯ?"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ЕНЕ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roditeli"/>
          <p:cNvPicPr/>
          <p:nvPr/>
        </p:nvPicPr>
        <p:blipFill>
          <a:blip r:embed="rId1"/>
          <a:stretch/>
        </p:blipFill>
        <p:spPr>
          <a:xfrm>
            <a:off x="533520" y="3124080"/>
            <a:ext cx="3554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ловесные признаки суицидального поведения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57120" y="150012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или косвенные сообщения о суицидальных намер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тки, иронические высказывания о желании умереть, о бессмысленности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ия в своей беспомощности и зависимости от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вин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о конкретном плане суиц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723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скливое выражение л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нытью, капризность, эгоцентрическая направленность на свои страдания, слезл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ка, грусть, уныние, угнетенность, мрачная угрюмость, злобность, раздражительность, ворчл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зжание, неприязненное, враждебное отношение к окружающим, чувство ненависти к благополучию окружающ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Гиперми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ышенная, часто неестественная мимика)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ми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сутствие мимических реак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ий монотонный голос,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замедленная ре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аткость или отсутствие ответов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скоренная экспрессивная ре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патетические интонации, прич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двигательная заторможенность или бездеятельность,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дина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се время лежит на диване)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двигательное возбуж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37:23Z</dcterms:created>
  <dc:creator>психолог</dc:creator>
  <dc:description/>
  <dc:language>en-US</dc:language>
  <cp:lastModifiedBy>Админ</cp:lastModifiedBy>
  <dcterms:modified xsi:type="dcterms:W3CDTF">2014-05-07T06:35:52Z</dcterms:modified>
  <cp:revision>101</cp:revision>
  <dc:subject/>
  <dc:title>Профилактика суицида среди детей и подростков</dc:title>
</cp:coreProperties>
</file>