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7C45-76D3-4D3C-B435-8BCA7DEDE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A251-F1A4-4BD0-9FE8-3588DB6CE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8FA-85CD-4E4C-A958-3A3FA3A6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738-3680-47B4-9D40-1E19E5B7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911-DE1E-4CC6-A4D8-9B697E54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8E6-B1D0-4AE2-9173-3AFEBF5D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1F1-4607-4590-9E55-34406A0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05C-6E51-4E29-B146-2F0BDEB1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94F-123E-4801-981A-506BAB6E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6F4-A0BE-494D-8960-8AA06CE3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DA7-A833-482F-B57A-1C1CFBAF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EE3-D1DD-45CB-A937-AC65B54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F98-0D99-4E39-847E-471912E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D59-4946-4084-B19C-AA06BE8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C613-E7C1-4BC2-B28B-37CC732BF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5950_e84bc1d7_X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49000" y="152280"/>
            <a:ext cx="67820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План организации сюжетно-ролевой и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09680" y="41144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ТУРАГЕН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cc3300"/>
                </a:solidFill>
                <a:uFillTx/>
                <a:latin typeface="Times New Roman"/>
              </a:rPr>
              <a:t>«</a:t>
            </a:r>
            <a:r>
              <a:rPr b="1" lang="en-US" sz="6000" spc="-1" strike="noStrike" u="sng">
                <a:solidFill>
                  <a:srgbClr val="cc3300"/>
                </a:solidFill>
                <a:uFillTx/>
                <a:latin typeface="Times New Roman"/>
              </a:rPr>
              <a:t>KARJALA</a:t>
            </a:r>
            <a:r>
              <a:rPr b="1" lang="ru-RU" sz="6000" spc="-1" strike="noStrike" u="sng">
                <a:solidFill>
                  <a:srgbClr val="cc3300"/>
                </a:solidFill>
                <a:uFillTx/>
                <a:latin typeface="Times New Roman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2 БЛОК</a:t>
            </a:r>
            <a:br>
              <a:rPr sz="32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Обучающие иг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1. Дидактически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Где мы были, не скажем, что видели, покажем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Для чего нужны предмет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Узнай, где я нахожус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Узнай достопримечательность и расскаж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Составь маршрут движ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Собери транспорт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4-лишн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2. Сюжетно-дидактическая иг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Путешествие по нашему город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3. Игры – ими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Официант несет заказ»; «Каюр за упряжкой»; «Я-артис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4. Народные иг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         «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verkooijen» (сеть да рыба»); «Парная жмур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5. Конструир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Сложи салфетку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игами «Автобус», «Самолет», «Пилот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6. Игры-диалоги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        «У меня зазвонил телефон»; «Знакомство»; «Встреча», «У киоска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3 БЛОК</a:t>
            </a:r>
            <a:br>
              <a:rPr sz="32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редметно-игровая сре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формление турагент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сувениров из соле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подел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фотоальбомов из рисунков и фотограф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денег, билетов, карты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шру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формление книги отзы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мини-музе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бавление новых ту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сувениров из природ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бутафорских прод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готовление эмблемы турагент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думывание названия и вывешивание выв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SC_54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 БЛОК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Проблемные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стопримечательности Карел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ешие 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дные 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ные экскур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кскурсии на собачьих упряж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 за границ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ист заблуди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ист опозд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агентство банк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езд иностранных турис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урист забол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менение маршр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0034-034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karel"/>
          <p:cNvPicPr/>
          <p:nvPr/>
        </p:nvPicPr>
        <p:blipFill>
          <a:blip r:embed="rId1"/>
          <a:stretch/>
        </p:blipFill>
        <p:spPr>
          <a:xfrm>
            <a:off x="228600" y="-3636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66720" y="-360"/>
            <a:ext cx="4876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Создание условий для творческого применения знаний о родном крае через иг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77386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буждать детей более творчески использовать в игре представления о родном кра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звивать творческое вообра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пособствовать проявлению умения совместно разворачивать игру, брать на себя различные роли в соответствии с сюжетом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пособствовать самостоятельному решению проблемных, игров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ддерживать интерес к изучению истории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спитывать навыки культуры поведения в общественных мес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Укреплять дружеские взаимоотношения в иг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ТКА РО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304920"/>
          <a:ext cx="9144000" cy="6667560"/>
        </p:xfrm>
        <a:graphic>
          <a:graphicData uri="http://schemas.openxmlformats.org/drawingml/2006/table">
            <a:tbl>
              <a:tblPr/>
              <a:tblGrid>
                <a:gridCol w="882720"/>
                <a:gridCol w="551808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риб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-тор тур-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, налаживает контакты с туроператором, размещает рекламу, создает вывески, контролирует, ведет переговоры, подписывает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ы, телефон, бейдж, ручка, планшет, сум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опе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с клиентами, разговаривает по телефону, консультирует, принимает заказы на тур, подготавливает документы, бронирует билеты и места в отелях, предлагает услуги, заключает договор, занимается реклам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клеты, бланки, телефон, открытки, картинки, журналы, карты, ноутбук, руч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с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имает оплату за путевки, продает билеты, согласно договору, на автобус или другой транспорт. Дает сдачу, выдает чек. Вежливо приветствует клиентов и прощае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са, деньги, кредитные карты, спец.одежда, калькуля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-ты (клиен-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ходит в агентство, вежливо здоровается. Интересуется направлениями туристического отдыха, знакомится с рекламой, прайсом, читает журналы, изучает маршрут. Выбирает тур, посещает экскурсии, покупает сувениры, оплачивает тур, ест, спит, едет, участвует в играх, фотографирует, снимает виде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ы, деньги, кредитные карты, рюкзак, телефон, личные вещи, посуда, маршрутные листы, бил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-экскур-со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чает туристов, вежливо здоровается, знакомит с программой отдыха, организует туристов на экскурсию, знакомит с достопримечательностями, показывает красоты, памятники, сопровождает группы, проводит экскурс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фон, телефон, Национальная одежда, фотографии, план маршрута, план программы, докумен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6320" y="0"/>
          <a:ext cx="9067680" cy="7010280"/>
        </p:xfrm>
        <a:graphic>
          <a:graphicData uri="http://schemas.openxmlformats.org/drawingml/2006/table">
            <a:tbl>
              <a:tblPr/>
              <a:tblGrid>
                <a:gridCol w="1600200"/>
                <a:gridCol w="4419360"/>
                <a:gridCol w="3048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риб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т исправность транспортного средства, проход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цинскую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иссию, заправляет, ремонтирует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ит за бензином, загружает багаж, везет к месту экскурсии, изучает маршрутный лист, контролирует чистоту, делает остановки, едет, везет турис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ль, права, маршрутный лист, навигатор, инструменты, канистра бенз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авец сувен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ирует товар, продает, предлагает, советует, здоровается, берет деньги, дает сдачу, чек  товар, упаковывает покупку в пак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вениры и различные товары по Карелии, касса, деньги, пакеты, упаковки, коробки, букле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н плав-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чает группу, здоровается, перевозит туристов, держит штурвал, отдает коман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урвал, морской костюм, фуражка, спасательный круг, якорь, рация, навигатор, бинокль, кар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товит еду, моет посуду, сос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ляе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еню, убирает кухню, следит за качеством продуктов, снимает пробу, закупает продукты, чистит, реж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уда, весы, костюм, муляжи продуктов, картинки с изображением блюд, инвентарь для уборки кух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ц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ается, разносит меню, пр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заказы, приносит заказы, уносит грязную посуду, моет столы, принимает опла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.одежда, подносы, муляжи продуктов, картинки блюд, меню, книга жалоб и предложений, инвентарь для уборки сто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исты (выступление ансамбл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упают, танцуют, поют, играют, развлекают, едят, перео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ают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Читают стихи, следят за костюм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альны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ы, микрофоны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кальны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ует, советует, выдает путевой лист, оказывает ПМП, проверяет сост. здоровья, наблюдает, осу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вляе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цинскую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иссию, едет с туристами, е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течка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альны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юм, ме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цински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менты, личные вещи, докумен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ая роль (воспитате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ые р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остепенные р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Директор турагентс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ид-экскурсо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Тур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Тури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Касс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Арти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Офиц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Продавец сувени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По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685800" y="457200"/>
            <a:ext cx="2514600" cy="990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809880" y="1219320"/>
            <a:ext cx="4800600" cy="7617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aae9"/>
                </a:solidFill>
                <a:latin typeface="Times New Roman"/>
              </a:rPr>
              <a:t>Тур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3657600" y="228600"/>
            <a:ext cx="4724280" cy="762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aae9"/>
                </a:solidFill>
                <a:latin typeface="Times New Roman"/>
              </a:rPr>
              <a:t>Гид-экскурс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0" y="2286000"/>
            <a:ext cx="1676520" cy="16765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ур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1828800" y="1676520"/>
            <a:ext cx="1828800" cy="1676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сс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657600" y="2286000"/>
            <a:ext cx="1752480" cy="16765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562720" y="2514600"/>
            <a:ext cx="182880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пи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7543800" y="2057400"/>
            <a:ext cx="1600200" cy="16002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304920" y="4495680"/>
            <a:ext cx="1904760" cy="19051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фиц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343400" y="4419720"/>
            <a:ext cx="175248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рти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2209680" y="3886200"/>
            <a:ext cx="182880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2"/>
          <p:cNvSpPr/>
          <p:nvPr/>
        </p:nvSpPr>
        <p:spPr>
          <a:xfrm>
            <a:off x="6858000" y="4267080"/>
            <a:ext cx="1905120" cy="19051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да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6"/>
          <p:cNvSpPr/>
          <p:nvPr/>
        </p:nvSpPr>
        <p:spPr>
          <a:xfrm flipV="1">
            <a:off x="3048120" y="60912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 flipH="1">
            <a:off x="761760" y="12952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3124080" y="12193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838080" y="685800"/>
            <a:ext cx="358164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 flipV="1">
            <a:off x="1143000" y="1447560"/>
            <a:ext cx="33526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 flipV="1">
            <a:off x="1066680" y="259056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2"/>
          <p:cNvSpPr/>
          <p:nvPr/>
        </p:nvSpPr>
        <p:spPr>
          <a:xfrm>
            <a:off x="1066680" y="2666880"/>
            <a:ext cx="312444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 flipV="1">
            <a:off x="3429000" y="15235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>
            <a:off x="5943600" y="762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 flipH="1">
            <a:off x="4419360" y="1523880"/>
            <a:ext cx="53316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6"/>
          <p:cNvSpPr/>
          <p:nvPr/>
        </p:nvSpPr>
        <p:spPr>
          <a:xfrm flipV="1">
            <a:off x="1752480" y="3200400"/>
            <a:ext cx="617220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7"/>
          <p:cNvSpPr/>
          <p:nvPr/>
        </p:nvSpPr>
        <p:spPr>
          <a:xfrm flipV="1">
            <a:off x="3733920" y="1676160"/>
            <a:ext cx="274320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8"/>
          <p:cNvSpPr/>
          <p:nvPr/>
        </p:nvSpPr>
        <p:spPr>
          <a:xfrm flipV="1">
            <a:off x="3581280" y="3580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9"/>
          <p:cNvSpPr/>
          <p:nvPr/>
        </p:nvSpPr>
        <p:spPr>
          <a:xfrm flipH="1">
            <a:off x="6629040" y="1600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0"/>
          <p:cNvSpPr/>
          <p:nvPr/>
        </p:nvSpPr>
        <p:spPr>
          <a:xfrm>
            <a:off x="1066680" y="3505320"/>
            <a:ext cx="495324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1"/>
          <p:cNvSpPr/>
          <p:nvPr/>
        </p:nvSpPr>
        <p:spPr>
          <a:xfrm flipV="1">
            <a:off x="5181480" y="1676160"/>
            <a:ext cx="144792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2"/>
          <p:cNvSpPr/>
          <p:nvPr/>
        </p:nvSpPr>
        <p:spPr>
          <a:xfrm>
            <a:off x="609480" y="3505320"/>
            <a:ext cx="441972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3"/>
          <p:cNvSpPr/>
          <p:nvPr/>
        </p:nvSpPr>
        <p:spPr>
          <a:xfrm>
            <a:off x="6934320" y="1523880"/>
            <a:ext cx="83808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4"/>
          <p:cNvSpPr/>
          <p:nvPr/>
        </p:nvSpPr>
        <p:spPr>
          <a:xfrm>
            <a:off x="7467480" y="609480"/>
            <a:ext cx="457200" cy="411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5"/>
          <p:cNvSpPr/>
          <p:nvPr/>
        </p:nvSpPr>
        <p:spPr>
          <a:xfrm>
            <a:off x="914400" y="3429000"/>
            <a:ext cx="647712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6"/>
          <p:cNvSpPr/>
          <p:nvPr/>
        </p:nvSpPr>
        <p:spPr>
          <a:xfrm flipV="1">
            <a:off x="914400" y="2361960"/>
            <a:ext cx="7467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7"/>
          <p:cNvSpPr/>
          <p:nvPr/>
        </p:nvSpPr>
        <p:spPr>
          <a:xfrm flipV="1">
            <a:off x="1143000" y="1523520"/>
            <a:ext cx="411480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8"/>
          <p:cNvSpPr/>
          <p:nvPr/>
        </p:nvSpPr>
        <p:spPr>
          <a:xfrm flipV="1">
            <a:off x="5638680" y="761760"/>
            <a:ext cx="1219320" cy="426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Взаимосвязь с сопутствующими сюжетно-ролевыми иг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048120" y="114300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УРАГ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09480" y="2514600"/>
            <a:ext cx="13716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743200" y="2514600"/>
            <a:ext cx="15238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ГА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724280" y="2514600"/>
            <a:ext cx="1524240" cy="1066680"/>
          </a:xfrm>
          <a:prstGeom prst="rect">
            <a:avLst/>
          </a:prstGeom>
          <a:solidFill>
            <a:srgbClr val="eecf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934320" y="2514600"/>
            <a:ext cx="144756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Я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28600" y="3886200"/>
            <a:ext cx="198108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УТЕ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2819520" y="4114800"/>
            <a:ext cx="152388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Ф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4800600" y="4267080"/>
            <a:ext cx="1523880" cy="10670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858000" y="4267080"/>
            <a:ext cx="1523880" cy="106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СТ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505320" y="5562720"/>
            <a:ext cx="1828800" cy="9144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1371600" y="17524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3809880" y="1981080"/>
            <a:ext cx="763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3962520" y="19810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4114800" y="1981080"/>
            <a:ext cx="3276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H="1">
            <a:off x="1905120" y="1981080"/>
            <a:ext cx="18288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3962520" y="1905120"/>
            <a:ext cx="30456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4038480" y="1981080"/>
            <a:ext cx="9907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3962520" y="1981080"/>
            <a:ext cx="350496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4038480" y="2057400"/>
            <a:ext cx="60984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 БЛОК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Актуальное познание современ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седы о путешеств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а с достопримечательностями родного кр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комство с новыми профессиями (туроператор, гид-экскурсовод, каюр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атривание иллюстраций, презентаций, открыток, буклетов, ка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мотр мультфильмов о путешествиях («Путешествия капитана Врунгеля», «Степа – моряк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ещение экскурсий и музе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курсия в тураген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6:25:41Z</dcterms:created>
  <dc:creator>Пользователь</dc:creator>
  <dc:description/>
  <dc:language>en-US</dc:language>
  <cp:lastModifiedBy>Пользователь</cp:lastModifiedBy>
  <dcterms:modified xsi:type="dcterms:W3CDTF">2017-02-17T18:12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