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AA70-6CC7-4053-8555-D1C1369C04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A1EE-6D43-4265-ABB8-417545991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CB3-14A4-4845-AD2D-98CF012D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461-3695-40B6-8091-060FB8FC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DE5-D919-4AA2-A93A-1DAC2275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72D-4858-40B4-9B93-1A83A43F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911-7A4B-4700-B9DB-B0EFD042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4A5-A5AA-499A-B735-207FE2E9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A7A-E30C-4B9A-89ED-8939AD5F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DA9-F0C1-4DF7-AED1-712BD62F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789-C99C-4E7A-8602-B24847D6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AB5-30CF-4C29-B886-9C2FD0E9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E9F-AA14-4A30-90C9-9D7D2028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46A-C9D6-4EA2-9BF1-F571BF1B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C194-B534-4BF8-8B48-3A4B31133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_95950_e84bc1d7_X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49000" y="152280"/>
            <a:ext cx="67820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План организации сюжетно-ролевой иг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09680" y="41144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ТУРАГЕН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Т</a:t>
            </a: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cc3300"/>
                </a:solidFill>
                <a:uFillTx/>
                <a:latin typeface="Times New Roman"/>
              </a:rPr>
              <a:t>«</a:t>
            </a:r>
            <a:r>
              <a:rPr b="1" lang="en-US" sz="6000" spc="-1" strike="noStrike" u="sng">
                <a:solidFill>
                  <a:srgbClr val="cc3300"/>
                </a:solidFill>
                <a:uFillTx/>
                <a:latin typeface="Times New Roman"/>
              </a:rPr>
              <a:t>KARJALA</a:t>
            </a:r>
            <a:r>
              <a:rPr b="1" lang="ru-RU" sz="6000" spc="-1" strike="noStrike" u="sng">
                <a:solidFill>
                  <a:srgbClr val="cc3300"/>
                </a:solidFill>
                <a:uFillTx/>
                <a:latin typeface="Times New Roman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2 БЛОК</a:t>
            </a:r>
            <a:br>
              <a:rPr sz="32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Обучающие игр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1. Дидактические иг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Где мы были, не скажем, что видели, покажем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Для чего нужны предметы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Узнай, где я нахожусь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Узнай достопримечательность и расскаж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Составь маршрут движе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Собери транспорт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4-лишни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2. Сюжетно-дидактическая иг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Путешествие по нашему город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3. Игры – имит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Официант несет заказ»; «Каюр за упряжкой»; «Я-артис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4. Народные иг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         «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verkooijen» (сеть да рыба»); «Парная жмур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5. Конструиров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Сложи салфетку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игами «Автобус», «Самолет», «Пилотк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6. Игры-диалоги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        «У меня зазвонил телефон»; «Знакомство»; «Встреча», «У киоска»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3 БЛОК</a:t>
            </a:r>
            <a:br>
              <a:rPr sz="32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редметно-игровая сре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формление турагент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готовление сувениров из соленого те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готовление подел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готовление фотоальбомов из рисунков и фотограф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готовление денег, билетов, карты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ршру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формление книги отзыв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мини-музе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бавление новых ту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готовление сувениров из природн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готовление бутафорских проду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готовление эмблемы турагент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думывание названия и вывешивание выве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DSC_54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4 БЛОК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Проблемные ситуа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остопримечательности Карел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ешие экскур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одные экскур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онные экскур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Экскурсии на собачьих упряжк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ур за границ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урист заблудил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урист опозд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урагентство банкр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езд иностранных турис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урист забол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зменение маршр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0034-034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karel"/>
          <p:cNvPicPr/>
          <p:nvPr/>
        </p:nvPicPr>
        <p:blipFill>
          <a:blip r:embed="rId1"/>
          <a:stretch/>
        </p:blipFill>
        <p:spPr>
          <a:xfrm>
            <a:off x="228600" y="-3636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66720" y="-360"/>
            <a:ext cx="48769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Times New Roman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Создание условий для творческого применения знаний о родном крае через иг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77386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6600"/>
                </a:solidFill>
                <a:uFillTx/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буждать детей более творчески использовать в игре представления о родном кра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азвивать творческое вообра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пособствовать проявлению умения совместно разворачивать игру, брать на себя различные роли в соответствии с сюжетом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пособствовать самостоятельному решению проблемных, игров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ддерживать интерес к изучению истории родного кр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оспитывать навыки культуры поведения в общественных мес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Укреплять дружеские взаимоотношения в иг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ТКА РО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304920"/>
          <a:ext cx="9144000" cy="6667560"/>
        </p:xfrm>
        <a:graphic>
          <a:graphicData uri="http://schemas.openxmlformats.org/drawingml/2006/table">
            <a:tbl>
              <a:tblPr/>
              <a:tblGrid>
                <a:gridCol w="882720"/>
                <a:gridCol w="551808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ы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трибу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-тор тур-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т, налаживает контакты с туроператором, размещает рекламу, создает вывески, контролирует, ведет переговоры, подписывает доку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ы, телефон, бейдж, ручка, планшет, сум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опе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ет с клиентами, разговаривает по телефону, консультирует, принимает заказы на тур, подготавливает документы, бронирует билеты и места в отелях, предлагает услуги, заключает договор, занимается реклам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клеты, бланки, телефон, открытки, картинки, журналы, карты, ноутбук, руч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с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имает оплату за путевки, продает билеты, согласно договору, на автобус или другой транспорт. Дает сдачу, выдает чек. Вежливо приветствует клиентов и прощае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са, деньги, кредитные карты, спец.одежда, калькуля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ис-ты (клиен-т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ходит в агентство, вежливо здоровается. Интересуется направлениями туристического отдыха, знакомится с рекламой, прайсом, читает журналы, изучает маршрут. Выбирает тур, посещает экскурсии, покупает сувениры, оплачивает тур, ест, спит, едет, участвует в играх, фотографирует, снимает виде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ы, деньги, кредитные карты, рюкзак, телефон, личные вещи, посуда, маршрутные листы, бил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д-экскур-со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тречает туристов, вежливо здоровается, знакомит с программой отдыха, организует туристов на экскурсию, знакомит с достопримечательностями, показывает красоты, памятники, сопровождает группы, проводит экскурс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крофон, телефон, Национальная одежда, фотографии, план маршрута, план программы, докумен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6320" y="0"/>
          <a:ext cx="9067680" cy="7010280"/>
        </p:xfrm>
        <a:graphic>
          <a:graphicData uri="http://schemas.openxmlformats.org/drawingml/2006/table">
            <a:tbl>
              <a:tblPr/>
              <a:tblGrid>
                <a:gridCol w="1600200"/>
                <a:gridCol w="4419360"/>
                <a:gridCol w="3048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ы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трибу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яет исправность транспортного средства, проход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е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цинскую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иссию, заправляет, ремонтирует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ит за бензином, загружает багаж, везет к месту экскурсии, изучает маршрутный лист, контролирует чистоту, делает остановки, едет, везет турис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ль, права, маршрутный лист, навигатор, инструменты, канистра бензи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авец сувени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монстрирует товар, продает, предлагает, советует, здоровается, берет деньги, дает сдачу, чек  товар, упаковывает покупку в пак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вениры и различные товары по Карелии, касса, деньги, пакеты, упаковки, коробки, букле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н плав-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тречает группу, здоровается, перевозит туристов, держит штурвал, отдает коман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урвал, морской костюм, фуражка, спасательный круг, якорь, рация, навигатор, бинокль, кар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товит еду, моет посуду, сос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ляе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еню, убирает кухню, следит за качеством продуктов, снимает пробу, закупает продукты, чистит, реж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уда, весы, костюм, муляжи продуктов, картинки с изображением блюд, инвентарь для уборки кух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иц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ается, разносит меню, пр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заказы, приносит заказы, уносит грязную посуду, моет столы, принимает оплат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.одежда, подносы, муляжи продуктов, картинки блюд, меню, книга жалоб и предложений, инвентарь для уборки стол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исты (выступление ансамбл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ают, танцуют, поют, играют, развлекают, едят, пере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аютс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Читают стихи, следят за костюм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ональны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тюмы, микрофоны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з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кальны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румен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ует, советует, выдает путевой лист, оказывает ПМП, проверяет сост. здоровья, наблюдает, осу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вляет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цинскую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иссию, едет с туристами, ес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течка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альный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тюм, ме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цински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рументы, личные вещи, документ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ая роль (воспитател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тральные р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остепенные р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Директор турагентс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Гид-экскурсо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Туропер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Турис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Касс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В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Артис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Офиц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Продавец сувени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Пов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685800" y="457200"/>
            <a:ext cx="2514600" cy="990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3809880" y="1219320"/>
            <a:ext cx="4800600" cy="7617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aae9"/>
                </a:solidFill>
                <a:latin typeface="Times New Roman"/>
              </a:rPr>
              <a:t>Тури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3657600" y="228600"/>
            <a:ext cx="4724280" cy="7621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aae9"/>
                </a:solidFill>
                <a:latin typeface="Times New Roman"/>
              </a:rPr>
              <a:t>Гид-экскурс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0" y="2286000"/>
            <a:ext cx="1676520" cy="16765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уроп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1828800" y="1676520"/>
            <a:ext cx="1828800" cy="16761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сс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3657600" y="2286000"/>
            <a:ext cx="1752480" cy="16765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5"/>
          <p:cNvSpPr/>
          <p:nvPr/>
        </p:nvSpPr>
        <p:spPr>
          <a:xfrm>
            <a:off x="5562720" y="2514600"/>
            <a:ext cx="1828800" cy="1752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пи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6"/>
          <p:cNvSpPr/>
          <p:nvPr/>
        </p:nvSpPr>
        <p:spPr>
          <a:xfrm>
            <a:off x="7543800" y="2057400"/>
            <a:ext cx="1600200" cy="16002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304920" y="4495680"/>
            <a:ext cx="1904760" cy="19051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фиц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8"/>
          <p:cNvSpPr/>
          <p:nvPr/>
        </p:nvSpPr>
        <p:spPr>
          <a:xfrm>
            <a:off x="4343400" y="4419720"/>
            <a:ext cx="1752480" cy="1752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рти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9"/>
          <p:cNvSpPr/>
          <p:nvPr/>
        </p:nvSpPr>
        <p:spPr>
          <a:xfrm>
            <a:off x="2209680" y="3886200"/>
            <a:ext cx="1828800" cy="1752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р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2"/>
          <p:cNvSpPr/>
          <p:nvPr/>
        </p:nvSpPr>
        <p:spPr>
          <a:xfrm>
            <a:off x="6858000" y="4267080"/>
            <a:ext cx="1905120" cy="19051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да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6"/>
          <p:cNvSpPr/>
          <p:nvPr/>
        </p:nvSpPr>
        <p:spPr>
          <a:xfrm flipV="1">
            <a:off x="3048120" y="60912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 flipH="1">
            <a:off x="761760" y="129528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3124080" y="12193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838080" y="685800"/>
            <a:ext cx="358164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 flipV="1">
            <a:off x="1143000" y="1447560"/>
            <a:ext cx="335268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 flipV="1">
            <a:off x="1066680" y="259056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2"/>
          <p:cNvSpPr/>
          <p:nvPr/>
        </p:nvSpPr>
        <p:spPr>
          <a:xfrm>
            <a:off x="1066680" y="2666880"/>
            <a:ext cx="312444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3"/>
          <p:cNvSpPr/>
          <p:nvPr/>
        </p:nvSpPr>
        <p:spPr>
          <a:xfrm flipV="1">
            <a:off x="3429000" y="15235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4"/>
          <p:cNvSpPr/>
          <p:nvPr/>
        </p:nvSpPr>
        <p:spPr>
          <a:xfrm>
            <a:off x="5943600" y="762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5"/>
          <p:cNvSpPr/>
          <p:nvPr/>
        </p:nvSpPr>
        <p:spPr>
          <a:xfrm flipH="1">
            <a:off x="4419360" y="1523880"/>
            <a:ext cx="53316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6"/>
          <p:cNvSpPr/>
          <p:nvPr/>
        </p:nvSpPr>
        <p:spPr>
          <a:xfrm flipV="1">
            <a:off x="1752480" y="3200400"/>
            <a:ext cx="617220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7"/>
          <p:cNvSpPr/>
          <p:nvPr/>
        </p:nvSpPr>
        <p:spPr>
          <a:xfrm flipV="1">
            <a:off x="3733920" y="1676160"/>
            <a:ext cx="274320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8"/>
          <p:cNvSpPr/>
          <p:nvPr/>
        </p:nvSpPr>
        <p:spPr>
          <a:xfrm flipV="1">
            <a:off x="3581280" y="35809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9"/>
          <p:cNvSpPr/>
          <p:nvPr/>
        </p:nvSpPr>
        <p:spPr>
          <a:xfrm flipH="1">
            <a:off x="6629040" y="16002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0"/>
          <p:cNvSpPr/>
          <p:nvPr/>
        </p:nvSpPr>
        <p:spPr>
          <a:xfrm>
            <a:off x="1066680" y="3505320"/>
            <a:ext cx="495324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1"/>
          <p:cNvSpPr/>
          <p:nvPr/>
        </p:nvSpPr>
        <p:spPr>
          <a:xfrm flipV="1">
            <a:off x="5181480" y="1676160"/>
            <a:ext cx="144792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2"/>
          <p:cNvSpPr/>
          <p:nvPr/>
        </p:nvSpPr>
        <p:spPr>
          <a:xfrm>
            <a:off x="609480" y="3505320"/>
            <a:ext cx="441972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3"/>
          <p:cNvSpPr/>
          <p:nvPr/>
        </p:nvSpPr>
        <p:spPr>
          <a:xfrm>
            <a:off x="6934320" y="1523880"/>
            <a:ext cx="838080" cy="32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4"/>
          <p:cNvSpPr/>
          <p:nvPr/>
        </p:nvSpPr>
        <p:spPr>
          <a:xfrm>
            <a:off x="7467480" y="609480"/>
            <a:ext cx="457200" cy="4114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5"/>
          <p:cNvSpPr/>
          <p:nvPr/>
        </p:nvSpPr>
        <p:spPr>
          <a:xfrm>
            <a:off x="914400" y="3429000"/>
            <a:ext cx="647712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6"/>
          <p:cNvSpPr/>
          <p:nvPr/>
        </p:nvSpPr>
        <p:spPr>
          <a:xfrm flipV="1">
            <a:off x="914400" y="2361960"/>
            <a:ext cx="7467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7"/>
          <p:cNvSpPr/>
          <p:nvPr/>
        </p:nvSpPr>
        <p:spPr>
          <a:xfrm flipV="1">
            <a:off x="1143000" y="1523520"/>
            <a:ext cx="411480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8"/>
          <p:cNvSpPr/>
          <p:nvPr/>
        </p:nvSpPr>
        <p:spPr>
          <a:xfrm flipV="1">
            <a:off x="5638680" y="761760"/>
            <a:ext cx="1219320" cy="426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Times New Roman"/>
              </a:rPr>
              <a:t>Взаимосвязь с сопутствующими сюжетно-ролевыми игр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048120" y="1143000"/>
            <a:ext cx="2743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ТУРАГ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609480" y="2514600"/>
            <a:ext cx="13716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743200" y="2514600"/>
            <a:ext cx="152388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ГА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724280" y="2514600"/>
            <a:ext cx="1524240" cy="1066680"/>
          </a:xfrm>
          <a:prstGeom prst="rect">
            <a:avLst/>
          </a:prstGeom>
          <a:solidFill>
            <a:srgbClr val="eecf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934320" y="2514600"/>
            <a:ext cx="144756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Я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28600" y="3886200"/>
            <a:ext cx="1981080" cy="1447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УТЕШЕ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2819520" y="4114800"/>
            <a:ext cx="152388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Ф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4800600" y="4267080"/>
            <a:ext cx="1523880" cy="10670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У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6858000" y="4267080"/>
            <a:ext cx="1523880" cy="10670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СТ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3505320" y="5562720"/>
            <a:ext cx="1828800" cy="9144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 flipH="1">
            <a:off x="1371600" y="17524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 flipH="1">
            <a:off x="3809880" y="1981080"/>
            <a:ext cx="763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7"/>
          <p:cNvSpPr/>
          <p:nvPr/>
        </p:nvSpPr>
        <p:spPr>
          <a:xfrm>
            <a:off x="3962520" y="198108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4114800" y="1981080"/>
            <a:ext cx="3276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9"/>
          <p:cNvSpPr/>
          <p:nvPr/>
        </p:nvSpPr>
        <p:spPr>
          <a:xfrm flipH="1">
            <a:off x="1905120" y="1981080"/>
            <a:ext cx="18288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3962520" y="1905120"/>
            <a:ext cx="30456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1"/>
          <p:cNvSpPr/>
          <p:nvPr/>
        </p:nvSpPr>
        <p:spPr>
          <a:xfrm>
            <a:off x="4038480" y="1981080"/>
            <a:ext cx="9907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3962520" y="1981080"/>
            <a:ext cx="350496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3"/>
          <p:cNvSpPr/>
          <p:nvPr/>
        </p:nvSpPr>
        <p:spPr>
          <a:xfrm>
            <a:off x="4038480" y="2057400"/>
            <a:ext cx="60984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 БЛОК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Актуальное познание современной действи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седы о путешеств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комства с достопримечательностями родного кр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комство с новыми профессиями (туроператор, гид-экскурсовод, каюр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атривание иллюстраций, презентаций, открыток, буклетов, кар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мотр мультфильмов о путешествиях («Путешествия капитана Врунгеля», «Степа – моряк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ещение экскурсий и музе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курсия в турагент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6:25:41Z</dcterms:created>
  <dc:creator>Пользователь</dc:creator>
  <dc:description/>
  <dc:language>en-US</dc:language>
  <cp:lastModifiedBy>Пользователь</cp:lastModifiedBy>
  <dcterms:modified xsi:type="dcterms:W3CDTF">2017-02-17T18:12:4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