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51.jpeg" ContentType="image/jpeg"/>
  <Override PartName="/ppt/media/image24.jpeg" ContentType="image/jpeg"/>
  <Override PartName="/ppt/media/image21.jpeg" ContentType="image/jpeg"/>
  <Override PartName="/ppt/media/image19.gif" ContentType="image/gif"/>
  <Override PartName="/ppt/media/image15.wmf" ContentType="image/x-wmf"/>
  <Override PartName="/ppt/media/image41.jpeg" ContentType="image/jpeg"/>
  <Override PartName="/ppt/media/image18.jpeg" ContentType="image/jpeg"/>
  <Override PartName="/ppt/media/image22.gif" ContentType="image/gif"/>
  <Override PartName="/ppt/media/image16.jpeg" ContentType="image/jpeg"/>
  <Override PartName="/ppt/media/image9.gif" ContentType="image/gif"/>
  <Override PartName="/ppt/media/image14.wmf" ContentType="image/x-wmf"/>
  <Override PartName="/ppt/media/image1.jpeg" ContentType="image/jpeg"/>
  <Override PartName="/ppt/media/image35.jpeg" ContentType="image/jpeg"/>
  <Override PartName="/ppt/media/image54.gif" ContentType="image/gif"/>
  <Override PartName="/ppt/media/image2.jpeg" ContentType="image/jpeg"/>
  <Override PartName="/ppt/media/image36.jpeg" ContentType="image/jpeg"/>
  <Override PartName="/ppt/media/image23.gif" ContentType="image/gif"/>
  <Override PartName="/ppt/media/image49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38.jpeg" ContentType="image/jpeg"/>
  <Override PartName="/ppt/media/image40.jpeg" ContentType="image/jpeg"/>
  <Override PartName="/ppt/media/image42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3.gif" ContentType="image/gif"/>
  <Override PartName="/ppt/media/image55.gif" ContentType="image/gif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50.jpeg" ContentType="image/jpeg"/>
  <Override PartName="/ppt/media/image13.wmf" ContentType="image/x-wmf"/>
  <Override PartName="/ppt/media/image10.jpeg" ContentType="image/jpeg"/>
  <Override PartName="/ppt/media/image12.png" ContentType="image/png"/>
  <Override PartName="/ppt/media/image20.jpeg" ContentType="image/jpeg"/>
  <Override PartName="/ppt/media/image7.gif" ContentType="image/gif"/>
  <Override PartName="/ppt/media/image29.jpeg" ContentType="image/jpeg"/>
  <Override PartName="/ppt/media/image52.jpeg" ContentType="image/jpeg"/>
  <Override PartName="/ppt/media/image11.jpeg" ContentType="image/jpeg"/>
  <Override PartName="/ppt/media/image8.png" ContentType="image/png"/>
  <Override PartName="/ppt/media/image3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3B1-C9C7-4594-B432-88A4352E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D21-DD67-402A-ABF8-710EAEA6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C17-52A9-4EEE-9FE4-781EF663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2A4-3A2F-49C1-9490-9E1D7C0E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DD8-F6E5-4F10-8C36-2EB1E22F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C76-34C8-4824-BE7A-781B971D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8D96-7F2B-4D77-B313-0326679A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E4B-F3A7-4F49-8057-92A4B8AD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ECF-274B-4591-BE9F-BBF2668C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7F7-5849-487C-B9CA-ABA06512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A79-68AE-4FE6-A8C7-9AE5A1A0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7E9-7A47-423E-A8F6-29BADB5E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7B05-A17C-43B2-81DD-3E4FB82D8C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gif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gif"/><Relationship Id="rId4" Type="http://schemas.openxmlformats.org/officeDocument/2006/relationships/image" Target="../media/image55.gif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4280" y="2214360"/>
            <a:ext cx="763128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воё здоровье и пита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из  серии классных часов «Твоё здоровье и …»)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ный час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- 9 клас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64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4788000" y="476280"/>
            <a:ext cx="2016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WordArt 5" descr=""/>
          <p:cNvPicPr/>
          <p:nvPr/>
        </p:nvPicPr>
        <p:blipFill>
          <a:blip r:embed="rId1"/>
          <a:stretch/>
        </p:blipFill>
        <p:spPr>
          <a:xfrm>
            <a:off x="1523880" y="208080"/>
            <a:ext cx="5821560" cy="1407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42920" y="1700280"/>
            <a:ext cx="309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</a:rPr>
              <a:t>Умер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а необходима для соблюдения баланса между поступающей с пищей и расходуемой в процессе жизнедеятельности энергией.  Установлено, что в среднем при основном обмене затрачивается около 1 ккал на 1 кг массы тела за 1 ч. У людей, постоянно испытывающих физические нагрузки, основ- ной обмен, как правило, повышается в пределах 30%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j0199210"/>
          <p:cNvPicPr/>
          <p:nvPr/>
        </p:nvPicPr>
        <p:blipFill>
          <a:blip r:embed="rId2"/>
          <a:stretch/>
        </p:blipFill>
        <p:spPr>
          <a:xfrm>
            <a:off x="611280" y="4365720"/>
            <a:ext cx="1801800" cy="1989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3708360" y="1773360"/>
            <a:ext cx="280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276720" y="1773360"/>
            <a:ext cx="3024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3492360" y="1844640"/>
            <a:ext cx="2808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132000" y="1773360"/>
            <a:ext cx="288000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</a:rPr>
              <a:t>Разно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еление нашей планеты  использует для питания тысячи пищевых продуктов и ещё больше кулинарных блюд. Энергетическая ценность рациона питания зависит от входящих в его состав белков, жиров, углеводов, витаминов, мин веществ и воды. Оптимальным в рационе здорового человека считается соотношение белков, жиров и углеводов, близкое к 1:1,2:4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j0198031"/>
          <p:cNvPicPr/>
          <p:nvPr/>
        </p:nvPicPr>
        <p:blipFill>
          <a:blip r:embed="rId3"/>
          <a:stretch/>
        </p:blipFill>
        <p:spPr>
          <a:xfrm>
            <a:off x="3500280" y="4857840"/>
            <a:ext cx="2087640" cy="15634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6084720" y="1773360"/>
            <a:ext cx="27352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</a:rPr>
              <a:t>Режим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жим питания человека обычно регулируется аппетитом. Но необходимо иметь в виду, что аппетит сохраняется даже после приема пищи. Это связано с необходимостью переваривания и всасывания пищевых веществ. И только после начала поступления их в кровь возбуждение пищевого центра начинает сменяться его торможени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" descr="j0234131"/>
          <p:cNvPicPr/>
          <p:nvPr/>
        </p:nvPicPr>
        <p:blipFill>
          <a:blip r:embed="rId4"/>
          <a:stretch/>
        </p:blipFill>
        <p:spPr>
          <a:xfrm>
            <a:off x="6732720" y="4724280"/>
            <a:ext cx="1614240" cy="1717920"/>
          </a:xfrm>
          <a:prstGeom prst="rect">
            <a:avLst/>
          </a:prstGeom>
          <a:ln w="0">
            <a:noFill/>
          </a:ln>
        </p:spPr>
      </p:pic>
      <p:sp>
        <p:nvSpPr>
          <p:cNvPr id="71" name="Line 15"/>
          <p:cNvSpPr/>
          <p:nvPr/>
        </p:nvSpPr>
        <p:spPr>
          <a:xfrm flipH="1">
            <a:off x="1835280" y="112536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>
            <a:off x="5940360" y="981000"/>
            <a:ext cx="1368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4722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Энергозатраты «стандартного человека» массой 60 к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85840" y="785880"/>
          <a:ext cx="8429400" cy="5851440"/>
        </p:xfrm>
        <a:graphic>
          <a:graphicData uri="http://schemas.openxmlformats.org/drawingml/2006/table">
            <a:tbl>
              <a:tblPr/>
              <a:tblGrid>
                <a:gridCol w="5214960"/>
                <a:gridCol w="32144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энергии, ккал/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, лежа без с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вслу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произ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лаборатории си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яя работа (мытье посуды, глажка, убор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20 – 2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лаборатории ст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0 – 17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койная ходь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ая ходь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«трусцо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на лыж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б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0 – 3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0 – 4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зда на велосип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0 – 5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ние на конь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0 – 6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51433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Энергозатраты организма зависят о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л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рас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изической актив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стояния здоров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школьные работы\классный час\здоровое питание\люди\Ф.П.мл.об.jpg"/>
          <p:cNvPicPr/>
          <p:nvPr/>
        </p:nvPicPr>
        <p:blipFill>
          <a:blip r:embed="rId1"/>
          <a:stretch/>
        </p:blipFill>
        <p:spPr>
          <a:xfrm>
            <a:off x="6858000" y="182520"/>
            <a:ext cx="2001960" cy="2889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D:\школьные работы\классный час\здоровое питание\люди\133254_12_572_ArtFile_ru.jpg"/>
          <p:cNvPicPr/>
          <p:nvPr/>
        </p:nvPicPr>
        <p:blipFill>
          <a:blip r:embed="rId2"/>
          <a:stretch/>
        </p:blipFill>
        <p:spPr>
          <a:xfrm>
            <a:off x="6858000" y="3500280"/>
            <a:ext cx="2035080" cy="3144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D:\школьные работы\классный час\здоровое питание\Sport\fedo_146.jpg"/>
          <p:cNvPicPr/>
          <p:nvPr/>
        </p:nvPicPr>
        <p:blipFill>
          <a:blip r:embed="rId3"/>
          <a:stretch/>
        </p:blipFill>
        <p:spPr>
          <a:xfrm>
            <a:off x="3500280" y="4214880"/>
            <a:ext cx="3071880" cy="2411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D:\классный час\здоровое питание\ЛЮДИ\people069.gif"/>
          <p:cNvPicPr/>
          <p:nvPr/>
        </p:nvPicPr>
        <p:blipFill>
          <a:blip r:embed="rId4"/>
          <a:stretch/>
        </p:blipFill>
        <p:spPr>
          <a:xfrm>
            <a:off x="214200" y="4214880"/>
            <a:ext cx="3129120" cy="247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42920" y="428760"/>
            <a:ext cx="8858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рганизм человека ежедневно нуждается в строго определенном количестве вещест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белков составляет  10 – 15 % (60 – 80 г) – это  основной строительный  материал организ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жиров  - 15 – 30 % (60 – 80 г) – это  энергоемкие компоненты пищи, которые служат растворителями витаминов А,Д, Е, К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углеводов – 55 – 75 % (350 – 400 г) – основной топливный материа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ьные вещества и витамины – способствуют обмену вещест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:\классный час\здоровое питание\ЕДА\izbitok2.jpg"/>
          <p:cNvPicPr/>
          <p:nvPr/>
        </p:nvPicPr>
        <p:blipFill>
          <a:blip r:embed="rId1"/>
          <a:stretch/>
        </p:blipFill>
        <p:spPr>
          <a:xfrm>
            <a:off x="6143760" y="4643280"/>
            <a:ext cx="2714400" cy="203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82868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итание должно бы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ным (3 – 4 раза в сутк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ым (в одно и тоже врем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мер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785880" y="5715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ий прием пищи должен быть не позднее ч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 – 3 часа до 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D:\классный час\здоровое питание\ЕДА\20071023_3(2).jpg"/>
          <p:cNvPicPr/>
          <p:nvPr/>
        </p:nvPicPr>
        <p:blipFill>
          <a:blip r:embed="rId1"/>
          <a:stretch/>
        </p:blipFill>
        <p:spPr>
          <a:xfrm>
            <a:off x="3714840" y="2571840"/>
            <a:ext cx="5222880" cy="307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лияние питания на здоров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760" y="999720"/>
            <a:ext cx="6572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арушение режима питания оказывает отрицательное влияние на многие органы и системы организ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Редкие приемы пищ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озбуждают аппети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угнетают функцию щитовидной желез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ызывают застой желч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Избыток насыщенного жира способствуе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витию злокачественных новообразован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вышению артериального давл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витию атеросклероз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болеваниям желчного пузыр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i="1" lang="ru-RU" sz="1600" spc="-1" strike="noStrike">
                <a:solidFill>
                  <a:srgbClr val="002060"/>
                </a:solidFill>
                <a:latin typeface="Georgia"/>
              </a:rPr>
              <a:t>Избыток поваренной сол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рушает сосуды и слизистую желуд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едет к развитию гипертонической болез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достаток в пище витаминов и микроэлементов приводит к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D:\классный час\здоровое питание\ЛЮДИ\gallery_2_385_44527.gif"/>
          <p:cNvPicPr/>
          <p:nvPr/>
        </p:nvPicPr>
        <p:blipFill>
          <a:blip r:embed="rId1"/>
          <a:stretch/>
        </p:blipFill>
        <p:spPr>
          <a:xfrm>
            <a:off x="6715080" y="1285920"/>
            <a:ext cx="1771560" cy="221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D:\классный час\здоровое питание\ЛЮДИ\84769c4605e0.gif"/>
          <p:cNvPicPr/>
          <p:nvPr/>
        </p:nvPicPr>
        <p:blipFill>
          <a:blip r:embed="rId2"/>
          <a:stretch/>
        </p:blipFill>
        <p:spPr>
          <a:xfrm>
            <a:off x="7000920" y="4286160"/>
            <a:ext cx="1714320" cy="200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лияние питания на здоров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4" descr="сканирование0001.jpg"/>
          <p:cNvPicPr/>
          <p:nvPr/>
        </p:nvPicPr>
        <p:blipFill>
          <a:blip r:embed="rId1"/>
          <a:stretch/>
        </p:blipFill>
        <p:spPr>
          <a:xfrm>
            <a:off x="1500120" y="1230480"/>
            <a:ext cx="6143760" cy="526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здорового пит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2640"/>
            <a:ext cx="6329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ять   разнообразные продукты. При приеме пищи есть хлеб, крупяные и макаронные изделия, рис и картофел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о раз в день есть овощи и фрукты (500 г в день). Предпочтение отдавать продуктам местного производств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потреблять молоко и молочные продукты с низким содержанием жира и соли: кефир, кислое молоко, сыр, йогур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заменять мясо и мясные продукты с высоким содержанием жира на бобовые, рыбу, птицу, яйца, нежирные сорта мяс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 потребление «видимого» жира в кашах и бутербродах, выбирать мясомолочные продукты с низким содержанием жир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 потребление сахаров: сладостей, кондитерских изделий, сладких напитков, десер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потребление поваренной соли – 1 чайная ложка в ден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йода восполняется йодированной солью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D:\классный час\здоровое питание\ЕДА\63560.jpg"/>
          <p:cNvPicPr/>
          <p:nvPr/>
        </p:nvPicPr>
        <p:blipFill>
          <a:blip r:embed="rId1"/>
          <a:stretch/>
        </p:blipFill>
        <p:spPr>
          <a:xfrm>
            <a:off x="6715080" y="3705120"/>
            <a:ext cx="2266920" cy="290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одель здорового п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5" descr="ris4_22.jpg"/>
          <p:cNvPicPr/>
          <p:nvPr/>
        </p:nvPicPr>
        <p:blipFill>
          <a:blip r:embed="rId1"/>
          <a:stretch/>
        </p:blipFill>
        <p:spPr>
          <a:xfrm>
            <a:off x="2143080" y="1428840"/>
            <a:ext cx="4857840" cy="4003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:\классный час\здоровое питание\ЕДА\eda77.gif"/>
          <p:cNvPicPr/>
          <p:nvPr/>
        </p:nvPicPr>
        <p:blipFill>
          <a:blip r:embed="rId2"/>
          <a:stretch/>
        </p:blipFill>
        <p:spPr>
          <a:xfrm>
            <a:off x="6858000" y="5143680"/>
            <a:ext cx="2128680" cy="157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дукты можно разделить на 6 груп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10"/>
          <p:cNvSpPr/>
          <p:nvPr/>
        </p:nvSpPr>
        <p:spPr>
          <a:xfrm>
            <a:off x="428760" y="1928880"/>
            <a:ext cx="378612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1. сахар, напитки, сладости – не содержат минеральных веществ и вита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11"/>
          <p:cNvSpPr/>
          <p:nvPr/>
        </p:nvSpPr>
        <p:spPr>
          <a:xfrm>
            <a:off x="428760" y="3357720"/>
            <a:ext cx="37144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3. овощи и фрукты – содержат минеральные вещества и витам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2"/>
          <p:cNvSpPr/>
          <p:nvPr/>
        </p:nvSpPr>
        <p:spPr>
          <a:xfrm>
            <a:off x="428760" y="4714920"/>
            <a:ext cx="3714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5. мясо, птица, рыба, бобовые, яйца – содержат витамины группы В, минеральные вещества,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13"/>
          <p:cNvSpPr/>
          <p:nvPr/>
        </p:nvSpPr>
        <p:spPr>
          <a:xfrm>
            <a:off x="4429080" y="1928880"/>
            <a:ext cx="421488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. жиры, сливочное масло, кулинарный жир, маргарин – следует употреблять огранич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14"/>
          <p:cNvSpPr/>
          <p:nvPr/>
        </p:nvSpPr>
        <p:spPr>
          <a:xfrm>
            <a:off x="4500720" y="3357720"/>
            <a:ext cx="414324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4. хлеб, рис, злаки, картофель – содержат углеводы, витамины, б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15"/>
          <p:cNvSpPr/>
          <p:nvPr/>
        </p:nvSpPr>
        <p:spPr>
          <a:xfrm>
            <a:off x="4500720" y="4714920"/>
            <a:ext cx="4143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6. молочные продукты, молоко, сыр, йогурт – содержат кальций и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3279600" y="128520"/>
            <a:ext cx="5443560" cy="231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Скругленный прямоугольник 2"/>
          <p:cNvSpPr/>
          <p:nvPr/>
        </p:nvSpPr>
        <p:spPr>
          <a:xfrm>
            <a:off x="285840" y="357120"/>
            <a:ext cx="835812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1. сахар, напитки, сладости – не содержат минеральных веществ и вита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D:\классный час\здоровое питание\ЕДА\01.jpg"/>
          <p:cNvPicPr/>
          <p:nvPr/>
        </p:nvPicPr>
        <p:blipFill>
          <a:blip r:embed="rId1"/>
          <a:stretch/>
        </p:blipFill>
        <p:spPr>
          <a:xfrm>
            <a:off x="285840" y="1643040"/>
            <a:ext cx="2714400" cy="2766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D:\классный час\здоровое питание\ЕДА\im30_19532.jpg"/>
          <p:cNvPicPr/>
          <p:nvPr/>
        </p:nvPicPr>
        <p:blipFill>
          <a:blip r:embed="rId2"/>
          <a:stretch/>
        </p:blipFill>
        <p:spPr>
          <a:xfrm>
            <a:off x="3143160" y="2857680"/>
            <a:ext cx="2214720" cy="3881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:\классный час\здоровое питание\ЕДА\L21p1p02.jpg"/>
          <p:cNvPicPr/>
          <p:nvPr/>
        </p:nvPicPr>
        <p:blipFill>
          <a:blip r:embed="rId3"/>
          <a:stretch/>
        </p:blipFill>
        <p:spPr>
          <a:xfrm>
            <a:off x="5500800" y="1571760"/>
            <a:ext cx="3452760" cy="258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Скругленный прямоугольник 1"/>
          <p:cNvSpPr/>
          <p:nvPr/>
        </p:nvSpPr>
        <p:spPr>
          <a:xfrm>
            <a:off x="357120" y="357120"/>
            <a:ext cx="842976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. жиры, сливочное масло, кулинарный жир, маргарин – следует употреблять огранич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D:\классный час\здоровое питание\ЕДА\L22p1p05.jpg"/>
          <p:cNvPicPr/>
          <p:nvPr/>
        </p:nvPicPr>
        <p:blipFill>
          <a:blip r:embed="rId1"/>
          <a:stretch/>
        </p:blipFill>
        <p:spPr>
          <a:xfrm>
            <a:off x="428760" y="171468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D:\классный час\здоровое питание\ЕДА\L22w2p00.jpg"/>
          <p:cNvPicPr/>
          <p:nvPr/>
        </p:nvPicPr>
        <p:blipFill>
          <a:blip r:embed="rId2"/>
          <a:stretch/>
        </p:blipFill>
        <p:spPr>
          <a:xfrm>
            <a:off x="5286240" y="398304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:\классный час\здоровое питание\ЕДА\L21W2p04.jpg"/>
          <p:cNvPicPr/>
          <p:nvPr/>
        </p:nvPicPr>
        <p:blipFill>
          <a:blip r:embed="rId3"/>
          <a:stretch/>
        </p:blipFill>
        <p:spPr>
          <a:xfrm>
            <a:off x="5214960" y="1714680"/>
            <a:ext cx="364500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D:\классный час\здоровое питание\ЕДА\L22p2p07.jpg"/>
          <p:cNvPicPr/>
          <p:nvPr/>
        </p:nvPicPr>
        <p:blipFill>
          <a:blip r:embed="rId4"/>
          <a:stretch/>
        </p:blipFill>
        <p:spPr>
          <a:xfrm>
            <a:off x="500040" y="4535640"/>
            <a:ext cx="3500640" cy="214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Скругленный прямоугольник 2"/>
          <p:cNvSpPr/>
          <p:nvPr/>
        </p:nvSpPr>
        <p:spPr>
          <a:xfrm>
            <a:off x="285840" y="357120"/>
            <a:ext cx="850104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3. овощи и фрукты – содержат минеральные вещества и витам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D:\классный час\здоровое питание\ЕДА\19903.jpg"/>
          <p:cNvPicPr/>
          <p:nvPr/>
        </p:nvPicPr>
        <p:blipFill>
          <a:blip r:embed="rId1"/>
          <a:stretch/>
        </p:blipFill>
        <p:spPr>
          <a:xfrm>
            <a:off x="285840" y="1714680"/>
            <a:ext cx="2928960" cy="2369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D:\классный час\здоровое питание\ЕДА\930836544.jpg"/>
          <p:cNvPicPr/>
          <p:nvPr/>
        </p:nvPicPr>
        <p:blipFill>
          <a:blip r:embed="rId2"/>
          <a:stretch/>
        </p:blipFill>
        <p:spPr>
          <a:xfrm>
            <a:off x="285840" y="4294080"/>
            <a:ext cx="2928960" cy="2367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классный час\здоровое питание\ЕДА\document_1422_citrus.jpg"/>
          <p:cNvPicPr/>
          <p:nvPr/>
        </p:nvPicPr>
        <p:blipFill>
          <a:blip r:embed="rId3"/>
          <a:stretch/>
        </p:blipFill>
        <p:spPr>
          <a:xfrm>
            <a:off x="3429000" y="1714680"/>
            <a:ext cx="2857680" cy="2357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:\классный час\здоровое питание\ЕДА\post-24800-1201107130.jpg"/>
          <p:cNvPicPr/>
          <p:nvPr/>
        </p:nvPicPr>
        <p:blipFill>
          <a:blip r:embed="rId4"/>
          <a:stretch/>
        </p:blipFill>
        <p:spPr>
          <a:xfrm>
            <a:off x="3429000" y="4286160"/>
            <a:ext cx="2857680" cy="2357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D:\классный час\здоровое питание\ЕДА\L21p8p03.jpg"/>
          <p:cNvPicPr/>
          <p:nvPr/>
        </p:nvPicPr>
        <p:blipFill>
          <a:blip r:embed="rId5"/>
          <a:stretch/>
        </p:blipFill>
        <p:spPr>
          <a:xfrm>
            <a:off x="6429240" y="1714680"/>
            <a:ext cx="2571840" cy="235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D:\классный час\здоровое питание\ЕДА\1.jpg"/>
          <p:cNvPicPr/>
          <p:nvPr/>
        </p:nvPicPr>
        <p:blipFill>
          <a:blip r:embed="rId6"/>
          <a:stretch/>
        </p:blipFill>
        <p:spPr>
          <a:xfrm>
            <a:off x="6429240" y="4286160"/>
            <a:ext cx="253548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0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1"/>
          <p:cNvSpPr/>
          <p:nvPr/>
        </p:nvSpPr>
        <p:spPr>
          <a:xfrm>
            <a:off x="357120" y="357120"/>
            <a:ext cx="850104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4. хлеб, рис, злаки, картофель – содержат углеводы, витамины, б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D:\классный час\здоровое питание\ЕДА\eu033121.jpg"/>
          <p:cNvPicPr/>
          <p:nvPr/>
        </p:nvPicPr>
        <p:blipFill>
          <a:blip r:embed="rId1"/>
          <a:stretch/>
        </p:blipFill>
        <p:spPr>
          <a:xfrm>
            <a:off x="285840" y="1714680"/>
            <a:ext cx="242892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D:\классный час\здоровое питание\ЕДА\big_pamyatniki_produktyi_pitaniya_1.jpg"/>
          <p:cNvPicPr/>
          <p:nvPr/>
        </p:nvPicPr>
        <p:blipFill>
          <a:blip r:embed="rId2"/>
          <a:stretch/>
        </p:blipFill>
        <p:spPr>
          <a:xfrm>
            <a:off x="5643720" y="1785960"/>
            <a:ext cx="3095640" cy="2203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:\классный час\здоровое питание\ЕДА\337.GIF"/>
          <p:cNvPicPr/>
          <p:nvPr/>
        </p:nvPicPr>
        <p:blipFill>
          <a:blip r:embed="rId3"/>
          <a:stretch/>
        </p:blipFill>
        <p:spPr>
          <a:xfrm>
            <a:off x="3000240" y="1785960"/>
            <a:ext cx="2519640" cy="2165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D:\классный час\здоровое питание\ЕДА\L21W2p03.jpg"/>
          <p:cNvPicPr/>
          <p:nvPr/>
        </p:nvPicPr>
        <p:blipFill>
          <a:blip r:embed="rId4"/>
          <a:stretch/>
        </p:blipFill>
        <p:spPr>
          <a:xfrm>
            <a:off x="5643720" y="432288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:\классный час\здоровое питание\ЕДА\tn_gallery_2_39_37747.png"/>
          <p:cNvPicPr/>
          <p:nvPr/>
        </p:nvPicPr>
        <p:blipFill>
          <a:blip r:embed="rId5"/>
          <a:stretch/>
        </p:blipFill>
        <p:spPr>
          <a:xfrm>
            <a:off x="571680" y="5072040"/>
            <a:ext cx="1904760" cy="1609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D:\классный час\здоровое питание\ЕДА\1211737320_4.jpg"/>
          <p:cNvPicPr/>
          <p:nvPr/>
        </p:nvPicPr>
        <p:blipFill>
          <a:blip r:embed="rId6"/>
          <a:stretch/>
        </p:blipFill>
        <p:spPr>
          <a:xfrm>
            <a:off x="3071880" y="4214880"/>
            <a:ext cx="2428920" cy="221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Скругленный прямоугольник 1"/>
          <p:cNvSpPr/>
          <p:nvPr/>
        </p:nvSpPr>
        <p:spPr>
          <a:xfrm>
            <a:off x="285840" y="357120"/>
            <a:ext cx="8572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5. мясо, птица, рыба, бобовые, яйца – содержат витамины группы В, минеральные вещества,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D:\классный час\здоровое питание\ЕДА\L21p1p01.jpg"/>
          <p:cNvPicPr/>
          <p:nvPr/>
        </p:nvPicPr>
        <p:blipFill>
          <a:blip r:embed="rId1"/>
          <a:stretch/>
        </p:blipFill>
        <p:spPr>
          <a:xfrm>
            <a:off x="285840" y="1785960"/>
            <a:ext cx="3071880" cy="2500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D:\классный час\здоровое питание\ЕДА\Eda_103.jpg"/>
          <p:cNvPicPr/>
          <p:nvPr/>
        </p:nvPicPr>
        <p:blipFill>
          <a:blip r:embed="rId2"/>
          <a:stretch/>
        </p:blipFill>
        <p:spPr>
          <a:xfrm>
            <a:off x="285840" y="4429080"/>
            <a:ext cx="3071880" cy="231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:\классный час\здоровое питание\ЕДА\dabe328e-c78c-4192-8ea8-9bc48341abdb.jpg"/>
          <p:cNvPicPr/>
          <p:nvPr/>
        </p:nvPicPr>
        <p:blipFill>
          <a:blip r:embed="rId3"/>
          <a:stretch/>
        </p:blipFill>
        <p:spPr>
          <a:xfrm>
            <a:off x="3714840" y="1714680"/>
            <a:ext cx="5214960" cy="2539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D:\классный час\здоровое питание\ЕДА\803.jpg"/>
          <p:cNvPicPr/>
          <p:nvPr/>
        </p:nvPicPr>
        <p:blipFill>
          <a:blip r:embed="rId4"/>
          <a:stretch/>
        </p:blipFill>
        <p:spPr>
          <a:xfrm>
            <a:off x="6072120" y="4500720"/>
            <a:ext cx="2897280" cy="217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D:\классный час\здоровое питание\ЕДА\19510256.JPG"/>
          <p:cNvPicPr/>
          <p:nvPr/>
        </p:nvPicPr>
        <p:blipFill>
          <a:blip r:embed="rId5"/>
          <a:stretch/>
        </p:blipFill>
        <p:spPr>
          <a:xfrm>
            <a:off x="3643200" y="4429080"/>
            <a:ext cx="2247840" cy="225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0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кругленный прямоугольник 1"/>
          <p:cNvSpPr/>
          <p:nvPr/>
        </p:nvSpPr>
        <p:spPr>
          <a:xfrm>
            <a:off x="285840" y="285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6. Молочные продукты, молоко, сыр, йогурт – содержат кальций и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D:\классный час\здоровое питание\ЕДА\L21W2p01.jpg"/>
          <p:cNvPicPr/>
          <p:nvPr/>
        </p:nvPicPr>
        <p:blipFill>
          <a:blip r:embed="rId1"/>
          <a:stretch/>
        </p:blipFill>
        <p:spPr>
          <a:xfrm>
            <a:off x="214200" y="1714680"/>
            <a:ext cx="3714840" cy="2643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:\классный час\здоровое питание\ЕДА\L27w04p01.jpg"/>
          <p:cNvPicPr/>
          <p:nvPr/>
        </p:nvPicPr>
        <p:blipFill>
          <a:blip r:embed="rId2"/>
          <a:stretch/>
        </p:blipFill>
        <p:spPr>
          <a:xfrm>
            <a:off x="5357880" y="1643040"/>
            <a:ext cx="3422520" cy="2786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D:\классный час\здоровое питание\ЕДА\eda51.gif"/>
          <p:cNvPicPr/>
          <p:nvPr/>
        </p:nvPicPr>
        <p:blipFill>
          <a:blip r:embed="rId3"/>
          <a:stretch/>
        </p:blipFill>
        <p:spPr>
          <a:xfrm>
            <a:off x="6572160" y="4643280"/>
            <a:ext cx="2247840" cy="2095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D:\классный час\здоровое питание\ЕДА\drink32.gif"/>
          <p:cNvPicPr/>
          <p:nvPr/>
        </p:nvPicPr>
        <p:blipFill>
          <a:blip r:embed="rId4"/>
          <a:stretch/>
        </p:blipFill>
        <p:spPr>
          <a:xfrm>
            <a:off x="428760" y="4838760"/>
            <a:ext cx="2143080" cy="182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D:\классный час\здоровое питание\ЕДА\L23w01p00.jpg"/>
          <p:cNvPicPr/>
          <p:nvPr/>
        </p:nvPicPr>
        <p:blipFill>
          <a:blip r:embed="rId5"/>
          <a:stretch/>
        </p:blipFill>
        <p:spPr>
          <a:xfrm>
            <a:off x="3643200" y="4500720"/>
            <a:ext cx="1578240" cy="221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1.Журнал «Справочник классного руководителя»,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. Картинки  (автор и источник заимствования неизвесте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8548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формировать ценное отношение к своему здоровь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формировать представление о влиянии питания на здоровь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ценить свое питание и составить рацион в соответствии с принципами рациона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D:\классный час\здоровое питание\ЕДА\3361039.jpg"/>
          <p:cNvPicPr/>
          <p:nvPr/>
        </p:nvPicPr>
        <p:blipFill>
          <a:blip r:embed="rId1"/>
          <a:stretch/>
        </p:blipFill>
        <p:spPr>
          <a:xfrm>
            <a:off x="6000840" y="378612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57120" y="356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Задание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* Помочь детям развивать в себе привычку к здоровому и творческому образу жизн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* Выработать умение правильно делать обоснованные вывод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К концу занятия учащиеся должны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* Владеть информацией о правильном пита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* Быть убежденными,   что правильно питаться – более предпочтительн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:\классный час\здоровое питание\ЕДА\1207384170.jpg"/>
          <p:cNvPicPr/>
          <p:nvPr/>
        </p:nvPicPr>
        <p:blipFill>
          <a:blip r:embed="rId1"/>
          <a:stretch/>
        </p:blipFill>
        <p:spPr>
          <a:xfrm>
            <a:off x="6143760" y="4827600"/>
            <a:ext cx="2643120" cy="1887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57120" y="2858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доровье – это  самое главное в жизни. Это и счастье, радость, свобода, труд, спорт и общение с родными и друзьями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– сама   жиз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классный час\здоровое питание\ЛЮДИ\dolet.jpg"/>
          <p:cNvPicPr/>
          <p:nvPr/>
        </p:nvPicPr>
        <p:blipFill>
          <a:blip r:embed="rId1"/>
          <a:stretch/>
        </p:blipFill>
        <p:spPr>
          <a:xfrm>
            <a:off x="4786200" y="2157480"/>
            <a:ext cx="396720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8286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итание играет важную 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поддержании физического и психического здоровья челове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обеспечении нормального эмоционального состоя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D:\классный час\здоровое питание\ЕДА\0_20a8d_f80fb384_L.gif"/>
          <p:cNvPicPr/>
          <p:nvPr/>
        </p:nvPicPr>
        <p:blipFill>
          <a:blip r:embed="rId1"/>
          <a:stretch/>
        </p:blipFill>
        <p:spPr>
          <a:xfrm>
            <a:off x="2928960" y="3033720"/>
            <a:ext cx="5905440" cy="351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WordArt 7" descr=""/>
          <p:cNvPicPr/>
          <p:nvPr/>
        </p:nvPicPr>
        <p:blipFill>
          <a:blip r:embed="rId1"/>
          <a:stretch/>
        </p:blipFill>
        <p:spPr>
          <a:xfrm>
            <a:off x="1523880" y="208080"/>
            <a:ext cx="5821560" cy="1035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324000" y="1125360"/>
            <a:ext cx="828036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Основные функции питан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м известно, что питание абсолютно необходимо для поддержания жизни. Наукой твердо установлены три функции 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Первая функц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ается в снабжении организма энергией. В этом смысле человека можно сравнить с любой машиной, совершающей работу, но требующей для этого поступления топлива. Рациональное питание предусматривает примерный баланс поступающей в организм энергии и расходуемой на обеспечение процессов жизне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торая функц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тания заключается в снабжении организма пластическими веществами, к которым прежде всего относятся белки, в меньшей степени – минеральные вещества, жиры и в ещё меньшей степени – углеводы. Потребность в пластических веществах пищи варьирует в зависимости от возраста: у детей такая потребность повышена, а у пожилых людей пониже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Третья функц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тания заключается в снабжении организма биологически активными веществами, необходимыми для регуляции процессов жизне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Четвертая функц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ыла выявлена учеными сравнительно недавно. Она заключается в выработке иммунитета, как неспецифического, так и специфического. Было установлено, что величина иммунного ответа на инфекцию зависит от качества питания и особенно от достаточного содержания в пище калорий, полноценных белков и витаминов.</a:t>
            </a:r>
            <a:r>
              <a:rPr b="0" lang="ru-RU" sz="18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:\классный час\здоровое питание\ЕДА\7.gif"/>
          <p:cNvPicPr/>
          <p:nvPr/>
        </p:nvPicPr>
        <p:blipFill>
          <a:blip r:embed="rId2"/>
          <a:stretch/>
        </p:blipFill>
        <p:spPr>
          <a:xfrm>
            <a:off x="6572160" y="5400720"/>
            <a:ext cx="2143080" cy="128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82868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6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авильное питание необходимо для обеспеч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рмального кроветвор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рмального иммуните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сокой работоспособ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рмального зр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рмального состояния кожных покров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рмального разви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D:\школьные работы\классный час\здоровое питание\люди\L15w05p01.jpg"/>
          <p:cNvPicPr/>
          <p:nvPr/>
        </p:nvPicPr>
        <p:blipFill>
          <a:blip r:embed="rId1"/>
          <a:stretch/>
        </p:blipFill>
        <p:spPr>
          <a:xfrm>
            <a:off x="5429160" y="4071960"/>
            <a:ext cx="3452760" cy="2589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82868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нципы рационального пит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нергетическое равновес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балансированное отношение белков, жиров, углеводов, минеральных веществ и витамин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жим пит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785880" y="54291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нергетическая ценность суточного рациона питания должна соответствовать энергозатратам организ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D:\классный час\здоровое питание\ЕДА\kal_1.jpg"/>
          <p:cNvPicPr/>
          <p:nvPr/>
        </p:nvPicPr>
        <p:blipFill>
          <a:blip r:embed="rId1"/>
          <a:stretch/>
        </p:blipFill>
        <p:spPr>
          <a:xfrm>
            <a:off x="4929120" y="2482920"/>
            <a:ext cx="3452760" cy="281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20:44Z</dcterms:created>
  <dc:creator>жежик</dc:creator>
  <dc:description/>
  <dc:language>en-US</dc:language>
  <cp:lastModifiedBy>пользователь</cp:lastModifiedBy>
  <dcterms:modified xsi:type="dcterms:W3CDTF">2017-02-17T20:41:44Z</dcterms:modified>
  <cp:revision>72</cp:revision>
  <dc:subject/>
  <dc:title>Слайд 1</dc:title>
</cp:coreProperties>
</file>