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6A69-4BC3-49B6-8FF3-67924DAE0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D357-3B16-42A1-915A-E35E9ADE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05E0-B8E3-40C8-880D-0E6B477DD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F8F3-EEA6-4DFE-8582-86C1CF9E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8E58-B7CB-40BA-894C-A55BFAE5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4FC9-CFD9-49AC-AD47-3067747E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3BA7-DC35-46D0-8735-0AC1B21B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2BB6-B087-47B9-B6D0-B2F8C378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FAAE-9745-4C60-B379-D0689FEE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A2C9-4EF9-4304-BC2E-31069696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97D3-C208-4868-A2FA-89401AC2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7995-36A7-4EC5-B758-A7EFAAED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CED4-DE93-41FD-8AA7-96EF82464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1341360"/>
            <a:ext cx="6624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ie ist das Wetter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993640" y="596916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зентация для 6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00000" y="836640"/>
            <a:ext cx="7128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403280" y="2133720"/>
            <a:ext cx="67690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Prüfen wir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03280" y="692280"/>
            <a:ext cx="6048360" cy="4537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26880" y="5516640"/>
            <a:ext cx="22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9- Es reg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03280" y="404640"/>
            <a:ext cx="5832720" cy="4375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08680" y="5229360"/>
            <a:ext cx="69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1- Es schnei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4- Die Schneeflocken fallen auf die E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7775280" cy="4860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095480" y="5897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84200" y="55576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2880" y="5805360"/>
            <a:ext cx="28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5- Alles ist grü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042920" y="333360"/>
            <a:ext cx="7056360" cy="5292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58520" y="5950080"/>
            <a:ext cx="17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8- Es ta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332000" y="476280"/>
            <a:ext cx="6696000" cy="5018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697040" y="5734080"/>
            <a:ext cx="573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10- Bunte Blätter tanzen im W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403280" y="549360"/>
            <a:ext cx="6337440" cy="4752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29640" y="5629320"/>
            <a:ext cx="391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7- Der Himmel ist bl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187280" y="404640"/>
            <a:ext cx="6624720" cy="4969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14360" y="5557680"/>
            <a:ext cx="39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2- Überall liegt Sch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900000" y="476280"/>
            <a:ext cx="7417080" cy="5391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026360" y="6060960"/>
            <a:ext cx="39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3- Der Himmel ist gr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00000" y="549360"/>
            <a:ext cx="7128000" cy="5113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99800" y="5773680"/>
            <a:ext cx="438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6- Die Sonne scheint h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11280" y="2637000"/>
            <a:ext cx="7777080" cy="15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Vielen Dank für ihre Arbeit!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77756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00000" y="549360"/>
            <a:ext cx="727416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00000" y="549360"/>
            <a:ext cx="7345440" cy="55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55640" y="620640"/>
            <a:ext cx="755964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476280"/>
            <a:ext cx="727236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00000" y="476280"/>
            <a:ext cx="741708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15:31:29Z</dcterms:created>
  <dc:creator>dr_henk</dc:creator>
  <dc:description/>
  <dc:language>en-US</dc:language>
  <cp:lastModifiedBy>dr_henk</cp:lastModifiedBy>
  <dcterms:modified xsi:type="dcterms:W3CDTF">2013-10-17T16:31:40Z</dcterms:modified>
  <cp:revision>3</cp:revision>
  <dc:subject/>
  <dc:title>Слайд 1</dc:title>
</cp:coreProperties>
</file>