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A78-A2B0-40D8-AA8B-9FDCA743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874-039A-432A-815A-321ACE4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AFD-2BC5-4B7E-8EA5-EFFED600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E55-0C3A-40E4-8483-1BE1801A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AE6-9576-49BA-ADD2-C074FA3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656-7100-4B79-90D4-B6F7056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8F4-8FF9-441E-A192-E481E30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6EA-4E27-4CCA-9FBB-A76A34F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943-6417-4CDB-9A9E-A1D630A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B44-80C4-4B92-8764-88C5630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291-36EE-4E76-A0CA-789520D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C9C-3EB5-41A6-8EB9-A066F4B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8C6-0DD6-4CF4-B4F1-7AE3887F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341360"/>
            <a:ext cx="66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ie ist das Wetter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993640" y="59691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для 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12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3280" y="2133720"/>
            <a:ext cx="676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Prüfen wi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6880" y="551664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9- Es re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5832720" cy="437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8680" y="5229360"/>
            <a:ext cx="69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- Es schn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- Die Schneeflocken fallen auf die 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48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9548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84200" y="5557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2880" y="580536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- Alles ist grü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8520" y="59500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8- Es t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96000" cy="5018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7040" y="573408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0- Bunte Blätter tanzen im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9640" y="562932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7- Der Himmel ist bl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14360" y="5557680"/>
            <a:ext cx="39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- Überall liegt Sc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17080" cy="5391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26360" y="606096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- Der Himmel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128000" cy="51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99800" y="577368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6- Die Sonne scheint 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637000"/>
            <a:ext cx="77770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ielen Dank für ihre Arbeit!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775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454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5596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17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5:31:29Z</dcterms:created>
  <dc:creator>dr_henk</dc:creator>
  <dc:description/>
  <dc:language>en-US</dc:language>
  <cp:lastModifiedBy>dr_henk</cp:lastModifiedBy>
  <dcterms:modified xsi:type="dcterms:W3CDTF">2013-10-17T16:31:40Z</dcterms:modified>
  <cp:revision>3</cp:revision>
  <dc:subject/>
  <dc:title>Слайд 1</dc:title>
</cp:coreProperties>
</file>