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7434-5865-4E27-8383-E208432EA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6982-656C-4C9A-A03B-30682E6A9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873A-AEF7-49F7-9DF1-42869CE01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D7DD-5DF9-4C0D-B6DD-99A9D6E26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098A2-312B-4D8F-81EF-B772DAC27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6013F-583E-4F26-9B66-0387FC72A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5195E-10DA-4D28-AF14-3CB27A4C5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D8289-BD2B-45A2-B6F6-6E0BB7FED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77AAD-BE4D-4D4E-BE96-234245080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3D043-4D98-4326-AEF5-D615108C8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12921-B409-45A9-89C0-75C26E40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D451-9E56-435A-915C-2D481AD7E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77D0E-BD6F-4456-9335-0D831E13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CC021-7463-4DE6-8F81-50ED49B3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B8A82-5B94-4D21-ADE0-210588702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C7510-C2D4-45DB-9B42-4BB9D9416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DF2E3-E456-448D-AEA3-C3D3BB85F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F7DA-E089-48FC-B67B-4E7A327DB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9A5C-821A-46F4-AA6D-DF0639219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9862-14E3-4E05-8042-0EFC72670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6919-F951-43FC-8D24-B368199C8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2B44-E931-4CBB-8BE1-7FE581C4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EB35-A41E-422F-88E4-8E038212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9C88-EF0E-4D76-88E2-76D5F943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fefac9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FBC47-6F39-489F-B254-B0CE2BC24EA8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fefac9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7DE92-5DC6-407D-BBDA-5028BC6B1DA7}" type="slidenum">
              <a:rPr b="0" lang="zh-CN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46432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dd7e0e"/>
                </a:solidFill>
                <a:uFillTx/>
                <a:latin typeface="Arial Black"/>
              </a:rPr>
              <a:t>Александр</a:t>
            </a: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85840" y="5214960"/>
            <a:ext cx="421488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d7e0e"/>
                </a:solidFill>
                <a:latin typeface="Tahoma"/>
                <a:ea typeface="Tahoma"/>
              </a:rPr>
              <a:t>(11 декабря 1918-3 августа 2008)</a:t>
            </a:r>
            <a:endParaRPr b="0" lang="en-US" sz="20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1043640" y="2071800"/>
            <a:ext cx="253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dd7e0e"/>
                </a:solidFill>
                <a:uFillTx/>
                <a:latin typeface="Arial Black"/>
              </a:rPr>
              <a:t>Исаеви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4"/>
          <p:cNvSpPr/>
          <p:nvPr/>
        </p:nvSpPr>
        <p:spPr>
          <a:xfrm>
            <a:off x="450720" y="3571920"/>
            <a:ext cx="379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dd7e0e"/>
                </a:solidFill>
                <a:uFillTx/>
                <a:latin typeface="Arial Black"/>
              </a:rPr>
              <a:t>Солженицы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5" descr="jzl-116.jpg"/>
          <p:cNvPicPr/>
          <p:nvPr/>
        </p:nvPicPr>
        <p:blipFill>
          <a:blip r:embed="rId1"/>
          <a:stretch/>
        </p:blipFill>
        <p:spPr>
          <a:xfrm>
            <a:off x="4643280" y="500040"/>
            <a:ext cx="4329360" cy="578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2"/>
          <p:cNvSpPr/>
          <p:nvPr/>
        </p:nvSpPr>
        <p:spPr>
          <a:xfrm>
            <a:off x="0" y="142920"/>
            <a:ext cx="91440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В 1963 в «Новом мире» опубликовал 3 рассказа: «Матренин двор»(1959</a:t>
            </a:r>
            <a:r>
              <a:rPr b="1" lang="en-US" sz="1800" spc="-1" strike="noStrike">
                <a:solidFill>
                  <a:srgbClr val="dd7e0e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; «Случай на станции Кочетовка» (1962) и «Для пользы дела» (1963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11 сентября 1965 сотрудники КГБ изъяли рукописи части стихов, написанных в лагере, романа «В круге первом», цикла прозаических миниатюр «Крохотки» (1958—1960), а также пьес «Пир победителей» (1951) и «Республика труда» (1954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В 1966 «Новый мир»  опубликовал рассказ Солженицына «Захар-Калита» (1965). После этого произведения писателя не печатали в СССР 22 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В ноябре 1969 Солженицына исключили из Союза писател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В 1970 Александр Исаевич Солженицын стал лауреатом Нобелевской премии в области литератур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В 1974, после опубликования в Париже книги "Архипелаг ГУЛАГ«(1973) писатель-диссидент был арестова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12 февраля 1974 состоялся суд: Александр Солженицын был признан виновным в государственной измене, лишен гражданства и приговорен к высылке из СССР на следующий де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1"/>
          <p:cNvSpPr/>
          <p:nvPr/>
        </p:nvSpPr>
        <p:spPr>
          <a:xfrm>
            <a:off x="142920" y="142920"/>
            <a:ext cx="400032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dd7e0e"/>
                </a:solidFill>
                <a:latin typeface="Arial"/>
              </a:rPr>
              <a:t>В 1974—1976 Солженицын жил в Цюрихе (Швейцария). После двух лет пребывания в Цюрихе Александр с семьей переезжает в США и поселяется в штате Вермонт, где писатель завершает третий том «Архипелага ГУЛАГ» (русское издание – 1976, английское – 1978), а также продолжает работу над циклом исторических романов о русской революции, начатым «Августом четырнадцатого» и названным «Красное колесо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2" descr="Рисунок6.jpg"/>
          <p:cNvPicPr/>
          <p:nvPr/>
        </p:nvPicPr>
        <p:blipFill>
          <a:blip r:embed="rId1"/>
          <a:stretch/>
        </p:blipFill>
        <p:spPr>
          <a:xfrm>
            <a:off x="4554360" y="214200"/>
            <a:ext cx="4280040" cy="621504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571680" y="42876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27 мая 1994 Солженицын вернулся в Россию. После своего приезда Солженицын поселился под Москвой, в выделенном ему владении в деревне Троице-Лыково, где продолжил заниматься литературным тру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2" descr="Рисунок7.jpg"/>
          <p:cNvPicPr/>
          <p:nvPr/>
        </p:nvPicPr>
        <p:blipFill>
          <a:blip r:embed="rId1"/>
          <a:stretch/>
        </p:blipFill>
        <p:spPr>
          <a:xfrm>
            <a:off x="142920" y="1714680"/>
            <a:ext cx="4572000" cy="290016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3" descr="jzl-103.jpg"/>
          <p:cNvPicPr/>
          <p:nvPr/>
        </p:nvPicPr>
        <p:blipFill>
          <a:blip r:embed="rId2"/>
          <a:stretch/>
        </p:blipFill>
        <p:spPr>
          <a:xfrm>
            <a:off x="4071960" y="3000240"/>
            <a:ext cx="4662360" cy="3571920"/>
          </a:xfrm>
          <a:prstGeom prst="rect">
            <a:avLst/>
          </a:prstGeom>
          <a:ln w="0">
            <a:noFill/>
          </a:ln>
        </p:spPr>
      </p:pic>
      <p:sp>
        <p:nvSpPr>
          <p:cNvPr id="120" name="TextBox 4"/>
          <p:cNvSpPr/>
          <p:nvPr/>
        </p:nvSpPr>
        <p:spPr>
          <a:xfrm>
            <a:off x="214200" y="5000760"/>
            <a:ext cx="350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В 1997 избран действительным членом Академии наук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1"/>
          <p:cNvSpPr/>
          <p:nvPr/>
        </p:nvSpPr>
        <p:spPr>
          <a:xfrm>
            <a:off x="357120" y="357120"/>
            <a:ext cx="4286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Солженицын был женат вторым браком (его первый брак с Натальей Решетовской распался в 1972 году). От брака со второй женой Натальей Светловой у него было трое сыновей - Степан (1973 года рождения), Игнат (1972) и Ермолай (197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2" descr="jzl-090.jpg"/>
          <p:cNvPicPr/>
          <p:nvPr/>
        </p:nvPicPr>
        <p:blipFill>
          <a:blip r:embed="rId1"/>
          <a:stretch/>
        </p:blipFill>
        <p:spPr>
          <a:xfrm>
            <a:off x="2357280" y="3429000"/>
            <a:ext cx="4588200" cy="300024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3" descr="jzl-076.jpg"/>
          <p:cNvPicPr/>
          <p:nvPr/>
        </p:nvPicPr>
        <p:blipFill>
          <a:blip r:embed="rId2"/>
          <a:stretch/>
        </p:blipFill>
        <p:spPr>
          <a:xfrm>
            <a:off x="4789440" y="214200"/>
            <a:ext cx="4227480" cy="28576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1"/>
          <p:cNvSpPr/>
          <p:nvPr/>
        </p:nvSpPr>
        <p:spPr>
          <a:xfrm>
            <a:off x="642960" y="21420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В ночь с 3 на 4 августа 2008 года Солженицын скончал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"/>
          <p:cNvSpPr/>
          <p:nvPr/>
        </p:nvSpPr>
        <p:spPr>
          <a:xfrm>
            <a:off x="857160" y="6000840"/>
            <a:ext cx="742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Его похоронили 6 августа, в центральной части старого кладбища на территории Донского монастыр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3" descr="jzl-121.jpg"/>
          <p:cNvPicPr/>
          <p:nvPr/>
        </p:nvPicPr>
        <p:blipFill>
          <a:blip r:embed="rId1"/>
          <a:stretch/>
        </p:blipFill>
        <p:spPr>
          <a:xfrm>
            <a:off x="1357200" y="642960"/>
            <a:ext cx="6048360" cy="52624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1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dd7e0e"/>
                </a:solidFill>
                <a:uFillTx/>
                <a:latin typeface="Arial Black"/>
              </a:rPr>
              <a:t>Произведения А. И. Солженицы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2"/>
          <p:cNvSpPr/>
          <p:nvPr/>
        </p:nvSpPr>
        <p:spPr>
          <a:xfrm>
            <a:off x="214200" y="785880"/>
            <a:ext cx="871560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Пир победителей" (сатирическая пьес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Один день Ивана Денисовича" (195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Матренин двор" (1959-1960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Случай на станции Кречетовка" (1963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Для пользы дела" (1963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Захар-Калита" (1966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В круге первом" (1955-1968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Раковый корпус" (1963-1966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Август 1914" (197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Красное Колесо: Повествованье в отмеренных сроках в четырёх узлах" (1971-1991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Архипелаг ГУЛАГ" (1958-1968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Ленин в Цюрихе" (197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Бодался телёнок с дубом" (1975-1991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Эго" (199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На краях"(199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Молодняк" (1995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Настенька" (199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Абрикосовое варенье" (199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Угодило зёрнышко промеж двух жерновов" (1998-2001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Россия в обвале" (1998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Двести лет вместе" (1975-199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Желябугские выселки" (1999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Адлиг Швенкиттен " (199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TextBox 7" descr=""/>
          <p:cNvPicPr/>
          <p:nvPr/>
        </p:nvPicPr>
        <p:blipFill>
          <a:blip r:embed="rId1"/>
          <a:stretch/>
        </p:blipFill>
        <p:spPr>
          <a:xfrm>
            <a:off x="6095880" y="-30240"/>
            <a:ext cx="3017880" cy="649764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8" descr="родители1.jpg"/>
          <p:cNvPicPr/>
          <p:nvPr/>
        </p:nvPicPr>
        <p:blipFill>
          <a:blip r:embed="rId2"/>
          <a:stretch/>
        </p:blipFill>
        <p:spPr>
          <a:xfrm>
            <a:off x="2306520" y="233280"/>
            <a:ext cx="3908520" cy="2481480"/>
          </a:xfrm>
          <a:prstGeom prst="rect">
            <a:avLst/>
          </a:prstGeom>
          <a:ln w="0">
            <a:noFill/>
          </a:ln>
        </p:spPr>
      </p:pic>
      <p:sp>
        <p:nvSpPr>
          <p:cNvPr id="89" name="TextBox 10"/>
          <p:cNvSpPr/>
          <p:nvPr/>
        </p:nvSpPr>
        <p:spPr>
          <a:xfrm>
            <a:off x="0" y="428760"/>
            <a:ext cx="2143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Александр Исаевич Солженицын родился 11 декабря 1918 года в Кисловодске на Северном Кавказ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11" descr="дом в Кисловодске1.jpg"/>
          <p:cNvPicPr/>
          <p:nvPr/>
        </p:nvPicPr>
        <p:blipFill>
          <a:blip r:embed="rId3"/>
          <a:stretch/>
        </p:blipFill>
        <p:spPr>
          <a:xfrm>
            <a:off x="142920" y="3551400"/>
            <a:ext cx="3571920" cy="23778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14" descr="Рисунок1.jpg"/>
          <p:cNvPicPr/>
          <p:nvPr/>
        </p:nvPicPr>
        <p:blipFill>
          <a:blip r:embed="rId4"/>
          <a:stretch/>
        </p:blipFill>
        <p:spPr>
          <a:xfrm>
            <a:off x="3857760" y="2928960"/>
            <a:ext cx="227484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142920" y="214200"/>
            <a:ext cx="4643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В 1924 году - Ростов - на - Дону. </a:t>
            </a:r>
            <a:br>
              <a:rPr sz="1800"/>
            </a:b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В младших классах подвергался насмешкам за ношение крестика и нежелание вступать в пионеры. </a:t>
            </a: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Несмотря на постоянные материальные и жилищные трудности, Солженицын в 1936, закончив среднюю школу, поступил на физико-математический факультет Ростовского университе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3" descr="школа.jpg"/>
          <p:cNvPicPr/>
          <p:nvPr/>
        </p:nvPicPr>
        <p:blipFill>
          <a:blip r:embed="rId1"/>
          <a:stretch/>
        </p:blipFill>
        <p:spPr>
          <a:xfrm>
            <a:off x="4929120" y="142920"/>
            <a:ext cx="4016520" cy="2666880"/>
          </a:xfrm>
          <a:prstGeom prst="rect">
            <a:avLst/>
          </a:prstGeom>
          <a:ln w="0">
            <a:noFill/>
          </a:ln>
        </p:spPr>
      </p:pic>
      <p:sp>
        <p:nvSpPr>
          <p:cNvPr id="94" name="TextBox 5"/>
          <p:cNvSpPr/>
          <p:nvPr/>
        </p:nvSpPr>
        <p:spPr>
          <a:xfrm>
            <a:off x="2500200" y="3286080"/>
            <a:ext cx="2428920" cy="32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dd7e0e"/>
                </a:solidFill>
                <a:latin typeface="Arial"/>
              </a:rPr>
              <a:t>В 1940 г. он женится на своей сокурснице Наталье Решетовской, а в 1941 г., получив диплом математика, заканчивает также заочное отделение Института философии, литературы и истории в Москв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7" descr="jzl-021.jpg"/>
          <p:cNvPicPr/>
          <p:nvPr/>
        </p:nvPicPr>
        <p:blipFill>
          <a:blip r:embed="rId2"/>
          <a:stretch/>
        </p:blipFill>
        <p:spPr>
          <a:xfrm>
            <a:off x="5000760" y="3071880"/>
            <a:ext cx="3929040" cy="352116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8" descr="Рисунок2.jpg"/>
          <p:cNvPicPr/>
          <p:nvPr/>
        </p:nvPicPr>
        <p:blipFill>
          <a:blip r:embed="rId3"/>
          <a:stretch/>
        </p:blipFill>
        <p:spPr>
          <a:xfrm>
            <a:off x="142920" y="3143160"/>
            <a:ext cx="2335320" cy="347364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6"/>
          <p:cNvSpPr/>
          <p:nvPr/>
        </p:nvSpPr>
        <p:spPr>
          <a:xfrm>
            <a:off x="285840" y="301680"/>
            <a:ext cx="50004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d7e0e"/>
                </a:solidFill>
                <a:latin typeface="Arial"/>
                <a:ea typeface="Arial"/>
              </a:rPr>
              <a:t>Окончание физико-математического факультета Ростовского университета и вступление во взрослую жизнь пришлось на 1941 год.</a:t>
            </a:r>
            <a:br>
              <a:rPr sz="2800"/>
            </a:br>
            <a:r>
              <a:rPr b="1" lang="ru-RU" sz="2800" spc="-1" strike="noStrike">
                <a:solidFill>
                  <a:srgbClr val="dd7e0e"/>
                </a:solidFill>
                <a:latin typeface="Arial"/>
                <a:ea typeface="Arial"/>
              </a:rPr>
              <a:t>22 июня, получив диплом, он приезжает на экзамены в Московский институт истории, философии, литературы.</a:t>
            </a:r>
            <a:br>
              <a:rPr sz="2800"/>
            </a:br>
            <a:r>
              <a:rPr b="1" lang="ru-RU" sz="2800" spc="-1" strike="noStrike">
                <a:solidFill>
                  <a:srgbClr val="dd7e0e"/>
                </a:solidFill>
                <a:latin typeface="Arial"/>
                <a:ea typeface="Arial"/>
              </a:rPr>
              <a:t>Очередная сессия приходится на начало вой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9" descr="Рисунок3.jpg"/>
          <p:cNvPicPr/>
          <p:nvPr/>
        </p:nvPicPr>
        <p:blipFill>
          <a:blip r:embed="rId1"/>
          <a:stretch/>
        </p:blipFill>
        <p:spPr>
          <a:xfrm>
            <a:off x="5429160" y="714240"/>
            <a:ext cx="3540240" cy="51501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"/>
          <p:cNvSpPr/>
          <p:nvPr/>
        </p:nvSpPr>
        <p:spPr>
          <a:xfrm>
            <a:off x="4357800" y="357120"/>
            <a:ext cx="4572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d7e0e"/>
                </a:solidFill>
                <a:latin typeface="Arial"/>
                <a:ea typeface="Arial"/>
              </a:rPr>
              <a:t>Летом 1942 года – звание лейтенанта, а в конце – фронт: Солженицын командует звукобатареей в артиллерийской разведке.</a:t>
            </a:r>
            <a:br>
              <a:rPr sz="2800"/>
            </a:br>
            <a:r>
              <a:rPr b="1" lang="ru-RU" sz="2800" spc="-1" strike="noStrike">
                <a:solidFill>
                  <a:srgbClr val="dd7e0e"/>
                </a:solidFill>
                <a:latin typeface="Arial"/>
                <a:ea typeface="Arial"/>
              </a:rPr>
              <a:t>Военный опыт Александра Исаевича и работа его звукобатареи отражены в военной прозе «Желябугские выселки» и «Адмиг Швенкиттен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2" descr="jzl-024.jpg"/>
          <p:cNvPicPr/>
          <p:nvPr/>
        </p:nvPicPr>
        <p:blipFill>
          <a:blip r:embed="rId1"/>
          <a:stretch/>
        </p:blipFill>
        <p:spPr>
          <a:xfrm>
            <a:off x="428760" y="785880"/>
            <a:ext cx="3692520" cy="52149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"/>
          <p:cNvSpPr/>
          <p:nvPr/>
        </p:nvSpPr>
        <p:spPr>
          <a:xfrm>
            <a:off x="285840" y="357120"/>
            <a:ext cx="35002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d7e0e"/>
                </a:solidFill>
                <a:latin typeface="Arial"/>
                <a:ea typeface="Arial"/>
              </a:rPr>
              <a:t>Офицером-артиллеристом он проходит путь от Орла до Восточной Пруссии, награждается орденами Отечественной войны 2-й степени и Красной Звезды .</a:t>
            </a:r>
            <a:br>
              <a:rPr sz="2800"/>
            </a:br>
            <a:r>
              <a:rPr b="1" lang="ru-RU" sz="2800" spc="-1" strike="noStrike">
                <a:solidFill>
                  <a:srgbClr val="dd7e0e"/>
                </a:solidFill>
                <a:latin typeface="Arial"/>
                <a:ea typeface="Arial"/>
              </a:rPr>
              <a:t>Произведен в капита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2" descr="jzl-025.jpg"/>
          <p:cNvPicPr/>
          <p:nvPr/>
        </p:nvPicPr>
        <p:blipFill>
          <a:blip r:embed="rId1"/>
          <a:stretch/>
        </p:blipFill>
        <p:spPr>
          <a:xfrm>
            <a:off x="4394160" y="571680"/>
            <a:ext cx="4079880" cy="557208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5"/>
          <p:cNvSpPr/>
          <p:nvPr/>
        </p:nvSpPr>
        <p:spPr>
          <a:xfrm>
            <a:off x="285840" y="142920"/>
            <a:ext cx="3714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1945 год – А.Солженицын арестован, лишен звания и отправлен в Москву, в следственную тюрьму на Лубянке.</a:t>
            </a:r>
            <a:br>
              <a:rPr sz="1800"/>
            </a:b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Приговорен к 8 годам лишения свободы с последующей ссылкой в Сибирь за антисоветскую агитацию и пропаган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4286160" y="3857760"/>
            <a:ext cx="4500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После ареста – лагеря: в  Новом Иерусалиме, в Москве у Калужской заставы, где математики, физики, ученые других специальностей вели секретные научные исследования, </a:t>
            </a:r>
            <a:br>
              <a:rPr sz="1800"/>
            </a:b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в тюрьме № 16 в пригороде Москвы (та самая знаменитая Марфинская «шарашка», описанная в «Круге первом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7" descr="Рисунок4.jpg"/>
          <p:cNvPicPr/>
          <p:nvPr/>
        </p:nvPicPr>
        <p:blipFill>
          <a:blip r:embed="rId1"/>
          <a:stretch/>
        </p:blipFill>
        <p:spPr>
          <a:xfrm>
            <a:off x="5357880" y="214200"/>
            <a:ext cx="2423880" cy="334008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8" descr="шарашка.jpg"/>
          <p:cNvPicPr/>
          <p:nvPr/>
        </p:nvPicPr>
        <p:blipFill>
          <a:blip r:embed="rId2"/>
          <a:stretch/>
        </p:blipFill>
        <p:spPr>
          <a:xfrm>
            <a:off x="428760" y="3714840"/>
            <a:ext cx="3754440" cy="2409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"/>
          <p:cNvSpPr/>
          <p:nvPr/>
        </p:nvSpPr>
        <p:spPr>
          <a:xfrm>
            <a:off x="214200" y="4071960"/>
            <a:ext cx="8572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С 1949 года – лагерь в Экибастузе (Казахстан).</a:t>
            </a:r>
            <a:br>
              <a:rPr sz="1800"/>
            </a:b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В лагере для военнопленных  у Солженицына обнаружили рак желудка.</a:t>
            </a:r>
            <a:br>
              <a:rPr sz="1800"/>
            </a:b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Дважды Александр Исаевич лечится в Ташкенте.</a:t>
            </a:r>
            <a:br>
              <a:rPr sz="1800"/>
            </a:b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В день выписки из больницы была задумана повесть о страшном недуге – будущий «Раковый корпус»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С 1953 года Солженицын – «вечный ссыльнопоселенец» у глухом ауле Кок-Терек  Джамбульской области, на краю пусты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2" descr="кок-терек.jpg"/>
          <p:cNvPicPr/>
          <p:nvPr/>
        </p:nvPicPr>
        <p:blipFill>
          <a:blip r:embed="rId1"/>
          <a:stretch/>
        </p:blipFill>
        <p:spPr>
          <a:xfrm>
            <a:off x="4143240" y="500040"/>
            <a:ext cx="4653000" cy="325764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3" descr="Рисунок5.jpg"/>
          <p:cNvPicPr/>
          <p:nvPr/>
        </p:nvPicPr>
        <p:blipFill>
          <a:blip r:embed="rId2"/>
          <a:stretch/>
        </p:blipFill>
        <p:spPr>
          <a:xfrm>
            <a:off x="571680" y="214200"/>
            <a:ext cx="2500200" cy="36561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1"/>
          <p:cNvSpPr/>
          <p:nvPr/>
        </p:nvSpPr>
        <p:spPr>
          <a:xfrm>
            <a:off x="4786200" y="428760"/>
            <a:ext cx="3643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1952 год – реабилитация и сельская школа недалеко от Рязани, где он учительствует и снимает с женой комнату  у Матрены Захаровой, ставшей прототипом знаменитой  хозяйки «Матрениного двор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2" descr="Матренина изба.jpg"/>
          <p:cNvPicPr/>
          <p:nvPr/>
        </p:nvPicPr>
        <p:blipFill>
          <a:blip r:embed="rId1"/>
          <a:stretch/>
        </p:blipFill>
        <p:spPr>
          <a:xfrm>
            <a:off x="428760" y="428760"/>
            <a:ext cx="3857400" cy="23763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3"/>
          <p:cNvSpPr/>
          <p:nvPr/>
        </p:nvSpPr>
        <p:spPr>
          <a:xfrm>
            <a:off x="4929120" y="3000240"/>
            <a:ext cx="3500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После чего он перебрался в Рязанскую область и работал учителем, одновременно занимаясь литературным трудом. В 1962 году в журнале "Новый мир" была опубликована первая принесшая Солженицыну всемирную славу повесть "Один день Ивана Денисовича", посвященная "лагерной" темати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4" descr="1960-е.jpg"/>
          <p:cNvPicPr/>
          <p:nvPr/>
        </p:nvPicPr>
        <p:blipFill>
          <a:blip r:embed="rId2"/>
          <a:stretch/>
        </p:blipFill>
        <p:spPr>
          <a:xfrm>
            <a:off x="857160" y="3000240"/>
            <a:ext cx="2714760" cy="35434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2T12:34:37Z</dcterms:created>
  <dc:creator>echo</dc:creator>
  <dc:description/>
  <cp:keywords/>
  <dc:language>en-US</dc:language>
  <cp:lastModifiedBy>user</cp:lastModifiedBy>
  <dcterms:modified xsi:type="dcterms:W3CDTF">2017-02-18T12:33:13Z</dcterms:modified>
  <cp:revision>38</cp:revision>
  <dc:subject/>
  <dc:title>培训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20c0000000000010243100207f6000400038000</vt:lpwstr>
  </property>
  <property fmtid="{D5CDD505-2E9C-101B-9397-08002B2CF9AE}" pid="3" name="_TemplateID">
    <vt:lpwstr>TC062561682052</vt:lpwstr>
  </property>
</Properties>
</file>