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307-6D88-4C07-8E57-990A1551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B6B-AA1A-4F0B-9247-7D6B06C4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C4E-6505-4740-8A10-B3DBE711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CD4-D884-4198-A246-3CA9D131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D8F4-311B-436A-90BB-34CE8B76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6A63-D0EC-4A81-A180-9FA7AF6A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18D0-E549-4CD0-93FA-2AA3F876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190E-7203-4E81-BB3B-47B6BF4E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3ED8-402C-4551-A6AB-BCE1545F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0266-4522-47CC-BE84-1D1C8264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87E8-8F0F-45A9-8692-77B57DE7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0FB-B0B9-45B1-876D-13C299B2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8BA7-36A6-461D-AF18-8FC24720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0671-DEA1-44F6-B92E-D332AA2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E1CD-BD55-4565-9037-131EDC28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652F-605B-450C-A9B6-2C642D15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47F5-07C6-44A6-B049-2EB342A9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563-454F-4FC0-9806-DE58AD2E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9A3-4BBE-4D1D-BE70-6569EB8E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97E-C64A-4144-B7D1-D68B6215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E59-B197-4C64-8F97-8FA6347E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58C-047A-4125-AC37-98446342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127-1DB2-4DC3-A62B-3CFBEFF9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F9D-4616-40A0-BDA8-DA7324A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5BBC-5C28-4A5C-86C4-822C776CC81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87A1-EA82-4A9D-B64D-C5A48FABC117}" type="slidenum">
              <a:rPr b="0" lang="zh-CN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64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Александр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5840" y="5214960"/>
            <a:ext cx="4214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20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43640" y="2071800"/>
            <a:ext cx="25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Ис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50720" y="3571920"/>
            <a:ext cx="37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Солжениц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5" descr="jzl-116.jpg"/>
          <p:cNvPicPr/>
          <p:nvPr/>
        </p:nvPicPr>
        <p:blipFill>
          <a:blip r:embed="rId1"/>
          <a:stretch/>
        </p:blipFill>
        <p:spPr>
          <a:xfrm>
            <a:off x="4643280" y="500040"/>
            <a:ext cx="432936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3 в «Новом мире» опубликовал 3 рассказа: «Матренин двор»(1959</a:t>
            </a:r>
            <a:r>
              <a:rPr b="1" lang="en-US" sz="1800" spc="-1" strike="noStrike">
                <a:solidFill>
                  <a:srgbClr val="dd7e0e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; «Случай на станции Кочетовка» (1962) и «Для пользы дела» (19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ябре 1969 Солженицына исключили из Союза пис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142920" y="142920"/>
            <a:ext cx="4000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Рисунок6.jpg"/>
          <p:cNvPicPr/>
          <p:nvPr/>
        </p:nvPicPr>
        <p:blipFill>
          <a:blip r:embed="rId1"/>
          <a:stretch/>
        </p:blipFill>
        <p:spPr>
          <a:xfrm>
            <a:off x="4554360" y="214200"/>
            <a:ext cx="4280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27 мая 1994 Солженицын вернулся в Россию. После своего приезда Солженицын поселился под Москвой, в выделенном ему владении в деревне Троице-Лыково, где продолжил заниматься литературны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42920" y="1714680"/>
            <a:ext cx="4572000" cy="2900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jzl-103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62360" cy="3571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214200" y="50007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97 избран действительным членом Академии наук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357120" y="357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jzl-090.jpg"/>
          <p:cNvPicPr/>
          <p:nvPr/>
        </p:nvPicPr>
        <p:blipFill>
          <a:blip r:embed="rId1"/>
          <a:stretch/>
        </p:blipFill>
        <p:spPr>
          <a:xfrm>
            <a:off x="2357280" y="3429000"/>
            <a:ext cx="4588200" cy="3000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jzl-076.jpg"/>
          <p:cNvPicPr/>
          <p:nvPr/>
        </p:nvPicPr>
        <p:blipFill>
          <a:blip r:embed="rId2"/>
          <a:stretch/>
        </p:blipFill>
        <p:spPr>
          <a:xfrm>
            <a:off x="4789440" y="214200"/>
            <a:ext cx="4227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42960" y="214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чь с 3 на 4 августа 2008 года Солженицын сконч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857160" y="6000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Его похоронили 6 августа, в центральной части старого кладбища на территории Донского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jzl-121.jpg"/>
          <p:cNvPicPr/>
          <p:nvPr/>
        </p:nvPicPr>
        <p:blipFill>
          <a:blip r:embed="rId1"/>
          <a:stretch/>
        </p:blipFill>
        <p:spPr>
          <a:xfrm>
            <a:off x="1357200" y="642960"/>
            <a:ext cx="604836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7e0e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214200" y="785880"/>
            <a:ext cx="8715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Пир победителей" (сатирическая пь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Один день Ивана Денисовича" (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атренин двор" (1959-19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Случай на станции Кречетовк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ля пользы дел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Захар-Калита" (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В круге первом" (1955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аковый корпус" (1963-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вгуст 1914" (19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Красное Колесо: Повествованье в отмеренных сроках в четырёх узлах" (1971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рхипелаг ГУЛАГ" (1958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Ленин в Цюрихе" (19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Бодался телёнок с дубом" (1975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Эго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 краях"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олодняк" (199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стенька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брикосовое варенье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Угодило зёрнышко промеж двух жерновов" (1998-200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оссия в обвале" 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вести лет вместе" (1975-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Желябугские выселки"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длиг Швенкиттен "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extBox 7" descr=""/>
          <p:cNvPicPr/>
          <p:nvPr/>
        </p:nvPicPr>
        <p:blipFill>
          <a:blip r:embed="rId1"/>
          <a:stretch/>
        </p:blipFill>
        <p:spPr>
          <a:xfrm>
            <a:off x="6095880" y="-30240"/>
            <a:ext cx="3017880" cy="64976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родители1.jpg"/>
          <p:cNvPicPr/>
          <p:nvPr/>
        </p:nvPicPr>
        <p:blipFill>
          <a:blip r:embed="rId2"/>
          <a:stretch/>
        </p:blipFill>
        <p:spPr>
          <a:xfrm>
            <a:off x="2306520" y="23328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0"/>
          <p:cNvSpPr/>
          <p:nvPr/>
        </p:nvSpPr>
        <p:spPr>
          <a:xfrm>
            <a:off x="0" y="428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1" descr="дом в Кисловодске1.jpg"/>
          <p:cNvPicPr/>
          <p:nvPr/>
        </p:nvPicPr>
        <p:blipFill>
          <a:blip r:embed="rId3"/>
          <a:stretch/>
        </p:blipFill>
        <p:spPr>
          <a:xfrm>
            <a:off x="142920" y="3551400"/>
            <a:ext cx="3571920" cy="2377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4" descr="Рисунок1.jpg"/>
          <p:cNvPicPr/>
          <p:nvPr/>
        </p:nvPicPr>
        <p:blipFill>
          <a:blip r:embed="rId4"/>
          <a:stretch/>
        </p:blipFill>
        <p:spPr>
          <a:xfrm>
            <a:off x="3857760" y="292896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42920" y="21420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1924 году - Ростов - на - Дону.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младших классах подвергался насмешкам за ношение крестика и нежелание вступать в пионеры.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Несмотря на постоянные материальные и жилищные трудности, Солженицын в 1936, закончив среднюю школу, поступил на физико-математический факультет Рост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школа.jpg"/>
          <p:cNvPicPr/>
          <p:nvPr/>
        </p:nvPicPr>
        <p:blipFill>
          <a:blip r:embed="rId1"/>
          <a:stretch/>
        </p:blipFill>
        <p:spPr>
          <a:xfrm>
            <a:off x="4929120" y="142920"/>
            <a:ext cx="4016520" cy="266688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500200" y="3286080"/>
            <a:ext cx="2428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d7e0e"/>
                </a:solidFill>
                <a:latin typeface="Arial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jzl-021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29040" cy="35211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Рисунок2.jpg"/>
          <p:cNvPicPr/>
          <p:nvPr/>
        </p:nvPicPr>
        <p:blipFill>
          <a:blip r:embed="rId3"/>
          <a:stretch/>
        </p:blipFill>
        <p:spPr>
          <a:xfrm>
            <a:off x="142920" y="3143160"/>
            <a:ext cx="2335320" cy="347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6"/>
          <p:cNvSpPr/>
          <p:nvPr/>
        </p:nvSpPr>
        <p:spPr>
          <a:xfrm>
            <a:off x="285840" y="301680"/>
            <a:ext cx="5000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9" descr="Рисунок3.jpg"/>
          <p:cNvPicPr/>
          <p:nvPr/>
        </p:nvPicPr>
        <p:blipFill>
          <a:blip r:embed="rId1"/>
          <a:stretch/>
        </p:blipFill>
        <p:spPr>
          <a:xfrm>
            <a:off x="5429160" y="714240"/>
            <a:ext cx="3540240" cy="51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43578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2" descr="jzl-024.jpg"/>
          <p:cNvPicPr/>
          <p:nvPr/>
        </p:nvPicPr>
        <p:blipFill>
          <a:blip r:embed="rId1"/>
          <a:stretch/>
        </p:blipFill>
        <p:spPr>
          <a:xfrm>
            <a:off x="428760" y="785880"/>
            <a:ext cx="36925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85840" y="357120"/>
            <a:ext cx="350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Произведен в капит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" descr="jzl-025.jpg"/>
          <p:cNvPicPr/>
          <p:nvPr/>
        </p:nvPicPr>
        <p:blipFill>
          <a:blip r:embed="rId1"/>
          <a:stretch/>
        </p:blipFill>
        <p:spPr>
          <a:xfrm>
            <a:off x="4394160" y="571680"/>
            <a:ext cx="4079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5"/>
          <p:cNvSpPr/>
          <p:nvPr/>
        </p:nvSpPr>
        <p:spPr>
          <a:xfrm>
            <a:off x="285840" y="14292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4286160" y="385776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7" descr="Рисунок4.jpg"/>
          <p:cNvPicPr/>
          <p:nvPr/>
        </p:nvPicPr>
        <p:blipFill>
          <a:blip r:embed="rId1"/>
          <a:stretch/>
        </p:blipFill>
        <p:spPr>
          <a:xfrm>
            <a:off x="5357880" y="214200"/>
            <a:ext cx="2423880" cy="3340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шарашка.jpg"/>
          <p:cNvPicPr/>
          <p:nvPr/>
        </p:nvPicPr>
        <p:blipFill>
          <a:blip r:embed="rId2"/>
          <a:stretch/>
        </p:blipFill>
        <p:spPr>
          <a:xfrm>
            <a:off x="428760" y="3714840"/>
            <a:ext cx="37544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14200" y="407196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кок-терек.jpg"/>
          <p:cNvPicPr/>
          <p:nvPr/>
        </p:nvPicPr>
        <p:blipFill>
          <a:blip r:embed="rId1"/>
          <a:stretch/>
        </p:blipFill>
        <p:spPr>
          <a:xfrm>
            <a:off x="4143240" y="500040"/>
            <a:ext cx="46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571680" y="214200"/>
            <a:ext cx="25002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786200" y="4287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52 год – реабилитация и сельская школа недалеко от Рязани, где он учительствует и снимает с женой комнату  у Матрены Захаровой, ставшей прототипом знаменитой  хозяйки «Матрениного дво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" descr="Матренина изба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376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929120" y="3000240"/>
            <a:ext cx="35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1960-е.jpg"/>
          <p:cNvPicPr/>
          <p:nvPr/>
        </p:nvPicPr>
        <p:blipFill>
          <a:blip r:embed="rId2"/>
          <a:stretch/>
        </p:blipFill>
        <p:spPr>
          <a:xfrm>
            <a:off x="857160" y="3000240"/>
            <a:ext cx="271476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34:37Z</dcterms:created>
  <dc:creator>echo</dc:creator>
  <dc:description/>
  <cp:keywords/>
  <dc:language>en-US</dc:language>
  <cp:lastModifiedBy>user</cp:lastModifiedBy>
  <dcterms:modified xsi:type="dcterms:W3CDTF">2017-02-18T12:33:13Z</dcterms:modified>
  <cp:revision>38</cp:revision>
  <dc:subject/>
  <dc:title>培训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c0000000000010243100207f6000400038000</vt:lpwstr>
  </property>
  <property fmtid="{D5CDD505-2E9C-101B-9397-08002B2CF9AE}" pid="3" name="_TemplateID">
    <vt:lpwstr>TC062561682052</vt:lpwstr>
  </property>
</Properties>
</file>