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10E-C4A9-4D85-AA49-F46C33EED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03B-237F-477D-95E4-7AC67A0974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ела Иванова Татьяна, ученица 7 «в» класса МОУ СОШ № 26. Научный руководитель – Гиллер Наталья Николаевна, учитель истории и обществознания МОУ СОШ № 2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6917-890F-4A07-BB3B-D999A8F938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га-прародите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EFC9-43EC-4C0D-B302-EB1A72FDD2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га-воите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316E-A5F1-4311-8439-CD03A63EE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D31-3EBE-4823-BFEC-932F1C7207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типы Бабы-Яги у других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693-824C-4D9C-969D-FA2BEE0FBB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ический об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68C-9A95-46B0-8761-3E8C71D02B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ы Бабы-Яги в волшебных сказ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AE6-A1EE-4459-86A9-D4809BE974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ерсии происхождения образа Бабы-Я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B41B-B7B4-40BF-BFBF-01BD70F95F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ме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6C3-AF3F-43E2-B292-FECBDD31D5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ка л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A024-8F84-4276-AF34-6E30AE01E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ушка на курьих нож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7D1A-8421-4EBC-B758-E7A5808DA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44EC-E862-4487-8A16-C2FD7171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3224-59C1-4333-9BF4-96F441EC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9B1F-31DE-4986-9138-F7DCB220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591B-E4C3-4EBC-83D7-1242BA95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CE2F-A1ED-4EE0-A9A9-699BF67D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A354-D4CE-4373-8499-3EFFBDE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671-2D0A-41E0-83D4-19F92249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E84B-35C9-4A94-AEDE-8499459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9107-0ECC-49ED-88BF-D806023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BE5F-1BEC-47B6-A18C-3F9AEA4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D25-65C2-4291-94B6-6E1F578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EEA7-475C-4AA6-8614-A6CF7D0D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4563-08E4-444C-9E5F-3100FEB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1C47-AEF7-4D65-BDB1-91925BF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005E-20B7-4F40-8751-2AF8511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1D0C-7F0A-49F0-A742-DADF5213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D09B-D959-477A-9C06-BF564EEB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71DA-F72C-45F2-A0BF-EFCBFB8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3F61-23FA-44AA-AB57-3895823D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21FC-D1D9-45DB-BE25-3B68C60B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62E3-85C7-47C8-A6FA-E5DF957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D479-F563-460A-BC97-EB916B6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B789-B8D3-4AF4-B32F-8E245A9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835B-84FD-47D7-B29D-F41A88F3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A20F-3451-45C0-9ABF-0967658BE8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8A2A-B089-44E8-BCED-126DA18905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011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Баба-Яга – сказка, миф или реальность?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5119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БАНЯ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Содержимое 4" descr="Рисунок2.jpg"/>
          <p:cNvPicPr/>
          <p:nvPr/>
        </p:nvPicPr>
        <p:blipFill>
          <a:blip r:embed="rId1"/>
          <a:stretch/>
        </p:blipFill>
        <p:spPr>
          <a:xfrm>
            <a:off x="4143240" y="642960"/>
            <a:ext cx="5000760" cy="56437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1434600"/>
            <a:ext cx="37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ня у Бабы-Яги свидетельствует не о гостеприимстве и чистоплотности. В этом есть обрядовая ритуальная необходим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лужит целям народного целительства, знахарства (Яга-хозяйка леса, целительниц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ство извлечения души (Яга-стражница потустороннего мира) – выпаривание, выталкивание, извлечение души из тела героя способом ритуального умерщвления для прохода в царство мертвы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272880"/>
            <a:ext cx="3251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ЯГА-ПРАРОДИТЕЛЬНИЦА (БОГИНЯ-МАТЬ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840" y="1434600"/>
            <a:ext cx="34290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Яга – трансформация древнейшего образа богини-матери, повелительницы мира. Некогда считалась верховным божеством у древних славян, однако с введением христианства  превратилась в демоническое существо, несущее смер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уществляет обряд перерождения, умерщвления, воскрешения  (обряд «перепекания» дет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Содержимое 6" descr="Jaga5.jpg"/>
          <p:cNvPicPr/>
          <p:nvPr/>
        </p:nvPicPr>
        <p:blipFill>
          <a:blip r:embed="rId1"/>
          <a:stretch/>
        </p:blipFill>
        <p:spPr>
          <a:xfrm>
            <a:off x="3813120" y="272880"/>
            <a:ext cx="511668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ЯГА-ВОИТЕЛЬНИЦ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Содержимое 4" descr="1176113909_4349856hor.jpg"/>
          <p:cNvPicPr/>
          <p:nvPr/>
        </p:nvPicPr>
        <p:blipFill>
          <a:blip r:embed="rId1"/>
          <a:stretch/>
        </p:blipFill>
        <p:spPr>
          <a:xfrm>
            <a:off x="3792600" y="642960"/>
            <a:ext cx="5065560" cy="5357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840" y="1642680"/>
            <a:ext cx="33577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лощает образ богатырши – матери, жены или сестры  убитых богатырями змее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ладеет табунами волшебных кон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юет вместо убитых зме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ЕТ ОДНОЗНАЧНОСТИ НИ В ОБРАЗЕ БАБЫ-ЯГИ, НИ В ЕЕ ПРОИХОЖДЕНИИ. НО ОДНА МЫСЛЬ ПРОСЛЕЖИВАЕТСЯ – ВСЕ-ТАКИ БАБА-ЯГА БЫЛА КОГДА-ТО БОГИНЕЙ, КОТОРОЙ ПОКЛОНЯЛИСЬ И СЛЕДЫ ЭТОГО ПОКЛОНЕНИЯ ОСТАЛИСЬ В СКАЗКАХ ДО СИХ ПОР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2" descr="F:\фото Бабы-Яги\yaga_09.jpg"/>
          <p:cNvPicPr/>
          <p:nvPr/>
        </p:nvPicPr>
        <p:blipFill>
          <a:blip r:embed="rId1"/>
          <a:stretch/>
        </p:blipFill>
        <p:spPr>
          <a:xfrm>
            <a:off x="2357280" y="4143240"/>
            <a:ext cx="478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4005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ТОТИПЫ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БАБЫ-ЯГ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400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греков – Гека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германцев – Перхта, Хольд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индийцев - Кал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Содержимое 8" descr="1176113909_4349853ecc.jpg"/>
          <p:cNvPicPr/>
          <p:nvPr/>
        </p:nvPicPr>
        <p:blipFill>
          <a:blip r:embed="rId1"/>
          <a:stretch/>
        </p:blipFill>
        <p:spPr>
          <a:xfrm>
            <a:off x="5143680" y="642960"/>
            <a:ext cx="3743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186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ДЕМОНИЧЕСКИЙ ОБЛИК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Содержимое 4" descr="Jaga_h2.jpg"/>
          <p:cNvPicPr/>
          <p:nvPr/>
        </p:nvPicPr>
        <p:blipFill>
          <a:blip r:embed="rId1"/>
          <a:stretch/>
        </p:blipFill>
        <p:spPr>
          <a:xfrm>
            <a:off x="5286240" y="428760"/>
            <a:ext cx="3489480" cy="585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4200" y="1434600"/>
            <a:ext cx="4214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едвигается в железной ступе, погоняя ее пестом, заметая следы помелом. Она может быть хромой (костяная нога), слепой на один глаз, с длинным носом, который соединяется с подбородком волосы всклокочены, одета в лохмоть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БРАЗЫ БАБЫ-ЯГ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Содержимое 4" descr="1176113909_4349859eqn.jpg"/>
          <p:cNvPicPr/>
          <p:nvPr/>
        </p:nvPicPr>
        <p:blipFill>
          <a:blip r:embed="rId1"/>
          <a:stretch/>
        </p:blipFill>
        <p:spPr>
          <a:xfrm>
            <a:off x="4714920" y="357120"/>
            <a:ext cx="4152960" cy="5853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во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хит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дарительниц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советч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велительница сил природы и животного ми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окровительни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рародительница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3008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сии происхожд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317952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ходство с ведьмой  (способ перемещения, умение перевоплощатьс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есная хозяйка (жизнь в лесу, полное подчинение ей животных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велительница мира мертвых (ритуальные обряды, забор из человеческих костей, черепа на кольях, засов – человеческая нога, запор – рука, замок – зуб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Содержимое 12" descr="Jaga1.jpg"/>
          <p:cNvPicPr/>
          <p:nvPr/>
        </p:nvPicPr>
        <p:blipFill>
          <a:blip r:embed="rId1"/>
          <a:stretch/>
        </p:blipFill>
        <p:spPr>
          <a:xfrm>
            <a:off x="3857760" y="785880"/>
            <a:ext cx="5111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30369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МЕИ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Содержимое 4" descr="Рисунок3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0044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400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яснено, что первоначальный образ Бабы-Яги восходит к типу тотемного животного – змеи. Слово «Яга» происходит от санскритского «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h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» - «змей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C:\Users\Наталья\Desktop\фото Бабы-Яги\is1.jpg"/>
          <p:cNvPicPr/>
          <p:nvPr/>
        </p:nvPicPr>
        <p:blipFill>
          <a:blip r:embed="rId2"/>
          <a:stretch/>
        </p:blipFill>
        <p:spPr>
          <a:xfrm>
            <a:off x="3357720" y="214200"/>
            <a:ext cx="1625400" cy="1308240"/>
          </a:xfrm>
          <a:prstGeom prst="rect">
            <a:avLst/>
          </a:prstGeom>
          <a:ln w="0">
            <a:noFill/>
          </a:ln>
        </p:spPr>
      </p:pic>
      <p:sp>
        <p:nvSpPr>
          <p:cNvPr id="125" name="Двойная стрелка влево/вправо 7"/>
          <p:cNvSpPr/>
          <p:nvPr/>
        </p:nvSpPr>
        <p:spPr>
          <a:xfrm>
            <a:off x="5214960" y="42876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3179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ХОЗЯЙКА ЛЕС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Содержимое 4" descr="Рисунок4.jpg"/>
          <p:cNvPicPr/>
          <p:nvPr/>
        </p:nvPicPr>
        <p:blipFill>
          <a:blip r:embed="rId1"/>
          <a:stretch/>
        </p:blipFill>
        <p:spPr>
          <a:xfrm>
            <a:off x="4429080" y="1000080"/>
            <a:ext cx="4363920" cy="5072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этой точки зрения Баба-Яга предстает как существо, живущее в гармонии с окружающим ее миром – лесом и его обитателями. Она – хозяйка зверей, прародительница всего живого, женщина-знахарка, отшельниц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ТРАЖНИЦА ПОТУСТОРОННЕГО МИР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4200" y="1434600"/>
            <a:ext cx="3500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га-привратница, стерегущая границу между миром живых и миром мертвых, проводница в иной мир. Она подвергает испытаниям героев, стремящихся проникнуть в мир мертвых и помогает тем, кто эти испытания выдержа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Содержимое 8" descr="Jaga9.jpg"/>
          <p:cNvPicPr/>
          <p:nvPr/>
        </p:nvPicPr>
        <p:blipFill>
          <a:blip r:embed="rId1"/>
          <a:stretch/>
        </p:blipFill>
        <p:spPr>
          <a:xfrm>
            <a:off x="3786120" y="571680"/>
            <a:ext cx="5111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7577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ИЗБУШКА НА КУРЬИХ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                   НОЖКАХ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45435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видимая граница между  царством живых и царством мертвых проходит как раз по дому Бабы-Яги. Врата в мертвое царство. Ритуал : «Избушка, избушка, встань к лесу задом, ко мне передом!».  Избушка Яги,  стоящая на границе двух миров, является вратами в мертвое царство, загробный мир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е облик весьма схож с домовиной (погребальным сооружением в виде человеческого жилища),  и нередко бывает окружена человеческими останками (на плетне висят черепа, дверь подпирается ного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Содержимое 6" descr="is3.jpg"/>
          <p:cNvPicPr/>
          <p:nvPr/>
        </p:nvPicPr>
        <p:blipFill>
          <a:blip r:embed="rId1"/>
          <a:stretch/>
        </p:blipFill>
        <p:spPr>
          <a:xfrm>
            <a:off x="500040" y="357120"/>
            <a:ext cx="1170000" cy="10065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Jaga001.gif"/>
          <p:cNvPicPr/>
          <p:nvPr/>
        </p:nvPicPr>
        <p:blipFill>
          <a:blip r:embed="rId2"/>
          <a:stretch/>
        </p:blipFill>
        <p:spPr>
          <a:xfrm>
            <a:off x="5286240" y="357120"/>
            <a:ext cx="3692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9:05Z</dcterms:created>
  <dc:creator>Наталья</dc:creator>
  <dc:description/>
  <dc:language>en-US</dc:language>
  <cp:lastModifiedBy>user</cp:lastModifiedBy>
  <dcterms:modified xsi:type="dcterms:W3CDTF">2017-02-18T12:55:11Z</dcterms:modified>
  <cp:revision>23</cp:revision>
  <dc:subject/>
  <dc:title>Баба-Яга – сказка, миф или реальность?</dc:title>
</cp:coreProperties>
</file>