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B4BBE-E6E5-44B9-95FC-11B510CCB5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A51B3-BD8C-4EF2-9239-B3BB46CCA5F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следование провела Иванова Татьяна, ученица 7 «в» класса МОУ СОШ № 26. Научный руководитель – Гиллер Наталья Николаевна, учитель истории и обществознания МОУ СОШ № 26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7113D-E9D3-4173-BF96-E5D040081CB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га-прародительн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42BDC-E729-4521-9A53-AEF23350575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га-воительн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DC622-5BF3-48D3-86FB-D2869AC0C1B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7E10C-533D-4C9F-B224-211819F83E5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отипы Бабы-Яги у других нар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4ED3B-28AC-4E7A-8489-CC5BE20CB0A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нический обл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0D4EE-101A-4ADF-9CE5-A6EAA513E83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ы Бабы-Яги в волшебных сказк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7C89B-0B27-4E72-962B-B3335D010EA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версии происхождения образа Бабы-Я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BC9F2-667B-478C-8D8C-23949D72C0F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меих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15DCF-8063-4859-82A4-6B7E53B09D1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зяйка ле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A27BE-36AF-4601-90B6-3CC69B7EDD6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бушка на курьих ножк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3DAA9-D735-412B-87F7-2BEBA249390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12666-6A99-46E2-A34D-0C2B75A2A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E45EF-5451-49B3-9A96-1298F4BA9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7AF98-DEFE-4ECB-BDB5-558446124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DB06B-29C6-4BDA-BBA0-9149AC0D0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81077-E8A7-4A05-9253-865856B0A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E117F-A549-47DC-9C46-05CCB3707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8FD49-ED6A-47DB-BC3D-015FF9110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80D55-FCE1-4E7F-AFCA-233B2260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68D95-14EA-42DA-A20B-A889F9E3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31610-8791-4A87-94DD-A2AE48473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B4E02-0FF9-478D-BB7F-781B1A1A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882E3-5535-40E8-90E7-4B27080E5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BDDDA-A70B-459E-A73A-823FF790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5C45B-8D19-464B-9B9D-C618869E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60B88-F9BC-408B-A2CC-5D5F9C357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CA37E-CB16-43FB-B0EB-4B4C48CA4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8C414-EE4E-487F-AD54-5D38195D1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BBD0F-B407-4DB2-B498-4C0DE6935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927F5-FF3B-4633-9680-FE904E64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48F14-4098-4E7D-A520-3D7CA7AAF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2B488-3B86-4477-ACC4-57BB23C2A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14AF9-4D1F-4FCD-8B3D-A81A6396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D842A-F4AA-42F7-A5D4-9ABD9DCD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5410B-8068-4B3F-990E-376FAA3B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6E444-53EC-41FF-9A8C-6C77D5159CC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359FC-BDD2-45B8-BDA9-775014570B6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0112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5e5ff"/>
                </a:solidFill>
                <a:latin typeface="Garamond"/>
              </a:rPr>
              <a:t>Баба-Яга – сказка, миф или реальность?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2000160" y="2214720"/>
            <a:ext cx="511992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3008160" cy="94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e5ff"/>
                </a:solidFill>
                <a:latin typeface="Garamond"/>
              </a:rPr>
              <a:t>БАНЯ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7" name="Содержимое 4" descr="Рисунок2.jpg"/>
          <p:cNvPicPr/>
          <p:nvPr/>
        </p:nvPicPr>
        <p:blipFill>
          <a:blip r:embed="rId1"/>
          <a:stretch/>
        </p:blipFill>
        <p:spPr>
          <a:xfrm>
            <a:off x="4143240" y="642960"/>
            <a:ext cx="5000760" cy="564372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85480" y="1434600"/>
            <a:ext cx="371484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Баня у Бабы-Яги свидетельствует не о гостеприимстве и чистоплотности. В этом есть обрядовая ритуальная необходимость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лужит целям народного целительства, знахарства (Яга-хозяйка леса, целительница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редство извлечения души (Яга-стражница потустороннего мира) – выпаривание, выталкивание, извлечение души из тела героя способом ритуального умерщвления для прохода в царство мертвых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13840" y="272880"/>
            <a:ext cx="3251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ЯГА-ПРАРОДИТЕЛЬНИЦА (БОГИНЯ-МАТЬ)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13840" y="1434600"/>
            <a:ext cx="342900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Яга – трансформация древнейшего образа богини-матери, повелительницы мира. Некогда считалась верховным божеством у древних славян, однако с введением христианства  превратилась в демоническое существо, несущее смерть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существляет обряд перерождения, умерщвления, воскрешения  (обряд «перепекания» детей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" name="Содержимое 6" descr="Jaga5.jpg"/>
          <p:cNvPicPr/>
          <p:nvPr/>
        </p:nvPicPr>
        <p:blipFill>
          <a:blip r:embed="rId1"/>
          <a:stretch/>
        </p:blipFill>
        <p:spPr>
          <a:xfrm>
            <a:off x="3813120" y="272880"/>
            <a:ext cx="5116680" cy="62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ЯГА-ВОИТЕЛЬНИЦА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3" name="Содержимое 4" descr="1176113909_4349856hor.jpg"/>
          <p:cNvPicPr/>
          <p:nvPr/>
        </p:nvPicPr>
        <p:blipFill>
          <a:blip r:embed="rId1"/>
          <a:stretch/>
        </p:blipFill>
        <p:spPr>
          <a:xfrm>
            <a:off x="3792600" y="642960"/>
            <a:ext cx="5065560" cy="535788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13840" y="1642680"/>
            <a:ext cx="33577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оплощает образ богатырши – матери, жены или сестры  убитых богатырями змеев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ладеет табунами волшебных коне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оюет вместо убитых змее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72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НЕТ ОДНОЗНАЧНОСТИ НИ В ОБРАЗЕ БАБЫ-ЯГИ, НИ В ЕЕ ПРОИХОЖДЕНИИ. НО ОДНА МЫСЛЬ ПРОСЛЕЖИВАЕТСЯ – ВСЕ-ТАКИ БАБА-ЯГА БЫЛА КОГДА-ТО БОГИНЕЙ, КОТОРОЙ ПОКЛОНЯЛИСЬ И СЛЕДЫ ЭТОГО ПОКЛОНЕНИЯ ОСТАЛИСЬ В СКАЗКАХ ДО СИХ ПОР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6" name="Picture 2" descr="F:\фото Бабы-Яги\yaga_09.jpg"/>
          <p:cNvPicPr/>
          <p:nvPr/>
        </p:nvPicPr>
        <p:blipFill>
          <a:blip r:embed="rId1"/>
          <a:stretch/>
        </p:blipFill>
        <p:spPr>
          <a:xfrm>
            <a:off x="2357280" y="4143240"/>
            <a:ext cx="478656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400560" cy="108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ПРОТОТИПЫ </a:t>
            </a:r>
            <a:br>
              <a:rPr sz="28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БАБЫ-ЯГИ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440064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У греков – Геката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У германцев – Перхта, Хольда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У индийцев - Кал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Содержимое 8" descr="1176113909_4349853ecc.jpg"/>
          <p:cNvPicPr/>
          <p:nvPr/>
        </p:nvPicPr>
        <p:blipFill>
          <a:blip r:embed="rId1"/>
          <a:stretch/>
        </p:blipFill>
        <p:spPr>
          <a:xfrm>
            <a:off x="5143680" y="642960"/>
            <a:ext cx="374328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18600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ДЕМОНИЧЕСКИЙ ОБЛИК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3" name="Содержимое 4" descr="Jaga_h2.jpg"/>
          <p:cNvPicPr/>
          <p:nvPr/>
        </p:nvPicPr>
        <p:blipFill>
          <a:blip r:embed="rId1"/>
          <a:stretch/>
        </p:blipFill>
        <p:spPr>
          <a:xfrm>
            <a:off x="5286240" y="428760"/>
            <a:ext cx="3489480" cy="58528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14200" y="1434600"/>
            <a:ext cx="42148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ередвигается в железной ступе, погоняя ее пестом, заметая следы помелом. Она может быть хромой (костяная нога), слепой на один глаз, с длинным носом, который соединяется с подбородком волосы всклокочены, одета в лохмоть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ОБРАЗЫ БАБЫ-ЯГИ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6" name="Содержимое 4" descr="1176113909_4349859eqn.jpg"/>
          <p:cNvPicPr/>
          <p:nvPr/>
        </p:nvPicPr>
        <p:blipFill>
          <a:blip r:embed="rId1"/>
          <a:stretch/>
        </p:blipFill>
        <p:spPr>
          <a:xfrm>
            <a:off x="4714920" y="357120"/>
            <a:ext cx="4152960" cy="58532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39718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Яга-воительниц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Яга-похитительниц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Яга-дарительница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Яга-советчиц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Яга-повелительница сил природы и животного мир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Яга-покровительниц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Яга-прародительница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300816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Версии происхождения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85840" y="1434600"/>
            <a:ext cx="3179520" cy="52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just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ходство с ведьмой  (способ перемещения, умение перевоплощаться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Лесная хозяйка (жизнь в лесу, полное подчинение ей животных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овелительница мира мертвых (ритуальные обряды, забор из человеческих костей, черепа на кольях, засов – человеческая нога, запор – рука, замок – зубы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Содержимое 12" descr="Jaga1.jpg"/>
          <p:cNvPicPr/>
          <p:nvPr/>
        </p:nvPicPr>
        <p:blipFill>
          <a:blip r:embed="rId1"/>
          <a:stretch/>
        </p:blipFill>
        <p:spPr>
          <a:xfrm>
            <a:off x="3857760" y="785880"/>
            <a:ext cx="51116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4200" y="142560"/>
            <a:ext cx="303696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ЗМЕИХ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Содержимое 4" descr="Рисунок3.jpg"/>
          <p:cNvPicPr/>
          <p:nvPr/>
        </p:nvPicPr>
        <p:blipFill>
          <a:blip r:embed="rId1"/>
          <a:stretch/>
        </p:blipFill>
        <p:spPr>
          <a:xfrm>
            <a:off x="5214960" y="1143000"/>
            <a:ext cx="3700440" cy="54198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400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ыяснено, что первоначальный образ Бабы-Яги восходит к типу тотемного животного – змеи. Слово «Яга» происходит от санскритского «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hi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» - «змей»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2" descr="C:\Users\Наталья\Desktop\фото Бабы-Яги\is1.jpg"/>
          <p:cNvPicPr/>
          <p:nvPr/>
        </p:nvPicPr>
        <p:blipFill>
          <a:blip r:embed="rId2"/>
          <a:stretch/>
        </p:blipFill>
        <p:spPr>
          <a:xfrm>
            <a:off x="3357720" y="214200"/>
            <a:ext cx="1625400" cy="1308240"/>
          </a:xfrm>
          <a:prstGeom prst="rect">
            <a:avLst/>
          </a:prstGeom>
          <a:ln w="0">
            <a:noFill/>
          </a:ln>
        </p:spPr>
      </p:pic>
      <p:sp>
        <p:nvSpPr>
          <p:cNvPr id="125" name="Двойная стрелка влево/вправо 7"/>
          <p:cNvSpPr/>
          <p:nvPr/>
        </p:nvSpPr>
        <p:spPr>
          <a:xfrm>
            <a:off x="5214960" y="428760"/>
            <a:ext cx="1216080" cy="484200"/>
          </a:xfrm>
          <a:prstGeom prst="leftRightArrow">
            <a:avLst>
              <a:gd name="adj1" fmla="val 50000"/>
              <a:gd name="adj2" fmla="val 49998"/>
            </a:avLst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5840" y="142560"/>
            <a:ext cx="317952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ХОЗЯЙКА ЛЕСА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7" name="Содержимое 4" descr="Рисунок4.jpg"/>
          <p:cNvPicPr/>
          <p:nvPr/>
        </p:nvPicPr>
        <p:blipFill>
          <a:blip r:embed="rId1"/>
          <a:stretch/>
        </p:blipFill>
        <p:spPr>
          <a:xfrm>
            <a:off x="4429080" y="1000080"/>
            <a:ext cx="4363920" cy="50720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 этой точки зрения Баба-Яга предстает как существо, живущее в гармонии с окружающим ее миром – лесом и его обитателями. Она – хозяйка зверей, прародительница всего живого, женщина-знахарка, отшельниц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СТРАЖНИЦА ПОТУСТОРОННЕГО МИРА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14200" y="1434600"/>
            <a:ext cx="350064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Яга-привратница, стерегущая границу между миром живых и миром мертвых, проводница в иной мир. Она подвергает испытаниям героев, стремящихся проникнуть в мир мертвых и помогает тем, кто эти испытания выдержал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Содержимое 8" descr="Jaga9.jpg"/>
          <p:cNvPicPr/>
          <p:nvPr/>
        </p:nvPicPr>
        <p:blipFill>
          <a:blip r:embed="rId1"/>
          <a:stretch/>
        </p:blipFill>
        <p:spPr>
          <a:xfrm>
            <a:off x="3786120" y="571680"/>
            <a:ext cx="511164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47577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                   </a:t>
            </a: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ИЗБУШКА НА КУРЬИХ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                        НОЖКАХ</a:t>
            </a:r>
            <a:br>
              <a:rPr sz="2000"/>
            </a:b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434960"/>
            <a:ext cx="4543560" cy="506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just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евидимая граница между  царством живых и царством мертвых проходит как раз по дому Бабы-Яги. Врата в мертвое царство. Ритуал : «Избушка, избушка, встань к лесу задом, ко мне передом!».  Избушка Яги,  стоящая на границе двух миров, является вратами в мертвое царство, загробный мир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Ее облик весьма схож с домовиной (погребальным сооружением в виде человеческого жилища),  и нередко бывает окружена человеческими останками (на плетне висят черепа, дверь подпирается ногой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Содержимое 6" descr="is3.jpg"/>
          <p:cNvPicPr/>
          <p:nvPr/>
        </p:nvPicPr>
        <p:blipFill>
          <a:blip r:embed="rId1"/>
          <a:stretch/>
        </p:blipFill>
        <p:spPr>
          <a:xfrm>
            <a:off x="500040" y="357120"/>
            <a:ext cx="1170000" cy="1006560"/>
          </a:xfrm>
          <a:prstGeom prst="rect">
            <a:avLst/>
          </a:prstGeom>
          <a:ln w="0">
            <a:noFill/>
          </a:ln>
        </p:spPr>
      </p:pic>
      <p:pic>
        <p:nvPicPr>
          <p:cNvPr id="135" name="Содержимое 4" descr="Jaga001.gif"/>
          <p:cNvPicPr/>
          <p:nvPr/>
        </p:nvPicPr>
        <p:blipFill>
          <a:blip r:embed="rId2"/>
          <a:stretch/>
        </p:blipFill>
        <p:spPr>
          <a:xfrm>
            <a:off x="5286240" y="357120"/>
            <a:ext cx="369252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9T08:09:05Z</dcterms:created>
  <dc:creator>Наталья</dc:creator>
  <dc:description/>
  <dc:language>en-US</dc:language>
  <cp:lastModifiedBy>user</cp:lastModifiedBy>
  <dcterms:modified xsi:type="dcterms:W3CDTF">2017-02-18T12:55:11Z</dcterms:modified>
  <cp:revision>23</cp:revision>
  <dc:subject/>
  <dc:title>Баба-Яга – сказка, миф или реальность?</dc:title>
</cp:coreProperties>
</file>