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.png" ContentType="image/png"/>
  <Override PartName="/ppt/media/image25.jpeg" ContentType="image/jpeg"/>
  <Override PartName="/ppt/media/image4.jpeg" ContentType="image/jpeg"/>
  <Override PartName="/ppt/media/image8.wmf" ContentType="image/x-wmf"/>
  <Override PartName="/ppt/media/image12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30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3.png" ContentType="image/pn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0.jpeg" ContentType="image/jpeg"/>
  <Override PartName="/ppt/media/image21.jpeg" ContentType="image/jpeg"/>
  <Override PartName="/ppt/media/image3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B0DD-A544-46AC-9E38-706BCCD9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94A-4C2F-4ADC-965B-D4A1FFB3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8C56-4853-4C84-AF35-F9F5611D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8207-6652-4E8C-9047-F03DC07A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CE5A-59DA-4056-990D-A1C17146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C9F1-7566-4A1A-9E1D-B74365A4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22E0-9DB5-47BF-8166-FE8429E1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1C96-EE45-4479-9D78-423BDD9E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815D-21DC-4E6B-ADCB-336E0DD4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D49B-9688-4A0B-B42C-5D9F35A9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72C3-0289-4566-9A02-A31F40F9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3564-2C09-40A2-9167-613103A5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F31D-CBB5-4F32-ABCC-0724ADED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C8B8-3EF6-431A-AF71-4364DA3F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DB35-1346-4CE1-905F-8F789258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4378-381C-48F6-9920-F4B69666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D279-5009-406F-AE08-44980F07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337C0-6A5C-4FF7-B225-6DE2DE32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3BF76-6094-47D4-B195-EE293DC1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66D28-04E1-401F-B5D8-D6C83562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3FB67-E99A-4AB2-8F48-5357F681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0D78B-3AF7-4AC5-941C-804AF5C2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AF8-CA7A-4932-8AFF-D2227558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4D6E0-A7C0-4D80-BBAC-890817A1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ADA1B-AA1D-4636-B29A-6EC8CC17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6A6C7-5315-441D-BDC1-A369FBD3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34B3E-7C0C-41D3-B1DA-64F31A1E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23CB2-7163-4768-BF02-4F6A54DA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0413A-F1A5-4B55-8862-FDD71962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0085F-14BF-461E-8286-E65A5FBE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8A1FE-7A79-45B2-9EC9-A7966D47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33A80-23F2-44DD-989A-BD9A61FD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08CF5-1093-4E81-BE44-F0DD13C0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1AC-7EFB-4EE8-805F-2A7C69B7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D5167-9F14-4E3A-A7C4-CE707807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70023-146B-431C-A8B7-303E9E94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8D130-76CC-4722-85FA-9B9A69FD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B12BE-D1B1-4B69-9F7B-B2781AE8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A469E-965C-4B96-93CD-9897B69B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926C1-B174-4E05-A072-BC310A8A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09EEC-5D98-49D2-9B06-7DAC5E79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E0F0A-34FD-4FDE-97D6-33D59E38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5F249-B1B1-4FF4-85F4-ABB41FCE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31E2-73E7-45FD-8F83-4F211269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4D79-7E78-4D2F-93BA-701E6398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D3B3-B10A-46A9-A216-595FF075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CA9-6DC3-4A19-981F-AB04E8EA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4E7-E50A-4B74-8D93-94424CC3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C58D-C19B-4A66-A818-B76081BD936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C831-C637-4C54-AB87-17373A48AC3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C021-6287-47E7-80F0-471912AE0D3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8103-768C-4FD9-B97A-6F9E762287E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3" descr=""/>
          <p:cNvPicPr/>
          <p:nvPr/>
        </p:nvPicPr>
        <p:blipFill>
          <a:blip r:embed="rId1"/>
          <a:stretch/>
        </p:blipFill>
        <p:spPr>
          <a:xfrm>
            <a:off x="826920" y="-171360"/>
            <a:ext cx="7371000" cy="2158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7"/>
          <p:cNvSpPr/>
          <p:nvPr/>
        </p:nvSpPr>
        <p:spPr>
          <a:xfrm>
            <a:off x="1116000" y="19890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4684680" y="5388120"/>
            <a:ext cx="4459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Автор работы: Демидовцева Любовь Владимировна  ученица 9 А класса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Руководитель: Ирина Борисовна Голубев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итель технологии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10"/>
          <p:cNvSpPr txBox="1"/>
          <p:nvPr/>
        </p:nvSpPr>
        <p:spPr>
          <a:xfrm>
            <a:off x="2484360" y="1844640"/>
            <a:ext cx="38196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Дизайн – проект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WordArt 13"/>
          <p:cNvSpPr txBox="1"/>
          <p:nvPr/>
        </p:nvSpPr>
        <p:spPr>
          <a:xfrm>
            <a:off x="3348000" y="2997360"/>
            <a:ext cx="186696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dbf5f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 технологии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dbf5f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WordArt 17"/>
          <p:cNvSpPr txBox="1"/>
          <p:nvPr/>
        </p:nvSpPr>
        <p:spPr>
          <a:xfrm>
            <a:off x="1403280" y="3933720"/>
            <a:ext cx="64962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квариум «Голубая лагуна»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"/>
          <p:cNvSpPr/>
          <p:nvPr/>
        </p:nvSpPr>
        <p:spPr>
          <a:xfrm>
            <a:off x="928800" y="4443480"/>
            <a:ext cx="764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1619280" y="115920"/>
            <a:ext cx="6238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f6fc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териалы и инструмент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f6fc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ве деревянные рей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кал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ли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щеч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ек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Штампы – колпачки от фломастер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кань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скиз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уаш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ипсокарто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Штукатур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лористический материал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источ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ле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642960" y="4637160"/>
            <a:ext cx="5081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WordArt 8"/>
          <p:cNvSpPr txBox="1"/>
          <p:nvPr/>
        </p:nvSpPr>
        <p:spPr>
          <a:xfrm>
            <a:off x="3492360" y="189000"/>
            <a:ext cx="2343240" cy="12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66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ркетинг</a:t>
            </a:r>
            <a:endParaRPr b="0" lang="en-US" sz="4000" spc="1" strike="noStrike">
              <a:ln w="0">
                <a:noFill/>
              </a:ln>
              <a:solidFill>
                <a:srgbClr val="66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48690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nstantia"/>
              </a:rPr>
              <a:t>Вывод: </a:t>
            </a: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Материалы: глина, стеки, краски, клей, кисточки, дощечка для лепки я купила в магазине «Уют». Деревянные рейки, гипсокартон, штукатурка остались после ремонта квартиры, которые я использовала в своей работе. Скалка и штампы – колпачки от фломастеров у меня уже были, ткань - остатки от уроков технологии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Флористический материал(ракушки, морские звезды, сушеные водоросли, скелетные листья, бусинки) подарила бабушка после приезда с Черного моря. И на это изделия я потратила 265 рублей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619280" y="1484280"/>
          <a:ext cx="5796000" cy="3224160"/>
        </p:xfrm>
        <a:graphic>
          <a:graphicData uri="http://schemas.openxmlformats.org/drawingml/2006/table">
            <a:tbl>
              <a:tblPr/>
              <a:tblGrid>
                <a:gridCol w="1932120"/>
                <a:gridCol w="1931760"/>
                <a:gridCol w="193212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.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тер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газин «Уют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ыно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  <a:ea typeface="宋体"/>
                        </a:rPr>
                        <a:t>Гли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  <a:ea typeface="宋体"/>
                        </a:rPr>
                        <a:t>Стеки (пластик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раски «Гуашь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ей П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источ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щечка для леп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Line 46"/>
          <p:cNvSpPr/>
          <p:nvPr/>
        </p:nvSpPr>
        <p:spPr>
          <a:xfrm flipH="1" flipV="1">
            <a:off x="1618920" y="1484280"/>
            <a:ext cx="194292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-468360" y="285192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про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0" y="4503240"/>
            <a:ext cx="914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буду делать работу  №4, так как  у нее  интересный сюжет, не слишком сложная по выполнению и более привлекатель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2195640" y="285192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интерес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4" descr=""/>
          <p:cNvPicPr/>
          <p:nvPr/>
        </p:nvPicPr>
        <p:blipFill>
          <a:blip r:embed="rId1"/>
          <a:stretch/>
        </p:blipFill>
        <p:spPr>
          <a:xfrm>
            <a:off x="179280" y="1285920"/>
            <a:ext cx="2016360" cy="1501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6" descr=""/>
          <p:cNvPicPr/>
          <p:nvPr/>
        </p:nvPicPr>
        <p:blipFill>
          <a:blip r:embed="rId2"/>
          <a:stretch/>
        </p:blipFill>
        <p:spPr>
          <a:xfrm>
            <a:off x="2268360" y="1268280"/>
            <a:ext cx="2159280" cy="1513080"/>
          </a:xfrm>
          <a:prstGeom prst="rect">
            <a:avLst/>
          </a:prstGeom>
          <a:ln w="0">
            <a:noFill/>
          </a:ln>
        </p:spPr>
      </p:pic>
      <p:sp>
        <p:nvSpPr>
          <p:cNvPr id="267" name="WordArt 17"/>
          <p:cNvSpPr txBox="1"/>
          <p:nvPr/>
        </p:nvSpPr>
        <p:spPr>
          <a:xfrm>
            <a:off x="2268360" y="0"/>
            <a:ext cx="441972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рвоначальные идеи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8" name="Picture 18" descr=""/>
          <p:cNvPicPr/>
          <p:nvPr/>
        </p:nvPicPr>
        <p:blipFill>
          <a:blip r:embed="rId3"/>
          <a:stretch/>
        </p:blipFill>
        <p:spPr>
          <a:xfrm>
            <a:off x="4500720" y="1268280"/>
            <a:ext cx="2087280" cy="15130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4720" y="2852280"/>
            <a:ext cx="16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Сложная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Picture 21" descr=""/>
          <p:cNvPicPr/>
          <p:nvPr/>
        </p:nvPicPr>
        <p:blipFill>
          <a:blip r:embed="rId4"/>
          <a:stretch/>
        </p:blipFill>
        <p:spPr>
          <a:xfrm>
            <a:off x="6732720" y="1268280"/>
            <a:ext cx="2195280" cy="15130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25"/>
          <p:cNvSpPr/>
          <p:nvPr/>
        </p:nvSpPr>
        <p:spPr>
          <a:xfrm>
            <a:off x="826920" y="3357720"/>
            <a:ext cx="201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6659640" y="2924280"/>
            <a:ext cx="295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-Я сделаю эту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8"/>
          <p:cNvSpPr txBox="1"/>
          <p:nvPr/>
        </p:nvSpPr>
        <p:spPr>
          <a:xfrm>
            <a:off x="3635280" y="189000"/>
            <a:ext cx="144792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скиз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4" name="Picture 9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492960" cy="55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15"/>
          <p:cNvSpPr txBox="1"/>
          <p:nvPr/>
        </p:nvSpPr>
        <p:spPr>
          <a:xfrm>
            <a:off x="2195640" y="189000"/>
            <a:ext cx="4495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ика изготовл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0" y="1052640"/>
            <a:ext cx="529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Раскатывание пластины с направляющими рей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7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1355760" cy="15127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8"/>
          <p:cNvSpPr/>
          <p:nvPr/>
        </p:nvSpPr>
        <p:spPr>
          <a:xfrm>
            <a:off x="0" y="292428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Налепные уз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9" descr=""/>
          <p:cNvPicPr/>
          <p:nvPr/>
        </p:nvPicPr>
        <p:blipFill>
          <a:blip r:embed="rId2"/>
          <a:srcRect l="0" t="-96" r="0" b="0"/>
          <a:stretch/>
        </p:blipFill>
        <p:spPr>
          <a:xfrm>
            <a:off x="1116000" y="3213000"/>
            <a:ext cx="1511280" cy="15130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20"/>
          <p:cNvSpPr/>
          <p:nvPr/>
        </p:nvSpPr>
        <p:spPr>
          <a:xfrm>
            <a:off x="0" y="4653000"/>
            <a:ext cx="489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Текстурный эффект: тиснение, гравиров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1" descr=""/>
          <p:cNvPicPr/>
          <p:nvPr/>
        </p:nvPicPr>
        <p:blipFill>
          <a:blip r:embed="rId3"/>
          <a:stretch/>
        </p:blipFill>
        <p:spPr>
          <a:xfrm>
            <a:off x="755640" y="4941720"/>
            <a:ext cx="2160720" cy="12956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22"/>
          <p:cNvSpPr/>
          <p:nvPr/>
        </p:nvSpPr>
        <p:spPr>
          <a:xfrm>
            <a:off x="6262560" y="119700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Сушка и обжи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3"/>
          <p:cNvSpPr/>
          <p:nvPr/>
        </p:nvSpPr>
        <p:spPr>
          <a:xfrm>
            <a:off x="6227640" y="170028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Роспись изде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4"/>
          <p:cNvSpPr/>
          <p:nvPr/>
        </p:nvSpPr>
        <p:spPr>
          <a:xfrm>
            <a:off x="6227640" y="2133720"/>
            <a:ext cx="27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Оформление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23640" y="691920"/>
            <a:ext cx="50972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змер панно с рамкой 55*45см, основная часть панно 38*29см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мка сделана из гипсокартона и штукатурки украшенная флористическим материалом. Основная часть вылеплена из глины, которая обожжена и раскрашена в яркие цвета. Голубая рамка придает поделке вид аквариума и картины. Принцип подбора цвета основан на ярких динамичных цветовых отношениях, что способствует заинтересованности и увлечению зрител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 работой легко ухаживать, сметая пыл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WordArt 4" descr="Джинсовая ткань"/>
          <p:cNvPicPr/>
          <p:nvPr/>
        </p:nvPicPr>
        <p:blipFill>
          <a:blip r:embed="rId1"/>
          <a:stretch/>
        </p:blipFill>
        <p:spPr>
          <a:xfrm>
            <a:off x="1914480" y="341280"/>
            <a:ext cx="5675400" cy="1042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5364000" y="3333600"/>
            <a:ext cx="3533760" cy="31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539280" y="1412640"/>
            <a:ext cx="81471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Я считаю, что с работой справилась. Самое главное, что я попробовала себя в профессии скульптура. В процессе выполнения работы я старалась изготовить изделие интересным и красивым. Мне  было важно, чтобы моя работа понравилась всем моим близки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работе с дизайн - папкой я научилась оформлять деловые бумаги и работать с компьютером. Также при работе над проектом я научилась правильно определять проблему и ставить задачи для её решения и делать вывод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ала лучше работать в компьютерных программах: Microsoft Word, Photoshop, Microsoft Excel и друг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WordArt 4" descr="Джинсовая ткань"/>
          <p:cNvPicPr/>
          <p:nvPr/>
        </p:nvPicPr>
        <p:blipFill>
          <a:blip r:embed="rId1"/>
          <a:stretch/>
        </p:blipFill>
        <p:spPr>
          <a:xfrm>
            <a:off x="1200240" y="128520"/>
            <a:ext cx="659124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23640" y="1989000"/>
            <a:ext cx="509724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чебник «Технология» 9 класс. под редакцией В.Д. Симоненко «Вентано- граф» М. 2008г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«Дизайн - подход» Дж Гитт, М. Павлова НГУ Н.Новгород 2001г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чебник «Трудовое обучение» - Бешенков А.К., Васильченко Е.В., Иванов      А.И.  «Просвещение» 1990г., Москв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dd9"/>
                </a:solidFill>
                <a:latin typeface="Constantia"/>
              </a:rPr>
              <a:t>http://glina.teploruk.ru/article/sposoby_lepki.htm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dd9"/>
                </a:solidFill>
                <a:latin typeface="Constantia"/>
              </a:rPr>
              <a:t>http://1-rs.com/article/lepka-istoriya-poyavleniya-priemyi-i-sovetyi.htm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Буббико Дж.., Крус Х. Керамика: техники, материалы, изделия/Пер. с итал. –  «Ниола - пресс»,2006. – 128с.: ил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WordArt 4" descr="Джинсовая ткань"/>
          <p:cNvPicPr/>
          <p:nvPr/>
        </p:nvPicPr>
        <p:blipFill>
          <a:blip r:embed="rId1"/>
          <a:stretch/>
        </p:blipFill>
        <p:spPr>
          <a:xfrm>
            <a:off x="1487520" y="1054080"/>
            <a:ext cx="5456160" cy="14810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MCj04260540000[1]"/>
          <p:cNvPicPr/>
          <p:nvPr/>
        </p:nvPicPr>
        <p:blipFill>
          <a:blip r:embed="rId2"/>
          <a:stretch/>
        </p:blipFill>
        <p:spPr>
          <a:xfrm>
            <a:off x="6357960" y="2857680"/>
            <a:ext cx="1828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900000" y="1483920"/>
            <a:ext cx="6537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нимаясь лепкой в школе на уроке технологи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 в ИЗО-студии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Волшебная кисть», я нахожусь в постоянном поиске новых образов и ищу применение новым техническим приемам, с которыми познакомилас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не нравиться научные фильмы об обитателях морей. Среди них есть очень красивые по-своему интересные рыбы. Побывав в Санкт-Петербургском океанариуме, и понаблюдав  за его обитателями, у меня появилась идея создать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квариум «Голубая лагуна» из глин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2916360" y="404640"/>
            <a:ext cx="4176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03" name="Picture 5" descr="MCj00787110000[1]"/>
          <p:cNvPicPr/>
          <p:nvPr/>
        </p:nvPicPr>
        <p:blipFill>
          <a:blip r:embed="rId3"/>
          <a:stretch/>
        </p:blipFill>
        <p:spPr>
          <a:xfrm>
            <a:off x="7358040" y="2000160"/>
            <a:ext cx="1308240" cy="316872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10" descr=""/>
          <p:cNvPicPr/>
          <p:nvPr/>
        </p:nvPicPr>
        <p:blipFill>
          <a:blip r:embed="rId4"/>
          <a:stretch/>
        </p:blipFill>
        <p:spPr>
          <a:xfrm>
            <a:off x="927000" y="360360"/>
            <a:ext cx="7504200" cy="123660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1" descr="Balloon.bmp"/>
          <p:cNvPicPr/>
          <p:nvPr/>
        </p:nvPicPr>
        <p:blipFill>
          <a:blip r:embed="rId5"/>
          <a:stretch/>
        </p:blipFill>
        <p:spPr>
          <a:xfrm>
            <a:off x="6804000" y="692280"/>
            <a:ext cx="1373040" cy="16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914040" y="1599840"/>
            <a:ext cx="4737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полнить эскизы Аквариум «Голубая лагуна» и слепить из гли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WordArt 4" descr="Джинсовая ткань"/>
          <p:cNvPicPr/>
          <p:nvPr/>
        </p:nvPicPr>
        <p:blipFill>
          <a:blip r:embed="rId1"/>
          <a:stretch/>
        </p:blipFill>
        <p:spPr>
          <a:xfrm>
            <a:off x="1206360" y="268200"/>
            <a:ext cx="5999400" cy="190836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Безимен66и-2.jpg"/>
          <p:cNvPicPr/>
          <p:nvPr/>
        </p:nvPicPr>
        <p:blipFill>
          <a:blip r:embed="rId2"/>
          <a:stretch/>
        </p:blipFill>
        <p:spPr>
          <a:xfrm>
            <a:off x="6156360" y="2060640"/>
            <a:ext cx="25718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7"/>
          <p:cNvSpPr txBox="1"/>
          <p:nvPr/>
        </p:nvSpPr>
        <p:spPr>
          <a:xfrm>
            <a:off x="2843280" y="0"/>
            <a:ext cx="320976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следование</a:t>
            </a:r>
            <a:endParaRPr b="0" lang="en-US" sz="40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2916360" y="2492280"/>
            <a:ext cx="3600360" cy="23749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3059280" y="2637000"/>
            <a:ext cx="33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50cca"/>
                </a:solidFill>
                <a:latin typeface="Arial"/>
              </a:rPr>
              <a:t>Аквариум «Голубая лагу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 flipV="1">
            <a:off x="2987640" y="198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 flipV="1">
            <a:off x="4067280" y="198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V="1">
            <a:off x="5435640" y="184464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 flipV="1">
            <a:off x="6516720" y="191628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>
            <a:off x="651672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5"/>
          <p:cNvSpPr/>
          <p:nvPr/>
        </p:nvSpPr>
        <p:spPr>
          <a:xfrm>
            <a:off x="6516720" y="378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6"/>
          <p:cNvSpPr/>
          <p:nvPr/>
        </p:nvSpPr>
        <p:spPr>
          <a:xfrm>
            <a:off x="6516720" y="4292640"/>
            <a:ext cx="863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7"/>
          <p:cNvSpPr/>
          <p:nvPr/>
        </p:nvSpPr>
        <p:spPr>
          <a:xfrm>
            <a:off x="6516720" y="486900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5651640" y="486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4211640" y="486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0"/>
          <p:cNvSpPr/>
          <p:nvPr/>
        </p:nvSpPr>
        <p:spPr>
          <a:xfrm flipH="1">
            <a:off x="2555640" y="4869000"/>
            <a:ext cx="431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1"/>
          <p:cNvSpPr/>
          <p:nvPr/>
        </p:nvSpPr>
        <p:spPr>
          <a:xfrm flipH="1">
            <a:off x="1907640" y="4508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2"/>
          <p:cNvSpPr/>
          <p:nvPr/>
        </p:nvSpPr>
        <p:spPr>
          <a:xfrm flipH="1">
            <a:off x="1763640" y="3141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2484360" y="1197000"/>
            <a:ext cx="14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пка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рия поя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3780000" y="1197000"/>
            <a:ext cx="122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ы лепки из гл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6"/>
          <p:cNvSpPr/>
          <p:nvPr/>
        </p:nvSpPr>
        <p:spPr>
          <a:xfrm>
            <a:off x="4932360" y="126828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зайн-специфик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7"/>
          <p:cNvSpPr/>
          <p:nvPr/>
        </p:nvSpPr>
        <p:spPr>
          <a:xfrm>
            <a:off x="6948360" y="155736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реб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7451640" y="3573360"/>
            <a:ext cx="15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алы и инструмен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9"/>
          <p:cNvSpPr/>
          <p:nvPr/>
        </p:nvSpPr>
        <p:spPr>
          <a:xfrm>
            <a:off x="7524720" y="4292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ет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0"/>
          <p:cNvSpPr/>
          <p:nvPr/>
        </p:nvSpPr>
        <p:spPr>
          <a:xfrm>
            <a:off x="7451640" y="278136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в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1"/>
          <p:cNvSpPr/>
          <p:nvPr/>
        </p:nvSpPr>
        <p:spPr>
          <a:xfrm>
            <a:off x="6948360" y="5445000"/>
            <a:ext cx="19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оначальная ид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2"/>
          <p:cNvSpPr/>
          <p:nvPr/>
        </p:nvSpPr>
        <p:spPr>
          <a:xfrm>
            <a:off x="5364000" y="566100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ск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3635280" y="5661000"/>
            <a:ext cx="15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хника изгото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1187280" y="551664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зайн-анал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395280" y="4292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ц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6"/>
          <p:cNvSpPr/>
          <p:nvPr/>
        </p:nvSpPr>
        <p:spPr>
          <a:xfrm>
            <a:off x="324000" y="292428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"/>
          <p:cNvSpPr/>
          <p:nvPr/>
        </p:nvSpPr>
        <p:spPr>
          <a:xfrm>
            <a:off x="250920" y="1422000"/>
            <a:ext cx="583236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ыми популярными материалами для лепки являются пластилин и глина. Глина бывает красная, желтая, белая и голубая. Еще в глубокой древности люди обратили внимание, что глина, если ее увлажнить, становится мягкой, и из нее очень удобно лепить разные предметы. глина сначала использовалась для покрытия плетеных корзин, а потом и для изготовления самой первой посуды, которая лепилась таким образом: глину раскатывали в лепешку и загибали края. Технику обжига открыли также случайно: промокшая корзина была оставлена у огня для просушки, а в итоге обрела совершенно новые качества, которые позволили хранить в ней жидкость. Сейчас лепка из глины — одно из любимейших занятий народных умельцев . Свойства глины уникальны: ее консистенция может меняться в зависимости от количества добавленной в нее воды. Глина может быть жидкой и твердой, ее легко крошить, ломать, скатывать, размазывать, именно поэтому глину очень любят дети. Изделия из глины обычно называют керами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468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1763640" y="0"/>
            <a:ext cx="5905440" cy="16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f6fc6"/>
                </a:solidFill>
                <a:latin typeface="Impact"/>
              </a:rPr>
              <a:t>Лепка: история появления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f6fc6"/>
              </a:solidFill>
              <a:latin typeface="Impact"/>
              <a:ea typeface="Impact"/>
            </a:endParaRPr>
          </a:p>
        </p:txBody>
      </p:sp>
      <p:pic>
        <p:nvPicPr>
          <p:cNvPr id="241" name="Рисунок 8" descr="MCj04300770000[1]"/>
          <p:cNvPicPr/>
          <p:nvPr/>
        </p:nvPicPr>
        <p:blipFill>
          <a:blip r:embed="rId1"/>
          <a:stretch/>
        </p:blipFill>
        <p:spPr>
          <a:xfrm>
            <a:off x="6516720" y="2997360"/>
            <a:ext cx="2011320" cy="20206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Безымянныйе5не.bmp"/>
          <p:cNvPicPr/>
          <p:nvPr/>
        </p:nvPicPr>
        <p:blipFill>
          <a:blip r:embed="rId2"/>
          <a:stretch/>
        </p:blipFill>
        <p:spPr>
          <a:xfrm>
            <a:off x="7812000" y="1989000"/>
            <a:ext cx="48600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6"/>
          <p:cNvSpPr txBox="1"/>
          <p:nvPr/>
        </p:nvSpPr>
        <p:spPr>
          <a:xfrm>
            <a:off x="1908000" y="189000"/>
            <a:ext cx="5134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лепки из глин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нструктивный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ластическ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мбинирован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ельефная лепк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ехника отщипы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пиральная техника (из жгутов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енточный спосо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ормова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9280" y="907920"/>
            <a:ext cx="8604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анно Аквариум «Голубая лагуна» должен быть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Ярким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расивым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Аккуратным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ндивидуальным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ачественным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ивлекательным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едорогим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красивым дизайном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временный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нтересный сюж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WordArt 4" descr="Джинсовая ткань"/>
          <p:cNvPicPr/>
          <p:nvPr/>
        </p:nvPicPr>
        <p:blipFill>
          <a:blip r:embed="rId1"/>
          <a:stretch/>
        </p:blipFill>
        <p:spPr>
          <a:xfrm>
            <a:off x="1474920" y="122400"/>
            <a:ext cx="626724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914040" y="1557360"/>
            <a:ext cx="603396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Это панно я решила сделать для интерьера своей комнаты. И показать, что поделки своими руками украшают дизайн любой комнат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WordArt 4" descr="Джинсовая ткань"/>
          <p:cNvPicPr/>
          <p:nvPr/>
        </p:nvPicPr>
        <p:blipFill>
          <a:blip r:embed="rId1"/>
          <a:stretch/>
        </p:blipFill>
        <p:spPr>
          <a:xfrm>
            <a:off x="1200240" y="407880"/>
            <a:ext cx="6108480" cy="127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МИШКА"/>
          <p:cNvPicPr/>
          <p:nvPr/>
        </p:nvPicPr>
        <p:blipFill>
          <a:blip r:embed="rId2"/>
          <a:stretch/>
        </p:blipFill>
        <p:spPr>
          <a:xfrm>
            <a:off x="6227640" y="3141720"/>
            <a:ext cx="244800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914040" y="1600200"/>
            <a:ext cx="48099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Я считаю, что справлюсь с этой работой. Так  как   у меня  есть опыт работы с глиной. В ИЗО-студии «Волшебная кисть» мною выполнены такие работы как, сказочные герои из мультфильмов, женщины средневековья, семья Фенеков и другие. Некоторые работы были представлены на областные конкурсы декоративно-прикладного творчества, за которые были получены призовые мест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 уроках технологии мною были выполнены работы по лепке из соленного теста, чеканка, выжигание по дереву, были приобретены навыки кройки и шитья, вышивки  крестом, вязание крючко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WordArt 4" descr="Джинсовая ткань"/>
          <p:cNvPicPr/>
          <p:nvPr/>
        </p:nvPicPr>
        <p:blipFill>
          <a:blip r:embed="rId1"/>
          <a:stretch/>
        </p:blipFill>
        <p:spPr>
          <a:xfrm>
            <a:off x="1481040" y="195120"/>
            <a:ext cx="6662880" cy="192564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7" descr="Beaver.bmp"/>
          <p:cNvPicPr/>
          <p:nvPr/>
        </p:nvPicPr>
        <p:blipFill>
          <a:blip r:embed="rId2"/>
          <a:stretch/>
        </p:blipFill>
        <p:spPr>
          <a:xfrm>
            <a:off x="6500880" y="2714760"/>
            <a:ext cx="2114640" cy="218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6:01:28Z</dcterms:created>
  <dc:creator>Олечка</dc:creator>
  <dc:description/>
  <dc:language>en-US</dc:language>
  <cp:lastModifiedBy>Ирина</cp:lastModifiedBy>
  <dcterms:modified xsi:type="dcterms:W3CDTF">2017-02-14T18:34:36Z</dcterms:modified>
  <cp:revision>52</cp:revision>
  <dc:subject/>
  <dc:title>Слайд 1</dc:title>
</cp:coreProperties>
</file>