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2.png" ContentType="image/png"/>
  <Override PartName="/ppt/media/image25.jpeg" ContentType="image/jpeg"/>
  <Override PartName="/ppt/media/image4.jpeg" ContentType="image/jpeg"/>
  <Override PartName="/ppt/media/image8.wmf" ContentType="image/x-wmf"/>
  <Override PartName="/ppt/media/image12.jpeg" ContentType="image/jpeg"/>
  <Override PartName="/ppt/media/image18.png" ContentType="image/png"/>
  <Override PartName="/ppt/media/image7.jpeg" ContentType="image/jpeg"/>
  <Override PartName="/ppt/media/image28.png" ContentType="image/png"/>
  <Override PartName="/ppt/media/image29.jpeg" ContentType="image/jpeg"/>
  <Override PartName="/ppt/media/image5.png" ContentType="image/png"/>
  <Override PartName="/ppt/media/image30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3.png" ContentType="image/png"/>
  <Override PartName="/ppt/media/image13.wmf" ContentType="image/x-wmf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4.png" ContentType="image/png"/>
  <Override PartName="/ppt/media/image15.png" ContentType="image/png"/>
  <Override PartName="/ppt/media/image24.jpeg" ContentType="image/jpeg"/>
  <Override PartName="/ppt/media/image16.png" ContentType="image/png"/>
  <Override PartName="/ppt/media/image17.png" ContentType="image/png"/>
  <Override PartName="/ppt/media/image19.png" ContentType="image/png"/>
  <Override PartName="/ppt/media/image20.jpeg" ContentType="image/jpeg"/>
  <Override PartName="/ppt/media/image21.jpeg" ContentType="image/jpeg"/>
  <Override PartName="/ppt/media/image32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20BF-5418-4E86-B3D0-44A7E9345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004C-DF99-410E-83A4-21F7A4E94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729B-A81B-4BD0-88FE-CA4E96179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3097-4290-4B31-965C-5157EE696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8B7EF-32A5-4C70-85F3-890399FEF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7DEF7-BA7A-4DAC-AA66-DC16ACE9D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FEBA7-96B4-49CA-B1B5-853EDBB54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A48D6-3C5B-40B6-B4EB-B3EEA7BF1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950A3-CA1A-4687-B4C9-D1DE5C77D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AFE28-7F11-4A06-A70A-4665C08DA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2E1BB-89C0-4DD9-8037-0A1E2471B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2165-9700-46D0-8EEC-FE5F9B998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E1D36-61AF-4F48-9794-93A4FA8F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D25C2-FB61-4F6C-8CE9-A03245024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0EADA-6C54-48EB-AC4B-D14C575D1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010A3-7654-4FA7-9DDC-BF039F67C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348E4-B40B-4A0D-945B-D10C12F38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8B639-F521-42D0-814E-C808FA26C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365DD-BE55-4CBC-874F-08AEA74BA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92F19-8C5C-414B-BC53-DF132AA1D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CBB84-FE5A-46E8-BF8B-DA558393B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1CE91-5246-44CF-8882-D00870ACF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DE19-BFC9-4E55-971E-4A3400955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94667-9067-4B7D-82A0-8B8E1DE02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2CC56-36B8-4DE6-9054-D4BAF93C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12EB3-8633-4945-AAD1-E0ACB095D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21997-9679-4B8A-9A1F-BB1365263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FE782-8947-4BB8-B309-6D430A08A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67ADA-CBAC-4EEB-B940-A3328FCC9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488DE-8F19-4AF7-AC8D-8D61DA5F5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0A4A2-A85F-4198-9CC0-B210E4038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DF451-233A-4C79-81FD-84A620E73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82141-4FEB-4B93-AC61-EDB8B3250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BE0C-BAE9-44D8-8E29-B1F95CB40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D29BB-DCA6-43CC-B10D-0571B8877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50AF5-0A38-42BD-9DF8-4AD57859C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C3541-020C-4274-8ECD-ED97B1E9B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02D76-6D6A-49D6-9BB2-13E003F9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6090B-DBDF-4715-81A6-00903F1C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7EF2A-5FBE-4AC6-A87D-E98A629D4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89141-97FE-44AD-A63F-1B6432635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0AB4E-FF69-4438-97F5-159C5BE28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04DFE-4AA8-4698-9163-08B3C8DD5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2535-09D9-4425-992F-0781C7F23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4617-0FE7-490E-A720-50A365138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B537-52B1-4E38-8251-898F65FBB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FCAA-31F7-4552-BECA-7509A4FC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BFEE-C461-49FE-A5CC-F4A6FB3DD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5EC0E-BBF7-4DFB-9F04-0420832B0A1C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02731-7B30-49C5-9985-CAF0FFC0D7A2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CD5F9-46FA-4425-AA3F-16DDDD4C2803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1F443-AFB2-4348-B35F-CF154AB39486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3" descr=""/>
          <p:cNvPicPr/>
          <p:nvPr/>
        </p:nvPicPr>
        <p:blipFill>
          <a:blip r:embed="rId1"/>
          <a:stretch/>
        </p:blipFill>
        <p:spPr>
          <a:xfrm>
            <a:off x="826920" y="-171360"/>
            <a:ext cx="7371000" cy="215892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7"/>
          <p:cNvSpPr/>
          <p:nvPr/>
        </p:nvSpPr>
        <p:spPr>
          <a:xfrm>
            <a:off x="1116000" y="198900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4684680" y="5388120"/>
            <a:ext cx="44593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Автор работы: Демидовцева Любовь Владимировна  ученица 9 А класса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Руководитель: Ирина Борисовна Голубева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учитель технологии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WordArt 10"/>
          <p:cNvSpPr txBox="1"/>
          <p:nvPr/>
        </p:nvSpPr>
        <p:spPr>
          <a:xfrm>
            <a:off x="2484360" y="1844640"/>
            <a:ext cx="3819600" cy="13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 Black"/>
              </a:rPr>
              <a:t>Дизайн – проект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9" name="WordArt 13"/>
          <p:cNvSpPr txBox="1"/>
          <p:nvPr/>
        </p:nvSpPr>
        <p:spPr>
          <a:xfrm>
            <a:off x="3348000" y="2997360"/>
            <a:ext cx="1866960" cy="85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dbf5f9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 технологии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dbf5f9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0" name="WordArt 17"/>
          <p:cNvSpPr txBox="1"/>
          <p:nvPr/>
        </p:nvSpPr>
        <p:spPr>
          <a:xfrm>
            <a:off x="1403280" y="3933720"/>
            <a:ext cx="649620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Аквариум «Голубая лагуна»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3"/>
          <p:cNvSpPr/>
          <p:nvPr/>
        </p:nvSpPr>
        <p:spPr>
          <a:xfrm>
            <a:off x="928800" y="4443480"/>
            <a:ext cx="7643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WordArt 5"/>
          <p:cNvSpPr txBox="1"/>
          <p:nvPr/>
        </p:nvSpPr>
        <p:spPr>
          <a:xfrm>
            <a:off x="1619280" y="115920"/>
            <a:ext cx="62388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f6fc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атериалы и инструменты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f6fc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Две деревянные рейк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калк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Глин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Дощечк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теки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Штампы – колпачки от фломастеров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Ткань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Эскиз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Гуашь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Гипсокартон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Штукатурк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Флористический материал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Кисточк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Клей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1"/>
          <p:cNvSpPr/>
          <p:nvPr/>
        </p:nvSpPr>
        <p:spPr>
          <a:xfrm>
            <a:off x="642960" y="4637160"/>
            <a:ext cx="5081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7"/>
          <p:cNvSpPr/>
          <p:nvPr/>
        </p:nvSpPr>
        <p:spPr>
          <a:xfrm>
            <a:off x="44798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WordArt 8"/>
          <p:cNvSpPr txBox="1"/>
          <p:nvPr/>
        </p:nvSpPr>
        <p:spPr>
          <a:xfrm>
            <a:off x="3492360" y="189000"/>
            <a:ext cx="2343240" cy="12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66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аркетинг</a:t>
            </a:r>
            <a:endParaRPr b="0" lang="en-US" sz="4000" spc="1" strike="noStrike">
              <a:ln w="0">
                <a:noFill/>
              </a:ln>
              <a:solidFill>
                <a:srgbClr val="66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95280" y="4869000"/>
            <a:ext cx="770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onstantia"/>
              </a:rPr>
              <a:t>Вывод: </a:t>
            </a:r>
            <a:r>
              <a:rPr b="0" lang="ru-RU" sz="1500" spc="-1" strike="noStrike">
                <a:solidFill>
                  <a:srgbClr val="000000"/>
                </a:solidFill>
                <a:latin typeface="Constantia"/>
              </a:rPr>
              <a:t>Материалы: глина, стеки, краски, клей, кисточки, дощечка для лепки я купила в магазине «Уют». Деревянные рейки, гипсокартон, штукатурка остались после ремонта квартиры, которые я использовала в своей работе. Скалка и штампы – колпачки от фломастеров у меня уже были, ткань - остатки от уроков технологии.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nstantia"/>
              </a:rPr>
              <a:t>Флористический материал(ракушки, морские звезды, сушеные водоросли, скелетные листья, бусинки) подарила бабушка после приезда с Черного моря. И на это изделия я потратила 265 рублей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1619280" y="1484280"/>
          <a:ext cx="5796000" cy="3224160"/>
        </p:xfrm>
        <a:graphic>
          <a:graphicData uri="http://schemas.openxmlformats.org/drawingml/2006/table">
            <a:tbl>
              <a:tblPr/>
              <a:tblGrid>
                <a:gridCol w="1932120"/>
                <a:gridCol w="1931760"/>
                <a:gridCol w="1932120"/>
              </a:tblGrid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Т.Т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атериа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агазин «Уют»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ынок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  <a:ea typeface="宋体"/>
                        </a:rPr>
                        <a:t>Глин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  <a:ea typeface="宋体"/>
                        </a:rPr>
                        <a:t>Стеки (пластик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раски «Гуашь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лей П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источк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Дощечка для леп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ру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1" name="Line 46"/>
          <p:cNvSpPr/>
          <p:nvPr/>
        </p:nvSpPr>
        <p:spPr>
          <a:xfrm flipH="1" flipV="1">
            <a:off x="1618920" y="1484280"/>
            <a:ext cx="1942920" cy="6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1"/>
          <p:cNvSpPr/>
          <p:nvPr/>
        </p:nvSpPr>
        <p:spPr>
          <a:xfrm>
            <a:off x="-468360" y="2851920"/>
            <a:ext cx="271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прост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0" y="4503240"/>
            <a:ext cx="9144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Вывод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буду делать работу  №4, так как  у нее  интересный сюжет, не слишком сложная по выполнению и более привлекательн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"/>
          <p:cNvSpPr/>
          <p:nvPr/>
        </p:nvSpPr>
        <p:spPr>
          <a:xfrm>
            <a:off x="2195640" y="2851920"/>
            <a:ext cx="27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интерес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14" descr=""/>
          <p:cNvPicPr/>
          <p:nvPr/>
        </p:nvPicPr>
        <p:blipFill>
          <a:blip r:embed="rId1"/>
          <a:stretch/>
        </p:blipFill>
        <p:spPr>
          <a:xfrm>
            <a:off x="179280" y="1285920"/>
            <a:ext cx="2016360" cy="15015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6" descr=""/>
          <p:cNvPicPr/>
          <p:nvPr/>
        </p:nvPicPr>
        <p:blipFill>
          <a:blip r:embed="rId2"/>
          <a:stretch/>
        </p:blipFill>
        <p:spPr>
          <a:xfrm>
            <a:off x="2268360" y="1268280"/>
            <a:ext cx="2159280" cy="1513080"/>
          </a:xfrm>
          <a:prstGeom prst="rect">
            <a:avLst/>
          </a:prstGeom>
          <a:ln w="0">
            <a:noFill/>
          </a:ln>
        </p:spPr>
      </p:pic>
      <p:sp>
        <p:nvSpPr>
          <p:cNvPr id="267" name="WordArt 17"/>
          <p:cNvSpPr txBox="1"/>
          <p:nvPr/>
        </p:nvSpPr>
        <p:spPr>
          <a:xfrm>
            <a:off x="2268360" y="0"/>
            <a:ext cx="4419720" cy="14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ервоначальные идеи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68" name="Picture 18" descr=""/>
          <p:cNvPicPr/>
          <p:nvPr/>
        </p:nvPicPr>
        <p:blipFill>
          <a:blip r:embed="rId3"/>
          <a:stretch/>
        </p:blipFill>
        <p:spPr>
          <a:xfrm>
            <a:off x="4500720" y="1268280"/>
            <a:ext cx="2087280" cy="151308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84720" y="2852280"/>
            <a:ext cx="16574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Сложная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0" name="Picture 21" descr=""/>
          <p:cNvPicPr/>
          <p:nvPr/>
        </p:nvPicPr>
        <p:blipFill>
          <a:blip r:embed="rId4"/>
          <a:stretch/>
        </p:blipFill>
        <p:spPr>
          <a:xfrm>
            <a:off x="6732720" y="1268280"/>
            <a:ext cx="2195280" cy="151308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25"/>
          <p:cNvSpPr/>
          <p:nvPr/>
        </p:nvSpPr>
        <p:spPr>
          <a:xfrm>
            <a:off x="826920" y="3357720"/>
            <a:ext cx="2016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26"/>
          <p:cNvSpPr/>
          <p:nvPr/>
        </p:nvSpPr>
        <p:spPr>
          <a:xfrm>
            <a:off x="6659640" y="2924280"/>
            <a:ext cx="295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-Я сделаю эту рабо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WordArt 8"/>
          <p:cNvSpPr txBox="1"/>
          <p:nvPr/>
        </p:nvSpPr>
        <p:spPr>
          <a:xfrm>
            <a:off x="3635280" y="189000"/>
            <a:ext cx="144792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эскиз</a:t>
            </a:r>
            <a:endParaRPr b="0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74" name="Picture 9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6492960" cy="55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WordArt 15"/>
          <p:cNvSpPr txBox="1"/>
          <p:nvPr/>
        </p:nvSpPr>
        <p:spPr>
          <a:xfrm>
            <a:off x="2195640" y="189000"/>
            <a:ext cx="4495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хника изготовлени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6" name="Text Box 16"/>
          <p:cNvSpPr/>
          <p:nvPr/>
        </p:nvSpPr>
        <p:spPr>
          <a:xfrm>
            <a:off x="0" y="1052640"/>
            <a:ext cx="529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Раскатывание пластины с направляющими рейк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17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1355760" cy="151272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18"/>
          <p:cNvSpPr/>
          <p:nvPr/>
        </p:nvSpPr>
        <p:spPr>
          <a:xfrm>
            <a:off x="0" y="2924280"/>
            <a:ext cx="374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Налепные узор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9" descr=""/>
          <p:cNvPicPr/>
          <p:nvPr/>
        </p:nvPicPr>
        <p:blipFill>
          <a:blip r:embed="rId2"/>
          <a:srcRect l="0" t="-96" r="0" b="0"/>
          <a:stretch/>
        </p:blipFill>
        <p:spPr>
          <a:xfrm>
            <a:off x="1116000" y="3213000"/>
            <a:ext cx="1511280" cy="151308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20"/>
          <p:cNvSpPr/>
          <p:nvPr/>
        </p:nvSpPr>
        <p:spPr>
          <a:xfrm>
            <a:off x="0" y="4653000"/>
            <a:ext cx="489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Текстурный эффект: тиснение, гравиров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21" descr=""/>
          <p:cNvPicPr/>
          <p:nvPr/>
        </p:nvPicPr>
        <p:blipFill>
          <a:blip r:embed="rId3"/>
          <a:stretch/>
        </p:blipFill>
        <p:spPr>
          <a:xfrm>
            <a:off x="755640" y="4941720"/>
            <a:ext cx="2160720" cy="129564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22"/>
          <p:cNvSpPr/>
          <p:nvPr/>
        </p:nvSpPr>
        <p:spPr>
          <a:xfrm>
            <a:off x="6262560" y="1197000"/>
            <a:ext cx="28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Сушка и обжиг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23"/>
          <p:cNvSpPr/>
          <p:nvPr/>
        </p:nvSpPr>
        <p:spPr>
          <a:xfrm>
            <a:off x="6227640" y="170028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 Роспись издел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24"/>
          <p:cNvSpPr/>
          <p:nvPr/>
        </p:nvSpPr>
        <p:spPr>
          <a:xfrm>
            <a:off x="6227640" y="2133720"/>
            <a:ext cx="277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. Оформление рабо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323640" y="691920"/>
            <a:ext cx="509724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Размер панно с рамкой 55*45см, основная часть панно 38*29см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Рамка сделана из гипсокартона и штукатурки украшенная флористическим материалом. Основная часть вылеплена из глины, которая обожжена и раскрашена в яркие цвета. Голубая рамка придает поделке вид аквариума и картины. Принцип подбора цвета основан на ярких динамичных цветовых отношениях, что способствует заинтересованности и увлечению зрителя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За работой легко ухаживать, сметая пыль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6" name="WordArt 4" descr="Джинсовая ткань"/>
          <p:cNvPicPr/>
          <p:nvPr/>
        </p:nvPicPr>
        <p:blipFill>
          <a:blip r:embed="rId1"/>
          <a:stretch/>
        </p:blipFill>
        <p:spPr>
          <a:xfrm>
            <a:off x="1914480" y="341280"/>
            <a:ext cx="5675400" cy="10429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6" descr=""/>
          <p:cNvPicPr/>
          <p:nvPr/>
        </p:nvPicPr>
        <p:blipFill>
          <a:blip r:embed="rId2"/>
          <a:stretch/>
        </p:blipFill>
        <p:spPr>
          <a:xfrm>
            <a:off x="5364000" y="3333600"/>
            <a:ext cx="3533760" cy="314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539280" y="1412640"/>
            <a:ext cx="814716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Я считаю, что с работой справилась. Самое главное, что я попробовала себя в профессии скульптура. В процессе выполнения работы я старалась изготовить изделие интересным и красивым. Мне  было важно, чтобы моя работа понравилась всем моим близким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и работе с дизайн - папкой я научилась оформлять деловые бумаги и работать с компьютером. Также при работе над проектом я научилась правильно определять проблему и ставить задачи для её решения и делать выводы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тала лучше работать в компьютерных программах: Microsoft Word, Photoshop, Microsoft Excel и други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9" name="WordArt 4" descr="Джинсовая ткань"/>
          <p:cNvPicPr/>
          <p:nvPr/>
        </p:nvPicPr>
        <p:blipFill>
          <a:blip r:embed="rId1"/>
          <a:stretch/>
        </p:blipFill>
        <p:spPr>
          <a:xfrm>
            <a:off x="1200240" y="128520"/>
            <a:ext cx="6591240" cy="171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323640" y="1989000"/>
            <a:ext cx="509724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Учебник «Технология» 9 класс. под редакцией В.Д. Симоненко «Вентано- граф» М. 2008г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-52812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«Дизайн - подход» Дж Гитт, М. Павлова НГУ Н.Новгород 2001г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-52812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Учебник «Трудовое обучение» - Бешенков А.К., Васильченко Е.В., Иванов      А.И.  «Просвещение» 1990г., Москва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-52812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dd9"/>
                </a:solidFill>
                <a:latin typeface="Constantia"/>
              </a:rPr>
              <a:t>http://glina.teploruk.ru/article/sposoby_lepki.html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-52812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dd9"/>
                </a:solidFill>
                <a:latin typeface="Constantia"/>
              </a:rPr>
              <a:t>http://1-rs.com/article/lepka-istoriya-poyavleniya-priemyi-i-sovetyi.html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-52812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Буббико Дж.., Крус Х. Керамика: техники, материалы, изделия/Пер. с итал. –  «Ниола - пресс»,2006. – 128с.: ил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1" name="WordArt 4" descr="Джинсовая ткань"/>
          <p:cNvPicPr/>
          <p:nvPr/>
        </p:nvPicPr>
        <p:blipFill>
          <a:blip r:embed="rId1"/>
          <a:stretch/>
        </p:blipFill>
        <p:spPr>
          <a:xfrm>
            <a:off x="1487520" y="1054080"/>
            <a:ext cx="5456160" cy="148104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5" descr="MCj04260540000[1]"/>
          <p:cNvPicPr/>
          <p:nvPr/>
        </p:nvPicPr>
        <p:blipFill>
          <a:blip r:embed="rId2"/>
          <a:stretch/>
        </p:blipFill>
        <p:spPr>
          <a:xfrm>
            <a:off x="6357960" y="2857680"/>
            <a:ext cx="182880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900000" y="1483920"/>
            <a:ext cx="653760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Занимаясь лепкой в школе на уроке технологии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и в ИЗО-студии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«Волшебная кисть», я нахожусь в постоянном поиске новых образов и ищу применение новым техническим приемам, с которыми познакомилась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Мне нравиться научные фильмы об обитателях морей. Среди них есть очень красивые по-своему интересные рыбы. Побывав в Санкт-Петербургском океанариуме, и понаблюдав  за его обитателями, у меня появилась идея создать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Аквариум «Голубая лагуна» из глины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WordArt 4"/>
          <p:cNvSpPr txBox="1"/>
          <p:nvPr/>
        </p:nvSpPr>
        <p:spPr>
          <a:xfrm>
            <a:off x="2916360" y="404640"/>
            <a:ext cx="41767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203" name="Picture 5" descr="MCj00787110000[1]"/>
          <p:cNvPicPr/>
          <p:nvPr/>
        </p:nvPicPr>
        <p:blipFill>
          <a:blip r:embed="rId3"/>
          <a:stretch/>
        </p:blipFill>
        <p:spPr>
          <a:xfrm>
            <a:off x="7358040" y="2000160"/>
            <a:ext cx="1308240" cy="3168720"/>
          </a:xfrm>
          <a:prstGeom prst="rect">
            <a:avLst/>
          </a:prstGeom>
          <a:ln w="0">
            <a:noFill/>
          </a:ln>
        </p:spPr>
      </p:pic>
      <p:pic>
        <p:nvPicPr>
          <p:cNvPr id="204" name="Прямоугольник 10" descr=""/>
          <p:cNvPicPr/>
          <p:nvPr/>
        </p:nvPicPr>
        <p:blipFill>
          <a:blip r:embed="rId4"/>
          <a:stretch/>
        </p:blipFill>
        <p:spPr>
          <a:xfrm>
            <a:off x="927000" y="360360"/>
            <a:ext cx="7504200" cy="1236600"/>
          </a:xfrm>
          <a:prstGeom prst="rect">
            <a:avLst/>
          </a:prstGeom>
          <a:ln w="0">
            <a:noFill/>
          </a:ln>
        </p:spPr>
      </p:pic>
      <p:pic>
        <p:nvPicPr>
          <p:cNvPr id="205" name="Рисунок 11" descr="Balloon.bmp"/>
          <p:cNvPicPr/>
          <p:nvPr/>
        </p:nvPicPr>
        <p:blipFill>
          <a:blip r:embed="rId5"/>
          <a:stretch/>
        </p:blipFill>
        <p:spPr>
          <a:xfrm>
            <a:off x="6804000" y="692280"/>
            <a:ext cx="1373040" cy="16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914040" y="1599840"/>
            <a:ext cx="4737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ыполнить эскизы Аквариум «Голубая лагуна» и слепить из глин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WordArt 4" descr="Джинсовая ткань"/>
          <p:cNvPicPr/>
          <p:nvPr/>
        </p:nvPicPr>
        <p:blipFill>
          <a:blip r:embed="rId1"/>
          <a:stretch/>
        </p:blipFill>
        <p:spPr>
          <a:xfrm>
            <a:off x="1206360" y="268200"/>
            <a:ext cx="5999400" cy="1908360"/>
          </a:xfrm>
          <a:prstGeom prst="rect">
            <a:avLst/>
          </a:prstGeom>
          <a:ln w="0">
            <a:noFill/>
          </a:ln>
        </p:spPr>
      </p:pic>
      <p:pic>
        <p:nvPicPr>
          <p:cNvPr id="208" name="Рисунок 4" descr="Безимен66и-2.jpg"/>
          <p:cNvPicPr/>
          <p:nvPr/>
        </p:nvPicPr>
        <p:blipFill>
          <a:blip r:embed="rId2"/>
          <a:stretch/>
        </p:blipFill>
        <p:spPr>
          <a:xfrm>
            <a:off x="6156360" y="2060640"/>
            <a:ext cx="2571840" cy="28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WordArt 7"/>
          <p:cNvSpPr txBox="1"/>
          <p:nvPr/>
        </p:nvSpPr>
        <p:spPr>
          <a:xfrm>
            <a:off x="2843280" y="0"/>
            <a:ext cx="3209760" cy="123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00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сследование</a:t>
            </a:r>
            <a:endParaRPr b="0" lang="en-US" sz="4000" spc="1" strike="noStrike">
              <a:ln w="0">
                <a:noFill/>
              </a:ln>
              <a:solidFill>
                <a:srgbClr val="00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2916360" y="2492280"/>
            <a:ext cx="3600360" cy="237492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3059280" y="2637000"/>
            <a:ext cx="331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50cca"/>
                </a:solidFill>
                <a:latin typeface="Arial"/>
              </a:rPr>
              <a:t>Аквариум «Голубая лагун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0"/>
          <p:cNvSpPr/>
          <p:nvPr/>
        </p:nvSpPr>
        <p:spPr>
          <a:xfrm flipV="1">
            <a:off x="2987640" y="19886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1"/>
          <p:cNvSpPr/>
          <p:nvPr/>
        </p:nvSpPr>
        <p:spPr>
          <a:xfrm flipV="1">
            <a:off x="4067280" y="19886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2"/>
          <p:cNvSpPr/>
          <p:nvPr/>
        </p:nvSpPr>
        <p:spPr>
          <a:xfrm flipV="1">
            <a:off x="5435640" y="184464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3"/>
          <p:cNvSpPr/>
          <p:nvPr/>
        </p:nvSpPr>
        <p:spPr>
          <a:xfrm flipV="1">
            <a:off x="6516720" y="1916280"/>
            <a:ext cx="57636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4"/>
          <p:cNvSpPr/>
          <p:nvPr/>
        </p:nvSpPr>
        <p:spPr>
          <a:xfrm>
            <a:off x="651672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5"/>
          <p:cNvSpPr/>
          <p:nvPr/>
        </p:nvSpPr>
        <p:spPr>
          <a:xfrm>
            <a:off x="6516720" y="3789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6"/>
          <p:cNvSpPr/>
          <p:nvPr/>
        </p:nvSpPr>
        <p:spPr>
          <a:xfrm>
            <a:off x="6516720" y="4292640"/>
            <a:ext cx="86364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7"/>
          <p:cNvSpPr/>
          <p:nvPr/>
        </p:nvSpPr>
        <p:spPr>
          <a:xfrm>
            <a:off x="6516720" y="4869000"/>
            <a:ext cx="647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8"/>
          <p:cNvSpPr/>
          <p:nvPr/>
        </p:nvSpPr>
        <p:spPr>
          <a:xfrm>
            <a:off x="5651640" y="486900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9"/>
          <p:cNvSpPr/>
          <p:nvPr/>
        </p:nvSpPr>
        <p:spPr>
          <a:xfrm>
            <a:off x="4211640" y="486900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20"/>
          <p:cNvSpPr/>
          <p:nvPr/>
        </p:nvSpPr>
        <p:spPr>
          <a:xfrm flipH="1">
            <a:off x="2555640" y="4869000"/>
            <a:ext cx="43164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21"/>
          <p:cNvSpPr/>
          <p:nvPr/>
        </p:nvSpPr>
        <p:spPr>
          <a:xfrm flipH="1">
            <a:off x="1907640" y="450864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22"/>
          <p:cNvSpPr/>
          <p:nvPr/>
        </p:nvSpPr>
        <p:spPr>
          <a:xfrm flipH="1">
            <a:off x="1763640" y="314172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24"/>
          <p:cNvSpPr/>
          <p:nvPr/>
        </p:nvSpPr>
        <p:spPr>
          <a:xfrm>
            <a:off x="2484360" y="1197000"/>
            <a:ext cx="1440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епка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тория появ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5"/>
          <p:cNvSpPr/>
          <p:nvPr/>
        </p:nvSpPr>
        <p:spPr>
          <a:xfrm>
            <a:off x="3780000" y="1197000"/>
            <a:ext cx="1225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пособы лепки из гли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6"/>
          <p:cNvSpPr/>
          <p:nvPr/>
        </p:nvSpPr>
        <p:spPr>
          <a:xfrm>
            <a:off x="4932360" y="1268280"/>
            <a:ext cx="172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изайн-спецификац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7"/>
          <p:cNvSpPr/>
          <p:nvPr/>
        </p:nvSpPr>
        <p:spPr>
          <a:xfrm>
            <a:off x="6948360" y="1557360"/>
            <a:ext cx="172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требите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8"/>
          <p:cNvSpPr/>
          <p:nvPr/>
        </p:nvSpPr>
        <p:spPr>
          <a:xfrm>
            <a:off x="7451640" y="3573360"/>
            <a:ext cx="151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териалы и инструмент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9"/>
          <p:cNvSpPr/>
          <p:nvPr/>
        </p:nvSpPr>
        <p:spPr>
          <a:xfrm>
            <a:off x="7524720" y="4292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ркетин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0"/>
          <p:cNvSpPr/>
          <p:nvPr/>
        </p:nvSpPr>
        <p:spPr>
          <a:xfrm>
            <a:off x="7451640" y="278136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вы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31"/>
          <p:cNvSpPr/>
          <p:nvPr/>
        </p:nvSpPr>
        <p:spPr>
          <a:xfrm>
            <a:off x="6948360" y="5445000"/>
            <a:ext cx="197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оначальная иде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32"/>
          <p:cNvSpPr/>
          <p:nvPr/>
        </p:nvSpPr>
        <p:spPr>
          <a:xfrm>
            <a:off x="5364000" y="5661000"/>
            <a:ext cx="10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ски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3"/>
          <p:cNvSpPr/>
          <p:nvPr/>
        </p:nvSpPr>
        <p:spPr>
          <a:xfrm>
            <a:off x="3635280" y="5661000"/>
            <a:ext cx="151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хника изготов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4"/>
          <p:cNvSpPr/>
          <p:nvPr/>
        </p:nvSpPr>
        <p:spPr>
          <a:xfrm>
            <a:off x="1187280" y="5516640"/>
            <a:ext cx="18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изайн-анали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5"/>
          <p:cNvSpPr/>
          <p:nvPr/>
        </p:nvSpPr>
        <p:spPr>
          <a:xfrm>
            <a:off x="395280" y="429264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ооцен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6"/>
          <p:cNvSpPr/>
          <p:nvPr/>
        </p:nvSpPr>
        <p:spPr>
          <a:xfrm>
            <a:off x="324000" y="292428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1"/>
          <p:cNvSpPr/>
          <p:nvPr/>
        </p:nvSpPr>
        <p:spPr>
          <a:xfrm>
            <a:off x="250920" y="1422000"/>
            <a:ext cx="583236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ыми популярными материалами для лепки являются пластилин и глина. Глина бывает красная, желтая, белая и голубая. Еще в глубокой древности люди обратили внимание, что глина, если ее увлажнить, становится мягкой, и из нее очень удобно лепить разные предметы. глина сначала использовалась для покрытия плетеных корзин, а потом и для изготовления самой первой посуды, которая лепилась таким образом: глину раскатывали в лепешку и загибали края. Технику обжига открыли также случайно: промокшая корзина была оставлена у огня для просушки, а в итоге обрела совершенно новые качества, которые позволили хранить в ней жидкость. Сейчас лепка из глины — одно из любимейших занятий народных умельцев . Свойства глины уникальны: ее консистенция может меняться в зависимости от количества добавленной в нее воды. Глина может быть жидкой и твердой, ее легко крошить, ломать, скатывать, размазывать, именно поэтому глину очень любят дети. Изделия из глины обычно называют керамик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468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WordArt 7"/>
          <p:cNvSpPr txBox="1"/>
          <p:nvPr/>
        </p:nvSpPr>
        <p:spPr>
          <a:xfrm>
            <a:off x="1763640" y="0"/>
            <a:ext cx="5905440" cy="165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f6fc6"/>
                </a:solidFill>
                <a:latin typeface="Impact"/>
              </a:rPr>
              <a:t>Лепка: история появления 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f6fc6"/>
              </a:solidFill>
              <a:latin typeface="Impact"/>
              <a:ea typeface="Impact"/>
            </a:endParaRPr>
          </a:p>
        </p:txBody>
      </p:sp>
      <p:pic>
        <p:nvPicPr>
          <p:cNvPr id="241" name="Рисунок 8" descr="MCj04300770000[1]"/>
          <p:cNvPicPr/>
          <p:nvPr/>
        </p:nvPicPr>
        <p:blipFill>
          <a:blip r:embed="rId1"/>
          <a:stretch/>
        </p:blipFill>
        <p:spPr>
          <a:xfrm>
            <a:off x="6516720" y="2997360"/>
            <a:ext cx="2011320" cy="202068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4" descr="Безымянныйе5не.bmp"/>
          <p:cNvPicPr/>
          <p:nvPr/>
        </p:nvPicPr>
        <p:blipFill>
          <a:blip r:embed="rId2"/>
          <a:stretch/>
        </p:blipFill>
        <p:spPr>
          <a:xfrm>
            <a:off x="7812000" y="1989000"/>
            <a:ext cx="486000" cy="11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WordArt 6"/>
          <p:cNvSpPr txBox="1"/>
          <p:nvPr/>
        </p:nvSpPr>
        <p:spPr>
          <a:xfrm>
            <a:off x="1908000" y="189000"/>
            <a:ext cx="51343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особы лепки из глины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Конструктивный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ластически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Комбинированны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Рельефная лепка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Техника отщипывани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пиральная техника (из жгутов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Ленточный способ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Формовани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9280" y="907920"/>
            <a:ext cx="86043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Панно Аквариум «Голубая лагуна» должен быть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Ярким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Красивым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Аккуратным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Индивидуальным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Качественным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Привлекательным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Недорогим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С красивым дизайном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Современный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Интересный сюжет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6" name="WordArt 4" descr="Джинсовая ткань"/>
          <p:cNvPicPr/>
          <p:nvPr/>
        </p:nvPicPr>
        <p:blipFill>
          <a:blip r:embed="rId1"/>
          <a:stretch/>
        </p:blipFill>
        <p:spPr>
          <a:xfrm>
            <a:off x="1474920" y="122400"/>
            <a:ext cx="6267240" cy="112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914040" y="1557360"/>
            <a:ext cx="603396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Это панно я решила сделать для интерьера своей комнаты. И показать, что поделки своими руками украшают дизайн любой комнаты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8" name="WordArt 4" descr="Джинсовая ткань"/>
          <p:cNvPicPr/>
          <p:nvPr/>
        </p:nvPicPr>
        <p:blipFill>
          <a:blip r:embed="rId1"/>
          <a:stretch/>
        </p:blipFill>
        <p:spPr>
          <a:xfrm>
            <a:off x="1200240" y="407880"/>
            <a:ext cx="6108480" cy="12747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" descr="МИШКА"/>
          <p:cNvPicPr/>
          <p:nvPr/>
        </p:nvPicPr>
        <p:blipFill>
          <a:blip r:embed="rId2"/>
          <a:stretch/>
        </p:blipFill>
        <p:spPr>
          <a:xfrm>
            <a:off x="6227640" y="3141720"/>
            <a:ext cx="2448000" cy="28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914040" y="1600200"/>
            <a:ext cx="480996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Я считаю, что справлюсь с этой работой. Так  как   у меня  есть опыт работы с глиной. В ИЗО-студии «Волшебная кисть» мною выполнены такие работы как, сказочные герои из мультфильмов, женщины средневековья, семья Фенеков и другие. Некоторые работы были представлены на областные конкурсы декоративно-прикладного творчества, за которые были получены призовые мест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На уроках технологии мною были выполнены работы по лепке из соленного теста, чеканка, выжигание по дереву, были приобретены навыки кройки и шитья, вышивки  крестом, вязание крючком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1" name="WordArt 4" descr="Джинсовая ткань"/>
          <p:cNvPicPr/>
          <p:nvPr/>
        </p:nvPicPr>
        <p:blipFill>
          <a:blip r:embed="rId1"/>
          <a:stretch/>
        </p:blipFill>
        <p:spPr>
          <a:xfrm>
            <a:off x="1481040" y="195120"/>
            <a:ext cx="6662880" cy="1925640"/>
          </a:xfrm>
          <a:prstGeom prst="rect">
            <a:avLst/>
          </a:prstGeom>
          <a:ln w="0">
            <a:noFill/>
          </a:ln>
        </p:spPr>
      </p:pic>
      <p:pic>
        <p:nvPicPr>
          <p:cNvPr id="252" name="Рисунок 7" descr="Beaver.bmp"/>
          <p:cNvPicPr/>
          <p:nvPr/>
        </p:nvPicPr>
        <p:blipFill>
          <a:blip r:embed="rId2"/>
          <a:stretch/>
        </p:blipFill>
        <p:spPr>
          <a:xfrm>
            <a:off x="6500880" y="2714760"/>
            <a:ext cx="2114640" cy="2185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16:01:28Z</dcterms:created>
  <dc:creator>Олечка</dc:creator>
  <dc:description/>
  <dc:language>en-US</dc:language>
  <cp:lastModifiedBy>Ирина</cp:lastModifiedBy>
  <dcterms:modified xsi:type="dcterms:W3CDTF">2017-02-14T18:34:36Z</dcterms:modified>
  <cp:revision>52</cp:revision>
  <dc:subject/>
  <dc:title>Слайд 1</dc:title>
</cp:coreProperties>
</file>