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16B-3678-4486-8F4C-2E739B76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D4A-2464-4FD3-B86D-9134C67A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BC6-07CC-4006-B9EF-0646E560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3F27-79AF-4148-B798-78DC8070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A31B-EA27-481D-874D-80B5204C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50B-EBB6-4FFC-805F-E76866F4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BE3-7B81-481C-9A23-6BB01080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277D-6E32-4774-8163-9211586F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C7A3-9963-4D71-8B3D-60E26D4F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A271-B182-41DA-8834-83D5BBA0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D65F-85B6-40D6-9961-8C5F7FDA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0284-414D-4AF4-BA31-EEFA9715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08D3-6930-4676-8D3F-C4A5B141D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Картинка 217 из 16214"/>
          <p:cNvPicPr/>
          <p:nvPr/>
        </p:nvPicPr>
        <p:blipFill>
          <a:blip r:embed="rId2"/>
          <a:stretch/>
        </p:blipFill>
        <p:spPr>
          <a:xfrm>
            <a:off x="785880" y="357120"/>
            <a:ext cx="8143920" cy="5846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" name="Скругленный прямоугольник 2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4572000" y="620640"/>
            <a:ext cx="43578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Изначально</a:t>
            </a:r>
            <a:r>
              <a:rPr b="0" lang="en-US" sz="2800" spc="-1" strike="noStrike">
                <a:solidFill>
                  <a:srgbClr val="000000"/>
                </a:solidFill>
                <a:latin typeface="AGPresquir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февраля праздновался как день рождения Красной Армии в честь победы над немецкими войсками. День первой победы стал днем рождения армии. Начав с победы, она с той поры не раз громила врагов нашей Родины. Не было ни одного захватчика, который бы не почувствовал на себе силу ее оруж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http://www.oficery.ru/uploads/image/plakat/kr_armija/k12.jpg"/>
          <p:cNvPicPr/>
          <p:nvPr/>
        </p:nvPicPr>
        <p:blipFill>
          <a:blip r:embed="rId1"/>
          <a:stretch/>
        </p:blipFill>
        <p:spPr>
          <a:xfrm>
            <a:off x="706320" y="133200"/>
            <a:ext cx="3799080" cy="6591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oficery.ru/uploads/image/plakat/kr_armija/k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4714920" y="357120"/>
            <a:ext cx="4214880" cy="77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Армия стала называться Советской, а затем - Российской, 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 февраля ежегодно отмечался в СССР как всенародный праздник - День Советской Армии и Военно-Морского Флот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После распада СССР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 февраля было переименовано 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33cc"/>
                </a:solidFill>
                <a:latin typeface="AGPresquire"/>
              </a:rPr>
              <a:t>День защитника Отечества</a:t>
            </a: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Государственная Дума Росси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 феврал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995</a:t>
            </a: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 года приняла федеральный закон 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"О днях воинской славы России", </a:t>
            </a: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в котором этот день назван так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"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 февраля - День защитника Отечества"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Documents and Settings\Admin\Рабочий стол\23\23020012.jpg"/>
          <p:cNvPicPr/>
          <p:nvPr/>
        </p:nvPicPr>
        <p:blipFill>
          <a:blip r:embed="rId1"/>
          <a:stretch/>
        </p:blipFill>
        <p:spPr>
          <a:xfrm>
            <a:off x="781200" y="133200"/>
            <a:ext cx="3870000" cy="6731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2"/>
          <p:cNvSpPr/>
          <p:nvPr/>
        </p:nvSpPr>
        <p:spPr>
          <a:xfrm>
            <a:off x="5651640" y="620640"/>
            <a:ext cx="320652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Сначала с этим праздником поздравляли собственно воинов - кадровых военных и ветеранов гражданской, а позже и</a:t>
            </a:r>
            <a:r>
              <a:rPr b="0" lang="en-US" sz="2800" spc="-1" strike="noStrike">
                <a:solidFill>
                  <a:srgbClr val="000000"/>
                </a:solidFill>
                <a:latin typeface="AGPresquir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ветеранов Великой Отечественной вой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Картинка 24 из 5871"/>
          <p:cNvPicPr/>
          <p:nvPr/>
        </p:nvPicPr>
        <p:blipFill>
          <a:blip r:embed="rId1"/>
          <a:stretch/>
        </p:blipFill>
        <p:spPr>
          <a:xfrm>
            <a:off x="611280" y="260280"/>
            <a:ext cx="4956120" cy="62150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C:\Documents and Settings\Admin\Рабочий стол\23\23020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"/>
          <p:cNvSpPr/>
          <p:nvPr/>
        </p:nvSpPr>
        <p:spPr>
          <a:xfrm>
            <a:off x="1000080" y="404640"/>
            <a:ext cx="3929040" cy="68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Постепенно традиция видоизменилась и сложилась так, что поздравлять и дарить подар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3 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февраля стали не только военным, но и всем мужчинам и даже мальчикам.  Армейский праздник превратился в праздник мужчин и мужского пола в цел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Картинка 28 из 6587"/>
          <p:cNvPicPr/>
          <p:nvPr/>
        </p:nvPicPr>
        <p:blipFill>
          <a:blip r:embed="rId1"/>
          <a:stretch/>
        </p:blipFill>
        <p:spPr>
          <a:xfrm>
            <a:off x="4929120" y="-23760"/>
            <a:ext cx="4214880" cy="6881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Картинка 39 из 6587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Картинка 82 из 6587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4500720" y="0"/>
            <a:ext cx="46432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ужить в армии - почетное право и обязанность каждого мужчи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овательно, он либо был, либо есть, либо будет воином. И почему же его не поздравить, если повод есть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Картинка 352 из 5220"/>
          <p:cNvPicPr/>
          <p:nvPr/>
        </p:nvPicPr>
        <p:blipFill>
          <a:blip r:embed="rId1"/>
          <a:stretch/>
        </p:blipFill>
        <p:spPr>
          <a:xfrm>
            <a:off x="214200" y="214200"/>
            <a:ext cx="4214880" cy="6440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71" name="Прямоугольник 6"/>
          <p:cNvSpPr/>
          <p:nvPr/>
        </p:nvSpPr>
        <p:spPr>
          <a:xfrm>
            <a:off x="4643280" y="500040"/>
            <a:ext cx="4500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Проснулся Федор утром ран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И чуть не шлепнулся с диван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Вчера разбросанные тан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Машинки, кони и тачан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Построились. И в ряд стоя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Торжественно, как на парад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"Вот это да!" — подумал он, 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"Быть может, это снится сон?"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Но в комнату заходит мам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И, улыбаясь, говори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"Вставай, защитник, умывай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На кухне чай уже кипит"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И вспомнил Федор, это — праздни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И он сегодня — главный в не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Сегодня Федя — не проказник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Он маму слушает во все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Сестренку во дворе спасает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А мама про себя мечтает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GPresquire"/>
              </a:rPr>
              <a:t>Пускай так каждый день бывает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Admin\Рабочий стол\23\230200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285840" y="214200"/>
            <a:ext cx="857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GPresquire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Дорогие наши мужчины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Поздравляем вас с праздником! Желаем успехов в делах, счастья, добра, чистого, мирного неба над головой! Мальчишкам — расти сильными, смелыми, мужественными, добрыми и благородными; помнить о высоком звании мужчин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Картинка 175 из 16214"/>
          <p:cNvPicPr/>
          <p:nvPr/>
        </p:nvPicPr>
        <p:blipFill>
          <a:blip r:embed="rId1"/>
          <a:stretch/>
        </p:blipFill>
        <p:spPr>
          <a:xfrm>
            <a:off x="714240" y="142920"/>
            <a:ext cx="5929560" cy="653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Прямоугольник 2"/>
          <p:cNvSpPr/>
          <p:nvPr/>
        </p:nvSpPr>
        <p:spPr>
          <a:xfrm>
            <a:off x="3714840" y="285840"/>
            <a:ext cx="5429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Февраль, февраль, зима и солнце!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И первых птичек переклик!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Сегодня выглянул в оконце: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Застыл, к стеклу лицом приник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Мои друзья — вчера мальчишки -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Сегодня выросли и вдруг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Все как один, забросив книжки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За руки взялись, встали в круг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И обещали мамам, сестрам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Границы радости беречь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Беречь наш мир — и птиц, и солнце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GPresquire"/>
              </a:rPr>
              <a:t>Меня в окошке уберечь!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Documents and Settings\Admin\Рабочий стол\23\0_24ac9_9fa3ad31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Documents and Settings\Admin\Рабочий стол\23\0f69d693b7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4500720" y="285840"/>
            <a:ext cx="446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d2db9"/>
                </a:solidFill>
                <a:latin typeface="AGPresquire"/>
              </a:rPr>
              <a:t>День</a:t>
            </a:r>
            <a:r>
              <a:rPr b="1" i="1" lang="en-US" sz="2800" spc="-1" strike="noStrike">
                <a:solidFill>
                  <a:srgbClr val="2d2db9"/>
                </a:solidFill>
                <a:latin typeface="AGPresquire"/>
              </a:rPr>
              <a:t> </a:t>
            </a:r>
            <a:r>
              <a:rPr b="1" i="1" lang="ru-RU" sz="2800" spc="-1" strike="noStrike">
                <a:solidFill>
                  <a:srgbClr val="2d2db9"/>
                </a:solidFill>
                <a:latin typeface="AGPresquire"/>
              </a:rPr>
              <a:t>защитника Отечества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Этот праздник напоминает нам о том, что всё самое дорогое, что у нас есть, может</a:t>
            </a:r>
            <a:r>
              <a:rPr b="0" lang="en-US" sz="2800" spc="-1" strike="noStrike">
                <a:solidFill>
                  <a:srgbClr val="000000"/>
                </a:solidFill>
                <a:latin typeface="AGPresquir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подвергнуться опасности. И долг каждого из нас, если придется, защитить своё Отечеств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Картинка 307 из 379"/>
          <p:cNvPicPr/>
          <p:nvPr/>
        </p:nvPicPr>
        <p:blipFill>
          <a:blip r:embed="rId1"/>
          <a:stretch/>
        </p:blipFill>
        <p:spPr>
          <a:xfrm>
            <a:off x="785880" y="214200"/>
            <a:ext cx="3571920" cy="5349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Картинка 307 из 379"/>
          <p:cNvPicPr/>
          <p:nvPr/>
        </p:nvPicPr>
        <p:blipFill>
          <a:blip r:embed="rId1"/>
          <a:stretch/>
        </p:blipFill>
        <p:spPr>
          <a:xfrm>
            <a:off x="642960" y="714240"/>
            <a:ext cx="3786120" cy="471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8" name="Прямоугольник 2"/>
          <p:cNvSpPr/>
          <p:nvPr/>
        </p:nvSpPr>
        <p:spPr>
          <a:xfrm>
            <a:off x="4500720" y="571680"/>
            <a:ext cx="442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В древние времена боролись с врагами богатыри. Вот какие были смелые защитники Отечест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И каждый мальчик должен быть таким же сильным и умным и быть готовым, когда вырастет, в любой момент защитить свою Родин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4427640" y="301680"/>
            <a:ext cx="44305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Начиная с седой древности, воины и солдаты пользовались уважением общества как защитники жизни и имущества мирных граждан своей стра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Их жизнь, полная опасностей, приключений, дальних походов и богатая добыча, которую они из этих походов привозили, вызывали любопытство и горд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Картинка 21 из 269"/>
          <p:cNvPicPr/>
          <p:nvPr/>
        </p:nvPicPr>
        <p:blipFill>
          <a:blip r:embed="rId1"/>
          <a:stretch/>
        </p:blipFill>
        <p:spPr>
          <a:xfrm>
            <a:off x="1000080" y="357120"/>
            <a:ext cx="3286080" cy="579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Картинка 105 из 269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928800" y="981000"/>
            <a:ext cx="52988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Если Вы считаете, что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февраля – это праздник военнослужащих, то Вы глубоко ошибаетесь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февраля - это                       </a:t>
            </a:r>
            <a:r>
              <a:rPr b="1" i="1" lang="ru-RU" sz="2800" spc="-1" strike="noStrike">
                <a:solidFill>
                  <a:srgbClr val="2d2db9"/>
                </a:solidFill>
                <a:latin typeface="AGPresquire"/>
              </a:rPr>
              <a:t>День </a:t>
            </a:r>
            <a:r>
              <a:rPr b="1" i="1" lang="ru-RU" sz="2800" spc="-1" strike="noStrike">
                <a:solidFill>
                  <a:srgbClr val="3333cc"/>
                </a:solidFill>
                <a:latin typeface="AGPresquire"/>
              </a:rPr>
              <a:t>Защитника</a:t>
            </a:r>
            <a:r>
              <a:rPr b="1" i="1" lang="ru-RU" sz="2800" spc="-1" strike="noStrike">
                <a:solidFill>
                  <a:srgbClr val="2d2db9"/>
                </a:solidFill>
                <a:latin typeface="AGPresquire"/>
              </a:rPr>
              <a:t> Отечества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И каждый мужчина, будь он морским офицером или программистом, бизнесменом или милиционером, ученым или фермером - Защитник.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C:\Documents and Settings\Admin\Рабочий стол\23\23020047.jpg"/>
          <p:cNvPicPr/>
          <p:nvPr/>
        </p:nvPicPr>
        <p:blipFill>
          <a:blip r:embed="rId1"/>
          <a:stretch/>
        </p:blipFill>
        <p:spPr>
          <a:xfrm>
            <a:off x="6689880" y="0"/>
            <a:ext cx="245412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Admin\Рабочий стол\23\07d89040293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4"/>
          <p:cNvSpPr/>
          <p:nvPr/>
        </p:nvSpPr>
        <p:spPr>
          <a:xfrm>
            <a:off x="684360" y="428760"/>
            <a:ext cx="5030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У этого праздника было несколько назван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- День Советской Арми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- День рождения Красной арми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- День рождения вооруженных сил и военно-морского фл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Сейчас этот праздник называется </a:t>
            </a:r>
            <a:r>
              <a:rPr b="1" i="1" lang="ru-RU" sz="2800" spc="-1" strike="noStrike">
                <a:solidFill>
                  <a:srgbClr val="3333cc"/>
                </a:solidFill>
                <a:latin typeface="AGPresquire"/>
              </a:rPr>
              <a:t>Днем Защитника Отечества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Почему же именн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ru-RU" sz="2800" spc="-1" strike="noStrike">
                <a:solidFill>
                  <a:srgbClr val="000000"/>
                </a:solidFill>
                <a:latin typeface="AGPresquire"/>
              </a:rPr>
              <a:t> февраля считается Днем Защитников Отечества, а не любая другая дат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C:\Documents and Settings\Admin\Рабочий стол\23\image_369043287677086775997135165822069963.jpg"/>
          <p:cNvPicPr/>
          <p:nvPr/>
        </p:nvPicPr>
        <p:blipFill>
          <a:blip r:embed="rId1"/>
          <a:stretch/>
        </p:blipFill>
        <p:spPr>
          <a:xfrm>
            <a:off x="5357880" y="857160"/>
            <a:ext cx="4024080" cy="30178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маша</cp:lastModifiedBy>
  <dcterms:modified xsi:type="dcterms:W3CDTF">2016-02-17T20:06:04Z</dcterms:modified>
  <cp:revision>67</cp:revision>
  <dc:subject/>
  <dc:title>Праздник 23 февра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41000000000001024140</vt:lpwstr>
  </property>
</Properties>
</file>