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445-422F-47A4-896C-FD8D1AA8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D87-AACB-48BD-89B1-5BF46182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E57-8D7B-46AA-8BD4-AB83850A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D4A-E5B8-48D3-B944-E65AA355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826-03F0-4D31-B4AC-7921EA6D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CEE-A132-4D65-BB7C-9C33E047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F5F-9878-4E9E-BF72-F06E8DFF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C26-A679-4EBF-A936-498106D9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215-CDBD-4A7F-BF1D-DE57075B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1C9-C94E-40BB-986C-50BAD380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48A-757E-474E-A688-718442E3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269-8863-4E5A-A8AC-586C58E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8678-7844-4174-B0E0-D4007C6FE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Картинка 217 из 16214"/>
          <p:cNvPicPr/>
          <p:nvPr/>
        </p:nvPicPr>
        <p:blipFill>
          <a:blip r:embed="rId2"/>
          <a:stretch/>
        </p:blipFill>
        <p:spPr>
          <a:xfrm>
            <a:off x="785880" y="357120"/>
            <a:ext cx="8143920" cy="584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Скругленный прямоугольник 2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572000" y="620640"/>
            <a:ext cx="43578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Изначально</a:t>
            </a:r>
            <a:r>
              <a:rPr b="0" lang="en-US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февраля праздновался как день рождения Красной Армии в честь победы над немецкими войсками. День первой победы стал днем рождения армии. Начав с победы, она с той поры не раз громила врагов нашей Родины. Не было ни одного захватчика, который бы не почувствовал на себе силу ее оруж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http://www.oficery.ru/uploads/image/plakat/kr_armija/k12.jpg"/>
          <p:cNvPicPr/>
          <p:nvPr/>
        </p:nvPicPr>
        <p:blipFill>
          <a:blip r:embed="rId1"/>
          <a:stretch/>
        </p:blipFill>
        <p:spPr>
          <a:xfrm>
            <a:off x="706320" y="133200"/>
            <a:ext cx="3799080" cy="6591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oficery.ru/uploads/image/plakat/kr_armija/k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714920" y="357120"/>
            <a:ext cx="4214880" cy="77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Армия стала называться Советской, а затем - Российской, 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февраля ежегодно отмечался в СССР как всенародный праздник - День Советской Армии и Военно-Морского Флот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После распада СССР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февраля было переименовано 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AGPresquire"/>
              </a:rPr>
              <a:t>День защитника Отечества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Государственная Дума Росси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феврал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года приняла федеральный закон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"О днях воинской славы России", 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в котором этот день назван так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"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февраля - День защитника Отечества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Documents and Settings\Admin\Рабочий стол\23\23020012.jpg"/>
          <p:cNvPicPr/>
          <p:nvPr/>
        </p:nvPicPr>
        <p:blipFill>
          <a:blip r:embed="rId1"/>
          <a:stretch/>
        </p:blipFill>
        <p:spPr>
          <a:xfrm>
            <a:off x="781200" y="133200"/>
            <a:ext cx="3870000" cy="6731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5651640" y="620640"/>
            <a:ext cx="32065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Сначала с этим праздником поздравляли собственно воинов - кадровых военных и ветеранов гражданской, а позже и</a:t>
            </a:r>
            <a:r>
              <a:rPr b="0" lang="en-US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ветеранов Великой Отечественной вой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Картинка 24 из 5871"/>
          <p:cNvPicPr/>
          <p:nvPr/>
        </p:nvPicPr>
        <p:blipFill>
          <a:blip r:embed="rId1"/>
          <a:stretch/>
        </p:blipFill>
        <p:spPr>
          <a:xfrm>
            <a:off x="611280" y="260280"/>
            <a:ext cx="4956120" cy="62150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:\Documents and Settings\Admin\Рабочий стол\23\23020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1000080" y="404640"/>
            <a:ext cx="3929040" cy="68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Постепенно традиция видоизменилась и сложилась так, что поздравлять и дарить подар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февраля стали не только военным, но и всем мужчинам и даже мальчикам.  Армейский праздник превратился в праздник мужчин и мужского пола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Картинка 28 из 6587"/>
          <p:cNvPicPr/>
          <p:nvPr/>
        </p:nvPicPr>
        <p:blipFill>
          <a:blip r:embed="rId1"/>
          <a:stretch/>
        </p:blipFill>
        <p:spPr>
          <a:xfrm>
            <a:off x="4929120" y="-23760"/>
            <a:ext cx="4214880" cy="6881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Картинка 39 из 6587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а 82 из 6587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500720" y="0"/>
            <a:ext cx="4643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ить в армии - почетное право и обязанность каждого мужч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, он либо был, либо есть, либо будет воином. И почему же его не поздравить, если повод есть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352 из 5220"/>
          <p:cNvPicPr/>
          <p:nvPr/>
        </p:nvPicPr>
        <p:blipFill>
          <a:blip r:embed="rId1"/>
          <a:stretch/>
        </p:blipFill>
        <p:spPr>
          <a:xfrm>
            <a:off x="214200" y="214200"/>
            <a:ext cx="4214880" cy="6440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1" name="Прямоугольник 6"/>
          <p:cNvSpPr/>
          <p:nvPr/>
        </p:nvSpPr>
        <p:spPr>
          <a:xfrm>
            <a:off x="4643280" y="500040"/>
            <a:ext cx="450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Проснулся Федор утром ра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И чуть не шлепнулся с диван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Вчера разбросанные тан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Машинки, кони и тачан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Построились. И в ряд стоя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Торжественно, как на парад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"Вот это да!" — подумал он, 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"Быть может, это снится сон?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Но в комнату заходит ма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И, улыбаясь, говор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"Вставай, защитник, умывай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На кухне чай уже кипит"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И вспомнил Федор, это — праздн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И он сегодня — главный в н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Сегодня Федя — не проказни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Он маму слушает во все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Сестренку во дворе спасает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А мама про себя мечтает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Пускай так каждый день бывает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Admin\Рабочий стол\23\230200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285840" y="214200"/>
            <a:ext cx="85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Presquir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Дорогие наши мужчины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Поздравляем вас с праздником! Желаем успехов в делах, счастья, добра, чистого, мирного неба над головой! Мальчишкам — расти сильными, смелыми, мужественными, добрыми и благородными; помнить о высоком звании мужчи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Картинка 175 из 16214"/>
          <p:cNvPicPr/>
          <p:nvPr/>
        </p:nvPicPr>
        <p:blipFill>
          <a:blip r:embed="rId1"/>
          <a:stretch/>
        </p:blipFill>
        <p:spPr>
          <a:xfrm>
            <a:off x="714240" y="142920"/>
            <a:ext cx="5929560" cy="653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Прямоугольник 2"/>
          <p:cNvSpPr/>
          <p:nvPr/>
        </p:nvSpPr>
        <p:spPr>
          <a:xfrm>
            <a:off x="3714840" y="285840"/>
            <a:ext cx="5429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Февраль, февраль, зима и солнце!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И первых птичек переклик!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Сегодня выглянул в оконце: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Застыл, к стеклу лицом прини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Мои друзья — вчера мальчишки 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Сегодня выросли и вдруг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Все как один, забросив книжк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За руки взялись, встали в круг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И обещали мамам, сестра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Границы радости беречь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Беречь наш мир — и птиц, и солнц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Меня в окошке уберечь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Admin\Рабочий стол\23\0_24ac9_9fa3ad31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nts and Settings\Admin\Рабочий стол\23\0f69d693b7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500720" y="285840"/>
            <a:ext cx="446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b9"/>
                </a:solidFill>
                <a:latin typeface="AGPresquire"/>
              </a:rPr>
              <a:t>День</a:t>
            </a:r>
            <a:r>
              <a:rPr b="1" i="1" lang="en-US" sz="2800" spc="-1" strike="noStrike">
                <a:solidFill>
                  <a:srgbClr val="2d2db9"/>
                </a:solidFill>
                <a:latin typeface="AGPresquire"/>
              </a:rPr>
              <a:t> </a:t>
            </a:r>
            <a:r>
              <a:rPr b="1" i="1" lang="ru-RU" sz="2800" spc="-1" strike="noStrike">
                <a:solidFill>
                  <a:srgbClr val="2d2db9"/>
                </a:solidFill>
                <a:latin typeface="AGPresquire"/>
              </a:rPr>
              <a:t>защитника Отечества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Этот праздник напоминает нам о том, что всё самое дорогое, что у нас есть, может</a:t>
            </a:r>
            <a:r>
              <a:rPr b="0" lang="en-US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подвергнуться опасности. И долг каждого из нас, если придется, защитить своё Отечест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Картинка 307 из 379"/>
          <p:cNvPicPr/>
          <p:nvPr/>
        </p:nvPicPr>
        <p:blipFill>
          <a:blip r:embed="rId1"/>
          <a:stretch/>
        </p:blipFill>
        <p:spPr>
          <a:xfrm>
            <a:off x="785880" y="214200"/>
            <a:ext cx="3571920" cy="534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307 из 379"/>
          <p:cNvPicPr/>
          <p:nvPr/>
        </p:nvPicPr>
        <p:blipFill>
          <a:blip r:embed="rId1"/>
          <a:stretch/>
        </p:blipFill>
        <p:spPr>
          <a:xfrm>
            <a:off x="642960" y="714240"/>
            <a:ext cx="378612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8" name="Прямоугольник 2"/>
          <p:cNvSpPr/>
          <p:nvPr/>
        </p:nvSpPr>
        <p:spPr>
          <a:xfrm>
            <a:off x="4500720" y="571680"/>
            <a:ext cx="442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В древние времена боролись с врагами богатыри. Вот какие были смелые защитники Отече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И каждый мальчик должен быть таким же сильным и умным и быть готовым, когда вырастет, в любой момент защитить свою Родин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4427640" y="301680"/>
            <a:ext cx="44305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Начиная с седой древности, воины и солдаты пользовались уважением общества как защитники жизни и имущества мирных граждан своей стра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Их жизнь, полная опасностей, приключений, дальних походов и богатая добыча, которую они из этих походов привозили, вызывали любопытство и горд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Картинка 21 из 269"/>
          <p:cNvPicPr/>
          <p:nvPr/>
        </p:nvPicPr>
        <p:blipFill>
          <a:blip r:embed="rId1"/>
          <a:stretch/>
        </p:blipFill>
        <p:spPr>
          <a:xfrm>
            <a:off x="1000080" y="357120"/>
            <a:ext cx="3286080" cy="579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Картинка 105 из 269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928800" y="981000"/>
            <a:ext cx="52988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Если Вы считаете, что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февраля – это праздник военнослужащих, то Вы глубоко ошибаетесь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февраля - это                       </a:t>
            </a:r>
            <a:r>
              <a:rPr b="1" i="1" lang="ru-RU" sz="2800" spc="-1" strike="noStrike">
                <a:solidFill>
                  <a:srgbClr val="2d2db9"/>
                </a:solidFill>
                <a:latin typeface="AGPresquire"/>
              </a:rPr>
              <a:t>День </a:t>
            </a:r>
            <a:r>
              <a:rPr b="1" i="1" lang="ru-RU" sz="2800" spc="-1" strike="noStrike">
                <a:solidFill>
                  <a:srgbClr val="3333cc"/>
                </a:solidFill>
                <a:latin typeface="AGPresquire"/>
              </a:rPr>
              <a:t>Защитника</a:t>
            </a:r>
            <a:r>
              <a:rPr b="1" i="1" lang="ru-RU" sz="2800" spc="-1" strike="noStrike">
                <a:solidFill>
                  <a:srgbClr val="2d2db9"/>
                </a:solidFill>
                <a:latin typeface="AGPresquire"/>
              </a:rPr>
              <a:t> Отечества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И каждый мужчина, будь он морским офицером или программистом, бизнесменом или милиционером, ученым или фермером - Защитник.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Documents and Settings\Admin\Рабочий стол\23\23020047.jpg"/>
          <p:cNvPicPr/>
          <p:nvPr/>
        </p:nvPicPr>
        <p:blipFill>
          <a:blip r:embed="rId1"/>
          <a:stretch/>
        </p:blipFill>
        <p:spPr>
          <a:xfrm>
            <a:off x="6689880" y="0"/>
            <a:ext cx="245412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\Рабочий стол\23\07d89040293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684360" y="428760"/>
            <a:ext cx="5030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У этого праздника было несколько назва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- День Советской Арм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- День рождения Красной арм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- День рождения вооруженных сил и военно-морского фл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Сейчас этот праздник называется </a:t>
            </a:r>
            <a:r>
              <a:rPr b="1" i="1" lang="ru-RU" sz="2800" spc="-1" strike="noStrike">
                <a:solidFill>
                  <a:srgbClr val="3333cc"/>
                </a:solidFill>
                <a:latin typeface="AGPresquire"/>
              </a:rPr>
              <a:t>Днем Защитника Отечества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Почему же именн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 февраля считается Днем Защитников Отечества, а не любая другая да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C:\Documents and Settings\Admin\Рабочий стол\23\image_369043287677086775997135165822069963.jpg"/>
          <p:cNvPicPr/>
          <p:nvPr/>
        </p:nvPicPr>
        <p:blipFill>
          <a:blip r:embed="rId1"/>
          <a:stretch/>
        </p:blipFill>
        <p:spPr>
          <a:xfrm>
            <a:off x="5357880" y="857160"/>
            <a:ext cx="4024080" cy="3017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маша</cp:lastModifiedBy>
  <dcterms:modified xsi:type="dcterms:W3CDTF">2016-02-17T20:06:04Z</dcterms:modified>
  <cp:revision>67</cp:revision>
  <dc:subject/>
  <dc:title>Праздник 23 февр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41000000000001024140</vt:lpwstr>
  </property>
</Properties>
</file>