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947-0DAC-4E19-8796-DD69EB8B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EC3-9C71-4AE6-B380-DEDE463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4D7-F0D8-4C94-9800-4047519F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1C6-0431-4F66-88E4-F46DD51E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52E4-67BA-4883-AD5B-B1F4987C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F992-4F22-44F7-B90F-98F6739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69F8-9A26-449D-93AE-3EDD8919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839F-2194-49B4-80D4-0625A9F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818F-C1B5-499B-92A3-48D1AB9B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9911-7DDC-450B-8D91-59D6D94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93C7-B811-483F-9367-17B492E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B26-51EF-4F51-A58B-00F17F90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123C-DD27-44AB-A571-2437528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C06-CB9C-449B-97A9-5A54D77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4E5-EDE1-443D-ABF7-2266549B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32BE-5155-4EC0-98A3-7097DDC6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099F-B9F9-48A4-B689-F719BCE5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AAC-7022-46AC-A924-407B6B5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D9D-82FF-44A2-9BA2-09E1C384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AEB-EA4E-47EE-AF49-81A3D2A1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67D-59C7-4EAC-A8DE-30E5B547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54F-508F-4689-845C-6B06C77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AB8-F8BF-45A9-9602-F0413D4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E46-7D92-4134-A864-1439028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F752-6077-4CA5-8A14-5E689D1A16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13FE-0F47-4F0A-B52A-EB1A94162BF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28760" y="4500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7320" y="1928520"/>
            <a:ext cx="9032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8" descr="C:\Users\user 123\Desktop\Новая папка\Спорт.jpg"/>
          <p:cNvPicPr/>
          <p:nvPr/>
        </p:nvPicPr>
        <p:blipFill>
          <a:blip r:embed="rId1"/>
          <a:stretch/>
        </p:blipFill>
        <p:spPr>
          <a:xfrm>
            <a:off x="-214200" y="-142920"/>
            <a:ext cx="9358200" cy="70009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C:\Users\user 123\Desktop\Новая папка\gto-5-1024x715.jpg"/>
          <p:cNvPicPr/>
          <p:nvPr/>
        </p:nvPicPr>
        <p:blipFill>
          <a:blip r:embed="rId2"/>
          <a:srcRect l="3226" t="73856" r="2133" b="0"/>
          <a:stretch/>
        </p:blipFill>
        <p:spPr>
          <a:xfrm>
            <a:off x="3929040" y="0"/>
            <a:ext cx="4951440" cy="954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1" descr="C:\Users\user 123\Desktop\Новая папка\DSC03899.JPG"/>
          <p:cNvPicPr/>
          <p:nvPr/>
        </p:nvPicPr>
        <p:blipFill>
          <a:blip r:embed="rId3"/>
          <a:srcRect l="17481" t="0" r="16085" b="0"/>
          <a:stretch/>
        </p:blipFill>
        <p:spPr>
          <a:xfrm>
            <a:off x="6000840" y="3786120"/>
            <a:ext cx="28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E:\ГТО\IMG_9184.JPG"/>
          <p:cNvPicPr/>
          <p:nvPr/>
        </p:nvPicPr>
        <p:blipFill>
          <a:blip r:embed="rId4"/>
          <a:srcRect l="0" t="24690" r="16451" b="4703"/>
          <a:stretch/>
        </p:blipFill>
        <p:spPr>
          <a:xfrm>
            <a:off x="1714680" y="1428840"/>
            <a:ext cx="3857400" cy="2444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E:\ГТО\IMG_9178.JPG"/>
          <p:cNvPicPr/>
          <p:nvPr/>
        </p:nvPicPr>
        <p:blipFill>
          <a:blip r:embed="rId5"/>
          <a:srcRect l="63192" t="3670" r="0" b="0"/>
          <a:stretch/>
        </p:blipFill>
        <p:spPr>
          <a:xfrm>
            <a:off x="0" y="3643200"/>
            <a:ext cx="1643040" cy="29577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6" descr="E:\ГТО\IMG_9131.JPG"/>
          <p:cNvPicPr/>
          <p:nvPr/>
        </p:nvPicPr>
        <p:blipFill>
          <a:blip r:embed="rId6"/>
          <a:srcRect l="26871" t="31752" r="25821" b="23600"/>
          <a:stretch/>
        </p:blipFill>
        <p:spPr>
          <a:xfrm>
            <a:off x="6143760" y="1214280"/>
            <a:ext cx="2714400" cy="2291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5" descr="C:\Users\user 123\Desktop\Новая папка\gto.jpg"/>
          <p:cNvPicPr/>
          <p:nvPr/>
        </p:nvPicPr>
        <p:blipFill>
          <a:blip r:embed="rId7"/>
          <a:srcRect l="10475" t="-7342" r="3736" b="-1521"/>
          <a:stretch/>
        </p:blipFill>
        <p:spPr>
          <a:xfrm>
            <a:off x="0" y="-2142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:\ГТО\IMG_9174.JPG"/>
          <p:cNvPicPr/>
          <p:nvPr/>
        </p:nvPicPr>
        <p:blipFill>
          <a:blip r:embed="rId8"/>
          <a:srcRect l="26019" t="5004" r="39185" b="4527"/>
          <a:stretch/>
        </p:blipFill>
        <p:spPr>
          <a:xfrm>
            <a:off x="2643120" y="3929040"/>
            <a:ext cx="1503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428760" y="4500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7320" y="1928520"/>
            <a:ext cx="9032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C:\Users\user 123\Desktop\Новая папка\Спорт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96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5" descr="C:\Users\user 123\Desktop\Новая папка\DSC03906.JPG"/>
          <p:cNvPicPr/>
          <p:nvPr/>
        </p:nvPicPr>
        <p:blipFill>
          <a:blip r:embed="rId2"/>
          <a:srcRect l="0" t="1685" r="23715" b="14669"/>
          <a:stretch/>
        </p:blipFill>
        <p:spPr>
          <a:xfrm>
            <a:off x="6357960" y="1000080"/>
            <a:ext cx="2622600" cy="2714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27" descr="C:\Users\user 123\Desktop\Новая папка\gto-5-1024x715.jpg"/>
          <p:cNvPicPr/>
          <p:nvPr/>
        </p:nvPicPr>
        <p:blipFill>
          <a:blip r:embed="rId3"/>
          <a:srcRect l="21740" t="21054" r="55738" b="45893"/>
          <a:stretch/>
        </p:blipFill>
        <p:spPr>
          <a:xfrm>
            <a:off x="0" y="0"/>
            <a:ext cx="2143080" cy="1928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8" descr="C:\Users\user 123\Desktop\DSC03934.JPG"/>
          <p:cNvPicPr/>
          <p:nvPr/>
        </p:nvPicPr>
        <p:blipFill>
          <a:blip r:embed="rId4"/>
          <a:srcRect l="10825" t="34458" r="4992" b="1530"/>
          <a:stretch/>
        </p:blipFill>
        <p:spPr>
          <a:xfrm>
            <a:off x="2500200" y="285840"/>
            <a:ext cx="3643560" cy="22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user 123\Desktop\DSC03928.JPG"/>
          <p:cNvPicPr/>
          <p:nvPr/>
        </p:nvPicPr>
        <p:blipFill>
          <a:blip r:embed="rId5"/>
          <a:srcRect l="37533" t="30227" r="23305" b="0"/>
          <a:stretch/>
        </p:blipFill>
        <p:spPr>
          <a:xfrm>
            <a:off x="0" y="2143080"/>
            <a:ext cx="1625760" cy="2173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Users\user 123\Desktop\Новая папка\DSC03930.JPG"/>
          <p:cNvPicPr/>
          <p:nvPr/>
        </p:nvPicPr>
        <p:blipFill>
          <a:blip r:embed="rId6"/>
          <a:srcRect l="8455" t="0" r="4906" b="0"/>
          <a:stretch/>
        </p:blipFill>
        <p:spPr>
          <a:xfrm>
            <a:off x="2571840" y="2714760"/>
            <a:ext cx="3630600" cy="314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user 123\Desktop\Новая папка\DSC03936.JPG"/>
          <p:cNvPicPr/>
          <p:nvPr/>
        </p:nvPicPr>
        <p:blipFill>
          <a:blip r:embed="rId7"/>
          <a:srcRect l="5938" t="0" r="16916" b="13603"/>
          <a:stretch/>
        </p:blipFill>
        <p:spPr>
          <a:xfrm>
            <a:off x="6205680" y="4389480"/>
            <a:ext cx="2938320" cy="24685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4" descr="C:\Users\user 123\Desktop\Новая папка\DSC03938.JPG"/>
          <p:cNvPicPr/>
          <p:nvPr/>
        </p:nvPicPr>
        <p:blipFill>
          <a:blip r:embed="rId8"/>
          <a:srcRect l="11165" t="32926" r="68136" b="15006"/>
          <a:stretch/>
        </p:blipFill>
        <p:spPr>
          <a:xfrm>
            <a:off x="1428840" y="4253040"/>
            <a:ext cx="14446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user 123</cp:lastModifiedBy>
  <dcterms:modified xsi:type="dcterms:W3CDTF">2017-02-17T21:56:49Z</dcterms:modified>
  <cp:revision>150</cp:revision>
  <dc:subject/>
  <dc:title>Слайд 1</dc:title>
</cp:coreProperties>
</file>