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438-5A32-4F82-9BE0-8FE3ED7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202-9DB0-4770-8D91-54AF455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840-D83E-43C0-9248-242625BA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7C5-8A9B-4766-89AE-7C83BD76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2763-BD93-4B2F-80F5-4247A930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374C-A49F-4A8A-968E-33DD0C5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9962-735B-464F-B974-DC5A958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995-A648-4A77-A017-36C4BA3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2F4-7C1F-4C22-87A9-7590EDA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4ED-30BC-49A5-9112-ACCFB2B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D6A-2B34-40E0-96B2-7F27E4E8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8B7-404C-4D44-9DBE-55F2C16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035B-89D5-49B2-B2CF-D430227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A8A-632A-4055-A93D-36FE901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D49D-C2C5-45CA-8388-0698B2F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57EE-11F8-4C4C-84E7-905AEEA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0EC4-305B-4597-84D7-589D575C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A7F-132B-49D1-BD25-BC78989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010-B71D-445A-9AD1-D6736E88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CA7-9ED4-40B9-BB31-CCDB1E8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227-38C1-40F7-A2C0-6B9C98F9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644-BE15-4AF4-A0D6-D37BEAC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CC-73A3-4727-A90E-FD4EFCF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80B-445A-4B81-A42F-6E37437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56DA-BD2B-4572-AC58-E650F089B9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E2FF-00AB-48D5-8BFC-E9F3BA6FFF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28760" y="4500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7320" y="1928520"/>
            <a:ext cx="9032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8" descr="C:\Users\user 123\Desktop\Новая папка\Спорт.jpg"/>
          <p:cNvPicPr/>
          <p:nvPr/>
        </p:nvPicPr>
        <p:blipFill>
          <a:blip r:embed="rId1"/>
          <a:stretch/>
        </p:blipFill>
        <p:spPr>
          <a:xfrm>
            <a:off x="-214200" y="-142920"/>
            <a:ext cx="9358200" cy="7000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C:\Users\user 123\Desktop\Новая папка\gto-5-1024x715.jpg"/>
          <p:cNvPicPr/>
          <p:nvPr/>
        </p:nvPicPr>
        <p:blipFill>
          <a:blip r:embed="rId2"/>
          <a:srcRect l="3226" t="73856" r="2133" b="0"/>
          <a:stretch/>
        </p:blipFill>
        <p:spPr>
          <a:xfrm>
            <a:off x="3929040" y="0"/>
            <a:ext cx="4951440" cy="954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C:\Users\user 123\Desktop\Новая папка\DSC03899.JPG"/>
          <p:cNvPicPr/>
          <p:nvPr/>
        </p:nvPicPr>
        <p:blipFill>
          <a:blip r:embed="rId3"/>
          <a:srcRect l="17481" t="0" r="16085" b="0"/>
          <a:stretch/>
        </p:blipFill>
        <p:spPr>
          <a:xfrm>
            <a:off x="6000840" y="3786120"/>
            <a:ext cx="28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E:\ГТО\IMG_9184.JPG"/>
          <p:cNvPicPr/>
          <p:nvPr/>
        </p:nvPicPr>
        <p:blipFill>
          <a:blip r:embed="rId4"/>
          <a:srcRect l="0" t="24690" r="16451" b="4703"/>
          <a:stretch/>
        </p:blipFill>
        <p:spPr>
          <a:xfrm>
            <a:off x="1714680" y="1428840"/>
            <a:ext cx="3857400" cy="2444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E:\ГТО\IMG_9178.JPG"/>
          <p:cNvPicPr/>
          <p:nvPr/>
        </p:nvPicPr>
        <p:blipFill>
          <a:blip r:embed="rId5"/>
          <a:srcRect l="63192" t="3670" r="0" b="0"/>
          <a:stretch/>
        </p:blipFill>
        <p:spPr>
          <a:xfrm>
            <a:off x="0" y="3643200"/>
            <a:ext cx="1643040" cy="2957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6" descr="E:\ГТО\IMG_9131.JPG"/>
          <p:cNvPicPr/>
          <p:nvPr/>
        </p:nvPicPr>
        <p:blipFill>
          <a:blip r:embed="rId6"/>
          <a:srcRect l="26871" t="31752" r="25821" b="23600"/>
          <a:stretch/>
        </p:blipFill>
        <p:spPr>
          <a:xfrm>
            <a:off x="6143760" y="1214280"/>
            <a:ext cx="2714400" cy="2291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5" descr="C:\Users\user 123\Desktop\Новая папка\gto.jpg"/>
          <p:cNvPicPr/>
          <p:nvPr/>
        </p:nvPicPr>
        <p:blipFill>
          <a:blip r:embed="rId7"/>
          <a:srcRect l="10475" t="-7342" r="3736" b="-1521"/>
          <a:stretch/>
        </p:blipFill>
        <p:spPr>
          <a:xfrm>
            <a:off x="0" y="-2142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:\ГТО\IMG_9174.JPG"/>
          <p:cNvPicPr/>
          <p:nvPr/>
        </p:nvPicPr>
        <p:blipFill>
          <a:blip r:embed="rId8"/>
          <a:srcRect l="26019" t="5004" r="39185" b="4527"/>
          <a:stretch/>
        </p:blipFill>
        <p:spPr>
          <a:xfrm>
            <a:off x="2643120" y="3929040"/>
            <a:ext cx="1503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760" y="4500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7320" y="1928520"/>
            <a:ext cx="9032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C:\Users\user 123\Desktop\Новая папка\Спорт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96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5" descr="C:\Users\user 123\Desktop\Новая папка\DSC03906.JPG"/>
          <p:cNvPicPr/>
          <p:nvPr/>
        </p:nvPicPr>
        <p:blipFill>
          <a:blip r:embed="rId2"/>
          <a:srcRect l="0" t="1685" r="23715" b="14669"/>
          <a:stretch/>
        </p:blipFill>
        <p:spPr>
          <a:xfrm>
            <a:off x="6357960" y="100008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7" descr="C:\Users\user 123\Desktop\Новая папка\gto-5-1024x715.jpg"/>
          <p:cNvPicPr/>
          <p:nvPr/>
        </p:nvPicPr>
        <p:blipFill>
          <a:blip r:embed="rId3"/>
          <a:srcRect l="21740" t="21054" r="55738" b="45893"/>
          <a:stretch/>
        </p:blipFill>
        <p:spPr>
          <a:xfrm>
            <a:off x="0" y="0"/>
            <a:ext cx="2143080" cy="192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8" descr="C:\Users\user 123\Desktop\DSC03934.JPG"/>
          <p:cNvPicPr/>
          <p:nvPr/>
        </p:nvPicPr>
        <p:blipFill>
          <a:blip r:embed="rId4"/>
          <a:srcRect l="10825" t="34458" r="4992" b="1530"/>
          <a:stretch/>
        </p:blipFill>
        <p:spPr>
          <a:xfrm>
            <a:off x="2500200" y="285840"/>
            <a:ext cx="3643560" cy="22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 123\Desktop\DSC03928.JPG"/>
          <p:cNvPicPr/>
          <p:nvPr/>
        </p:nvPicPr>
        <p:blipFill>
          <a:blip r:embed="rId5"/>
          <a:srcRect l="37533" t="30227" r="23305" b="0"/>
          <a:stretch/>
        </p:blipFill>
        <p:spPr>
          <a:xfrm>
            <a:off x="0" y="2143080"/>
            <a:ext cx="1625760" cy="217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user 123\Desktop\Новая папка\DSC03930.JPG"/>
          <p:cNvPicPr/>
          <p:nvPr/>
        </p:nvPicPr>
        <p:blipFill>
          <a:blip r:embed="rId6"/>
          <a:srcRect l="8455" t="0" r="4906" b="0"/>
          <a:stretch/>
        </p:blipFill>
        <p:spPr>
          <a:xfrm>
            <a:off x="2571840" y="2714760"/>
            <a:ext cx="3630600" cy="314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user 123\Desktop\Новая папка\DSC03936.JPG"/>
          <p:cNvPicPr/>
          <p:nvPr/>
        </p:nvPicPr>
        <p:blipFill>
          <a:blip r:embed="rId7"/>
          <a:srcRect l="5938" t="0" r="16916" b="13603"/>
          <a:stretch/>
        </p:blipFill>
        <p:spPr>
          <a:xfrm>
            <a:off x="6205680" y="4389480"/>
            <a:ext cx="2938320" cy="24685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4" descr="C:\Users\user 123\Desktop\Новая папка\DSC03938.JPG"/>
          <p:cNvPicPr/>
          <p:nvPr/>
        </p:nvPicPr>
        <p:blipFill>
          <a:blip r:embed="rId8"/>
          <a:srcRect l="11165" t="32926" r="68136" b="15006"/>
          <a:stretch/>
        </p:blipFill>
        <p:spPr>
          <a:xfrm>
            <a:off x="1428840" y="4253040"/>
            <a:ext cx="1444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user 123</cp:lastModifiedBy>
  <dcterms:modified xsi:type="dcterms:W3CDTF">2017-02-17T21:56:49Z</dcterms:modified>
  <cp:revision>150</cp:revision>
  <dc:subject/>
  <dc:title>Слайд 1</dc:title>
</cp:coreProperties>
</file>