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0BC6-6F79-4C75-9662-B81C319BD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E3E6-D8BF-4A5E-BD49-B94513249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F68-0EA1-423D-94D3-084ADFE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582-EE35-443B-A6A6-D9A6F17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09F-EFA3-42BF-8725-18E1CC23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493-ACC0-4F37-BA58-248FC04F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F98-9E29-45EC-AA54-CEFDEDA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ED6-5F26-4C8A-B13B-1C0D276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D41-8EBE-4148-9102-4B9C5C7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016-4A94-431E-BEB0-36BD9BB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0F3-04EA-49B9-84D8-7DDB5BE6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CC0-7541-4FFA-AAA2-425E3AB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34B-9BE4-4F61-B9BB-28D7028E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2A3-E95C-4180-849B-8E04928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3BFE-7851-40A4-A663-0F1DAC1CD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8440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начальных классов Деркач Ольга Леонидовна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6 учебный год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798480" y="493560"/>
            <a:ext cx="749160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илл и Мефодий родились в византийском городе Фессалоники (Салоники, славянск.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олунь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Их отец по имени Лев, «хорошего рода и богатый», был друнгарием, то есть офицером, при стратиге (военном и гражданском губернаторе) фемы Фессалоники. В семье было семь сыновей, причём Мефодий (исследователям не известно, было ли это имя крещальным или дано при постриге) — старший, а Константин (Кирилл) — младший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наиболее распространенной в науке версии, Кирилл и Мефодий были греческого происхождения. В XIX веке некоторые славянские ученые (Михаил Погодин, Герменгильд Иречек) отстаивали их славянское происхождение, основываясь на прекрасном владении ими славянским языком — обстоятельство, которое современные учёные считают недостаточным для суждения об этничности. Болгарская традиция называет братьев болгарами (к которым до ХХ в. причислялись и македонские славяне), опираясь в частности на проложное житие Кирилла (в поздней редакции), где сказано, что он «родом съи блъгаринь от солоуна града»; эту идею охотно поддерживают современные болгарские учё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9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ссалоники, в которых родились братья, был двуязычным городом. Кроме греческого языка, в них звучал славянский солунский диалект, на котором говорили окружающие Фессалоники племена: драговиты, сагудаты, ваюниты, смоляне и который, по исследованиям современных лингвистов, и лег в основу языка переводов Кирилла и Мефодия, а с ними и всего церковнославянского языка. Анализ языка переводов Кирилла и Мефодия показывает, что они владели славянским языком как родным. Последнее, впрочем, ещё не говорит в пользу их славянского происхождения и видимо не выделяло их из других жителей Фессалоник, так как житие Мефодия приписывает императору Михаилу III такие слова, обращенные к святым: «вы бо ѥста селѹнѧнина, да селѹнѧне вьси чисто словѣньскы бесѣдѹютъ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7bbea293c"/>
          <p:cNvPicPr/>
          <p:nvPr/>
        </p:nvPicPr>
        <p:blipFill>
          <a:blip r:embed="rId1"/>
          <a:stretch/>
        </p:blipFill>
        <p:spPr>
          <a:xfrm>
            <a:off x="4284720" y="333360"/>
            <a:ext cx="4333680" cy="605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608360" cy="629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брата получили прекрасное образование. Мефодий, пользуясь поддержкой друга и покровителя семьи, великого логофета (заведующего государственным казначейством) евнуха Феоктиста, сделал неплохую военно-административную карьеру, увенчавшуюся постом стратега Славинии, византийской провинции, расположенной на территории Македонии. Затем однако он постригся в мона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%D0%BA%D0%B8%D1%80%D0%B8%D0%BB%D0%BB-%D0%B8-%D0%BC%D0%B5%D1%84%D0%BE%D0%B4%D0%B8%D0%B9-%D0%BF%D0%B8%D0%BA-1"/>
          <p:cNvPicPr/>
          <p:nvPr/>
        </p:nvPicPr>
        <p:blipFill>
          <a:blip r:embed="rId1"/>
          <a:stretch/>
        </p:blipFill>
        <p:spPr>
          <a:xfrm>
            <a:off x="4572000" y="0"/>
            <a:ext cx="4410000" cy="666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888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антин вместе со своими учениками Климентом, Наумом и Ангеларием пришёл в монастырь Полихрон на горе Малый Олимп, где был настоятелем его брат Мефодий. В этом монастыре вокруг Константина и Мефодия сложилась группа единомышленников и зародилась мысль о создании славянской азб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17157"/>
          <p:cNvPicPr/>
          <p:nvPr/>
        </p:nvPicPr>
        <p:blipFill>
          <a:blip r:embed="rId1"/>
          <a:stretch/>
        </p:blipFill>
        <p:spPr>
          <a:xfrm>
            <a:off x="3851280" y="189000"/>
            <a:ext cx="5292720" cy="396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 870 году Мефодий с учениками, получившими сан священников, вернулся в Паннонию, а позже в Моравию. К этому времени обстановка в Моравии резко изменилась. После того, как Ростислав потерпел поражение от Людовика Немецкого и в 870 году умер в баварской тюрьме, моравским князем стал его племянник Святополк, который подчинился немецкому политическому влиянию. Деятельность Мефодия и его учеников протекала в очень сложных условиях. Латинско-немецкое духовенство всячески мешало распространению славянского языка как языка церк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 872 году Мефодий на три года попал в заключение в монастыре Райхенау. Узнав об этом, папа Иоанн VIII запретил немецким епископам совершать литургию, пока Мефодий не будет освобождён. Правда, он же запретил богослужение на славянском языке, разрешив только пропове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чи в 874 году восстановленным в правах архиепископа, Мефодий, несмотря на запрещение, продолжал богослужение на славянском языке, крестил чешского князя Боривоя и его супругу Людми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879 году немецкие епископы организовали новый процесс против Мефодия. Однако Мефодий в Риме блестяще оправдался и даже получил папскую буллу, разрешающую богослужение на славянском язы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881 году Мефодий по приглашению императора Василия I Македонянина приехал в Константинополь. Там он провёл три года, после чего вместе с учениками вернулся в Моравию (Велеград). С помощью трёх учеников он перевёл на славянский язык Ветхий Завет и святоотеческие кни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885 году Мефодий тяжело заболел. Перед смертью своим преемником назначил ученика Горазда. 4 апреля, в Вербное воскресенье он попросил отнести себя в храм, где прочитал проповедь. В тот же день он и скончался. Отпевание Мефодия происходило на трёх языках — славянском, греческом и латин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7:45:08Z</dcterms:created>
  <dc:creator>ADMIN</dc:creator>
  <dc:description/>
  <dc:language>en-US</dc:language>
  <cp:lastModifiedBy>Пользователь</cp:lastModifiedBy>
  <dcterms:modified xsi:type="dcterms:W3CDTF">2017-02-18T10:56:40Z</dcterms:modified>
  <cp:revision>4</cp:revision>
  <dc:subject/>
  <dc:title>Мефодий</dc:title>
</cp:coreProperties>
</file>