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51B7F-E5E0-4CCA-9B79-BC296A7C380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05465-2056-48B6-AD33-8FDC54B9F50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59847-8032-42A2-9B55-C76A203BF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87C20-39C9-44D6-B9D8-4B94C4ECD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5D737-B582-4231-A42D-4AF438D28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73CBB-6E7D-4D59-B656-5D8D868E9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A6F39-8FA3-40EE-A9C7-5FAFBFC81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5BDE3-F180-45E9-8690-44CD82391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E4BF4-2259-4C1B-BF23-AB3A4D831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85753-B2DB-444E-83B1-EEF2E6958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4E347-AF4F-4ABD-AC0C-8F8C59AC3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29CA2-7C95-44D5-94DC-13B1EDCDA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F224A-B8CF-43D1-9058-883555E83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11956-BB44-4FA3-BFB5-A2FEF94D1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0099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A454B-461B-43C8-B8FF-837D5692AD6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13880" y="856800"/>
            <a:ext cx="7844040" cy="271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оставила презентацию учитель начальных классов Деркач Ольга Леонидовна</a:t>
            </a:r>
            <a:br>
              <a:rPr sz="1400"/>
            </a:b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016 учебный год 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Прямоугольник 6" descr=""/>
          <p:cNvPicPr/>
          <p:nvPr/>
        </p:nvPicPr>
        <p:blipFill>
          <a:blip r:embed="rId1"/>
          <a:stretch/>
        </p:blipFill>
        <p:spPr>
          <a:xfrm>
            <a:off x="798480" y="493560"/>
            <a:ext cx="7491600" cy="59198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ирилл и Мефодий родились в византийском городе Фессалоники (Салоники, славянск. 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«Солунь»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. Их отец по имени Лев, «хорошего рода и богатый», был друнгарием, то есть офицером, при стратиге (военном и гражданском губернаторе) фемы Фессалоники. В семье было семь сыновей, причём Мефодий (исследователям не известно, было ли это имя крещальным или дано при постриге) — старший, а Константин (Кирилл) — младший из ни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гласно наиболее распространенной в науке версии, Кирилл и Мефодий были греческого происхождения. В XIX веке некоторые славянские ученые (Михаил Погодин, Герменгильд Иречек) отстаивали их славянское происхождение, основываясь на прекрасном владении ими славянским языком — обстоятельство, которое современные учёные считают недостаточным для суждения об этничности. Болгарская традиция называет братьев болгарами (к которым до ХХ в. причислялись и македонские славяне), опираясь в частности на проложное житие Кирилла (в поздней редакции), где сказано, что он «родом съи блъгаринь от солоуна града»; эту идею охотно поддерживают современные болгарские учё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-360" y="0"/>
            <a:ext cx="349236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Фессалоники, в которых родились братья, был двуязычным городом. Кроме греческого языка, в них звучал славянский солунский диалект, на котором говорили окружающие Фессалоники племена: драговиты, сагудаты, ваюниты, смоляне и который, по исследованиям современных лингвистов, и лег в основу языка переводов Кирилла и Мефодия, а с ними и всего церковнославянского языка. Анализ языка переводов Кирилла и Мефодия показывает, что они владели славянским языком как родным. Последнее, впрочем, ещё не говорит в пользу их славянского происхождения и видимо не выделяло их из других жителей Фессалоник, так как житие Мефодия приписывает императору Михаилу III такие слова, обращенные к святым: «вы бо ѥста селѹнѧнина, да селѹнѧне вьси чисто словѣньскы бесѣдѹютъ»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2007bbea293c"/>
          <p:cNvPicPr/>
          <p:nvPr/>
        </p:nvPicPr>
        <p:blipFill>
          <a:blip r:embed="rId1"/>
          <a:stretch/>
        </p:blipFill>
        <p:spPr>
          <a:xfrm>
            <a:off x="4284720" y="333360"/>
            <a:ext cx="4333680" cy="60562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250560" y="260280"/>
            <a:ext cx="4608360" cy="629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а брата получили прекрасное образование. Мефодий, пользуясь поддержкой друга и покровителя семьи, великого логофета (заведующего государственным казначейством) евнуха Феоктиста, сделал неплохую военно-административную карьеру, увенчавшуюся постом стратега Славинии, византийской провинции, расположенной на территории Македонии. Затем однако он постригся в монах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" descr="%D0%BA%D0%B8%D1%80%D0%B8%D0%BB%D0%BB-%D0%B8-%D0%BC%D0%B5%D1%84%D0%BE%D0%B4%D0%B8%D0%B9-%D0%BF%D0%B8%D0%BA-1"/>
          <p:cNvPicPr/>
          <p:nvPr/>
        </p:nvPicPr>
        <p:blipFill>
          <a:blip r:embed="rId1"/>
          <a:stretch/>
        </p:blipFill>
        <p:spPr>
          <a:xfrm>
            <a:off x="4572000" y="0"/>
            <a:ext cx="4410000" cy="66675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3888000" cy="59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нстантин вместе со своими учениками Климентом, Наумом и Ангеларием пришёл в монастырь Полихрон на горе Малый Олимп, где был настоятелем его брат Мефодий. В этом монастыре вокруг Константина и Мефодия сложилась группа единомышленников и зародилась мысль о создании славянской азбу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8" descr="117157"/>
          <p:cNvPicPr/>
          <p:nvPr/>
        </p:nvPicPr>
        <p:blipFill>
          <a:blip r:embed="rId1"/>
          <a:stretch/>
        </p:blipFill>
        <p:spPr>
          <a:xfrm>
            <a:off x="3851280" y="189000"/>
            <a:ext cx="5292720" cy="39686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6840" y="260280"/>
            <a:ext cx="843588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 870 году Мефодий с учениками, получившими сан священников, вернулся в Паннонию, а позже в Моравию. К этому времени обстановка в Моравии резко изменилась. После того, как Ростислав потерпел поражение от Людовика Немецкого и в 870 году умер в баварской тюрьме, моравским князем стал его племянник Святополк, который подчинился немецкому политическому влиянию. Деятельность Мефодия и его учеников протекала в очень сложных условиях. Латинско-немецкое духовенство всячески мешало распространению славянского языка как языка церкв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 872 году Мефодий на три года попал в заключение в монастыре Райхенау. Узнав об этом, папа Иоанн VIII запретил немецким епископам совершать литургию, пока Мефодий не будет освобождён. Правда, он же запретил богослужение на славянском языке, разрешив только проповед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удучи в 874 году восстановленным в правах архиепископа, Мефодий, несмотря на запрещение, продолжал богослужение на славянском языке, крестил чешского князя Боривоя и его супругу Людмил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879 году немецкие епископы организовали новый процесс против Мефодия. Однако Мефодий в Риме блестяще оправдался и даже получил папскую буллу, разрешающую богослужение на славянском язык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881 году Мефодий по приглашению императора Василия I Македонянина приехал в Константинополь. Там он провёл три года, после чего вместе с учениками вернулся в Моравию (Велеград). С помощью трёх учеников он перевёл на славянский язык Ветхий Завет и святоотеческие книг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885 году Мефодий тяжело заболел. Перед смертью своим преемником назначил ученика Горазда. 4 апреля, в Вербное воскресенье он попросил отнести себя в храм, где прочитал проповедь. В тот же день он и скончался. Отпевание Мефодия происходило на трёх языках — славянском, греческом и латинско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0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Arial"/>
              </a:rPr>
              <a:t>Спасибо за внимание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5-19T17:45:08Z</dcterms:created>
  <dc:creator>ADMIN</dc:creator>
  <dc:description/>
  <dc:language>en-US</dc:language>
  <cp:lastModifiedBy>Пользователь</cp:lastModifiedBy>
  <dcterms:modified xsi:type="dcterms:W3CDTF">2017-02-18T10:56:40Z</dcterms:modified>
  <cp:revision>4</cp:revision>
  <dc:subject/>
  <dc:title>Мефодий</dc:title>
</cp:coreProperties>
</file>