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938-94B8-4CAE-BABF-16536504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CA4-00CB-4E3B-9508-EB47B40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83B-4F1B-4A14-A64E-A352A80A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2BE-3A05-4559-B97B-2FB0DEB3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DE1B-6BD7-4B22-BE41-FF0662AB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730D-B2D8-4004-96CE-AFF301A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66F5-EC01-4453-B09A-499883B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1D9A-E1AA-4F1B-A2CC-5155CAC4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3D51-9DE2-45D9-B12A-8398CBA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A234-7601-4CEB-89D0-B9022C40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2595-F657-4305-B232-867510B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FC8-A287-46C7-A6D0-5567EBD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448-AE04-41CD-8204-4E9C648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D7E-EA81-4EF4-AA89-72814FD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986-1836-4180-92EF-86A1FDB1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3CFB-D40D-42B9-A7A0-A2099B20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AF4-897E-49FC-88CB-FF4AE813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71F-7B5C-49D0-9563-0AF7A2D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F87-F489-4363-B8D4-10EC8173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4D9-15D8-4C87-ACEB-3B11907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C12-A0B2-4633-99B7-13B87B36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0F9-23E2-4DB0-9CCF-FF8A13F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AD1-8634-44B2-BA7F-9A03C267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FE6-8797-4737-AAA5-3C9932E8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A0D-E086-46B7-B767-78A5A3A91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6C65-E7FF-4DFD-B592-65E77A2324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n_Bezopasnost_raboty_rabochee_prostranstvo_osanka.exe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8668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филактика нарушений осанки и зрения при работе за компьютер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360" y="3573360"/>
            <a:ext cx="6562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а учитель начальных классов БОУ НШДС № 13 г. Байкальска Слюдянского района Иркутской обла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резина Н.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Ко второй </a:t>
            </a:r>
            <a:r>
              <a:rPr b="0" lang="en-US" sz="4400" spc="-1" strike="noStrike">
                <a:solidFill>
                  <a:srgbClr val="002060"/>
                </a:solidFill>
                <a:latin typeface="Tahoma"/>
              </a:rPr>
              <a:t>(глазной) группе </a:t>
            </a: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относятся :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4920" y="2276280"/>
            <a:ext cx="7056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чувство жжения в глаз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"песок" под ве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боли в области глазниц и лб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боли при движении глаз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- покраснение гл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Основные правила гигиены зрен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мфортное рабочее ме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мнастика для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ьное питание для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параты для улучшения зр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9680" y="928800"/>
            <a:ext cx="7921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481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2b5481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аждые 1-2 часа переключать зрени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мотрите в даль 5-10 мину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Закрыть глаза для отдыха на 1-2 минуты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делать 4-5 простых упражнени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овлекающих в работу большие группы мышц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ыполняйте упражнения для мышц глаз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шеи, спины, плечевого пояс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Для детей рекомендации те же, но перерывы нужно делать чаще и продолжительнее. Детям 12-14 лет каждые 45 минут, а 15-17 лет – каждый час, перерыв должен длиться не менее 15 мину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1851840" y="357120"/>
            <a:ext cx="509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C:\Documents and Settings\Администратор\Рабочий стол\5dca21a81f60.jpg"/>
          <p:cNvPicPr/>
          <p:nvPr/>
        </p:nvPicPr>
        <p:blipFill>
          <a:blip r:embed="rId2"/>
          <a:stretch/>
        </p:blipFill>
        <p:spPr>
          <a:xfrm>
            <a:off x="2786040" y="4929120"/>
            <a:ext cx="311004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396360"/>
            <a:ext cx="77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</a:rPr>
              <a:t>Специальное питание для гла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00360" y="1413000"/>
            <a:ext cx="59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ям с ослабленным зрением нужно употреблять продукты, укрепляющие сосуды сетчатки глаза: чернику, чёрную смородину, морковь. В рационе близоруких должна присутствовать печень трески, зелень: петрушка, салат, укроп, зелёный лук. При дистрофии сетчатки помогает шиповник(настой, отвар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ква</a:t>
            </a: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:\Documents and Settings\Администратор\Рабочий стол\61027m.jpg"/>
          <p:cNvPicPr/>
          <p:nvPr/>
        </p:nvPicPr>
        <p:blipFill>
          <a:blip r:embed="rId2"/>
          <a:stretch/>
        </p:blipFill>
        <p:spPr>
          <a:xfrm>
            <a:off x="142920" y="207180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Препараты для улучшения з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32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езные для глаз витамины (особенно комплексные поливитамины, в которых витамины сочетаются с микроэлементами: цинком, кальцием), все препараты на основе черн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j0240719"/>
          <p:cNvPicPr/>
          <p:nvPr/>
        </p:nvPicPr>
        <p:blipFill>
          <a:blip r:embed="rId2"/>
          <a:stretch/>
        </p:blipFill>
        <p:spPr>
          <a:xfrm>
            <a:off x="6000840" y="1357200"/>
            <a:ext cx="28875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603360"/>
            <a:ext cx="82296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Правила использования компьютер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3624480"/>
            <a:ext cx="806436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людайте правила техники безопасности             при работе    с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играйте в компьютерные игры перед с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рез 20-30 минут работы на компьютере      необходимо делать переры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ремя работы на компьютере не более 1,5 - 2 часа в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филь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009800"/>
            <a:ext cx="327672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892440"/>
            <a:ext cx="8229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1280" y="768240"/>
            <a:ext cx="741672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рямая осанка – здоровое будущее ребенка! Следить за этим надо с пеленок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бота человека, сидящего за компьютером , - одна из самых напряженных и утомительных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некоторых странах она внесена в список наиболее вредных для здоровь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ибольшие функциональные изменения в организме отмечаются со стороны органов зрения, дыха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стно-мышечно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ервно-психическ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-main-pic" descr="Картинка 35 из 17772"/>
          <p:cNvPicPr/>
          <p:nvPr/>
        </p:nvPicPr>
        <p:blipFill>
          <a:blip r:embed="rId2"/>
          <a:stretch/>
        </p:blipFill>
        <p:spPr>
          <a:xfrm>
            <a:off x="395280" y="2060640"/>
            <a:ext cx="4367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метное искривление наступает не раз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ледите за ребенком родительским глаз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i-main-pic" descr="Картинка 16 из 354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адо знать инструкцию правильной посадки!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Чтобы не лишиться красивой осанки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лову держать надо пря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наклонять ее  только влево или только впра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дя за компьютером,  сильно вперед не наклоня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аче без спины  и зрения можно оста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i-main-pic" descr="Картинка 11 из 32819"/>
          <p:cNvPicPr/>
          <p:nvPr/>
        </p:nvPicPr>
        <p:blipFill>
          <a:blip r:embed="rId2"/>
          <a:stretch/>
        </p:blipFill>
        <p:spPr>
          <a:xfrm>
            <a:off x="457200" y="2303640"/>
            <a:ext cx="4038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29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санка требует бережного обращения!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В противном случае наступит искривление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  компьютером  надо сидеть чуть выше обыч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кажитесь от   стула для вас привыч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обретите удобное кресло ребе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 него больше  проку и толку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-main-pic" descr="Картинка 9 из 32819"/>
          <p:cNvPicPr/>
          <p:nvPr/>
        </p:nvPicPr>
        <p:blipFill>
          <a:blip r:embed="rId2"/>
          <a:stretch/>
        </p:blipFill>
        <p:spPr>
          <a:xfrm>
            <a:off x="457200" y="2608200"/>
            <a:ext cx="40384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i-main-pic" descr="Картинка 4 из 16728"/>
          <p:cNvPicPr/>
          <p:nvPr/>
        </p:nvPicPr>
        <p:blipFill>
          <a:blip r:embed="rId2"/>
          <a:stretch/>
        </p:blipFill>
        <p:spPr>
          <a:xfrm>
            <a:off x="900000" y="1413000"/>
            <a:ext cx="7128000" cy="489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960" y="26028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авильная посадка за компьютер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ahoma"/>
              </a:rPr>
              <a:t>Специфические нарушения з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2600" y="2021040"/>
            <a:ext cx="764388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Ученые считают, что 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дей, проводящих много времени перед экраном компьютера, появляются специфические нарушения зрения. При этом симптомы этого заболевания условно можно разделить на две группы: "зрительную" и "глазную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C:\Documents and Settings\Администратор\Рабочий стол\1255525457_3c0c4e3030038bf93dc491ea4a21ad6f_big.jpg"/>
          <p:cNvPicPr/>
          <p:nvPr/>
        </p:nvPicPr>
        <p:blipFill>
          <a:blip r:embed="rId2"/>
          <a:stretch/>
        </p:blipFill>
        <p:spPr>
          <a:xfrm>
            <a:off x="285768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К первой (зрительной) группе</a:t>
            </a:r>
            <a:br>
              <a:rPr sz="4400"/>
            </a:br>
            <a:r>
              <a:rPr b="0" lang="en-US" sz="4400" spc="-1" strike="noStrike">
                <a:solidFill>
                  <a:srgbClr val="002060"/>
                </a:solidFill>
                <a:latin typeface="Tahoma"/>
                <a:ea typeface="Times New Roman"/>
              </a:rPr>
              <a:t>относятс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334960"/>
            <a:ext cx="73422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снижение остроты зр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замедленная перефокусировка с ближних предметов на дальние и обратно (нарушение аккомодаци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двоение предм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быстрая утомляемость при чт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51:15Z</dcterms:created>
  <dc:creator>Админ</dc:creator>
  <dc:description/>
  <dc:language>en-US</dc:language>
  <cp:lastModifiedBy>Админ</cp:lastModifiedBy>
  <dcterms:modified xsi:type="dcterms:W3CDTF">2011-05-04T13:34:20Z</dcterms:modified>
  <cp:revision>2</cp:revision>
  <dc:subject/>
  <dc:title>Слайд 1</dc:title>
</cp:coreProperties>
</file>