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6AF0-CF27-4104-8273-FB8F9689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573-011E-4030-AA46-565EBA7A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AE48-C19D-4948-9D6F-03456C05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9FC2-6FF5-465E-B0EC-9BCF4DF1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5B01-5EBE-4089-ACB4-C128B0AA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3B8E-CD8A-4BAB-883E-E3AB0A2A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4CF8-E39D-4881-8AB9-C6ED7290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A438-7EA6-4AE4-8AF7-D2D4FC9D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B310-CEEE-4D5C-BAFC-2D52B335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BAB8-E8CF-4A2F-8B5D-B4C6F279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B81B-E43A-43AE-9488-772D0A42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026A-DE64-4860-B82B-AA09A902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AD61-6B0E-4739-A5AB-BB83694C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7CFA-AE1A-4C56-9F06-F3ADF916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3F3F-7412-4145-91F3-1E3642A8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D688-5E4F-47CB-BEEB-D4878849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B20E-44E8-4773-B3DE-43D2DD08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07EC-0B9A-4133-A5E2-65049E11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B46B-306E-47C3-9DD3-8538FB48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A65B-7F03-4AB0-BA02-FE001147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8501-2638-4410-99D1-9934BB77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A52E-C940-4DAB-B7DF-2FF51E1A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45ED-C50B-400D-BC2A-D8D6F1D8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A8D8-1675-4234-959D-D931CE05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3392-3430-49DD-BD77-F63303592C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6AA6-DE43-473C-BBFD-F67B3CE10C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n_Bezopasnost_raboty_rabochee_prostranstvo_osanka.exe" TargetMode="External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1125360"/>
            <a:ext cx="808668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рофилактика нарушений осанки и зрения при работе за компьютером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68360" y="3573360"/>
            <a:ext cx="65628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ыполнила учитель начальных классов БОУ НШДС № 13 г. Байкальска Слюдянского района Иркутской област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резина Н.Н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011г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Tahoma"/>
                <a:ea typeface="Times New Roman"/>
              </a:rPr>
              <a:t>Ко второй </a:t>
            </a:r>
            <a:r>
              <a:rPr b="0" lang="en-US" sz="4400" spc="-1" strike="noStrike">
                <a:solidFill>
                  <a:srgbClr val="002060"/>
                </a:solidFill>
                <a:latin typeface="Tahoma"/>
              </a:rPr>
              <a:t>(глазной) группе </a:t>
            </a:r>
            <a:r>
              <a:rPr b="0" lang="en-US" sz="4400" spc="-1" strike="noStrike">
                <a:solidFill>
                  <a:srgbClr val="002060"/>
                </a:solidFill>
                <a:latin typeface="Tahoma"/>
                <a:ea typeface="Times New Roman"/>
              </a:rPr>
              <a:t>относятся :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34920" y="2276280"/>
            <a:ext cx="7056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- чувство жжения в глаза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- "песок" под века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- боли в области глазниц и лб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- боли при движении глаз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- покраснение глаз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Tahoma"/>
              </a:rPr>
              <a:t>Основные правила гигиены зрения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770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мфортное рабочее мест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имнастика для гла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пециальное питание для гла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параты для улучшения зр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99680" y="928800"/>
            <a:ext cx="7921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2b5481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Каждые 1-2 часа переключать зрение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смотрите в даль 5-10 минут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Закрыть глаза для отдыха на 1-2 минуты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Проделать 4-5 простых упражнений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вовлекающих в работу большие группы мышц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Выполняйте упражнения для мышц глаз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шеи, спины, плечевого пояс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Для детей рекомендации те же, но перерывы нужно делать чаще и продолжительнее. Детям 12-14 лет каждые 45 минут, а 15-17 лет – каждый час, перерыв должен длиться не менее 15 минут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Прямоугольник 6"/>
          <p:cNvSpPr/>
          <p:nvPr/>
        </p:nvSpPr>
        <p:spPr>
          <a:xfrm>
            <a:off x="1851840" y="357120"/>
            <a:ext cx="509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Times New Roman"/>
              </a:rPr>
              <a:t>Гимнастика для гл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5" descr="C:\Documents and Settings\Администратор\Рабочий стол\5dca21a81f60.jpg"/>
          <p:cNvPicPr/>
          <p:nvPr/>
        </p:nvPicPr>
        <p:blipFill>
          <a:blip r:embed="rId2"/>
          <a:stretch/>
        </p:blipFill>
        <p:spPr>
          <a:xfrm>
            <a:off x="2786040" y="4929120"/>
            <a:ext cx="3110040" cy="173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0720" y="396360"/>
            <a:ext cx="7704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Tahoma"/>
              </a:rPr>
              <a:t>Специальное питание для гла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0360" y="1413000"/>
            <a:ext cx="590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дям с ослабленным зрением нужно употреблять продукты, укрепляющие сосуды сетчатки глаза: чернику, чёрную смородину, морковь. В рационе близоруких должна присутствовать печень трески, зелень: петрушка, салат, укроп, зелёный лук. При дистрофии сетчатки помогает шиповник(настой, отвар)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юква</a:t>
            </a:r>
            <a:r>
              <a:rPr b="0" lang="ru-RU" sz="2800" spc="-1" strike="noStrike">
                <a:solidFill>
                  <a:srgbClr val="2b548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7" descr="C:\Documents and Settings\Администратор\Рабочий стол\61027m.jpg"/>
          <p:cNvPicPr/>
          <p:nvPr/>
        </p:nvPicPr>
        <p:blipFill>
          <a:blip r:embed="rId2"/>
          <a:stretch/>
        </p:blipFill>
        <p:spPr>
          <a:xfrm>
            <a:off x="142920" y="207180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Tahoma"/>
              </a:rPr>
              <a:t>Препараты для улучшения зр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7120" y="1571760"/>
            <a:ext cx="5329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лезные для глаз витамины (особенно комплексные поливитамины, в которых витамины сочетаются с микроэлементами: цинком, кальцием), все препараты на основе черник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j0240719"/>
          <p:cNvPicPr/>
          <p:nvPr/>
        </p:nvPicPr>
        <p:blipFill>
          <a:blip r:embed="rId2"/>
          <a:stretch/>
        </p:blipFill>
        <p:spPr>
          <a:xfrm>
            <a:off x="6000840" y="1357200"/>
            <a:ext cx="288756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603360"/>
            <a:ext cx="8229600" cy="23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Правила использования компьютера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079640" y="3624480"/>
            <a:ext cx="806436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блюдайте правила техники безопасности             при работе    с компьютер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е играйте в компьютерные игры перед сн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Через 20-30 минут работы на компьютере      необходимо делать переры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ремя работы на компьютере не более 1,5 - 2 часа в д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ccff"/>
                </a:solidFill>
                <a:uFillTx/>
                <a:latin typeface="Arial"/>
                <a:hlinkClick r:id="rId2"/>
              </a:rPr>
              <a:t>филь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1009800"/>
            <a:ext cx="3276720" cy="2662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892440"/>
            <a:ext cx="8229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пасибо за вним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11280" y="768240"/>
            <a:ext cx="7416720" cy="608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рямая осанка – здоровое будущее ребенка! Следить за этим надо с пеленок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бота человека, сидящего за компьютером , - одна из самых напряженных и утомительных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некоторых странах она внесена в список наиболее вредных для здоровья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ибольшие функциональные изменения в организме отмечаются со стороны органов зрения, дыхан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остно-мышечной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нервно-психической систе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i-main-pic" descr="Картинка 35 из 17772"/>
          <p:cNvPicPr/>
          <p:nvPr/>
        </p:nvPicPr>
        <p:blipFill>
          <a:blip r:embed="rId2"/>
          <a:stretch/>
        </p:blipFill>
        <p:spPr>
          <a:xfrm>
            <a:off x="395280" y="2060640"/>
            <a:ext cx="4367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Помните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Заметное искривление наступает не разом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ледите за ребенком родительским глазом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i-main-pic" descr="Картинка 16 из 354"/>
          <p:cNvPicPr/>
          <p:nvPr/>
        </p:nvPicPr>
        <p:blipFill>
          <a:blip r:embed="rId3"/>
          <a:stretch/>
        </p:blipFill>
        <p:spPr>
          <a:xfrm>
            <a:off x="468360" y="1557360"/>
            <a:ext cx="4032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Надо знать инструкцию правильной посадки!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Чтобы не лишиться красивой осанки!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олову держать надо прям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е наклонять ее  только влево или только впра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идя за компьютером,  сильно вперед не наклонять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аче без спины  и зрения можно остать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i-main-pic" descr="Картинка 11 из 32819"/>
          <p:cNvPicPr/>
          <p:nvPr/>
        </p:nvPicPr>
        <p:blipFill>
          <a:blip r:embed="rId2"/>
          <a:stretch/>
        </p:blipFill>
        <p:spPr>
          <a:xfrm>
            <a:off x="457200" y="2303640"/>
            <a:ext cx="40384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29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Осанка требует бережного обращения!</a:t>
            </a:r>
            <a:br>
              <a:rPr sz="3200"/>
            </a:b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В противном случае наступит искривление!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а  компьютером  надо сидеть чуть выше обычн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кажитесь от   стула для вас привычн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иобретите удобное кресло ребенку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 него больше  проку и толку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i-main-pic" descr="Картинка 9 из 32819"/>
          <p:cNvPicPr/>
          <p:nvPr/>
        </p:nvPicPr>
        <p:blipFill>
          <a:blip r:embed="rId2"/>
          <a:stretch/>
        </p:blipFill>
        <p:spPr>
          <a:xfrm>
            <a:off x="457200" y="2608200"/>
            <a:ext cx="403848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i-main-pic" descr="Картинка 4 из 16728"/>
          <p:cNvPicPr/>
          <p:nvPr/>
        </p:nvPicPr>
        <p:blipFill>
          <a:blip r:embed="rId2"/>
          <a:stretch/>
        </p:blipFill>
        <p:spPr>
          <a:xfrm>
            <a:off x="900000" y="1413000"/>
            <a:ext cx="7128000" cy="4895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8960" y="260280"/>
            <a:ext cx="802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авильная посадка за компьютеро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Tahoma"/>
              </a:rPr>
              <a:t>Специфические нарушения зр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2600" y="2021040"/>
            <a:ext cx="7643880" cy="24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Ученые считают, что 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людей, проводящих много времени перед экраном компьютера, появляются специфические нарушения зрения. При этом симптомы этого заболевания условно можно разделить на две группы: "зрительную" и "глазную"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2" descr="C:\Documents and Settings\Администратор\Рабочий стол\1255525457_3c0c4e3030038bf93dc491ea4a21ad6f_big.jpg"/>
          <p:cNvPicPr/>
          <p:nvPr/>
        </p:nvPicPr>
        <p:blipFill>
          <a:blip r:embed="rId2"/>
          <a:stretch/>
        </p:blipFill>
        <p:spPr>
          <a:xfrm>
            <a:off x="2857680" y="4071960"/>
            <a:ext cx="3333600" cy="25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Tahoma"/>
                <a:ea typeface="Times New Roman"/>
              </a:rPr>
              <a:t>К первой (зрительной) группе</a:t>
            </a:r>
            <a:br>
              <a:rPr sz="4400"/>
            </a:br>
            <a:r>
              <a:rPr b="0" lang="en-US" sz="4400" spc="-1" strike="noStrike">
                <a:solidFill>
                  <a:srgbClr val="002060"/>
                </a:solidFill>
                <a:latin typeface="Tahoma"/>
                <a:ea typeface="Times New Roman"/>
              </a:rPr>
              <a:t>относятс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2334960"/>
            <a:ext cx="73422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снижение остроты зр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замедленная перефокусировка с ближних предметов на дальние и обратно (нарушение аккомодации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двоение предмет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быстрая утомляемость при чтен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2:51:15Z</dcterms:created>
  <dc:creator>Админ</dc:creator>
  <dc:description/>
  <dc:language>en-US</dc:language>
  <cp:lastModifiedBy>Админ</cp:lastModifiedBy>
  <dcterms:modified xsi:type="dcterms:W3CDTF">2011-05-04T13:34:20Z</dcterms:modified>
  <cp:revision>2</cp:revision>
  <dc:subject/>
  <dc:title>Слайд 1</dc:title>
</cp:coreProperties>
</file>