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1A7F-6DD8-424D-879E-C3AA2B25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6EA-1FBD-4208-98B0-ACC79915751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39C-F16A-483A-BBA7-B2534CEB0D9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880" y="6854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d4d4d"/>
                </a:solidFill>
                <a:latin typeface="Microsoft Sans Serif"/>
              </a:rPr>
              <a:t>Посвящение в пятиклассники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20680" y="5257800"/>
            <a:ext cx="33418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Microsoft Sans Serif"/>
              </a:rPr>
              <a:t>Составила: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Microsoft Sans Serif"/>
              </a:rPr>
              <a:t>Педагог-психолог Антонова О.М.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763640" y="2209680"/>
            <a:ext cx="561672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1344600" y="2286000"/>
            <a:ext cx="645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1" name="Объект 5" descr=""/>
          <p:cNvPicPr/>
          <p:nvPr/>
        </p:nvPicPr>
        <p:blipFill>
          <a:blip r:embed="rId1"/>
          <a:stretch/>
        </p:blipFill>
        <p:spPr>
          <a:xfrm>
            <a:off x="1446120" y="2286000"/>
            <a:ext cx="6251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1584360" y="2209680"/>
            <a:ext cx="597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1801800" y="2209680"/>
            <a:ext cx="554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177804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1295280" y="2082960"/>
            <a:ext cx="6248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5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59640" cy="6095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974880" y="488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Мы собрались в этом зале сейчас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На красивом волшебном празднике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Этот праздник сегодня для вас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Он для вас одних - пятиклассники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Началь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2297160" y="2438280"/>
            <a:ext cx="45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Сказоч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Портретная галере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14400" y="2436840"/>
            <a:ext cx="7559640" cy="404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Пойми мен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0648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Пятикласс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0" name="Объект 10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Клятва пятиклассника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3984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Удивительные школы мира</a:t>
            </a:r>
            <a:r>
              <a:rPr b="0" lang="en-US" sz="5400" spc="-1" strike="noStrike">
                <a:solidFill>
                  <a:srgbClr val="4d4d4d"/>
                </a:solidFill>
                <a:latin typeface="Microsoft Sans Serif"/>
              </a:rPr>
              <a:t>…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Владелец</cp:lastModifiedBy>
  <dcterms:modified xsi:type="dcterms:W3CDTF">2017-02-18T14:37:15Z</dcterms:modified>
  <cp:revision>184</cp:revision>
  <dc:subject/>
  <dc:title>Name of presentation</dc:title>
</cp:coreProperties>
</file>