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BD7E-429D-4F8D-8FCE-F8EA32530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64A8-0BB2-469D-BE8C-6CD4FA856D8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EB09-B4B9-4A2F-82EC-E920F214C179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9880" y="6854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d4d4d"/>
                </a:solidFill>
                <a:latin typeface="Microsoft Sans Serif"/>
              </a:rPr>
              <a:t>Посвящение в пятиклассники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20680" y="5257800"/>
            <a:ext cx="33418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Microsoft Sans Serif"/>
              </a:rPr>
              <a:t>Составила:</a:t>
            </a:r>
            <a:endParaRPr b="0" lang="en-US" sz="1400" spc="-1" strike="noStrike">
              <a:solidFill>
                <a:srgbClr val="808080"/>
              </a:solidFill>
              <a:latin typeface="Microsoft Sans Serif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7777"/>
                </a:solidFill>
                <a:latin typeface="Microsoft Sans Serif"/>
              </a:rPr>
              <a:t>Педагог-психолог Антонова О.М.</a:t>
            </a:r>
            <a:endParaRPr b="0" lang="en-US" sz="1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1763640" y="2209680"/>
            <a:ext cx="561672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1476360" y="2286000"/>
            <a:ext cx="619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1344600" y="2286000"/>
            <a:ext cx="645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1" name="Объект 5" descr=""/>
          <p:cNvPicPr/>
          <p:nvPr/>
        </p:nvPicPr>
        <p:blipFill>
          <a:blip r:embed="rId1"/>
          <a:stretch/>
        </p:blipFill>
        <p:spPr>
          <a:xfrm>
            <a:off x="1446120" y="2286000"/>
            <a:ext cx="6251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1584360" y="2209680"/>
            <a:ext cx="5975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1801800" y="2209680"/>
            <a:ext cx="5540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1476360" y="2286000"/>
            <a:ext cx="619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1778040" y="220968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1295280" y="2082960"/>
            <a:ext cx="62485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Объект 5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59640" cy="60958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974880" y="488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1fae"/>
                </a:solidFill>
                <a:latin typeface="Arial"/>
              </a:rPr>
              <a:t>Мы собрались в этом зале сейчас,</a:t>
            </a:r>
            <a:br>
              <a:rPr sz="3200"/>
            </a:br>
            <a:r>
              <a:rPr b="0" lang="ru-RU" sz="3200" spc="-1" strike="noStrike">
                <a:solidFill>
                  <a:srgbClr val="891fae"/>
                </a:solidFill>
                <a:latin typeface="Arial"/>
              </a:rPr>
              <a:t>На красивом волшебном празднике,</a:t>
            </a:r>
            <a:br>
              <a:rPr sz="3200"/>
            </a:br>
            <a:r>
              <a:rPr b="0" lang="ru-RU" sz="3200" spc="-1" strike="noStrike">
                <a:solidFill>
                  <a:srgbClr val="891fae"/>
                </a:solidFill>
                <a:latin typeface="Arial"/>
              </a:rPr>
              <a:t>Этот праздник сегодня для вас,</a:t>
            </a:r>
            <a:br>
              <a:rPr sz="3200"/>
            </a:br>
            <a:r>
              <a:rPr b="0" lang="ru-RU" sz="3200" spc="-1" strike="noStrike">
                <a:solidFill>
                  <a:srgbClr val="891fae"/>
                </a:solidFill>
                <a:latin typeface="Arial"/>
              </a:rPr>
              <a:t>Он для вас одних - пятиклассники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Остановка Начальная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2"/>
          <a:stretch/>
        </p:blipFill>
        <p:spPr>
          <a:xfrm>
            <a:off x="2297160" y="2438280"/>
            <a:ext cx="4549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Остановка Сказочная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3" name="Объект 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559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Остановка Портретная галерея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914400" y="2436840"/>
            <a:ext cx="7559640" cy="404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Пойми меня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559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0648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Остановка Пятиклассная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0" name="Объект 10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559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Клятва пятиклассника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39840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d4d4d"/>
                </a:solidFill>
                <a:latin typeface="Microsoft Sans Serif"/>
              </a:rPr>
              <a:t>Удивительные школы мира</a:t>
            </a:r>
            <a:r>
              <a:rPr b="0" lang="en-US" sz="5400" spc="-1" strike="noStrike">
                <a:solidFill>
                  <a:srgbClr val="4d4d4d"/>
                </a:solidFill>
                <a:latin typeface="Microsoft Sans Serif"/>
              </a:rPr>
              <a:t>…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Владелец</cp:lastModifiedBy>
  <dcterms:modified xsi:type="dcterms:W3CDTF">2017-02-18T14:37:15Z</dcterms:modified>
  <cp:revision>184</cp:revision>
  <dc:subject/>
  <dc:title>Name of presentation</dc:title>
</cp:coreProperties>
</file>