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3.gif" ContentType="image/gif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DB3-F789-439C-8E3D-EC6CE2B11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8FF-115F-4023-92FD-9562D531624E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FC2-52A9-49D3-84C8-7576F614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9AB-A6F1-4CC5-AF43-C46171C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6B0-19D8-46DC-93C8-66534E9B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BB9-D0C7-42E2-A249-43007947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303D-59FF-4AF6-9A33-9A17BD32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E51D-0F3A-4B7B-990D-1BE40CD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A00-EBB7-4DF8-BAEB-F79B70F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B45-639F-4072-9B05-04B2085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DB7D-1365-4951-9AD4-30BA8075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493C-B545-4F0F-867D-437058D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CAD2-45C4-4102-9C2B-7768BCD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C49-CFEC-4164-99D2-10CDE89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9E9C-B071-42D5-8C72-19F2092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D362-8075-42F7-B797-A4781E9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EADD-7775-4283-907B-0DADA14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D07-905D-416E-9CB6-7B8DE9A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66DE-A5CF-44B0-9209-4AA7E850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EF8-4DCB-4E1C-9C86-DB707BE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47E-C002-4D84-A06E-1551735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420-0CC1-401D-910B-F728F924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064-2C02-4190-B76A-3E12AE2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8FD-FF39-4AC5-8F53-304EF3D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239-1671-41E1-9BCA-B0817C5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3C0-DD9F-4933-BA8B-0055E34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0D1D-54EC-43CC-9973-24275F0FE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C57-060B-4B31-AA7F-EEB313F86AE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bakdom.ru/assets/images/domibit/masternavseruki/7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bakdom.ru/assets/images/domibit/masternavseruki/78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Логопедическое занятие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«Дифференциация З-Ж»</a:t>
            </a:r>
            <a:br>
              <a:rPr sz="3300"/>
            </a:br>
            <a:r>
              <a:rPr b="1" lang="ru-RU" sz="3300" spc="-1" strike="noStrike">
                <a:solidFill>
                  <a:srgbClr val="006666"/>
                </a:solidFill>
                <a:latin typeface="Verdana"/>
              </a:rPr>
              <a:t>                                   </a:t>
            </a:r>
            <a:br>
              <a:rPr sz="3300"/>
            </a:br>
            <a:r>
              <a:rPr b="1" lang="ru-RU" sz="33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учитель-логопед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                     МКОУ «Тальменская СОШ №3»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                         Гилёва Е.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2F2-C37D-45DC-B769-099FE5CE7F5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4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i?id=19d5f8ba9a0a0472e1855db25ae9ded8-90-144&amp;n=21"/>
          <p:cNvPicPr/>
          <p:nvPr/>
        </p:nvPicPr>
        <p:blipFill>
          <a:blip r:embed="rId2"/>
          <a:stretch/>
        </p:blipFill>
        <p:spPr>
          <a:xfrm>
            <a:off x="1523880" y="685800"/>
            <a:ext cx="1752840" cy="1501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i?id=e20454bd26e5e57bd41c8d427be250ad-102-144&amp;n=21"/>
          <p:cNvPicPr/>
          <p:nvPr/>
        </p:nvPicPr>
        <p:blipFill>
          <a:blip r:embed="rId3"/>
          <a:stretch/>
        </p:blipFill>
        <p:spPr>
          <a:xfrm>
            <a:off x="152280" y="685800"/>
            <a:ext cx="1524240" cy="14922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7" descr="мороженое.bmp"/>
          <p:cNvPicPr/>
          <p:nvPr/>
        </p:nvPicPr>
        <p:blipFill>
          <a:blip r:embed="rId4"/>
          <a:stretch/>
        </p:blipFill>
        <p:spPr>
          <a:xfrm>
            <a:off x="3276720" y="685800"/>
            <a:ext cx="1344600" cy="1523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i?id=c1bb1af0f6b7d4877abe8de35a808df9-118-144&amp;n=21"/>
          <p:cNvPicPr/>
          <p:nvPr/>
        </p:nvPicPr>
        <p:blipFill>
          <a:blip r:embed="rId5"/>
          <a:stretch/>
        </p:blipFill>
        <p:spPr>
          <a:xfrm>
            <a:off x="4648320" y="68580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i?id=53edeb49c65590c0a2d9a3bfaf54029f-51-144&amp;n=21"/>
          <p:cNvPicPr/>
          <p:nvPr/>
        </p:nvPicPr>
        <p:blipFill>
          <a:blip r:embed="rId6"/>
          <a:stretch/>
        </p:blipFill>
        <p:spPr>
          <a:xfrm>
            <a:off x="6553080" y="68580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90" name="Стрелка вниз 4"/>
          <p:cNvSpPr/>
          <p:nvPr/>
        </p:nvSpPr>
        <p:spPr>
          <a:xfrm>
            <a:off x="2209680" y="2514600"/>
            <a:ext cx="609840" cy="9907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Стрелка вверх 12"/>
          <p:cNvSpPr/>
          <p:nvPr/>
        </p:nvSpPr>
        <p:spPr>
          <a:xfrm>
            <a:off x="53352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Стрелка вверх 12"/>
          <p:cNvSpPr/>
          <p:nvPr/>
        </p:nvSpPr>
        <p:spPr>
          <a:xfrm>
            <a:off x="502920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Стрелка вверх 12"/>
          <p:cNvSpPr/>
          <p:nvPr/>
        </p:nvSpPr>
        <p:spPr>
          <a:xfrm>
            <a:off x="365760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Стрелка вниз 4"/>
          <p:cNvSpPr/>
          <p:nvPr/>
        </p:nvSpPr>
        <p:spPr>
          <a:xfrm>
            <a:off x="7391520" y="2438280"/>
            <a:ext cx="609480" cy="99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2860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32767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49528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19051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71629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D8B-972F-4747-81A4-8747FB1784E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2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b23887924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990720" y="1522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зови слоги, соединив звуки . Прочитай данные слог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8" descr="Автор рисунка Шиленков Виктор Георгиевич. - 10 June 2013 - Blog - Bizptax"/>
          <p:cNvPicPr/>
          <p:nvPr/>
        </p:nvPicPr>
        <p:blipFill>
          <a:blip r:embed="rId3"/>
          <a:stretch/>
        </p:blipFill>
        <p:spPr>
          <a:xfrm>
            <a:off x="990720" y="2438280"/>
            <a:ext cx="1466640" cy="2016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1981080" y="1752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2438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О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743200" y="3505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У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27432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Э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16765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Ы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17"/>
          <p:cNvSpPr/>
          <p:nvPr/>
        </p:nvSpPr>
        <p:spPr>
          <a:xfrm flipV="1">
            <a:off x="2438280" y="2286000"/>
            <a:ext cx="609840" cy="419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20"/>
          <p:cNvSpPr/>
          <p:nvPr/>
        </p:nvSpPr>
        <p:spPr>
          <a:xfrm flipV="1">
            <a:off x="2514600" y="3047760"/>
            <a:ext cx="762120" cy="114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Line 21"/>
          <p:cNvSpPr/>
          <p:nvPr/>
        </p:nvSpPr>
        <p:spPr>
          <a:xfrm flipV="1">
            <a:off x="2666880" y="3809880"/>
            <a:ext cx="762120" cy="38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2666880" y="4267080"/>
            <a:ext cx="685800" cy="190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2514600" y="4495680"/>
            <a:ext cx="304920" cy="495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3962520" y="1371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3962520" y="2438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3886200" y="3276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У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3962520" y="41148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Е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886200" y="5181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Arial"/>
              </a:rPr>
              <a:t>ЖИ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97F9-51F9-4F3A-9750-DBE8FBB1638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3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75248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зови животных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380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590920" y="43434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59092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426708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60958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22096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Arial"/>
              </a:rPr>
              <a:t>З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0866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2" name="Picture 14" descr="i?id=20dffe11c657db1fd6788c4a89b875c7-96-144&amp;n=21"/>
          <p:cNvPicPr/>
          <p:nvPr/>
        </p:nvPicPr>
        <p:blipFill>
          <a:blip r:embed="rId2"/>
          <a:stretch/>
        </p:blipFill>
        <p:spPr>
          <a:xfrm>
            <a:off x="0" y="2895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i?id=ca4ce21781e0f243be717d67a912bbfb-33-144&amp;n=21"/>
          <p:cNvPicPr/>
          <p:nvPr/>
        </p:nvPicPr>
        <p:blipFill>
          <a:blip r:embed="rId3"/>
          <a:stretch/>
        </p:blipFill>
        <p:spPr>
          <a:xfrm>
            <a:off x="2286000" y="533412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i?id=774bf92638de1b352b6e9ee93998a03a-55-144&amp;n=21"/>
          <p:cNvPicPr/>
          <p:nvPr/>
        </p:nvPicPr>
        <p:blipFill>
          <a:blip r:embed="rId4"/>
          <a:stretch/>
        </p:blipFill>
        <p:spPr>
          <a:xfrm>
            <a:off x="3733920" y="2971800"/>
            <a:ext cx="2447640" cy="1757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i?id=2ecfe61bbb09c9232fe88e77400194b8-59-144&amp;n=21"/>
          <p:cNvPicPr/>
          <p:nvPr/>
        </p:nvPicPr>
        <p:blipFill>
          <a:blip r:embed="rId5"/>
          <a:stretch/>
        </p:blipFill>
        <p:spPr>
          <a:xfrm>
            <a:off x="7970760" y="52578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i?id=c1bb1af0f6b7d4877abe8de35a808df9-118-144&amp;n=21"/>
          <p:cNvPicPr/>
          <p:nvPr/>
        </p:nvPicPr>
        <p:blipFill>
          <a:blip r:embed="rId6"/>
          <a:stretch/>
        </p:blipFill>
        <p:spPr>
          <a:xfrm>
            <a:off x="5715000" y="533412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3" descr="i?id=1753195ee248802aa8a558275ec1df1b-55-144&amp;n=21"/>
          <p:cNvPicPr/>
          <p:nvPr/>
        </p:nvPicPr>
        <p:blipFill>
          <a:blip r:embed="rId7"/>
          <a:stretch/>
        </p:blipFill>
        <p:spPr>
          <a:xfrm>
            <a:off x="6400800" y="3124080"/>
            <a:ext cx="2286000" cy="1766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4" descr="i?id=19d5f8ba9a0a0472e1855db25ae9ded8-90-144&amp;n=21"/>
          <p:cNvPicPr/>
          <p:nvPr/>
        </p:nvPicPr>
        <p:blipFill>
          <a:blip r:embed="rId8"/>
          <a:stretch/>
        </p:blipFill>
        <p:spPr>
          <a:xfrm>
            <a:off x="0" y="5095800"/>
            <a:ext cx="2057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AF3-EF0F-49AE-A2B1-FA77CD8C160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380880" y="22860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Добавьте слог «зы» или «жи», чтобы слово звучало правильно. Проверьте себ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57200" y="1447920"/>
            <a:ext cx="82296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ду                            берё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ри                             арб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                                 э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а                                га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121932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1219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3352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6212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609588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617220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60199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609588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129528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12952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5335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68580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172200" y="1371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24852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59436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617220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1204-D7FD-44E1-A3A3-E2C1E3B5726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2" name="Picture 2" descr="http://funforkids.ru/pictures/bg/bg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0"/>
            <a:ext cx="876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99ff"/>
                </a:solidFill>
                <a:latin typeface="Arial"/>
              </a:rPr>
              <a:t>Падежное управл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сскажи, кто за кем пришел?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 кем подружился жук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ежду кем находится коза?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4" name="Picture 7" descr="Различные животные и насекомые Gif анимация, аватары, скачать анимацию, анимация для сайта, форума, блога"/>
          <p:cNvPicPr/>
          <p:nvPr/>
        </p:nvPicPr>
        <p:blipFill>
          <a:blip r:embed="rId2"/>
          <a:stretch/>
        </p:blipFill>
        <p:spPr>
          <a:xfrm>
            <a:off x="1752480" y="1752480"/>
            <a:ext cx="1305000" cy="142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i?id=b12cff384b8d91ee7b5ad5572366c26f-113-144&amp;n=21"/>
          <p:cNvPicPr/>
          <p:nvPr/>
        </p:nvPicPr>
        <p:blipFill>
          <a:blip r:embed="rId3"/>
          <a:stretch/>
        </p:blipFill>
        <p:spPr>
          <a:xfrm>
            <a:off x="70102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Giraffe Draw Something"/>
          <p:cNvPicPr/>
          <p:nvPr/>
        </p:nvPicPr>
        <p:blipFill>
          <a:blip r:embed="rId4"/>
          <a:stretch/>
        </p:blipFill>
        <p:spPr>
          <a:xfrm>
            <a:off x="7608960" y="3733920"/>
            <a:ext cx="1535040" cy="2038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6" descr="Ваша ферма - животные"/>
          <p:cNvPicPr/>
          <p:nvPr/>
        </p:nvPicPr>
        <p:blipFill>
          <a:blip r:embed="rId5"/>
          <a:stretch/>
        </p:blipFill>
        <p:spPr>
          <a:xfrm>
            <a:off x="6705720" y="38098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26" descr="i (2)"/>
          <p:cNvPicPr/>
          <p:nvPr/>
        </p:nvPicPr>
        <p:blipFill>
          <a:blip r:embed="rId6"/>
          <a:stretch/>
        </p:blipFill>
        <p:spPr>
          <a:xfrm>
            <a:off x="6629400" y="37339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7"/>
          <p:cNvSpPr/>
          <p:nvPr/>
        </p:nvSpPr>
        <p:spPr>
          <a:xfrm>
            <a:off x="0" y="42670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99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0361E-006 L -0.68386 -0.01527 E">
                                      <p:cBhvr>
                                        <p:cTn id="481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111 L -0.48334 -0.0111 E">
                                      <p:cBhvr>
                                        <p:cTn id="490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5815E-007 L -0.26667 -8.25815E-007 E">
                                      <p:cBhvr>
                                        <p:cTn id="499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D6C-174C-43E0-918A-744AAEA7040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380880" y="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равните пары слов по написанию и значению.   </a:t>
            </a:r>
            <a:br>
              <a:rPr sz="2000"/>
            </a:b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очитайте</a:t>
            </a:r>
            <a:r>
              <a:rPr b="0" i="1" lang="ru-RU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едложения,                                                 вставляя пропущенные буквы «З» или «Ж»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838080" y="3886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380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1460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289548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676520" y="6858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1981080" y="32767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457200" y="190512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Ботинок сильно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В школе красивый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22"/>
          <p:cNvSpPr/>
          <p:nvPr/>
        </p:nvSpPr>
        <p:spPr>
          <a:xfrm>
            <a:off x="533520" y="4724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Хороши быстрые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имние сапоги из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73392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403848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4191120" y="4724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…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Rectangle 28"/>
          <p:cNvSpPr/>
          <p:nvPr/>
        </p:nvSpPr>
        <p:spPr>
          <a:xfrm>
            <a:off x="4038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…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4038480" y="4724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з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3886200" y="5257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ж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6576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629-3A40-422A-B873-C85652DA20F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457200" y="914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971800" y="914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334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981080" y="228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380880" y="167652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стёр вод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бездомных животных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2286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Е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895480" y="3200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Е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1981080" y="25909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533520" y="39625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Пищу нужно хорош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На уроках н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3200400" y="1676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31240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ей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46483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32004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46483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евать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Rectangle 21"/>
          <p:cNvSpPr/>
          <p:nvPr/>
        </p:nvSpPr>
        <p:spPr>
          <a:xfrm>
            <a:off x="3124080" y="4419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B67-54C3-4ADF-9698-4DB01F059EA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1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>
            <a:off x="228600" y="0"/>
            <a:ext cx="8381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очитайте рассказ. Составьте рассказ правиль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80880" y="1219320"/>
            <a:ext cx="8229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 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Ёжик испугался и убежал. 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 Зои живёт собака Жучка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днажды во двор забежал ёжик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 сторожит двор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 залаяла на еж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380880" y="4191120"/>
            <a:ext cx="8229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9" name="Picture 15" descr="i?id=7bb5996326ac7a35a1b3716dbbfe4dbc-59-144&amp;n=21"/>
          <p:cNvPicPr/>
          <p:nvPr/>
        </p:nvPicPr>
        <p:blipFill>
          <a:blip r:embed="rId2"/>
          <a:srcRect l="0" t="0" r="1915" b="7685"/>
          <a:stretch/>
        </p:blipFill>
        <p:spPr>
          <a:xfrm>
            <a:off x="4952880" y="25909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6"/>
          <p:cNvSpPr/>
          <p:nvPr/>
        </p:nvSpPr>
        <p:spPr>
          <a:xfrm>
            <a:off x="1600200" y="3200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38088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У Зои живёт собака  Жуч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380880" y="4724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учка сторожит дв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8088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Однажды во двор забежал ёж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57200" y="5334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учка залаяла на еж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80880" y="5638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Ёжик испугался и убеж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8" name="Picture 7" descr="100426171_victor_cyganov_paintings___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6" descr="СНТ &quot;Бабино-1&quot;"/>
          <p:cNvPicPr/>
          <p:nvPr/>
        </p:nvPicPr>
        <p:blipFill>
          <a:blip r:embed="rId2"/>
          <a:stretch/>
        </p:blipFill>
        <p:spPr>
          <a:xfrm>
            <a:off x="3886200" y="5181480"/>
            <a:ext cx="2724120" cy="167652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1" name="Рисунок 3" descr="http://i076.radikal.ru/1003/74/2682460d1808.png"/>
          <p:cNvPicPr/>
          <p:nvPr/>
        </p:nvPicPr>
        <p:blipFill>
          <a:blip r:embed="rId3"/>
          <a:stretch/>
        </p:blipFill>
        <p:spPr>
          <a:xfrm>
            <a:off x="0" y="4191120"/>
            <a:ext cx="1517760" cy="1724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k.foto.radikal.ru/0702/4c06c5bf7d9c.png"/>
          <p:cNvPicPr/>
          <p:nvPr/>
        </p:nvPicPr>
        <p:blipFill>
          <a:blip r:embed="rId4"/>
          <a:stretch/>
        </p:blipFill>
        <p:spPr>
          <a:xfrm>
            <a:off x="7610400" y="2895480"/>
            <a:ext cx="1533600" cy="1990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3"/>
          <p:cNvSpPr/>
          <p:nvPr/>
        </p:nvSpPr>
        <p:spPr>
          <a:xfrm>
            <a:off x="457200" y="1523880"/>
            <a:ext cx="8472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3300"/>
                </a:solidFill>
                <a:latin typeface="Verdana"/>
              </a:rPr>
              <a:t>МОЛОДЦЫ!</a:t>
            </a:r>
            <a:endParaRPr b="0" lang="en-US" sz="5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4" name="Picture 27" descr="i?id=1d704ef4b38e59dcb43564c3963fba10-51-144&amp;n=21"/>
          <p:cNvPicPr/>
          <p:nvPr/>
        </p:nvPicPr>
        <p:blipFill>
          <a:blip r:embed="rId5"/>
          <a:srcRect l="0" t="38901" r="70979" b="5165"/>
          <a:stretch/>
        </p:blipFill>
        <p:spPr>
          <a:xfrm>
            <a:off x="533520" y="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9" descr="i?id=1d704ef4b38e59dcb43564c3963fba10-51-144&amp;n=21"/>
          <p:cNvPicPr/>
          <p:nvPr/>
        </p:nvPicPr>
        <p:blipFill>
          <a:blip r:embed="rId6"/>
          <a:srcRect l="0" t="0" r="79572" b="57344"/>
          <a:stretch/>
        </p:blipFill>
        <p:spPr>
          <a:xfrm>
            <a:off x="7238880" y="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1" descr="i?id=639a3bc456dc3684eeb487ad9f00a414-86-144&amp;n=21"/>
          <p:cNvPicPr/>
          <p:nvPr/>
        </p:nvPicPr>
        <p:blipFill>
          <a:blip r:embed="rId7"/>
          <a:srcRect l="37339" t="0" r="41345" b="57344"/>
          <a:stretch/>
        </p:blipFill>
        <p:spPr>
          <a:xfrm rot="14793000">
            <a:off x="1510200" y="5575680"/>
            <a:ext cx="5828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5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350"/>
                            </p:stCondLst>
                            <p:childTnLst>
                              <p:par>
                                <p:cTn id="6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3.97178E-006 C 0.0073 0.02799 0.01476 0.05598 0.01164 0.08421 C 0.00851 0.11243 -0.02031 0.13972 -0.0184 0.17003 C -0.01649 0.20033 0.02344 0.22832 0.0231 0.26649 C 0.02275 0.30465 -0.01753 0.35531 -0.02065 0.39973 C -0.02378 0.44414 0.00643 0.48994 0.00469 0.53297 C 0.00296 0.57599 -0.01406 0.61717 -0.0309 0.65857 E">
                                      <p:cBhvr>
                                        <p:cTn id="64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350"/>
                            </p:stCondLst>
                            <p:childTnLst>
                              <p:par>
                                <p:cTn id="6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35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835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5.06824E-006 C 0.03316 0.02938 0.06649 0.05876 0.06441 0.09346 C 0.06232 0.12816 -0.01424 0.17118 -0.01268 0.2082 C -0.01111 0.24521 0.06632 0.27991 0.07361 0.31553 C 0.0809 0.35115 0.0559 0.38678 0.03107 0.42263 E">
                                      <p:cBhvr>
                                        <p:cTn id="651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8" descr="iвц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Автор рисунка Шиленков Виктор Георгиевич. - 10 June 2013 - Blog - Bizptax"/>
          <p:cNvPicPr/>
          <p:nvPr/>
        </p:nvPicPr>
        <p:blipFill>
          <a:blip r:embed="rId2"/>
          <a:stretch/>
        </p:blipFill>
        <p:spPr>
          <a:xfrm rot="19015200">
            <a:off x="7086600" y="457164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469"/>
          <p:cNvPicPr/>
          <p:nvPr/>
        </p:nvPicPr>
        <p:blipFill>
          <a:blip r:embed="rId3"/>
          <a:stretch/>
        </p:blipFill>
        <p:spPr>
          <a:xfrm>
            <a:off x="0" y="5715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549 0.05875 C 0.03802 0.02729 -0.0191 -0.0044 -0.11597 0.00833 C -0.21319 0.02012 -0.4125 0.17141 -0.48611 0.13208 C -0.56024 0.09299 -0.50868 -0.13718 -0.56007 -0.22623 C -0.61128 -0.31506 -0.78576 -0.32963 -0.79479 -0.40158 C -0.80312 -0.47328 -0.59062 -0.58941 -0.61198 -0.65742 C -0.63316 -0.72519 -0.86875 -0.78325 -0.92153 -0.8087 E">
                                      <p:cBhvr>
                                        <p:cTn id="6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4.15915E-006 C 0.12379 -0.03008 0.24757 -0.05945 0.31025 -0.14712 C 0.37292 -0.23433 0.31459 -0.44877 0.37587 -0.52533 C 0.43716 -0.60144 0.59948 -0.54569 0.67813 -0.60491 C 0.75678 -0.66413 0.80244 -0.77238 0.84827 -0.88041 E">
                                      <p:cBhvr>
                                        <p:cTn id="15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734-613A-4330-8C98-91492CBC0C0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Различени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80880" y="1905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Verdana"/>
              </a:rPr>
              <a:t>-</a:t>
            </a:r>
            <a:br>
              <a:rPr sz="9600"/>
            </a:b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2" descr="i?id=427d6668dfd935575e61bef066750d57-95-144&amp;n=21"/>
          <p:cNvPicPr/>
          <p:nvPr/>
        </p:nvPicPr>
        <p:blipFill>
          <a:blip r:embed="rId1"/>
          <a:srcRect l="0" t="20585" r="4006" b="-554"/>
          <a:stretch/>
        </p:blipFill>
        <p:spPr>
          <a:xfrm>
            <a:off x="4572000" y="2209680"/>
            <a:ext cx="4038480" cy="336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i?id=205d3f6185c6afd2b58c56051a681e4d-133-144&amp;n=21"/>
          <p:cNvPicPr/>
          <p:nvPr/>
        </p:nvPicPr>
        <p:blipFill>
          <a:blip r:embed="rId2"/>
          <a:stretch/>
        </p:blipFill>
        <p:spPr>
          <a:xfrm>
            <a:off x="838080" y="1981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3A0-DD99-482A-8055-9E242A5015A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4-tub-ru.yandex.net/i?id=13429627-28-72"/>
          <p:cNvPicPr/>
          <p:nvPr/>
        </p:nvPicPr>
        <p:blipFill>
          <a:blip r:embed="rId2"/>
          <a:stretch/>
        </p:blipFill>
        <p:spPr>
          <a:xfrm>
            <a:off x="6248520" y="990720"/>
            <a:ext cx="895320" cy="121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Картинка 94 из 122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143000"/>
            <a:ext cx="1521000" cy="1004760"/>
          </a:xfrm>
          <a:prstGeom prst="rect">
            <a:avLst/>
          </a:prstGeom>
          <a:ln w="0">
            <a:noFill/>
          </a:ln>
        </p:spPr>
      </p:pic>
      <p:sp>
        <p:nvSpPr>
          <p:cNvPr id="193" name="Месяц 3"/>
          <p:cNvSpPr/>
          <p:nvPr/>
        </p:nvSpPr>
        <p:spPr>
          <a:xfrm rot="16200000">
            <a:off x="1771560" y="1962000"/>
            <a:ext cx="380880" cy="14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Стрелка вниз 4"/>
          <p:cNvSpPr/>
          <p:nvPr/>
        </p:nvSpPr>
        <p:spPr>
          <a:xfrm>
            <a:off x="1752480" y="4419720"/>
            <a:ext cx="609840" cy="990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Выноска с четырьмя стрелками 7"/>
          <p:cNvSpPr/>
          <p:nvPr/>
        </p:nvSpPr>
        <p:spPr>
          <a:xfrm>
            <a:off x="1523880" y="5715000"/>
            <a:ext cx="1135080" cy="990720"/>
          </a:xfrm>
          <a:prstGeom prst="pie">
            <a:avLst/>
          </a:prstGeom>
          <a:solidFill>
            <a:srgbClr val="00b0f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Кольцо 2"/>
          <p:cNvSpPr/>
          <p:nvPr/>
        </p:nvSpPr>
        <p:spPr>
          <a:xfrm>
            <a:off x="6248520" y="2362320"/>
            <a:ext cx="779400" cy="685800"/>
          </a:xfrm>
          <a:prstGeom prst="pie">
            <a:avLst/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Стрелка вверх 12"/>
          <p:cNvSpPr/>
          <p:nvPr/>
        </p:nvSpPr>
        <p:spPr>
          <a:xfrm>
            <a:off x="6400800" y="44197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Солнце 6"/>
          <p:cNvSpPr/>
          <p:nvPr/>
        </p:nvSpPr>
        <p:spPr>
          <a:xfrm>
            <a:off x="6248520" y="5715000"/>
            <a:ext cx="963360" cy="866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25092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Губ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25092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уб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39528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Язы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324000" y="5516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Воздуш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ная стру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1523880" y="228600"/>
            <a:ext cx="838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вук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6324480" y="228600"/>
            <a:ext cx="80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вук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15238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12952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17524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22096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9810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4382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17524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22096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19810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32"/>
          <p:cNvSpPr/>
          <p:nvPr/>
        </p:nvSpPr>
        <p:spPr>
          <a:xfrm flipV="1">
            <a:off x="24382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5238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12952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26668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70866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61722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10666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39"/>
          <p:cNvSpPr/>
          <p:nvPr/>
        </p:nvSpPr>
        <p:spPr>
          <a:xfrm flipV="1">
            <a:off x="26668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40"/>
          <p:cNvSpPr/>
          <p:nvPr/>
        </p:nvSpPr>
        <p:spPr>
          <a:xfrm flipV="1">
            <a:off x="10666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41"/>
          <p:cNvSpPr/>
          <p:nvPr/>
        </p:nvSpPr>
        <p:spPr>
          <a:xfrm flipV="1">
            <a:off x="64008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42"/>
          <p:cNvSpPr/>
          <p:nvPr/>
        </p:nvSpPr>
        <p:spPr>
          <a:xfrm flipV="1">
            <a:off x="73152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43"/>
          <p:cNvSpPr/>
          <p:nvPr/>
        </p:nvSpPr>
        <p:spPr>
          <a:xfrm flipV="1">
            <a:off x="68580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66294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45"/>
          <p:cNvSpPr/>
          <p:nvPr/>
        </p:nvSpPr>
        <p:spPr>
          <a:xfrm flipV="1">
            <a:off x="59436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70866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47"/>
          <p:cNvSpPr/>
          <p:nvPr/>
        </p:nvSpPr>
        <p:spPr>
          <a:xfrm flipV="1">
            <a:off x="66294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48"/>
          <p:cNvSpPr/>
          <p:nvPr/>
        </p:nvSpPr>
        <p:spPr>
          <a:xfrm flipV="1">
            <a:off x="61722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9"/>
          <p:cNvSpPr/>
          <p:nvPr/>
        </p:nvSpPr>
        <p:spPr>
          <a:xfrm>
            <a:off x="64008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50"/>
          <p:cNvSpPr/>
          <p:nvPr/>
        </p:nvSpPr>
        <p:spPr>
          <a:xfrm>
            <a:off x="68580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51"/>
          <p:cNvSpPr/>
          <p:nvPr/>
        </p:nvSpPr>
        <p:spPr>
          <a:xfrm>
            <a:off x="73152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52"/>
          <p:cNvSpPr/>
          <p:nvPr/>
        </p:nvSpPr>
        <p:spPr>
          <a:xfrm>
            <a:off x="59436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3"/>
          <p:cNvSpPr/>
          <p:nvPr/>
        </p:nvSpPr>
        <p:spPr>
          <a:xfrm>
            <a:off x="57150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54"/>
          <p:cNvSpPr/>
          <p:nvPr/>
        </p:nvSpPr>
        <p:spPr>
          <a:xfrm flipV="1">
            <a:off x="57150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24B-87E4-43D3-923C-58436714991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181480" y="609480"/>
            <a:ext cx="350532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гл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вон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яг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0880" y="60948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гл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вонк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33520" y="3962520"/>
            <a:ext cx="2171520" cy="1942920"/>
          </a:xfrm>
          <a:prstGeom prst="rect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838080" y="4267080"/>
            <a:ext cx="152424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10"/>
          <p:cNvSpPr/>
          <p:nvPr/>
        </p:nvSpPr>
        <p:spPr>
          <a:xfrm flipV="1">
            <a:off x="1600200" y="449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1523880" y="4343400"/>
            <a:ext cx="114480" cy="1144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 rot="5400000">
            <a:off x="5715000" y="3429000"/>
            <a:ext cx="914400" cy="21333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 rot="5400000">
            <a:off x="5715000" y="4343400"/>
            <a:ext cx="914400" cy="213336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5562720" y="4800600"/>
            <a:ext cx="1257120" cy="22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6095880" y="5105520"/>
            <a:ext cx="114480" cy="11412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17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Автор рисунка Шиленков Виктор Георгиевич. - 10 June 2013 - Blog - Bizptax"/>
          <p:cNvPicPr/>
          <p:nvPr/>
        </p:nvPicPr>
        <p:blipFill>
          <a:blip r:embed="rId4"/>
          <a:stretch/>
        </p:blipFill>
        <p:spPr>
          <a:xfrm rot="8321400">
            <a:off x="-20160" y="-436680"/>
            <a:ext cx="1108080" cy="1524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Картинка 94 из 12224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3000" y="0"/>
            <a:ext cx="15210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0.03678 C 0.2132 0.05667 0.30452 0.0768 0.33247 0.12098 C 0.36042 0.16493 0.28299 0.24358 0.28993 0.30187 C 0.29688 0.36017 0.39375 0.37914 0.37379 0.47028 C 0.35382 0.56142 0.20556 0.78325 0.17049 0.84849 C 0.13542 0.91349 0.14948 0.88712 0.16355 0.86075 E">
                                      <p:cBhvr>
                                        <p:cTn id="146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47074E-006 C 0.03091 0.00046 0.06181 0.00115 -0.00694 0.00439 C -0.07569 0.00763 -0.34097 -0.0354 -0.41267 0.01989 C -0.48437 0.07517 -0.43837 0.21558 -0.4368 0.3368 C -0.43524 0.45801 -0.48107 0.65602 -0.40347 0.74716 C -0.32587 0.8383 -0.04323 0.86074 0.02865 0.88364 E">
                                      <p:cBhvr>
                                        <p:cTn id="155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3F2-1BE7-4111-9B22-1A581647F72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6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i?id=19d5f8ba9a0a0472e1855db25ae9ded8-90-144&amp;n=21"/>
          <p:cNvPicPr/>
          <p:nvPr/>
        </p:nvPicPr>
        <p:blipFill>
          <a:blip r:embed="rId2"/>
          <a:stretch/>
        </p:blipFill>
        <p:spPr>
          <a:xfrm>
            <a:off x="1523880" y="685800"/>
            <a:ext cx="1752840" cy="150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i?id=e20454bd26e5e57bd41c8d427be250ad-102-144&amp;n=21"/>
          <p:cNvPicPr/>
          <p:nvPr/>
        </p:nvPicPr>
        <p:blipFill>
          <a:blip r:embed="rId3"/>
          <a:stretch/>
        </p:blipFill>
        <p:spPr>
          <a:xfrm>
            <a:off x="152280" y="685800"/>
            <a:ext cx="1524240" cy="1492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мороженое.bmp"/>
          <p:cNvPicPr/>
          <p:nvPr/>
        </p:nvPicPr>
        <p:blipFill>
          <a:blip r:embed="rId4"/>
          <a:stretch/>
        </p:blipFill>
        <p:spPr>
          <a:xfrm>
            <a:off x="3276720" y="685800"/>
            <a:ext cx="1344600" cy="1523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i?id=c1bb1af0f6b7d4877abe8de35a808df9-118-144&amp;n=21"/>
          <p:cNvPicPr/>
          <p:nvPr/>
        </p:nvPicPr>
        <p:blipFill>
          <a:blip r:embed="rId5"/>
          <a:stretch/>
        </p:blipFill>
        <p:spPr>
          <a:xfrm>
            <a:off x="4648320" y="68580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i?id=53edeb49c65590c0a2d9a3bfaf54029f-51-144&amp;n=21"/>
          <p:cNvPicPr/>
          <p:nvPr/>
        </p:nvPicPr>
        <p:blipFill>
          <a:blip r:embed="rId6"/>
          <a:stretch/>
        </p:blipFill>
        <p:spPr>
          <a:xfrm>
            <a:off x="6553080" y="68580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62" name="Стрелка вниз 4"/>
          <p:cNvSpPr/>
          <p:nvPr/>
        </p:nvSpPr>
        <p:spPr>
          <a:xfrm>
            <a:off x="609480" y="5334120"/>
            <a:ext cx="609840" cy="990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Стрелка вверх 12"/>
          <p:cNvSpPr/>
          <p:nvPr/>
        </p:nvSpPr>
        <p:spPr>
          <a:xfrm>
            <a:off x="2362320" y="53341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Стрелка вверх 12"/>
          <p:cNvSpPr/>
          <p:nvPr/>
        </p:nvSpPr>
        <p:spPr>
          <a:xfrm>
            <a:off x="7315200" y="525780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Стрелка вверх 12"/>
          <p:cNvSpPr/>
          <p:nvPr/>
        </p:nvSpPr>
        <p:spPr>
          <a:xfrm>
            <a:off x="3657600" y="53341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Стрелка вниз 4"/>
          <p:cNvSpPr/>
          <p:nvPr/>
        </p:nvSpPr>
        <p:spPr>
          <a:xfrm>
            <a:off x="5486400" y="5410080"/>
            <a:ext cx="609480" cy="99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9896E-006 L -0.175 -0.41082 E">
                                      <p:cBhvr>
                                        <p:cTn id="16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31853E-007 L 0.15833 -0.39417 E">
                                      <p:cBhvr>
                                        <p:cTn id="16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89938E-006 L -0.39999 -0.37751 E">
                                      <p:cBhvr>
                                        <p:cTn id="16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31853E-007 L 0.179 -0.39417 E">
                                      <p:cBhvr>
                                        <p:cTn id="17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3227E-006 L 0.20834 -0.39417 E">
                                      <p:cBhvr>
                                        <p:cTn id="17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F62D-2A61-4907-A384-5D52D680782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0" y="609480"/>
            <a:ext cx="346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Эта буква широ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 похожа на жу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 при этом, точно жу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здаёт жужжащий зву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-ж-ж-ж-ж-ж-ж-ж-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2"/>
          <a:stretch/>
        </p:blipFill>
        <p:spPr>
          <a:xfrm>
            <a:off x="3336840" y="2503440"/>
            <a:ext cx="58071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E71-D4F1-4320-A6F8-0ED60B5AA93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2"/>
          <p:cNvPicPr/>
          <p:nvPr/>
        </p:nvPicPr>
        <p:blipFill>
          <a:blip r:embed="rId2"/>
          <a:srcRect l="0" t="7591" r="1668" b="3801"/>
          <a:stretch/>
        </p:blipFill>
        <p:spPr>
          <a:xfrm>
            <a:off x="0" y="1905120"/>
            <a:ext cx="8991720" cy="2666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2362320" y="4572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 что похожа буква </a:t>
            </a: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з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Посчитай и назови, сколько 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19A-2EE4-4975-BF5E-A470B8C2E45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"/>
          <p:cNvSpPr/>
          <p:nvPr/>
        </p:nvSpPr>
        <p:spPr>
          <a:xfrm>
            <a:off x="0" y="457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З - непросто завитуш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З- пружинка, крендель, струж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На букву «З» ты посмотри,       она совсем как цифра 3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13:41Z</dcterms:created>
  <dc:creator>ADMIN</dc:creator>
  <dc:description/>
  <dc:language>en-US</dc:language>
  <cp:lastModifiedBy>Windows User</cp:lastModifiedBy>
  <dcterms:modified xsi:type="dcterms:W3CDTF">2017-02-18T12:16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