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A55-CFA2-4E42-9189-6DFCC05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AC1-BEB6-4668-975C-D040713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B1D-5A2C-4FFA-8CA9-371F29A2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E94-5160-4C7E-860C-8E9C934D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A96F-E208-4B0B-90CA-5EB34F96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826-66DD-44F3-98A4-83FD1A0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57C-E800-429E-BB7D-FA4EF70D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047-4E21-4BF9-8D0C-9AC9129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568-F165-4DAE-8E62-53351B1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62A-5E9B-436F-8ACA-E3514E4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2DA0-2237-4CAB-95F2-4C307F5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6A9-280D-42AC-AC13-CB2981FB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739C-5209-4F9E-AD50-D9198E7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3671-94A7-43BF-BE7D-4F2E69F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5F95-A462-43FC-B453-F762804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E30E-7A5F-4B0E-863B-8DD3092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34DD-7B37-4A00-80F9-EA81EE9E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A0E-9E02-4919-8BDA-6306D5B2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FCF-7DCE-4E4F-9C00-06DA3AF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00C-0AA0-4B97-8157-866AFB8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219-54A3-4D80-9167-A9B239D7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424-665D-48E6-9E2A-1B944B6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B37-51E3-410C-9534-6929D9F9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487-C1A9-41BD-A1ED-4908D63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5C7-5945-497E-81A4-00FCABD1E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EDC-BCA2-47DB-BD28-7AA510DF9F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офилактика заболеваний органов дых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L41_02_p01"/>
          <p:cNvPicPr/>
          <p:nvPr/>
        </p:nvPicPr>
        <p:blipFill>
          <a:blip r:embed="rId2"/>
          <a:stretch/>
        </p:blipFill>
        <p:spPr>
          <a:xfrm>
            <a:off x="250920" y="160200"/>
            <a:ext cx="4968720" cy="650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8" name="Picture 6" descr="L41_02_p03"/>
          <p:cNvPicPr/>
          <p:nvPr/>
        </p:nvPicPr>
        <p:blipFill>
          <a:blip r:embed="rId3"/>
          <a:stretch/>
        </p:blipFill>
        <p:spPr>
          <a:xfrm rot="675000">
            <a:off x="5292720" y="476280"/>
            <a:ext cx="3551400" cy="337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Rectangle 8"/>
          <p:cNvSpPr/>
          <p:nvPr/>
        </p:nvSpPr>
        <p:spPr>
          <a:xfrm>
            <a:off x="3486960" y="297072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Rectangle 10"/>
          <p:cNvSpPr/>
          <p:nvPr/>
        </p:nvSpPr>
        <p:spPr>
          <a:xfrm rot="20932800">
            <a:off x="5585760" y="66528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466600" y="4149720"/>
            <a:ext cx="33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Колумб Америку открыл,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Великий был моряк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Но плохо тем, что приучил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Он всех курить табак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От трубки мира у костра, 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Раскуренной с вождём,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Привычка вредная пошла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В масштабе мировом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L41_04_p01"/>
          <p:cNvPicPr/>
          <p:nvPr/>
        </p:nvPicPr>
        <p:blipFill>
          <a:blip r:embed="rId2"/>
          <a:stretch/>
        </p:blipFill>
        <p:spPr>
          <a:xfrm>
            <a:off x="0" y="0"/>
            <a:ext cx="5143680" cy="557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078880" y="214200"/>
            <a:ext cx="41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Рак лёгких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5286240" y="2071800"/>
            <a:ext cx="36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локачественное заболевание, ведущее к разрушению тканей легких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регите здоров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/>
          <p:cNvSpPr/>
          <p:nvPr/>
        </p:nvSpPr>
        <p:spPr>
          <a:xfrm>
            <a:off x="611280" y="2205000"/>
            <a:ext cx="3168720" cy="1978200"/>
          </a:xfrm>
          <a:prstGeom prst="cloudCallout">
            <a:avLst>
              <a:gd name="adj1" fmla="val -45138"/>
              <a:gd name="adj2" fmla="val 685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643280" y="1484280"/>
            <a:ext cx="3853080" cy="1978200"/>
          </a:xfrm>
          <a:prstGeom prst="cloudCallout">
            <a:avLst>
              <a:gd name="adj1" fmla="val -44930"/>
              <a:gd name="adj2" fmla="val 704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700360" y="4076640"/>
            <a:ext cx="4751280" cy="1689120"/>
          </a:xfrm>
          <a:prstGeom prst="cloudCallout">
            <a:avLst>
              <a:gd name="adj1" fmla="val -50199"/>
              <a:gd name="adj2" fmla="val 5893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26000" y="279396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вёрдые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932360" y="1989000"/>
            <a:ext cx="39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азообразные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771640" y="4581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ички органич. в-в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16320" y="260280"/>
            <a:ext cx="694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Загрязняющие воздух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примеси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GBI_2A08_00A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61214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 rot="2136600">
            <a:off x="2166840" y="1677600"/>
            <a:ext cx="719280" cy="100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AutoShape 6"/>
          <p:cNvSpPr/>
          <p:nvPr/>
        </p:nvSpPr>
        <p:spPr>
          <a:xfrm rot="4023000">
            <a:off x="3925080" y="1843560"/>
            <a:ext cx="687240" cy="1060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AutoShape 7"/>
          <p:cNvSpPr/>
          <p:nvPr/>
        </p:nvSpPr>
        <p:spPr>
          <a:xfrm rot="1773600">
            <a:off x="2268000" y="3284280"/>
            <a:ext cx="687600" cy="1060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AutoShape 8"/>
          <p:cNvSpPr/>
          <p:nvPr/>
        </p:nvSpPr>
        <p:spPr>
          <a:xfrm rot="3909000">
            <a:off x="5194800" y="343440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AutoShape 9"/>
          <p:cNvSpPr/>
          <p:nvPr/>
        </p:nvSpPr>
        <p:spPr>
          <a:xfrm rot="4366800">
            <a:off x="5631120" y="474552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3880" y="5589720"/>
            <a:ext cx="55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ыхательные пути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324000" y="260280"/>
            <a:ext cx="367344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211640" y="100440"/>
            <a:ext cx="49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Воздушно-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             </a:t>
            </a: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капельные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инфекции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429080" y="3357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ространяются с микроскопическими капельками слюны при кашле, чихании, разговоре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324000" y="260280"/>
            <a:ext cx="3247920" cy="331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211640" y="47952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Грипп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067280" y="198900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зывается вирусами разного вида, распространяется воздушно-капельным путем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L33_p07_p08_z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588000" y="112536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"/>
              </a:rPr>
              <a:t>Бронхит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2" name="Picture 6" descr="L33_p07_p08_z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73272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610320" y="1413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610320" y="134136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Бронхит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33_p07_p08_z2"/>
          <p:cNvPicPr/>
          <p:nvPr/>
        </p:nvPicPr>
        <p:blipFill>
          <a:blip r:embed="rId2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825440" y="714240"/>
            <a:ext cx="43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Пневмония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5500800" y="200016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143000" y="450072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L33_p07_p08_z6"/>
          <p:cNvPicPr/>
          <p:nvPr/>
        </p:nvPicPr>
        <p:blipFill>
          <a:blip r:embed="rId2"/>
          <a:stretch/>
        </p:blipFill>
        <p:spPr>
          <a:xfrm>
            <a:off x="0" y="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350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кобактерия туберкулёза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лочка Коха)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5357880" y="1571760"/>
            <a:ext cx="31431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екционное заболевание органов дыхания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5000760" y="35712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Туберкулез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L33_p07_p08_z8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648240" y="21420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onotype Corsiva"/>
              </a:rPr>
              <a:t>Бронхиальная астма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4857840" y="1357200"/>
            <a:ext cx="3286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ой заболевания часто является аллергическая реакция, сопровождающаяся затрудненным дыханием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5:12:16Z</dcterms:created>
  <dc:creator>*</dc:creator>
  <dc:description/>
  <dc:language>en-US</dc:language>
  <cp:lastModifiedBy>Учитель</cp:lastModifiedBy>
  <dcterms:modified xsi:type="dcterms:W3CDTF">2017-02-18T09:06:30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