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20A-F51B-4407-AD68-D1129B4F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541-0EB0-4AD7-B4E6-A11939E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000-CCCF-4393-9BA2-1A64814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9F9-12F5-44FB-8A7F-7F0E36E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B31-7B92-449D-8EBD-D4017C56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8C2-762B-4D97-82C4-EC00D2A8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1C6-8DFC-45B9-95C3-742152B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44F-5245-43DD-9371-4FE7A5D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A68-D90F-4212-8E9A-D1D1AB3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FB2-407D-4BB5-8253-8D4745F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B2F-7422-4BE5-8E29-3D526D7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2A6-79EE-47C3-9BB1-C9C01D7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655-FCD1-4873-8139-60C609E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678-7D6E-4728-B5AA-0F2C3B51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B5A6-C194-41F6-B6A8-368D3C4D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740-7AFA-457C-A729-B58C9458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68F5-D815-4C4B-BEB7-1B503074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006-B79E-47EA-8271-4230205D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C64-A5C4-45EE-8C3F-9369336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B88-0F38-4F21-A259-C998DF2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94C-F862-4693-A14F-5D77DE54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3EB-BE8B-409E-9B28-7DB9D1E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29B-5AE9-46CD-9E6A-D17F35B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421-F47B-44EB-A1B6-7FEC6815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4374-325C-4BD5-AA5D-86C138B99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315-0BE6-413A-91F2-06F5D6C37D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5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офилактика заболеваний органов дых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L41_02_p01"/>
          <p:cNvPicPr/>
          <p:nvPr/>
        </p:nvPicPr>
        <p:blipFill>
          <a:blip r:embed="rId2"/>
          <a:stretch/>
        </p:blipFill>
        <p:spPr>
          <a:xfrm>
            <a:off x="250920" y="160200"/>
            <a:ext cx="4968720" cy="650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8" name="Picture 6" descr="L41_02_p03"/>
          <p:cNvPicPr/>
          <p:nvPr/>
        </p:nvPicPr>
        <p:blipFill>
          <a:blip r:embed="rId3"/>
          <a:stretch/>
        </p:blipFill>
        <p:spPr>
          <a:xfrm rot="675000">
            <a:off x="5292720" y="476280"/>
            <a:ext cx="3551400" cy="337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Rectangle 8"/>
          <p:cNvSpPr/>
          <p:nvPr/>
        </p:nvSpPr>
        <p:spPr>
          <a:xfrm>
            <a:off x="3486960" y="297072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Rectangle 10"/>
          <p:cNvSpPr/>
          <p:nvPr/>
        </p:nvSpPr>
        <p:spPr>
          <a:xfrm rot="20932800">
            <a:off x="5585760" y="665280"/>
            <a:ext cx="3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466600" y="4149720"/>
            <a:ext cx="33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Колумб Америку открыл,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Великий был моряк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Но плохо тем, что приучил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Он всех курить табак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От трубки мира у костра, 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Раскуренной с вождём,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Привычка вредная пошла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c"/>
              </a:rPr>
              <a:t>В масштабе мировом.</a:t>
            </a: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L41_04_p01"/>
          <p:cNvPicPr/>
          <p:nvPr/>
        </p:nvPicPr>
        <p:blipFill>
          <a:blip r:embed="rId2"/>
          <a:stretch/>
        </p:blipFill>
        <p:spPr>
          <a:xfrm>
            <a:off x="0" y="0"/>
            <a:ext cx="5143680" cy="557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078880" y="214200"/>
            <a:ext cx="41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Рак лёгких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5286240" y="2071800"/>
            <a:ext cx="36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локачественное заболевание, ведущее к разрушению тканей легких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регите здоров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/>
          <p:cNvSpPr/>
          <p:nvPr/>
        </p:nvSpPr>
        <p:spPr>
          <a:xfrm>
            <a:off x="611280" y="2205000"/>
            <a:ext cx="3168720" cy="1978200"/>
          </a:xfrm>
          <a:prstGeom prst="cloudCallout">
            <a:avLst>
              <a:gd name="adj1" fmla="val -45138"/>
              <a:gd name="adj2" fmla="val 685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643280" y="1484280"/>
            <a:ext cx="3853080" cy="1978200"/>
          </a:xfrm>
          <a:prstGeom prst="cloudCallout">
            <a:avLst>
              <a:gd name="adj1" fmla="val -44930"/>
              <a:gd name="adj2" fmla="val 704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700360" y="4076640"/>
            <a:ext cx="4751280" cy="1689120"/>
          </a:xfrm>
          <a:prstGeom prst="cloudCallout">
            <a:avLst>
              <a:gd name="adj1" fmla="val -50199"/>
              <a:gd name="adj2" fmla="val 5893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26000" y="279396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вёрдые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932360" y="1989000"/>
            <a:ext cx="39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азообразные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771640" y="4581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ички органич. в-в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16320" y="260280"/>
            <a:ext cx="694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Загрязняющие воздух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примеси</a:t>
            </a:r>
            <a:endParaRPr b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GBI_2A08_00A"/>
          <p:cNvPicPr/>
          <p:nvPr/>
        </p:nvPicPr>
        <p:blipFill>
          <a:blip r:embed="rId2"/>
          <a:stretch/>
        </p:blipFill>
        <p:spPr>
          <a:xfrm>
            <a:off x="900000" y="260280"/>
            <a:ext cx="7056720" cy="61214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 rot="2136600">
            <a:off x="2166840" y="1677600"/>
            <a:ext cx="719280" cy="100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AutoShape 6"/>
          <p:cNvSpPr/>
          <p:nvPr/>
        </p:nvSpPr>
        <p:spPr>
          <a:xfrm rot="4023000">
            <a:off x="3925080" y="1843560"/>
            <a:ext cx="687240" cy="1060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AutoShape 7"/>
          <p:cNvSpPr/>
          <p:nvPr/>
        </p:nvSpPr>
        <p:spPr>
          <a:xfrm rot="1773600">
            <a:off x="2268000" y="3284280"/>
            <a:ext cx="687600" cy="10602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AutoShape 8"/>
          <p:cNvSpPr/>
          <p:nvPr/>
        </p:nvSpPr>
        <p:spPr>
          <a:xfrm rot="3909000">
            <a:off x="5194800" y="343440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AutoShape 9"/>
          <p:cNvSpPr/>
          <p:nvPr/>
        </p:nvSpPr>
        <p:spPr>
          <a:xfrm rot="4366800">
            <a:off x="5631120" y="474552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3880" y="5589720"/>
            <a:ext cx="55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ыхательные пути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324000" y="260280"/>
            <a:ext cx="367344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211640" y="100440"/>
            <a:ext cx="49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Воздушно-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             </a:t>
            </a: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капельные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инфекции 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429080" y="3357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ространяются с микроскопическими капельками слюны при кашле, чихании, разговоре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324000" y="260280"/>
            <a:ext cx="3247920" cy="331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211640" y="47952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Грипп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4067280" y="198900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зывается вирусами разного вида, распространяется воздушно-капельным путем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L33_p07_p08_z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588000" y="112536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"/>
              </a:rPr>
              <a:t>Бронхит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2" name="Picture 6" descr="L33_p07_p08_z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73272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610320" y="1413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610320" y="1341360"/>
            <a:ext cx="253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Бронхит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33_p07_p08_z2"/>
          <p:cNvPicPr/>
          <p:nvPr/>
        </p:nvPicPr>
        <p:blipFill>
          <a:blip r:embed="rId2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825440" y="714240"/>
            <a:ext cx="43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Пневмония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5500800" y="200016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143000" y="4500720"/>
            <a:ext cx="45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L33_p07_p08_z6"/>
          <p:cNvPicPr/>
          <p:nvPr/>
        </p:nvPicPr>
        <p:blipFill>
          <a:blip r:embed="rId2"/>
          <a:stretch/>
        </p:blipFill>
        <p:spPr>
          <a:xfrm>
            <a:off x="0" y="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350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кобактерия туберкулёза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алочка Коха)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5357880" y="1571760"/>
            <a:ext cx="31431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екционное заболевание органов дыхания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5000760" y="35712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Monotype Corsiva"/>
              </a:rPr>
              <a:t>Туберкулез</a:t>
            </a:r>
            <a:endParaRPr b="1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L33_p07_p08_z8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648240" y="214200"/>
            <a:ext cx="630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onotype Corsiva"/>
              </a:rPr>
              <a:t>Бронхиальная астма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4857840" y="1357200"/>
            <a:ext cx="3286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ой заболевания часто является аллергическая реакция, сопровождающаяся затрудненным дыханием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5:12:16Z</dcterms:created>
  <dc:creator>*</dc:creator>
  <dc:description/>
  <dc:language>en-US</dc:language>
  <cp:lastModifiedBy>Учитель</cp:lastModifiedBy>
  <dcterms:modified xsi:type="dcterms:W3CDTF">2017-02-18T09:06:30Z</dcterms:modified>
  <cp:revision>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