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4CD7-0BAB-453F-94D8-CF9440ED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5212-C8C2-4EAD-9659-A93F6633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13648-0E39-4A9B-BFDD-19C5E9BF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C1E6F-1B01-4EB4-B90C-93E3EAD0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0D559-DF4C-4F6C-A848-8AE87943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7FBB2-77C6-482E-9C2F-B96F950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5055F-667A-44DB-AA1D-4565013B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F215E-6327-44C4-AD66-48B7139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A304-2D32-46C2-8542-08E5410F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28F34-27B2-4682-BC76-94C9B7C7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D95CE-BC04-4336-8725-570DA166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F80C8-048C-4DA5-A199-2033467B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E3DF-9161-409A-A222-44C5B5D1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12236-1FD9-4CDC-8CC8-379AFD34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F0C25-99A6-4EB9-85F4-C8906E3C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967ED-8D78-4228-9B5E-C990E806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2129B-93EC-40F4-85E5-6AAB6FE0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B6806-AC71-448E-B871-660E4C7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402DD-EAEE-4381-8D2C-082F7E42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72977-B5B1-4420-9E84-F641A51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92EAE-31DB-4927-AAE9-D50F6C7C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E056D-0365-4A6D-B154-AD03AA96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E2DD6-8CE6-4151-AD5F-94C44280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C704-9945-42A1-96D0-2138D293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5B7F7-31B1-4257-88FF-8C063EC0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AD8E1-8034-4895-BF44-E8DFA9E2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0C57B-EE97-4C90-8285-EE6821B1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9AF2E-E925-4CCE-A02F-26A5185A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360E0-96A7-47FB-B8D1-844D074C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15CC-803E-42CD-92CE-E5876A89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CE242-5F5F-41BD-840E-907EF94B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7FC61-9C1F-4C57-AF12-5AFE5E7B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8FFA3-DDB9-47EF-AC66-71AA7E3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41D3D-83D5-4D90-A265-30205759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1660-A00D-4F99-B6A5-E13E3655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DE0EC-75DD-4AE7-BAC7-9A196BB0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4A2E4-E84E-4230-9BD0-48F39290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02D48-AA7B-4E7D-9714-47188A5A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9AB0D2-4FA7-4A3B-885A-3EFCCA7D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B44C6D-88C2-48C4-A910-0A61913F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82D015-3FC6-4D12-95DB-29062CD4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DC9F8B-90C3-40E5-A516-3400998D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B1AFD7-F659-4C1C-8164-44C2E7C6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03AA7E-343A-498A-9DE3-17F12D79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755913-1D4F-4634-9FE8-CE18B296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005B-C2BD-4517-9E2F-350F728C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F3D5BB-F240-4F3C-9934-9101BBB7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B991D2-22F2-4C01-8586-DBC51DFE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48CA85-49F9-40C6-984A-303575EA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FC8480-E3E3-4DD0-905D-950845EE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93C6C6-786B-42BB-9590-82BCA42B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AD15-7413-46BC-AC98-59292C49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A599-D458-4127-8A22-CC80D1F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934B-D86F-4785-BEB1-B525AF15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6621-1780-4B6A-AC4C-7F578302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53A-2B78-4AC3-86B5-0C744CFE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EEA9-4964-4064-A8F8-1F9C5415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B8C1-4344-4B65-B0C9-334F3761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4ED1-59D5-43CE-BD50-CB2D1653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55B8-7E0E-4282-A8ED-7EF4A7A8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E774-7485-4C1C-9CB4-61119573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C26-A40D-49E2-BA1B-975AFB67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6C3D-B8D4-4665-AABA-AF788107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2563-6CCE-464F-AF28-29076C80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580F-640C-40A6-943D-D6833D25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9266-1C1A-4547-939E-1445E037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C073-AD13-4484-9954-85441AA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6357-BD2E-4326-96CF-65D950E9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FF09-F664-4317-B14F-AF3FAEE5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81D5-C714-42E0-82E6-36D6478E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33AA-97C4-47B9-B2FF-0A48055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42D8-4732-4581-9905-3E93DF3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BCC2-793E-42F7-84E4-8925D28E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A438-FFE8-4B16-BFCD-3EC85950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EF90-4C8D-4912-8F3F-D52D0E98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6C83C-954D-4EAD-9EEC-47039CC1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216D-8090-4744-984B-69061607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0513-F278-4E3A-B004-4EB4B20F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959F-B24D-44B8-BE5A-A438CD99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DCA32-A2B3-4133-8019-2EE7B211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2EF22-8462-4C07-9883-14B6556D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B4EE-BDBB-43C7-A0A0-D55FF86C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A4C5-2F1A-4011-945F-B08F0B5C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7D95C-14B7-47E5-8650-80214178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F5F6-12A9-480B-8B79-25964756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6647-5C5B-4553-ABC5-0E6AA7AA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7A06-87AC-4F43-A0A2-7D9E6950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20CE6-6CEC-4D35-9B86-204CC887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DF89-8713-4531-9448-07E69487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DA2D-AF6E-483F-AA43-8BD1F503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279A4-EFB6-4847-A5D1-D9F46584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ADD9-42E8-4748-B02F-D0487298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27B8-8141-4DBB-9366-44A96C40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EB21-9816-4CE0-95E4-A7A398B6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81A91-8FFD-4F20-B482-C91E729B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E7239-BD92-4BDE-A9BD-7AB0EF64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82D2-823F-47CE-9275-A9FB09B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47FFD-C941-4980-ABB5-BB592C9A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169EC-2CAF-4B33-A378-B67B670A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50D24-A652-4E86-9DE7-802BEE4A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D7379-6909-428C-A4A5-90AC4001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CE268-D724-44A2-BBE7-0735EA21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7D1CF-7C97-4FB6-A9CF-9FBA24E0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20DC4-7F72-45B3-9F6C-FB16EAD4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D108-DAB8-4BBF-A215-0A81ADC6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DF657-FEF3-4FDE-9B38-3ED0B588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AFDF5-96F4-4BDF-9108-183FFF61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E6396-B5D9-464A-8068-A1A4AA52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3F680-135F-44C0-BCF9-1EF0270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68C22-4FAD-4662-B785-0655FB6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168F3-FDCD-4F93-91EA-0C8B3D26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4A56-42A9-4AA5-A247-0C11CD9A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6EC37-460B-46DA-978C-61AE1EC6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1C41F-CD4B-4411-91C3-A9858A5B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BC0D7-B63C-407A-8A11-9D46F37E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DAB60-FD72-49C0-896B-520212AB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92537-F03C-4CCC-A47C-E2837F44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9E3E9-C886-41E1-8E5B-CF3F8B69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1CC68-6DC8-4376-A308-CFB19732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BDEBF-54FA-4F7E-BD8E-7499A791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6B73C-61D4-4816-B085-7DC4EA4F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F65E-CC67-40F9-8958-373AA43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BF07-7EE7-46C8-AE4A-7BAEF61A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61624-8224-4F31-AA72-0D9FE676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FBFEB-C693-4AF3-9D0B-3D7470D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45558-D5C5-4A8A-A07D-A40B2D09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8B3E-00BC-4F2E-8081-3EC260AC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5FBE3-2B4A-4698-8AFF-EFA4FC75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20FCF-5E4E-4ED9-99BD-27ADEF49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BA993-9A53-4E7B-A82F-53DDEDEF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8DDE2-2519-43B1-A647-412C6B59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688D3-146A-41B3-8175-95B76027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FDF98-5050-43BC-A85B-E507C91A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B1C7-8349-497A-8AE8-A710C57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BDAC4-B597-487C-9E8F-D3C223E5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A99FA-B800-4618-848A-7AC95757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A752C-E25C-4F2A-A7AE-D1232FD5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0B3F7-D872-41BE-9100-3803502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385A3-391F-4619-8864-E925E1F1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55F45-1CD5-4CEF-9206-0049A6AE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2EC7E-362B-4CA6-A015-BB9A098C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48482-67F5-4192-B676-4A5E88D2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9544C-2BA7-47C5-AA05-93450147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C8B01-921F-4C15-869A-F51958E8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48C8-E7D7-4371-A633-BAD3C956664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36D7-BB0E-41E8-B761-87478AC07D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3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1994-44A6-4A70-A5F0-9FECC718B1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0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EF88-42A3-4846-809C-333C097C5E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BE2B-1CC5-483D-A75F-1557E9BE3FD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F5D8-09A1-4B16-A04B-ED28EE3865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48CD-71B3-4705-8246-50D955F6F9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F1F5-424E-4AA9-8496-96F89BF37C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8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1A76-85AD-4147-A2B5-740C2BCA5DC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3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0ADF-CAEE-478C-ACB2-F2DE13296D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38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6304-87ED-48E2-BC14-B3C8842D3C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4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A96-B872-45A0-AF12-9C903182C7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410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знь и творчество Л.Н. Толст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28-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picture" descr=""/>
          <p:cNvPicPr/>
          <p:nvPr/>
        </p:nvPicPr>
        <p:blipFill>
          <a:blip r:embed="rId1"/>
          <a:srcRect l="9323" t="5571" r="3672" b="0"/>
          <a:stretch/>
        </p:blipFill>
        <p:spPr>
          <a:xfrm>
            <a:off x="4716360" y="1125360"/>
            <a:ext cx="4105440" cy="482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348000" y="0"/>
            <a:ext cx="5796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dfbe3"/>
                </a:solidFill>
                <a:latin typeface="Tahoma"/>
              </a:rPr>
              <a:t>На склоне лет...</a:t>
            </a:r>
            <a:endParaRPr b="0" lang="en-US" sz="32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789" name="picture" descr=""/>
          <p:cNvPicPr/>
          <p:nvPr/>
        </p:nvPicPr>
        <p:blipFill>
          <a:blip r:embed="rId1"/>
          <a:srcRect l="6530" t="2246" r="3720" b="2663"/>
          <a:stretch/>
        </p:blipFill>
        <p:spPr>
          <a:xfrm>
            <a:off x="-181080" y="0"/>
            <a:ext cx="3311640" cy="3456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90" name="picture" descr=""/>
          <p:cNvPicPr/>
          <p:nvPr/>
        </p:nvPicPr>
        <p:blipFill>
          <a:blip r:embed="rId2"/>
          <a:srcRect l="2023" t="4658" r="6354" b="2728"/>
          <a:stretch/>
        </p:blipFill>
        <p:spPr>
          <a:xfrm>
            <a:off x="4067280" y="2492280"/>
            <a:ext cx="4897440" cy="3168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91" name="picture" descr=""/>
          <p:cNvPicPr/>
          <p:nvPr/>
        </p:nvPicPr>
        <p:blipFill>
          <a:blip r:embed="rId3"/>
          <a:srcRect l="3555" t="7314" r="3432" b="2297"/>
          <a:stretch/>
        </p:blipFill>
        <p:spPr>
          <a:xfrm>
            <a:off x="0" y="3645000"/>
            <a:ext cx="3851280" cy="321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619280" y="2276640"/>
            <a:ext cx="6048360" cy="15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be3"/>
                </a:solidFill>
                <a:latin typeface="Tahoma"/>
              </a:rPr>
              <a:t>Без  Ясной Поляны я трудно могу себе представить Россию</a:t>
            </a:r>
            <a:br>
              <a:rPr sz="2800"/>
            </a:br>
            <a:r>
              <a:rPr b="0" lang="en-US" sz="2800" spc="-1" strike="noStrike">
                <a:solidFill>
                  <a:srgbClr val="fdfbe3"/>
                </a:solidFill>
                <a:latin typeface="Tahoma"/>
              </a:rPr>
              <a:t>(Л.Н. Толстой)</a:t>
            </a:r>
            <a:endParaRPr b="0" lang="en-US" sz="2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115640" y="5444640"/>
            <a:ext cx="583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1" name="picture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137440" cy="37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.С. Волконский, дед Л.Н. Толстого.               Е.Д. Волконская, бабка Л.Н. Толсто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3" name="picture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37800" cy="417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4221000"/>
            <a:ext cx="4356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dfbe3"/>
                </a:solidFill>
                <a:latin typeface="Tahoma"/>
              </a:rPr>
              <a:t>Раннее детство – тот период, в котором все освещено таким милым утренним светом, в котором все хороши, всех любишь, потому что сам хорош и тебя любят.</a:t>
            </a:r>
            <a:r>
              <a:rPr b="0" lang="en-US" sz="1400" spc="-1" strike="noStrike">
                <a:solidFill>
                  <a:srgbClr val="fdfbe3"/>
                </a:solidFill>
                <a:latin typeface="Tahoma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dfbe3"/>
                </a:solidFill>
                <a:latin typeface="Tahoma"/>
              </a:rPr>
              <a:t>                                                Толстой Л.Н.</a:t>
            </a:r>
            <a:endParaRPr b="0" lang="en-US" sz="1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50560" y="3429000"/>
            <a:ext cx="8893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иколай Ильич, отец Толстого                           Дом в котором родился Л.Н. Толст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6" name="picture" descr=""/>
          <p:cNvPicPr/>
          <p:nvPr/>
        </p:nvPicPr>
        <p:blipFill>
          <a:blip r:embed="rId1"/>
          <a:srcRect l="6850" t="5596" r="5298" b="28541"/>
          <a:stretch/>
        </p:blipFill>
        <p:spPr>
          <a:xfrm>
            <a:off x="250920" y="404640"/>
            <a:ext cx="2376360" cy="29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67" name="picture" descr=""/>
          <p:cNvPicPr/>
          <p:nvPr/>
        </p:nvPicPr>
        <p:blipFill>
          <a:blip r:embed="rId2"/>
          <a:srcRect l="2667" t="5048" r="2849" b="6017"/>
          <a:stretch/>
        </p:blipFill>
        <p:spPr>
          <a:xfrm>
            <a:off x="2916360" y="404640"/>
            <a:ext cx="5832360" cy="29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68" name="picture" descr=""/>
          <p:cNvPicPr/>
          <p:nvPr/>
        </p:nvPicPr>
        <p:blipFill>
          <a:blip r:embed="rId3"/>
          <a:srcRect l="6083" t="5796" r="4142" b="10827"/>
          <a:stretch/>
        </p:blipFill>
        <p:spPr>
          <a:xfrm>
            <a:off x="4356000" y="3789360"/>
            <a:ext cx="4103640" cy="19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2879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Л.Н. Толстой с братом Николаем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492000" y="4365720"/>
            <a:ext cx="525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«Детство» Николенька и Наталья Саввишна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3" name="picture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168720" cy="417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74" name="picture" descr=""/>
          <p:cNvPicPr/>
          <p:nvPr/>
        </p:nvPicPr>
        <p:blipFill>
          <a:blip r:embed="rId2"/>
          <a:stretch/>
        </p:blipFill>
        <p:spPr>
          <a:xfrm>
            <a:off x="4356000" y="692280"/>
            <a:ext cx="4362480" cy="32781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5867280" y="260280"/>
            <a:ext cx="3276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Надолго оставит в России великие следы эта эпопея Севастополя, в которой героем был народ русский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Л.Н. Толстой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6" name="picture" descr=""/>
          <p:cNvPicPr/>
          <p:nvPr/>
        </p:nvPicPr>
        <p:blipFill>
          <a:blip r:embed="rId1"/>
          <a:srcRect l="5036" t="8615" r="2173" b="1476"/>
          <a:stretch/>
        </p:blipFill>
        <p:spPr>
          <a:xfrm>
            <a:off x="0" y="260280"/>
            <a:ext cx="5761080" cy="2519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77" name="picture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7380360" cy="33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651640" y="260280"/>
            <a:ext cx="3241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0c0c0"/>
                </a:solidFill>
                <a:latin typeface="Arial"/>
              </a:rPr>
              <a:t>Есть у меня прелестное, поэтическое дело, от которого нельзя оторваться – это школа</a:t>
            </a: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.</a:t>
            </a:r>
            <a:br>
              <a:rPr sz="1500"/>
            </a:b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(Л.Н. Толстой)</a:t>
            </a:r>
            <a:endParaRPr b="0" lang="en-US" sz="15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5076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Флигель в Ясной Поляне, где помещалась шко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543640" cy="360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1" name="picture" descr=""/>
          <p:cNvPicPr/>
          <p:nvPr/>
        </p:nvPicPr>
        <p:blipFill>
          <a:blip r:embed="rId2"/>
          <a:stretch/>
        </p:blipFill>
        <p:spPr>
          <a:xfrm>
            <a:off x="5219640" y="2968560"/>
            <a:ext cx="3719520" cy="3889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7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598560" y="404640"/>
            <a:ext cx="5545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dfbe3"/>
                </a:solidFill>
                <a:latin typeface="Tahoma"/>
              </a:rPr>
              <a:t>Я теперь писатель всеми силами души…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fdfbe3"/>
                </a:solidFill>
                <a:latin typeface="Tahoma"/>
              </a:rPr>
              <a:t>(Л.Н. Толстой)</a:t>
            </a:r>
            <a:endParaRPr b="0" lang="en-US" sz="1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3348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Л.Н.Толстой. 1863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" descr=""/>
          <p:cNvPicPr/>
          <p:nvPr/>
        </p:nvPicPr>
        <p:blipFill>
          <a:blip r:embed="rId1"/>
          <a:srcRect l="5258" t="4861" r="6682" b="0"/>
          <a:stretch/>
        </p:blipFill>
        <p:spPr>
          <a:xfrm>
            <a:off x="250920" y="333360"/>
            <a:ext cx="3097080" cy="4175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5" name="picture" descr=""/>
          <p:cNvPicPr/>
          <p:nvPr/>
        </p:nvPicPr>
        <p:blipFill>
          <a:blip r:embed="rId2"/>
          <a:srcRect l="0" t="4825" r="0" b="4017"/>
          <a:stretch/>
        </p:blipFill>
        <p:spPr>
          <a:xfrm>
            <a:off x="3564000" y="2133720"/>
            <a:ext cx="5580000" cy="410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27280" y="620280"/>
            <a:ext cx="453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dfbe3"/>
                </a:solidFill>
                <a:latin typeface="Tahoma"/>
              </a:rPr>
              <a:t>Так, в «Анне Карениной» я любил мысль семейную…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fdfbe3"/>
                </a:solidFill>
                <a:latin typeface="Tahoma"/>
              </a:rPr>
              <a:t>(Л.Н. Толстой)</a:t>
            </a:r>
            <a:endParaRPr b="0" lang="en-US" sz="14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787" name="picture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76720" cy="5085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5:21:10Z</dcterms:created>
  <dc:creator>Andy</dc:creator>
  <dc:description/>
  <dc:language>en-US</dc:language>
  <cp:lastModifiedBy>Andy</cp:lastModifiedBy>
  <dcterms:modified xsi:type="dcterms:W3CDTF">2009-05-12T16:31:09Z</dcterms:modified>
  <cp:revision>4</cp:revision>
  <dc:subject/>
  <dc:title>Слайд 1</dc:title>
</cp:coreProperties>
</file>