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86E8-AC89-4D7D-AB30-5DBF8DAE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AA05-6397-4DDD-8200-FAB75C61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F8DCC-2972-452B-80EB-33821FA3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16406-CF67-48E6-8D62-3517190F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F3926-F897-4D47-A095-AE22D0EF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BF9CC-D14E-4E44-B2AB-7D85FB96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38450-756F-4080-A433-40B78D6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7B935-FEEE-4108-8AD9-5E19000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E223C-96FA-4A26-B206-C542990B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8DD98-B3C6-444A-9384-927EC530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50032-65F5-4168-8959-DA7C460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564AF-DBD4-4E93-9ADF-FFBD4647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7A47-C435-449A-8663-28E11A72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70EAC-2AD2-4757-889C-E4376341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FCBEF-B72C-4115-8444-548BA4F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5C890-5DDD-4402-9517-0649BDD5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FF78C-35C5-46AD-8CE3-F8997DB7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87994-5E34-4871-BD73-941A1274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B4B41-593F-4C2C-8B40-DD0B4F0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9A833-7496-4835-8722-2779168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AFC6C-86C5-4E64-8577-0F0965B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8C61E-4B55-4F4B-B244-1A48816C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AAD60-580D-4C3F-9B5D-082F90A3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DF6C-E5FA-49A6-99CA-4A9735BC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BAB07-07E2-45E7-98FE-005F331F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509CB-A8B4-433B-8F9E-79CCC77A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B13ED-E1DD-40CF-AE25-28B12CDA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9CF7D-1B1A-4C50-B9BE-FC7227E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B420A-7FDE-4BAF-A5E5-616C043A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E63CA-C460-4453-91B6-276FA248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CB574-D37B-4948-A205-D80EDC84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33ECC-72D7-494B-A151-3C616C77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B1663-C859-4223-8A42-DAB021B5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23812-052D-4C80-81F9-AD80117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850-FF19-4AD8-B3BE-8892623B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D52E2-CBBE-484F-97C7-5D271DAD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DEF9E-26B6-4DCA-BE4E-CE3D670D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BAA5A-7F1F-4ED2-9415-EE48CA39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4AEBFF-3562-49C7-9432-3C2A3DC7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47D5B2-5CDE-45E3-86ED-FFA81278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3B77A7-9F41-4AF4-8F01-067D130B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A91EF5-9CD0-438F-B372-D39FB085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57FD68-D82D-464F-B9B5-EB56F000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67C093-8562-4FE1-A5D4-C6825D46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B98F6B-0E31-4494-A914-8A7EE3D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C0B2-B90C-4137-BFE7-30EC82F2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E137FB-932B-4557-A304-899404FF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8381AA-7316-4DD8-86D2-425AF25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88EF1C-57A4-4469-8D08-2E3F72C6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AF43D6-946B-49FF-AA2C-33A95BBF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2FCCEB-A672-4A6B-BAD8-8154D661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7765-8E09-4524-ADAD-9F2C6715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0C8C-BF1C-4BDE-81DC-E8C76273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53F2-036E-4103-BFAC-9CE8D3E1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61A0-52C3-46DF-A1C1-E276F2E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3328-8E2C-41F4-BBB2-4F000F8A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D511-33E7-4431-A78A-D4BF2812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FDCF-D445-4C14-A53F-B572F3A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373B-888E-4D1C-B0FB-9034AD3A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AB8C-9E9D-4A2F-BF90-7D83AD7C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B0A0-642B-4DDE-BE0A-64806154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A091-062A-4489-8A98-09AD27CE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F457-B848-462C-9AE4-2459F40C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BF5E-B152-453A-BBBE-D42CCE9A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B839-3752-42B0-8AAB-95AAEF90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60B8-B261-44A7-AD0B-A939C109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479F-5A4A-4BE8-85D4-7E9BB3D1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C758-8EAD-465D-ABA4-CB68263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29EF-E879-40CA-A275-F2C8D3E0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91E2-DBC2-468F-ADA7-4A3224B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D80E-6F46-494B-A882-359E3E20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83E1-4494-4ABD-8A58-F6795B5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0C10-67E7-4655-BB91-8E8CB2E6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2165-7C05-459F-9956-03185F2F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9D28-D9A5-4884-97EE-E1528171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0D3C7-9A28-405B-9C12-ED3EB469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35DA0-C93A-497B-8D38-4266BB1E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3A4C-7888-4758-B487-B0AB2E82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7670-7CED-4C02-9BC4-8CDA9FA6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CFCC-364D-466A-A2FB-CD41817E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5683-3ED8-4AC5-B1F2-9B4AA5FC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F5D0-E44F-4387-B9E1-DA3247E2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A121-12C1-4CB9-972A-49349CC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FA02-CF74-4C39-AC02-3C1551CD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B6C8B-C7B2-403D-B3AE-55E85F5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BB56-4A02-4B9F-BA97-673B43EC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D4E8-0663-49F6-AE06-22CA9517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AD650-AF6A-4A12-A574-18410363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A300E-C700-4F77-8BC3-3E874A3E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B498-DFFE-4D6C-8E39-53DC2CB3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7837-A5A8-47C9-ABDF-0FFCB0E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81955-9F60-4128-9FAD-89E0199B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C73A-A83B-4905-9611-FB637A4A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A2A4-E8BA-4520-8414-3C91504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9B2FF-8927-48B4-B964-E4A988FC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60D82-2FAB-441C-81C5-720F922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A031-DBC2-4577-B0DD-89B66305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8648-611F-4DD3-8FC2-58A9A6E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D586C-3BD8-400C-8427-8F10BC6A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DD66B-1CD4-4F88-B3B1-579F00A0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2BA6-4BC9-4562-B651-7651B1B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50C5-23AF-445D-954C-FA7CE841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7F0AE-C887-471A-947D-45CA50E7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360D7-C190-4123-B966-B28A064A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76A4B-1254-4EB3-9220-D96B96AB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D28F6-33E8-4435-82D5-0444C4F9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D470-DA7E-4AE8-973A-2956ECEA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54033-51B8-4C84-AEA1-85709A61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9A0C5-0A3D-4C9C-88DE-75149D5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95552-03C5-4014-B72A-03CC2EE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B2BD4-63B7-41A8-A084-4C77BEC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0FC9-B133-4341-A197-340F7CAE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7930-0EFE-46F0-841D-2FF5C00B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3569-E607-4CF5-A5F8-926E548A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3314D-5DEC-46EA-BF83-998571BC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AED12-8E08-4287-805B-24C811C6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1C49E-A618-4C7F-A69D-179E96EE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E6AB-F654-4F8F-A826-239C0638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CCEA-630F-4FF1-926F-9A4A6796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571CC-1240-4D99-B232-C9F195DE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698B-67E2-4BB0-8027-D71130E1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DC21C-4BDE-43A9-8652-23233D04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BCD3-1C5F-47B1-BB5B-829D709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EA61E-93C7-4914-84FB-0A0BED5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2CD90-8E43-4B16-B9BA-A1BEB31A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4775-091E-49D2-92D6-475612EC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B21F-419B-4F68-8CFC-D8E97328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72C4-65D5-48C1-B150-97252984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64CB5-A730-46F2-B7ED-44FCB24B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723EB-CB44-4837-BF43-7E2B992D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F9C32-ED74-4D8D-BE01-8511619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1DD0B-41FA-4308-9543-E92467B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80E31-C490-40F7-AE46-0EDD58F8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0B03-106A-4EE9-8160-2FBEB56F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A4DC3-EE5F-498A-AAA2-343F1F4E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69F2D-0FE3-485B-86D7-CF3D659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3FA49-F044-4834-B360-6D4FBEE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84994-2674-4404-BE08-AB608D38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19ACF-1911-4525-8ACA-CE847712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4531A-7DA8-444F-8EEF-33730A8A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A3C52-6DBC-44CA-9656-4FCE6ACA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93FE2-393C-40F5-B34A-EF58F046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6F0FA-D5A8-47E0-B453-0707BEFB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CDE16-15FA-4A12-AE6E-54E5807F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B375-760B-412B-9636-CF61D8C1C7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3D80-083D-4866-B9BA-AF63C9A31B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3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35B9-BC85-44C4-B8E5-9E7FADACD5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0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659E-2AA1-4067-93E5-69EEE99CD2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6A0D-FE0F-480C-9D61-1795C12F6FB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B787-0033-4D03-9513-C217900B51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BCDC-EF8E-4BB7-99C3-3CC34AEEB3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449-265A-4EEB-8D4F-E9AAABD24B6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8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BDA6-C89E-439B-929F-DD60809FFE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3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7571-78A9-49DC-ACDC-140956C5D0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38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BCF7-F66A-4CE9-866A-D75EBDE0B9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4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3901-AB98-47DC-A64E-B29FC10AE9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410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изнь и творчество Л.Н. Толст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28-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icture" descr=""/>
          <p:cNvPicPr/>
          <p:nvPr/>
        </p:nvPicPr>
        <p:blipFill>
          <a:blip r:embed="rId1"/>
          <a:srcRect l="9323" t="5571" r="3672" b="0"/>
          <a:stretch/>
        </p:blipFill>
        <p:spPr>
          <a:xfrm>
            <a:off x="4716360" y="1125360"/>
            <a:ext cx="4105440" cy="482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5796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dfbe3"/>
                </a:solidFill>
                <a:latin typeface="Tahoma"/>
              </a:rPr>
              <a:t>На склоне лет...</a:t>
            </a:r>
            <a:endParaRPr b="0" lang="en-US" sz="32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789" name="picture" descr=""/>
          <p:cNvPicPr/>
          <p:nvPr/>
        </p:nvPicPr>
        <p:blipFill>
          <a:blip r:embed="rId1"/>
          <a:srcRect l="6530" t="2246" r="3720" b="2663"/>
          <a:stretch/>
        </p:blipFill>
        <p:spPr>
          <a:xfrm>
            <a:off x="-181080" y="0"/>
            <a:ext cx="3311640" cy="345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90" name="picture" descr=""/>
          <p:cNvPicPr/>
          <p:nvPr/>
        </p:nvPicPr>
        <p:blipFill>
          <a:blip r:embed="rId2"/>
          <a:srcRect l="2023" t="4658" r="6354" b="2728"/>
          <a:stretch/>
        </p:blipFill>
        <p:spPr>
          <a:xfrm>
            <a:off x="4067280" y="2492280"/>
            <a:ext cx="4897440" cy="3168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91" name="picture" descr=""/>
          <p:cNvPicPr/>
          <p:nvPr/>
        </p:nvPicPr>
        <p:blipFill>
          <a:blip r:embed="rId3"/>
          <a:srcRect l="3555" t="7314" r="3432" b="2297"/>
          <a:stretch/>
        </p:blipFill>
        <p:spPr>
          <a:xfrm>
            <a:off x="0" y="3645000"/>
            <a:ext cx="3851280" cy="321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1619280" y="2276640"/>
            <a:ext cx="6048360" cy="15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be3"/>
                </a:solidFill>
                <a:latin typeface="Tahoma"/>
              </a:rPr>
              <a:t>Без  Ясной Поляны я трудно могу себе представить Россию</a:t>
            </a:r>
            <a:br>
              <a:rPr sz="2800"/>
            </a:br>
            <a:r>
              <a:rPr b="0" lang="en-US" sz="2800" spc="-1" strike="noStrike">
                <a:solidFill>
                  <a:srgbClr val="fdfbe3"/>
                </a:solidFill>
                <a:latin typeface="Tahoma"/>
              </a:rPr>
              <a:t>(Л.Н. Толстой)</a:t>
            </a:r>
            <a:endParaRPr b="0" lang="en-US" sz="2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115640" y="5444640"/>
            <a:ext cx="583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1" name="picture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137440" cy="37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.С. Волконский, дед Л.Н. Толстого.               Е.Д. Волконская, бабка Л.Н. Толсто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3" name="picture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7800" cy="417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4221000"/>
            <a:ext cx="4356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dfbe3"/>
                </a:solidFill>
                <a:latin typeface="Tahoma"/>
              </a:rPr>
              <a:t>Раннее детство – тот период, в котором все освещено таким милым утренним светом, в котором все хороши, всех любишь, потому что сам хорош и тебя любят.</a:t>
            </a:r>
            <a:r>
              <a:rPr b="0" lang="en-US" sz="1400" spc="-1" strike="noStrike">
                <a:solidFill>
                  <a:srgbClr val="fdfbe3"/>
                </a:solidFill>
                <a:latin typeface="Tahoma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dfbe3"/>
                </a:solidFill>
                <a:latin typeface="Tahoma"/>
              </a:rPr>
              <a:t>                                                Толстой Л.Н.</a:t>
            </a:r>
            <a:endParaRPr b="0" lang="en-US" sz="1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50560" y="3429000"/>
            <a:ext cx="889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иколай Ильич, отец Толстого                           Дом в котором родился Л.Н. Толст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6" name="picture" descr=""/>
          <p:cNvPicPr/>
          <p:nvPr/>
        </p:nvPicPr>
        <p:blipFill>
          <a:blip r:embed="rId1"/>
          <a:srcRect l="6850" t="5596" r="5298" b="28541"/>
          <a:stretch/>
        </p:blipFill>
        <p:spPr>
          <a:xfrm>
            <a:off x="250920" y="404640"/>
            <a:ext cx="2376360" cy="29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67" name="picture" descr=""/>
          <p:cNvPicPr/>
          <p:nvPr/>
        </p:nvPicPr>
        <p:blipFill>
          <a:blip r:embed="rId2"/>
          <a:srcRect l="2667" t="5048" r="2849" b="6017"/>
          <a:stretch/>
        </p:blipFill>
        <p:spPr>
          <a:xfrm>
            <a:off x="2916360" y="404640"/>
            <a:ext cx="5832360" cy="29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68" name="picture" descr=""/>
          <p:cNvPicPr/>
          <p:nvPr/>
        </p:nvPicPr>
        <p:blipFill>
          <a:blip r:embed="rId3"/>
          <a:srcRect l="6083" t="5796" r="4142" b="10827"/>
          <a:stretch/>
        </p:blipFill>
        <p:spPr>
          <a:xfrm>
            <a:off x="4356000" y="3789360"/>
            <a:ext cx="410364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2879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Л.Н. Толстой с братом Николаем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492000" y="4365720"/>
            <a:ext cx="5256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«Детство» Николенька и Наталья Саввишна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3" name="picture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168720" cy="4176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74" name="picture" descr=""/>
          <p:cNvPicPr/>
          <p:nvPr/>
        </p:nvPicPr>
        <p:blipFill>
          <a:blip r:embed="rId2"/>
          <a:stretch/>
        </p:blipFill>
        <p:spPr>
          <a:xfrm>
            <a:off x="4356000" y="692280"/>
            <a:ext cx="4362480" cy="32781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5867280" y="260280"/>
            <a:ext cx="3276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Надолго оставит в России великие следы эта эпопея Севастополя, в которой героем был народ русский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Л.Н. Толстой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6" name="picture" descr=""/>
          <p:cNvPicPr/>
          <p:nvPr/>
        </p:nvPicPr>
        <p:blipFill>
          <a:blip r:embed="rId1"/>
          <a:srcRect l="5036" t="8615" r="2173" b="1476"/>
          <a:stretch/>
        </p:blipFill>
        <p:spPr>
          <a:xfrm>
            <a:off x="0" y="260280"/>
            <a:ext cx="5761080" cy="2519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77" name="picture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7380360" cy="33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651640" y="260280"/>
            <a:ext cx="3241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0c0c0"/>
                </a:solidFill>
                <a:latin typeface="Arial"/>
              </a:rPr>
              <a:t>Есть у меня прелестное, поэтическое дело, от которого нельзя оторваться – это школа</a:t>
            </a: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.</a:t>
            </a:r>
            <a:br>
              <a:rPr sz="1500"/>
            </a:b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(Л.Н. Толстой)</a:t>
            </a:r>
            <a:endParaRPr b="0" lang="en-US" sz="15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5076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Флигель в Ясной Поляне, где помещалась шко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0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543640" cy="360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1" name="picture" descr=""/>
          <p:cNvPicPr/>
          <p:nvPr/>
        </p:nvPicPr>
        <p:blipFill>
          <a:blip r:embed="rId2"/>
          <a:stretch/>
        </p:blipFill>
        <p:spPr>
          <a:xfrm>
            <a:off x="5219640" y="2968560"/>
            <a:ext cx="3719520" cy="3889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7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598560" y="404640"/>
            <a:ext cx="5545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dfbe3"/>
                </a:solidFill>
                <a:latin typeface="Tahoma"/>
              </a:rPr>
              <a:t>Я теперь писатель всеми силами души…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dfbe3"/>
                </a:solidFill>
                <a:latin typeface="Tahoma"/>
              </a:rPr>
              <a:t>(Л.Н. Толстой)</a:t>
            </a:r>
            <a:endParaRPr b="0" lang="en-US" sz="1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3348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Л.Н.Толстой. 1863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" descr=""/>
          <p:cNvPicPr/>
          <p:nvPr/>
        </p:nvPicPr>
        <p:blipFill>
          <a:blip r:embed="rId1"/>
          <a:srcRect l="5258" t="4861" r="6682" b="0"/>
          <a:stretch/>
        </p:blipFill>
        <p:spPr>
          <a:xfrm>
            <a:off x="250920" y="333360"/>
            <a:ext cx="3097080" cy="4175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5" name="picture" descr=""/>
          <p:cNvPicPr/>
          <p:nvPr/>
        </p:nvPicPr>
        <p:blipFill>
          <a:blip r:embed="rId2"/>
          <a:srcRect l="0" t="4825" r="0" b="4017"/>
          <a:stretch/>
        </p:blipFill>
        <p:spPr>
          <a:xfrm>
            <a:off x="3564000" y="2133720"/>
            <a:ext cx="5580000" cy="4103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27280" y="620280"/>
            <a:ext cx="453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dfbe3"/>
                </a:solidFill>
                <a:latin typeface="Tahoma"/>
              </a:rPr>
              <a:t>Так, в «Анне Карениной» я любил мысль семейную…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dfbe3"/>
                </a:solidFill>
                <a:latin typeface="Tahoma"/>
              </a:rPr>
              <a:t>(Л.Н. Толстой)</a:t>
            </a:r>
            <a:endParaRPr b="0" lang="en-US" sz="14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787" name="picture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76720" cy="5085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15:21:10Z</dcterms:created>
  <dc:creator>Andy</dc:creator>
  <dc:description/>
  <dc:language>en-US</dc:language>
  <cp:lastModifiedBy>Andy</cp:lastModifiedBy>
  <dcterms:modified xsi:type="dcterms:W3CDTF">2009-05-12T16:31:09Z</dcterms:modified>
  <cp:revision>4</cp:revision>
  <dc:subject/>
  <dc:title>Слайд 1</dc:title>
</cp:coreProperties>
</file>