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6C9-9041-4485-AF62-D6019553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FD2-1F80-497F-83E4-2FC06F8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C87-E7E5-4119-81C5-940397E1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37F-C1A0-4133-BA88-E639099C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248C-DAB6-45AB-8C82-3C6F8A7D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FF82-0408-42E8-A9FB-DEFB770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0574-1C86-431D-9203-61CE6E9F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CD82-D6DF-4131-A297-66CC5E88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D874-D585-46F8-89CA-45A7176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583-FD74-4E07-977C-371B4E1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852-1C9A-4F11-9321-31E99B20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133-02BC-4002-AF1C-D6EF1213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8A2D-80B9-42BE-9440-0A6CC41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00C2-1A7E-4685-9258-7BE4C5F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4B8-22E8-4ED0-B8A4-722BF744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89E2-3312-48F5-A167-A1CAB824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0609-2CA0-44DA-8356-A79EDB3A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A9F-6134-4CA5-856F-A3C64DC7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BBA-14E1-44E6-B8EF-489B523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DC2-01F6-40B7-81CA-5223EFB6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88D-7CDA-42B0-8499-78FA309F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8DE-646F-46B0-AE31-4BBF386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D2D-7EED-463E-B578-231BFC2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101-26C2-4278-9555-0C72A5AA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F8D0-43A2-4BA8-9356-489620D1F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2F1-2360-4D68-AFC7-388CCBFB37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4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Югорск – мой край     родной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5640" y="5257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: Большакова А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Образовательная область.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Познание,                      ознакомление с окружающим.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д проект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тельский, информацио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стники проект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ети старшего дошкольного возраста, их родители и воспит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должительность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ткосрочный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у участников проекта позицию, способствующую воспитанию основ нравственности и патриот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ь представления об истории малой Род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чувство любви к родным мес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овать интеллектуальному развит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ывать активное отношение к окружающ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едварительная рабо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ление контактов с родите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ор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ор иллюстратив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зентация детей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14" descr="DSCF2466"/>
          <p:cNvPicPr/>
          <p:nvPr/>
        </p:nvPicPr>
        <p:blipFill>
          <a:blip r:embed="rId1"/>
          <a:stretch/>
        </p:blipFill>
        <p:spPr>
          <a:xfrm>
            <a:off x="592200" y="2362320"/>
            <a:ext cx="384804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DSCF2467"/>
          <p:cNvPicPr/>
          <p:nvPr/>
        </p:nvPicPr>
        <p:blipFill>
          <a:blip r:embed="rId2"/>
          <a:stretch/>
        </p:blipFill>
        <p:spPr>
          <a:xfrm>
            <a:off x="4952880" y="2406600"/>
            <a:ext cx="37623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жидаемые результа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овь к родному кра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ние истории малой Род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отка навыков бережного отношения к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фотоальбома «Моя малая Родин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фильма «С чего начинается Родина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осень 016"/>
          <p:cNvPicPr/>
          <p:nvPr/>
        </p:nvPicPr>
        <p:blipFill>
          <a:blip r:embed="rId1"/>
          <a:srcRect l="0" t="40881" r="0" b="0"/>
          <a:stretch/>
        </p:blipFill>
        <p:spPr>
          <a:xfrm>
            <a:off x="838080" y="1905120"/>
            <a:ext cx="800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2-17T09:32:5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