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F6B-3AC8-47DA-9FB0-A87B25AA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BB1-3ED3-4613-95B4-7A877FC9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7E2-77DF-4905-87BB-A13F9FAB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D72-DF94-41F9-AD64-1DE44E94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D10C-B4BC-47B3-B129-CC73EE8C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E1A0-41FE-426F-B86A-16E5C2A0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1C3E-502C-4AB9-942F-2257EDA1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41B9-FCD6-40DA-B93B-EE78FA8E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F426-B586-4FEC-B7FC-58702A1D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3DB6-C0DD-4FC9-A57D-42B6B4E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60DD-19C9-4483-A1C5-1EB688A1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E74-80D0-4CF9-A1FA-DFC7BC72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02B9-332D-41A2-8AA4-EC52E719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D149-2B43-46AE-9ECC-8F4D4BBB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59C3-31D5-47C9-955C-8C2A8B61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67E7-3931-4B00-8EEB-16C95177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2EE2-D5E9-4E59-853B-6EEF3D1B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111-47D2-48CC-8516-48F0F05F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F2D-4D9F-40F8-94B8-1D8D56BB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024-9A56-4EF9-9A25-76314ABD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897-1DD8-476D-A576-CDC764BF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4EF-3CA1-464D-B19B-B0D623AD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B6B-DBC2-4E4A-81A1-E9A9C0FD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0A4-A81A-463C-8E5B-01074FC7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98EE-B865-4387-8928-7ED59871E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64A3-8B89-4747-B0BF-E423021ECD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40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Югорск – мой край     родной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5640" y="52574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: Большакова А.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Образовательная область.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Познание,                      ознакомление с окружающим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д проект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тельский, информацио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астники проект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ети старшего дошкольного возраста, их родители и воспита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должительность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ткосрочный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ть у участников проекта позицию, способствующую воспитанию основ нравственности и патриот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ь представления об истории малой Род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ть чувство любви к родным мес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овать интеллектуальному развит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ывать активное отношение к окружающе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едварительная рабо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ановление контактов с родител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бор литера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бор иллюстративного матери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езентация детей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14" descr="DSCF2466"/>
          <p:cNvPicPr/>
          <p:nvPr/>
        </p:nvPicPr>
        <p:blipFill>
          <a:blip r:embed="rId1"/>
          <a:stretch/>
        </p:blipFill>
        <p:spPr>
          <a:xfrm>
            <a:off x="592200" y="2362320"/>
            <a:ext cx="384804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DSCF2467"/>
          <p:cNvPicPr/>
          <p:nvPr/>
        </p:nvPicPr>
        <p:blipFill>
          <a:blip r:embed="rId2"/>
          <a:stretch/>
        </p:blipFill>
        <p:spPr>
          <a:xfrm>
            <a:off x="4952880" y="2406600"/>
            <a:ext cx="376236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жидаемые результа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бовь к родному кра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ние истории малой Род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отка навыков бережного отношения к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фотоальбома «Моя малая Родин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фильма «С чего начинается Родина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осень 016"/>
          <p:cNvPicPr/>
          <p:nvPr/>
        </p:nvPicPr>
        <p:blipFill>
          <a:blip r:embed="rId1"/>
          <a:srcRect l="0" t="40881" r="0" b="0"/>
          <a:stretch/>
        </p:blipFill>
        <p:spPr>
          <a:xfrm>
            <a:off x="838080" y="1905120"/>
            <a:ext cx="800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17T09:32:5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