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DD3-8C57-479F-BDE2-67FCA030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B0D-A280-418C-AD2D-24B4E825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E9F-E032-4E76-ADD1-4DCB1ACD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526-EB8D-4E17-B245-34A20540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6BA-265A-424D-929E-FCB9483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B1E-3DBB-42AA-BB1B-01D65022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D1B-B0A2-4389-A906-DF45CA21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927-19F5-4F72-AAD5-D42D71D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86D-DE3B-4B5D-8535-8C2EEA1B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7C0-6FDE-4869-AA68-C425D326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779-C14B-41D5-A4CE-EFEE3C70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FFF-F7E3-4310-9E46-6CD11C1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8AC9-2FEF-4973-9269-B3A345048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24868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20207"/>
                </a:solidFill>
                <a:latin typeface="Georgia"/>
              </a:rPr>
              <a:t>«Они защищали Родину»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6374880"/>
            <a:ext cx="4356000" cy="4827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Проект ученика 4 б класса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Georgia"/>
              </a:rPr>
              <a:t>Ахмедов Эльв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14 Января 1945года в бою за овладение опорным пунктом немецкой обороны в селе Боркув, в 15 км юго-восточнее Кельце, командир стрелкового отделения младший сержант Агададаш Самедов, будучи ранен, не покинул строй, и после перевязки продолжил продвижение вперед. Агададаш Самедов был награждён орденом Славы 3-й степени, был повышен в звании и должности до сержанта, командира стрелкового взвода. 19 Апреля 1945 в бою у населенного пункта Грабенберг на плацдарме на реке Шпрее между городами Котбус и Шпремберг, сержант Самедов показал образцы мужества и отваги. Первым поднялся в атаку, воодушевляя бойцов взвода своим примером, ворвавшись на вражеские позиции уничтожил со своим взводом до 15 гитлеровцев. В этот день Агададаш Самедов лично забросал гранатами вражеский ДЗОТ, уничтожив шесть немецких автоматчиков, засевших там. Кроме того, Самедов уничтожил из фаустпатрона немецкий бронетранспортер. За личную смелость и отвагу в бою сержант Агададаш Самедов бы награждён орденом Славы 2-й степени.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 войны мой прадедушка Агададаш Самедов демобилизовался из рядов РККА и вернулся в родной Азербайджан. Окончил Сельскохозяйственный техникум в Лянкяранском районе, получил специальность агронома. Затем в родном селе Вильван, который именовался тогда совхозом «Коммунизм», он работал сначала инженером-агрономом, потом бригадиром, а уже затем, и до выхода на пенсию, был заместителем директора совхоза по качеству выпускаемой сельскохозяйственной продукции. С 1980 года — пенсионер республиканского значения. В 1985году в связи с 40-летним юбилеем Победы награждался также орденом Отечественной войны 1-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м не менее, ордена Славы 3-й и 2-й степеней ждали своего хозяина ещё более полувека. Только в июле 2008года, по время визита президента РФ Дмитрия Медведева в Баку, в присутствии президента Азербайджана Ильхама Алиева, других высших должностных лиц и представителей общественности двух государств, ветеран Великой Отечественной войны Агададаш Абдулгасым оглы Самедов смог получить эти награды из рук главы Росс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5440"/>
            <a:ext cx="810900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300px-Агададаш_Самедов.jpg"/>
          <p:cNvPicPr/>
          <p:nvPr/>
        </p:nvPicPr>
        <p:blipFill>
          <a:blip r:embed="rId2"/>
          <a:stretch/>
        </p:blipFill>
        <p:spPr>
          <a:xfrm>
            <a:off x="357120" y="2071800"/>
            <a:ext cx="4000680" cy="2539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ZQUAY6yAmhjnDZ0lW8l3RsApVgkJUWLU.jpg"/>
          <p:cNvPicPr/>
          <p:nvPr/>
        </p:nvPicPr>
        <p:blipFill>
          <a:blip r:embed="rId3"/>
          <a:stretch/>
        </p:blipFill>
        <p:spPr>
          <a:xfrm>
            <a:off x="4714920" y="2071800"/>
            <a:ext cx="4071960" cy="2512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abc1a1d5bc936db3f94ea01be7547a1"/>
          <p:cNvPicPr/>
          <p:nvPr/>
        </p:nvPicPr>
        <p:blipFill>
          <a:blip r:embed="rId4"/>
          <a:stretch/>
        </p:blipFill>
        <p:spPr>
          <a:xfrm>
            <a:off x="0" y="4000680"/>
            <a:ext cx="12002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ЧЕРЕЗ ВЕКА, ЧЕРЕЗ ГОДА –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О ТЕХ, КТО УЖЕ НЕ ПРИДЕТ НИКОГДА, –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КАКОЮ ЦЕНОЮ ЗАВОЕВАНО СЧАСТЬЕ, – ЗАКЛИНАЮ, –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ПОМНИТЕ!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d0d0d"/>
                </a:solidFill>
                <a:latin typeface="Georgia"/>
              </a:rPr>
              <a:t>                                         </a:t>
            </a:r>
            <a:r>
              <a:rPr b="1" lang="ru-RU" sz="2000" spc="-1" strike="noStrike">
                <a:solidFill>
                  <a:srgbClr val="e6e6e6"/>
                </a:solidFill>
                <a:latin typeface="Georgia"/>
              </a:rPr>
              <a:t>(Р. РОЖДЕСТВЕНСКИЙ)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109440" y="341280"/>
            <a:ext cx="9126720" cy="22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920" y="274320"/>
            <a:ext cx="8929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следнее время всё чаще мы слышим такие слова, как «патриотизм», «патриот».  А кто же такой патриот? 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500040" y="1785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841320" y="1768320"/>
            <a:ext cx="7321680" cy="132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abc1a1d5bc936db3f94ea01be7547a1"/>
          <p:cNvPicPr/>
          <p:nvPr/>
        </p:nvPicPr>
        <p:blipFill>
          <a:blip r:embed="rId2"/>
          <a:stretch/>
        </p:blipFill>
        <p:spPr>
          <a:xfrm>
            <a:off x="7072200" y="2643120"/>
            <a:ext cx="120024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мен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о место, где я родился и вырос,               где получу в дальнейшем образование и встану на ноги.               Это тот уголок, который мы  должны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еречь, защитить и сохра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68200" y="3054240"/>
            <a:ext cx="5108760" cy="118296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2266920" y="195120"/>
            <a:ext cx="4322880" cy="7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2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8010720" cy="7794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2"/>
          <p:cNvSpPr/>
          <p:nvPr/>
        </p:nvSpPr>
        <p:spPr>
          <a:xfrm>
            <a:off x="285840" y="2500200"/>
            <a:ext cx="38574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да б ни шёл, ни ехал ты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здесь остановись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иле этой дорогой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 сердцем поклонись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то б ни был ты - рыбак, шахтёр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ёный иль пастух, -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ек запомни: здесь лежит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й самый лучший друг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ля тебя, и для меня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сделал все, что мог: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я в бою не пожалел,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Родину сберё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Заголовок 2"/>
          <p:cNvGrpSpPr/>
          <p:nvPr/>
        </p:nvGrpSpPr>
        <p:grpSpPr>
          <a:xfrm>
            <a:off x="122400" y="268200"/>
            <a:ext cx="8826480" cy="1109880"/>
            <a:chOff x="122400" y="268200"/>
            <a:chExt cx="8826480" cy="1109880"/>
          </a:xfrm>
        </p:grpSpPr>
        <p:pic>
          <p:nvPicPr>
            <p:cNvPr id="54" name="Заголовок 2" descr=""/>
            <p:cNvPicPr/>
            <p:nvPr/>
          </p:nvPicPr>
          <p:blipFill>
            <a:blip r:embed="rId2"/>
            <a:stretch/>
          </p:blipFill>
          <p:spPr>
            <a:xfrm>
              <a:off x="122400" y="268200"/>
              <a:ext cx="88264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42920" y="285840"/>
              <a:ext cx="87868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аждый народ ценит в человеке верность Родине,                            мужество и отвагу героев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Каждый человек должен помнить героев своей земли русской.</a:t>
              </a:r>
              <a:br>
                <a:rPr sz="1800"/>
              </a:b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268200" y="195120"/>
            <a:ext cx="8607600" cy="822600"/>
          </a:xfrm>
          <a:prstGeom prst="rect">
            <a:avLst/>
          </a:prstGeom>
          <a:ln w="0">
            <a:noFill/>
          </a:ln>
        </p:spPr>
      </p:pic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622440" y="981000"/>
            <a:ext cx="7826400" cy="824040"/>
          </a:xfrm>
          <a:prstGeom prst="rect">
            <a:avLst/>
          </a:prstGeom>
          <a:ln w="0">
            <a:noFill/>
          </a:ln>
        </p:spPr>
      </p:pic>
      <p:pic>
        <p:nvPicPr>
          <p:cNvPr id="58" name="Заголовок 1" descr=""/>
          <p:cNvPicPr/>
          <p:nvPr/>
        </p:nvPicPr>
        <p:blipFill>
          <a:blip r:embed="rId3"/>
          <a:stretch/>
        </p:blipFill>
        <p:spPr>
          <a:xfrm>
            <a:off x="907920" y="1768320"/>
            <a:ext cx="7328160" cy="55404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1" descr=""/>
          <p:cNvPicPr/>
          <p:nvPr/>
        </p:nvPicPr>
        <p:blipFill>
          <a:blip r:embed="rId4"/>
          <a:stretch/>
        </p:blipFill>
        <p:spPr>
          <a:xfrm>
            <a:off x="554040" y="2266920"/>
            <a:ext cx="8035920" cy="8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122400" y="622440"/>
            <a:ext cx="8978760" cy="213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103320" y="122400"/>
            <a:ext cx="9004320" cy="1792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0080703213722.GIF"/>
          <p:cNvPicPr/>
          <p:nvPr/>
        </p:nvPicPr>
        <p:blipFill>
          <a:blip r:embed="rId2"/>
          <a:stretch/>
        </p:blipFill>
        <p:spPr>
          <a:xfrm>
            <a:off x="214200" y="200016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abc1a1d5bc936db3f94ea01be7547a1"/>
          <p:cNvPicPr/>
          <p:nvPr/>
        </p:nvPicPr>
        <p:blipFill>
          <a:blip r:embed="rId3"/>
          <a:stretch/>
        </p:blipFill>
        <p:spPr>
          <a:xfrm>
            <a:off x="3000240" y="2000160"/>
            <a:ext cx="1200240" cy="141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 1942 году окончил техникум субтропического растениеводства в Ленкоране, и в том же году его забрали на фронт. Воевал в составе 105-го полка 77-й дивизии. Сражался на Моздокском и Краснодарском направлениях. С начала 1944 года в составе 388-го стрелкового полка 172-й стрелковой дивизии сражался на 1-м Украинском фронте , участвовал в боях на территории Польши и Германии. В ходе Львовско-Сандомирской наступательной операции в бою за село Рожнюв, будучи наводчиком станкового пулемета, младший сержант Агададаш Самедов уничтожил 10 вражеских огневых точек и 13 немецких солдат и офицеров. В это же время был награждён медалью «За отвагу». Позже он был повышен в должности до командира стрелкового отделения 2-го стрелкового батальона 388-го стрелкового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7:44:17Z</dcterms:created>
  <dc:creator>Ната1</dc:creator>
  <dc:description/>
  <dc:language>en-US</dc:language>
  <cp:lastModifiedBy>user</cp:lastModifiedBy>
  <dcterms:modified xsi:type="dcterms:W3CDTF">2016-04-17T16:29:27Z</dcterms:modified>
  <cp:revision>53</cp:revision>
  <dc:subject/>
  <dc:title>«Они защищали Родину»</dc:title>
</cp:coreProperties>
</file>