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807-444D-4849-9DB0-2E38720B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AF3-0DBE-45C5-9C51-639B1BFF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74D-F786-468D-B5EE-0E299512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48F-8E85-4FC2-A782-7EAC6DFE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7705-FC80-4B38-961B-0C7CCD35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66AC-6D4D-4455-B1F5-69C172E8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D85A-70B6-474F-B42C-47806E27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025F-94FC-4B85-B66C-3817A48A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61A7-0617-4C79-91D9-6CDFF3FD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210F-07FC-4106-ADF2-030614A4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BE5C-FEBB-46D6-93D0-3C4B243D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FD8-8B68-4641-A547-76B3F5A7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202F-75CB-492C-83B1-27D4E33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D2F7-67B6-4F9A-9564-11F1373F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30D2-18AE-4F89-91E8-8C72596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38C9-D47F-4D8B-BC4D-C890746E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3D8D-06F7-44DC-A5F5-AF40A781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8611-2BF0-4068-B728-86589280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170A-27AD-4453-B125-C9641F40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79F6-A47F-4B5E-B6BE-0A0D100A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3B45-3C7F-47FC-88A6-AE5938E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0045-8F99-4BCF-A559-6E87C9F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F36-1A51-4A5D-A24B-C1A6DF2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39B7-E9E3-44FC-9309-C375894C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6685-F773-44BC-9EE0-AF310C2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D9BE-7764-4DEE-A8CE-4CA1999A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2278-5527-402F-BFF5-26980156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42D4-82D7-49A4-883C-93994D7B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DD4A-717A-463C-8B9E-90167970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42AAD-787A-4887-9DBA-2038A9E4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2D93-E3EC-4969-840E-DB9BA18B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FB30-55AB-44E1-BA5B-F3649E73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4FD8-D87E-42E3-9AC4-2D2BB467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DF9-352C-4063-BB1B-271614A1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658D-5478-4F69-902A-AEFC4D46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C3AC-74FE-4D48-88FD-F9F10795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DBB50-A436-435E-A06D-E24689C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D6A34-BC88-4EDE-A668-14BF4C1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FEAC-E1FD-447E-BF7A-BC0B2859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F7FB9-0A80-4391-86AA-C4A29955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CF17B-D259-412B-B487-7BBED55D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0374F-75BF-4674-9D36-F154C3A9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6D69-CC41-4DD7-ADF4-FFF93FA7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7442-DAB6-4402-9936-665A461D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688-9302-4DCF-ABF7-F6CF312A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7F510-836D-44BE-A56D-B7A3974C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8554-408E-42F1-9478-4DF63413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084D-62D4-489D-89AA-F6349E79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7E6E6-1480-4703-B6C8-4E549DFB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78CC-6166-4114-8A77-70A55CBA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1114F-D095-4551-AA96-FD5542B4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922A8-49C2-43FB-94FE-30DBA8A9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16FA8-BD1E-402C-912D-43D954DE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6315C-4356-432F-9832-D958AA71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6FAA-9B13-4E2C-88EB-06DB4BF6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E81-E965-4758-B957-3C3D4779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5DC0-3515-489C-8396-BEEE5A1C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21205-F55B-45A0-AD0B-9BB49216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E30F8-1C60-43D6-B779-68EB955D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656D6-D712-4CDD-A18B-9DE5C358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9F616-D7CD-40A7-A728-98885407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9A426-2403-4F67-93AE-8BB49C61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2FFE-EB14-4D4E-947C-94200055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62953-1775-472E-A44B-FF5E9CF7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3EC8E-9F62-4989-8E36-4CFF2D9A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030A6-FA12-4C0B-82F8-1492874E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044-F367-4EF4-BF5F-EDDDF4C9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5F2E-A8DD-44EF-9E8B-E31FFF07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1AB9A-A9D9-4952-9025-FAFE33B1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2C20-CE0F-47B1-8C7F-6296E1A3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9B3C-F61F-45B9-9388-1F6172DA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7D45B-B8E1-40DD-BE6B-C6CD2507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35010-7BD0-49D4-BB05-13EE4C93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E7657-0F72-4A49-9C93-85D420F0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36E5D-BE87-4F08-9DBD-89414BC2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4B8A-3AE2-4A6E-8797-95523EC4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3E643-8EC5-4D6C-B574-51AAD25A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4DC-136D-405D-90A3-B1379241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F8FC5-BA43-4DE2-8696-72693F2B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EF29D-7A8B-4405-BFC2-4B2E22FE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D8C60-2D17-4C71-A147-1E50F99F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CFCD4-12D7-43A5-8828-E5D3A6EC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AA5C-33D2-4262-8F63-B34CBF95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45E-4BB1-4CB3-8487-422064E1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568F-F67E-4FD2-8E4D-B6452C6FB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89B0-9118-4A0F-95AB-67DF3CAE9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2FDE-38C8-45CB-A7B3-3C6432BC4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B36D-AEB4-4C91-A3EA-C65311081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957E-9748-457A-8969-3920EF737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FA7C-4553-40B1-8C93-F98917DC4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0C0E-27FD-4C9C-8423-16B043DE3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libri"/>
              </a:rPr>
              <a:t>Проект</a:t>
            </a:r>
            <a:br>
              <a:rPr sz="88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экопластика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в детском 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творчеств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780000" y="5589360"/>
            <a:ext cx="5040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спитатель:Соколова Н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БДОУ № 1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alibri"/>
              </a:rPr>
              <a:t>Первым делом…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56000" y="1773360"/>
            <a:ext cx="3772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создать положительный настрой, для чего использую сюрпризные моменты, художественную литературу, обращение к личному опыту детей. (интеграция в область «Коммуникация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11280" y="4221000"/>
            <a:ext cx="33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Calibri"/>
              </a:rPr>
              <a:t>Надо подумат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Объект 2" descr=""/>
          <p:cNvPicPr/>
          <p:nvPr/>
        </p:nvPicPr>
        <p:blipFill>
          <a:blip r:embed="rId1"/>
          <a:stretch/>
        </p:blipFill>
        <p:spPr>
          <a:xfrm>
            <a:off x="252360" y="1484280"/>
            <a:ext cx="37720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Художественные игры с природным материал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граем с природным материалом, собранным на прогулке – ассоциации, образы, узоры и т.п. – интеграция в область «Познани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PIC_1605"/>
          <p:cNvPicPr/>
          <p:nvPr/>
        </p:nvPicPr>
        <p:blipFill>
          <a:blip r:embed="rId1"/>
          <a:stretch/>
        </p:blipFill>
        <p:spPr>
          <a:xfrm>
            <a:off x="324000" y="191628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8"/>
          <p:cNvSpPr/>
          <p:nvPr/>
        </p:nvSpPr>
        <p:spPr>
          <a:xfrm>
            <a:off x="1403280" y="4797360"/>
            <a:ext cx="345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Из пушистиков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олучилась соба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Используем в рабо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37720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телен выбор материалов –выставляю целый спектр природных материал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7" descr="PIC_1603"/>
          <p:cNvPicPr/>
          <p:nvPr/>
        </p:nvPicPr>
        <p:blipFill>
          <a:blip r:embed="rId1"/>
          <a:stretch/>
        </p:blipFill>
        <p:spPr>
          <a:xfrm>
            <a:off x="4427640" y="115416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PIC_1612"/>
          <p:cNvPicPr/>
          <p:nvPr/>
        </p:nvPicPr>
        <p:blipFill>
          <a:blip r:embed="rId2"/>
          <a:stretch/>
        </p:blipFill>
        <p:spPr>
          <a:xfrm>
            <a:off x="4859280" y="3932280"/>
            <a:ext cx="3489480" cy="2617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1"/>
          <p:cNvSpPr/>
          <p:nvPr/>
        </p:nvSpPr>
        <p:spPr>
          <a:xfrm>
            <a:off x="395280" y="3645000"/>
            <a:ext cx="3772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очень нравятся остропахнущие материалы –перец, гвоздика, а особенно коф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Мы используем разные матери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Рисунок SmartArt 3" descr=""/>
          <p:cNvPicPr/>
          <p:nvPr/>
        </p:nvPicPr>
        <p:blipFill>
          <a:blip r:embed="rId1"/>
          <a:stretch/>
        </p:blipFill>
        <p:spPr>
          <a:xfrm>
            <a:off x="590400" y="1828800"/>
            <a:ext cx="780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Использую новые слова – аранжировка, инсталляция, флористика  и др., что вызывает огромный интерес к созданию под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13" descr="PIC_1618"/>
          <p:cNvPicPr/>
          <p:nvPr/>
        </p:nvPicPr>
        <p:blipFill>
          <a:blip r:embed="rId1"/>
          <a:stretch/>
        </p:blipFill>
        <p:spPr>
          <a:xfrm>
            <a:off x="250920" y="1268280"/>
            <a:ext cx="3489120" cy="2617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PIC_1632"/>
          <p:cNvPicPr/>
          <p:nvPr/>
        </p:nvPicPr>
        <p:blipFill>
          <a:blip r:embed="rId2"/>
          <a:stretch/>
        </p:blipFill>
        <p:spPr>
          <a:xfrm>
            <a:off x="4284720" y="1316160"/>
            <a:ext cx="3379680" cy="2533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PIC_1611"/>
          <p:cNvPicPr/>
          <p:nvPr/>
        </p:nvPicPr>
        <p:blipFill>
          <a:blip r:embed="rId3"/>
          <a:stretch/>
        </p:blipFill>
        <p:spPr>
          <a:xfrm>
            <a:off x="250920" y="4076640"/>
            <a:ext cx="3382920" cy="2538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PIC_1648"/>
          <p:cNvPicPr/>
          <p:nvPr/>
        </p:nvPicPr>
        <p:blipFill>
          <a:blip r:embed="rId4"/>
          <a:stretch/>
        </p:blipFill>
        <p:spPr>
          <a:xfrm>
            <a:off x="4427640" y="4149720"/>
            <a:ext cx="3273480" cy="2455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7"/>
          <p:cNvSpPr/>
          <p:nvPr/>
        </p:nvSpPr>
        <p:spPr>
          <a:xfrm>
            <a:off x="3708360" y="5013360"/>
            <a:ext cx="4710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611280" y="4221000"/>
            <a:ext cx="244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Calibri"/>
              </a:rPr>
              <a:t>аранжир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9"/>
          <p:cNvSpPr/>
          <p:nvPr/>
        </p:nvSpPr>
        <p:spPr>
          <a:xfrm>
            <a:off x="900000" y="1557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сталля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5219640" y="342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кеб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5508720" y="609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Calibri"/>
              </a:rPr>
              <a:t>икеб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Создаём красоту своими рук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Объект 6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659040" cy="2744640"/>
          </a:xfrm>
          <a:prstGeom prst="rect">
            <a:avLst/>
          </a:prstGeom>
          <a:ln w="0">
            <a:noFill/>
          </a:ln>
        </p:spPr>
      </p:pic>
      <p:pic>
        <p:nvPicPr>
          <p:cNvPr id="341" name="Объект 2" descr=""/>
          <p:cNvPicPr/>
          <p:nvPr/>
        </p:nvPicPr>
        <p:blipFill>
          <a:blip r:embed="rId2"/>
          <a:stretch/>
        </p:blipFill>
        <p:spPr>
          <a:xfrm>
            <a:off x="4630680" y="836640"/>
            <a:ext cx="3648240" cy="2736720"/>
          </a:xfrm>
          <a:prstGeom prst="rect">
            <a:avLst/>
          </a:prstGeom>
          <a:ln w="0">
            <a:noFill/>
          </a:ln>
        </p:spPr>
      </p:pic>
      <p:pic>
        <p:nvPicPr>
          <p:cNvPr id="342" name="Объект 4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3578400" cy="2683080"/>
          </a:xfrm>
          <a:prstGeom prst="rect">
            <a:avLst/>
          </a:prstGeom>
          <a:ln w="0">
            <a:noFill/>
          </a:ln>
        </p:spPr>
      </p:pic>
      <p:pic>
        <p:nvPicPr>
          <p:cNvPr id="343" name="Объект 6" descr=""/>
          <p:cNvPicPr/>
          <p:nvPr/>
        </p:nvPicPr>
        <p:blipFill>
          <a:blip r:embed="rId4"/>
          <a:stretch/>
        </p:blipFill>
        <p:spPr>
          <a:xfrm>
            <a:off x="4643280" y="3824280"/>
            <a:ext cx="3673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9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468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ши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Объект 2" descr=""/>
          <p:cNvPicPr/>
          <p:nvPr/>
        </p:nvPicPr>
        <p:blipFill>
          <a:blip r:embed="rId1"/>
          <a:stretch/>
        </p:blipFill>
        <p:spPr>
          <a:xfrm>
            <a:off x="465120" y="112536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346" name="Объект 4" descr=""/>
          <p:cNvPicPr/>
          <p:nvPr/>
        </p:nvPicPr>
        <p:blipFill>
          <a:blip r:embed="rId2"/>
          <a:stretch/>
        </p:blipFill>
        <p:spPr>
          <a:xfrm>
            <a:off x="4716360" y="1135080"/>
            <a:ext cx="3672000" cy="2590920"/>
          </a:xfrm>
          <a:prstGeom prst="rect">
            <a:avLst/>
          </a:prstGeom>
          <a:ln w="0">
            <a:noFill/>
          </a:ln>
        </p:spPr>
      </p:pic>
      <p:pic>
        <p:nvPicPr>
          <p:cNvPr id="347" name="Объект 6" descr=""/>
          <p:cNvPicPr/>
          <p:nvPr/>
        </p:nvPicPr>
        <p:blipFill>
          <a:blip r:embed="rId3"/>
          <a:stretch/>
        </p:blipFill>
        <p:spPr>
          <a:xfrm>
            <a:off x="4716360" y="4076640"/>
            <a:ext cx="3697560" cy="2448000"/>
          </a:xfrm>
          <a:prstGeom prst="rect">
            <a:avLst/>
          </a:prstGeom>
          <a:ln w="0">
            <a:noFill/>
          </a:ln>
        </p:spPr>
      </p:pic>
      <p:pic>
        <p:nvPicPr>
          <p:cNvPr id="348" name="Объект 8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35290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3 ЭТАП :</a:t>
            </a:r>
            <a:r>
              <a:rPr b="1" i="1" lang="ru-RU" sz="6000" spc="-1" strike="noStrike">
                <a:solidFill>
                  <a:srgbClr val="00b0f0"/>
                </a:solidFill>
                <a:latin typeface="Calibri"/>
              </a:rPr>
              <a:t>ЗАКЛЮ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изучена, но в последующем буду продолжать внедрять в работу с детьми технику экопластики через Н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ланирую на следующий год изучать передовой опыт в социально – коммуникативно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правлен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творческого уровня в художественно-эстетическом воспитании через экопласти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1. Изучить литератур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2. Изучение передового опыта работы с детьми по экопластики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3. Формировать эстетическое отношение к окружающей действительности на основе техники экопласти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f0"/>
                </a:solidFill>
                <a:latin typeface="Calibri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А.Лыкова, Художественный труд в детском саду.Изд. «Цветной мир»,М.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А.Лыкова,Художественный труд в д/с. Экопластика.Аранжеровка и скульптура из природного материала.Изд. «Цветной м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пуз. М.2010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А.Лыкова.Изобразительное творчество в детском саду.Путешествие в тапочках, валенках, листах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д.дом «Цветной мир»,Карапуз.твор.центр СФ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Л.Романовская. Поделки из соленого тес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.АСТ:Минск:Харвест,2007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ЭТАП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:Теоретический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одготовительны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2 ЭТАП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:Основной. Практический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3 ЭТАП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Заключитель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1 эта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методической литературы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статей в журналах «Воспитатель ДОУ», «Обруч», «Ребёнок в д/с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опытов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2 ЭТА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ение раб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картотеки игр с природным материа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альбома технологии поделок из природного матер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 для род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бота с природным материалом заключает в себе большие возможности для развития дет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ближение ребёнка с родной природ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роцессе труда рука приобретает уверенность (подготовка к письму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гда присутствует творчеств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роцессе анализа, планирования деятельности развивается мышлени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нимательность работы способствует развитию вним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вается целеустремлённость, настойчивость, умение доводить начатое до конц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 такое экопласти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7885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пластика – такой вид творчества, в котором произведение создаётся в сотворчестве с великим художником – прир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Organization Chart 2"/>
          <p:cNvGrpSpPr/>
          <p:nvPr/>
        </p:nvGrpSpPr>
        <p:grpSpPr>
          <a:xfrm>
            <a:off x="4440600" y="5078520"/>
            <a:ext cx="2478240" cy="1143000"/>
            <a:chOff x="4440600" y="5078520"/>
            <a:chExt cx="2478240" cy="1143000"/>
          </a:xfrm>
        </p:grpSpPr>
        <p:cxnSp>
          <p:nvCxnSpPr>
            <p:cNvPr id="304" name="_s1028"/>
            <p:cNvCxnSpPr>
              <a:stCxn id="305" idx="0"/>
              <a:endCxn id="306" idx="2"/>
            </p:cNvCxnSpPr>
            <p:nvPr/>
          </p:nvCxnSpPr>
          <p:spPr>
            <a:xfrm flipV="1" rot="16200000">
              <a:off x="5892840" y="5322960"/>
              <a:ext cx="229320" cy="653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_s1029"/>
            <p:cNvCxnSpPr>
              <a:stCxn id="308" idx="0"/>
              <a:endCxn id="306" idx="2"/>
            </p:cNvCxnSpPr>
            <p:nvPr/>
          </p:nvCxnSpPr>
          <p:spPr>
            <a:xfrm flipH="1" flipV="1" rot="5400000">
              <a:off x="5239800" y="5322240"/>
              <a:ext cx="229320" cy="65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6" name="_s1030"/>
            <p:cNvSpPr/>
            <p:nvPr/>
          </p:nvSpPr>
          <p:spPr>
            <a:xfrm>
              <a:off x="4911120" y="5078520"/>
              <a:ext cx="1538280" cy="457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экопласти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_s1031"/>
            <p:cNvSpPr/>
            <p:nvPr/>
          </p:nvSpPr>
          <p:spPr>
            <a:xfrm>
              <a:off x="4440600" y="5764320"/>
              <a:ext cx="1172520" cy="457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эколог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_s1032"/>
            <p:cNvSpPr/>
            <p:nvPr/>
          </p:nvSpPr>
          <p:spPr>
            <a:xfrm>
              <a:off x="5746320" y="5764320"/>
              <a:ext cx="1172520" cy="457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пластик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9" name="Rectangle 26"/>
          <p:cNvSpPr/>
          <p:nvPr/>
        </p:nvSpPr>
        <p:spPr>
          <a:xfrm>
            <a:off x="179280" y="3429000"/>
            <a:ext cx="7921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наука о среде оби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стика – процесс формообраз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ff"/>
                </a:solidFill>
                <a:latin typeface="Calibri"/>
              </a:rPr>
              <a:t>Как мы понимаем экопласти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195640" y="4869000"/>
            <a:ext cx="618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Calibri"/>
              </a:rPr>
              <a:t>Это создание оригинальных композиций на основе природных материа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7" descr="p10_sdc13454"/>
          <p:cNvPicPr/>
          <p:nvPr/>
        </p:nvPicPr>
        <p:blipFill>
          <a:blip r:embed="rId1"/>
          <a:stretch/>
        </p:blipFill>
        <p:spPr>
          <a:xfrm>
            <a:off x="395280" y="182880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PIC_1643"/>
          <p:cNvPicPr/>
          <p:nvPr/>
        </p:nvPicPr>
        <p:blipFill>
          <a:blip r:embed="rId2"/>
          <a:stretch/>
        </p:blipFill>
        <p:spPr>
          <a:xfrm>
            <a:off x="4572000" y="177336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4:17:21Z</dcterms:created>
  <dc:creator>Евгения</dc:creator>
  <dc:description/>
  <dc:language>en-US</dc:language>
  <cp:lastModifiedBy>1</cp:lastModifiedBy>
  <dcterms:modified xsi:type="dcterms:W3CDTF">2014-06-29T14:46:18Z</dcterms:modified>
  <cp:revision>23</cp:revision>
  <dc:subject/>
  <dc:title>Кружок  «Фантазии природы».</dc:title>
</cp:coreProperties>
</file>