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727-0CE2-4375-82E6-3C6731EC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ADA-B2BF-419B-9DFC-C2F3CF3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421-9509-42FC-AF7E-900D6CCA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17C-A9BD-4327-9A17-D766E2FD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F477-AD93-4655-85DC-441B8F69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1A17-1D2A-41F5-8B68-70F7522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588A-8044-4837-B3E0-3225084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5B88-2621-4FC9-AA94-79CD959E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AAAB-CE3A-4307-B020-FC61253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E364-3AE5-46F2-A6A6-30F12A32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9B8-8385-4A45-BD32-DB37183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7AC-1A95-4571-8086-DCC1D9DE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F4D2-AEA8-4C60-AABE-C6BE7DE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A4A4-18DB-474A-86A2-47D82F7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38DF-2BC3-43EB-96AC-DFD3EFD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15E8-6CDB-4A93-93DC-54E42E61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F1A3-ECFC-4170-B921-1FF9F8A6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82C3-36DF-4DA1-AFF3-D20A5F78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5F2D-9F5D-49B6-8C58-70DD2814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D7D4-0BF6-4DD5-B234-E1CF08A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C165-1DE5-4C4A-A39D-234DCDEF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4C56-D5DD-49F4-A9A6-16A52BB3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B29-BD62-4789-A064-767872DB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76AB-1414-495B-8FA5-BDDA58F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0723-71B9-4B63-A251-338A8106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325D-BBCD-4486-94AF-82D87D83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37334-6738-4F83-A7D8-F02D846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1064-9109-4382-941A-1D89B098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A62E-D7CF-45EF-98ED-4B487BC4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4449-DD6F-4E25-BD5A-93524EF4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333E-23E5-4379-BE58-0209C033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7D51-16C1-40FC-8D40-8523B0E4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9970-6433-4139-A081-D1FDC1E8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5B5-C699-425D-9470-96EE412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B6D3-FC06-4405-A789-80EBE560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CE9A-C7A7-412C-A2EC-DDFB47EF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1525F-37D6-4065-98C9-8145933C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9B89-F402-4664-8055-8BA9E00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305C-E61F-4B75-9413-2561088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003A-216C-4C54-A192-D30019E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F5CB-5B25-436D-A208-AA79E0F3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CE90-5F13-4D2F-B9A5-FFE8DFF3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0149-43B6-4F67-A17E-2DE70FEB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6D236-C965-48AE-8CF2-D276583B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15D-0220-4BED-9462-F7BC1801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96AA-7CF0-4630-9A24-2247D02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9C64-CC08-44EE-AE83-3452DAE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D2A4-C1B8-4B6C-8FAC-524F066C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3906D-3831-4C2A-B5D2-06A4650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1730-0F0A-429C-BF1E-3CB57BB5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D217-6BDA-4EFA-A19E-88095C8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44B69-B185-4C30-A978-9C8201E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DBED-D826-4644-8938-AEA441A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8DB2-6D60-468E-9D42-10DD9C19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176D-9871-4722-9FCC-6921D48C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BAA-ED69-4E4E-A2C4-FEE519B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80A1-3044-414D-AE3F-B9F905A0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1D79-77ED-4643-9257-A3572DB7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626C-BCBD-4D3F-B809-482D7672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A1E9F-FC3E-4F03-8B64-C72F36C1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6D72-E4B9-4112-B30E-6AF3CB65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5123B-5FA5-4088-9CF1-C488370E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52EB-4310-4B57-85B0-63EBB6B7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BBBD-A7D4-47F6-AAC6-25B9A9D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E8784-F359-49CD-91FA-4ED622F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90A9-EC60-4C8B-8869-56C0F70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3BC-401D-434A-8380-47FD4765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F1102-967B-47D6-80CA-2A99A29D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4C7F2-6997-40F8-8154-10A2C9A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88E3-3261-4FE6-BF5D-E64295E7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C3188-B16A-4E2B-A270-A0BB7F71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E298F-A025-411F-B1A0-568B313F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CBF3A-01F4-4D55-83E6-4F4D0EC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83F0D-BF5D-4F75-A9AD-97D9ACF2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74F6E-DC82-43B3-9653-8D8B314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DFBC-14E3-4B98-B29D-017A2C13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DBB7-6421-41F5-93A1-5E93E79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8AB-9DB2-4D34-A00D-553680D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BA32-19E3-4063-98AA-DA6C4A2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78DD5-A12A-481C-B927-FD9055F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DBB8-333F-48ED-8C4E-660F59A5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C53F4-21B7-42F2-8A83-1EC49B6B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C65C8-03C6-49E5-8E0D-95F64B26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E8F-5E7B-4D7A-86BA-0F1E0B0E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FA9-6E94-4D38-A91D-3CFC0AF1E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9E3-4856-45B1-B311-1980CC1D5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9890-A5C5-4C1B-A8E7-0B546E71A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B935-0A92-4270-A53F-735826C8D4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B7C-DC33-4CC7-ADFE-17EEB4666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CD48-7A0B-4DA9-A872-F3B2E1603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9B9-19A7-4B4F-A3A5-34B000F61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Проект</a:t>
            </a:r>
            <a:br>
              <a:rPr sz="88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экопластика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 детском 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творчеств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780000" y="5589360"/>
            <a:ext cx="5040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питатель:Соколова Н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БДОУ № 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alibri"/>
              </a:rPr>
              <a:t>Первым делом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56000" y="1773360"/>
            <a:ext cx="3772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создать положительный настрой, для чего использую сюрпризные моменты, художественную литературу, обращение к личному опыту детей. (интеграция в область «Коммуникац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11280" y="4221000"/>
            <a:ext cx="33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Calibri"/>
              </a:rPr>
              <a:t>Надо подумат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Объект 2" descr=""/>
          <p:cNvPicPr/>
          <p:nvPr/>
        </p:nvPicPr>
        <p:blipFill>
          <a:blip r:embed="rId1"/>
          <a:stretch/>
        </p:blipFill>
        <p:spPr>
          <a:xfrm>
            <a:off x="252360" y="1484280"/>
            <a:ext cx="37720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Художественные игры с природным материал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граем с природным материалом, собранным на прогулке – ассоциации, образы, узоры и т.п. – интеграция в область «Познани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PIC_1605"/>
          <p:cNvPicPr/>
          <p:nvPr/>
        </p:nvPicPr>
        <p:blipFill>
          <a:blip r:embed="rId1"/>
          <a:stretch/>
        </p:blipFill>
        <p:spPr>
          <a:xfrm>
            <a:off x="324000" y="191628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8"/>
          <p:cNvSpPr/>
          <p:nvPr/>
        </p:nvSpPr>
        <p:spPr>
          <a:xfrm>
            <a:off x="1403280" y="4797360"/>
            <a:ext cx="345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Из пушистиков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олучилась соба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Используем в рабо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37720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ен выбор материалов –выставляю целый спектр природных материал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7" descr="PIC_1603"/>
          <p:cNvPicPr/>
          <p:nvPr/>
        </p:nvPicPr>
        <p:blipFill>
          <a:blip r:embed="rId1"/>
          <a:stretch/>
        </p:blipFill>
        <p:spPr>
          <a:xfrm>
            <a:off x="4427640" y="115416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PIC_1612"/>
          <p:cNvPicPr/>
          <p:nvPr/>
        </p:nvPicPr>
        <p:blipFill>
          <a:blip r:embed="rId2"/>
          <a:stretch/>
        </p:blipFill>
        <p:spPr>
          <a:xfrm>
            <a:off x="4859280" y="3932280"/>
            <a:ext cx="3489480" cy="2617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1"/>
          <p:cNvSpPr/>
          <p:nvPr/>
        </p:nvSpPr>
        <p:spPr>
          <a:xfrm>
            <a:off x="395280" y="3645000"/>
            <a:ext cx="3772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очень нравятся остропахнущие материалы –перец, гвоздика, а особенно коф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Мы используем разные 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Рисунок SmartArt 3" descr=""/>
          <p:cNvPicPr/>
          <p:nvPr/>
        </p:nvPicPr>
        <p:blipFill>
          <a:blip r:embed="rId1"/>
          <a:stretch/>
        </p:blipFill>
        <p:spPr>
          <a:xfrm>
            <a:off x="590400" y="1828800"/>
            <a:ext cx="780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Использую новые слова – аранжировка, инсталляция, флористика  и др., что вызывает огромный интерес к созданию под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13" descr="PIC_1618"/>
          <p:cNvPicPr/>
          <p:nvPr/>
        </p:nvPicPr>
        <p:blipFill>
          <a:blip r:embed="rId1"/>
          <a:stretch/>
        </p:blipFill>
        <p:spPr>
          <a:xfrm>
            <a:off x="250920" y="126828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PIC_1632"/>
          <p:cNvPicPr/>
          <p:nvPr/>
        </p:nvPicPr>
        <p:blipFill>
          <a:blip r:embed="rId2"/>
          <a:stretch/>
        </p:blipFill>
        <p:spPr>
          <a:xfrm>
            <a:off x="4284720" y="1316160"/>
            <a:ext cx="3379680" cy="2533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PIC_1611"/>
          <p:cNvPicPr/>
          <p:nvPr/>
        </p:nvPicPr>
        <p:blipFill>
          <a:blip r:embed="rId3"/>
          <a:stretch/>
        </p:blipFill>
        <p:spPr>
          <a:xfrm>
            <a:off x="250920" y="407664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PIC_1648"/>
          <p:cNvPicPr/>
          <p:nvPr/>
        </p:nvPicPr>
        <p:blipFill>
          <a:blip r:embed="rId4"/>
          <a:stretch/>
        </p:blipFill>
        <p:spPr>
          <a:xfrm>
            <a:off x="4427640" y="4149720"/>
            <a:ext cx="3273480" cy="2455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7"/>
          <p:cNvSpPr/>
          <p:nvPr/>
        </p:nvSpPr>
        <p:spPr>
          <a:xfrm>
            <a:off x="3708360" y="5013360"/>
            <a:ext cx="4710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611280" y="4221000"/>
            <a:ext cx="244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Calibri"/>
              </a:rPr>
              <a:t>аранжир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9"/>
          <p:cNvSpPr/>
          <p:nvPr/>
        </p:nvSpPr>
        <p:spPr>
          <a:xfrm>
            <a:off x="900000" y="1557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сталля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5219640" y="342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кеб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5508720" y="609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Calibri"/>
              </a:rPr>
              <a:t>икеб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Создаём красоту своими рук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Объект 6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659040" cy="2744640"/>
          </a:xfrm>
          <a:prstGeom prst="rect">
            <a:avLst/>
          </a:prstGeom>
          <a:ln w="0">
            <a:noFill/>
          </a:ln>
        </p:spPr>
      </p:pic>
      <p:pic>
        <p:nvPicPr>
          <p:cNvPr id="341" name="Объект 2" descr=""/>
          <p:cNvPicPr/>
          <p:nvPr/>
        </p:nvPicPr>
        <p:blipFill>
          <a:blip r:embed="rId2"/>
          <a:stretch/>
        </p:blipFill>
        <p:spPr>
          <a:xfrm>
            <a:off x="4630680" y="836640"/>
            <a:ext cx="3648240" cy="2736720"/>
          </a:xfrm>
          <a:prstGeom prst="rect">
            <a:avLst/>
          </a:prstGeom>
          <a:ln w="0">
            <a:noFill/>
          </a:ln>
        </p:spPr>
      </p:pic>
      <p:pic>
        <p:nvPicPr>
          <p:cNvPr id="342" name="Объект 4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578400" cy="2683080"/>
          </a:xfrm>
          <a:prstGeom prst="rect">
            <a:avLst/>
          </a:prstGeom>
          <a:ln w="0">
            <a:noFill/>
          </a:ln>
        </p:spPr>
      </p:pic>
      <p:pic>
        <p:nvPicPr>
          <p:cNvPr id="343" name="Объект 6" descr=""/>
          <p:cNvPicPr/>
          <p:nvPr/>
        </p:nvPicPr>
        <p:blipFill>
          <a:blip r:embed="rId4"/>
          <a:stretch/>
        </p:blipFill>
        <p:spPr>
          <a:xfrm>
            <a:off x="4643280" y="3824280"/>
            <a:ext cx="3673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9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468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ши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Объект 2" descr=""/>
          <p:cNvPicPr/>
          <p:nvPr/>
        </p:nvPicPr>
        <p:blipFill>
          <a:blip r:embed="rId1"/>
          <a:stretch/>
        </p:blipFill>
        <p:spPr>
          <a:xfrm>
            <a:off x="465120" y="112536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346" name="Объект 4" descr=""/>
          <p:cNvPicPr/>
          <p:nvPr/>
        </p:nvPicPr>
        <p:blipFill>
          <a:blip r:embed="rId2"/>
          <a:stretch/>
        </p:blipFill>
        <p:spPr>
          <a:xfrm>
            <a:off x="4716360" y="1135080"/>
            <a:ext cx="3672000" cy="259092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6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3697560" cy="2448000"/>
          </a:xfrm>
          <a:prstGeom prst="rect">
            <a:avLst/>
          </a:prstGeom>
          <a:ln w="0">
            <a:noFill/>
          </a:ln>
        </p:spPr>
      </p:pic>
      <p:pic>
        <p:nvPicPr>
          <p:cNvPr id="348" name="Объект 8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3529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3 ЭТАП :</a:t>
            </a:r>
            <a:r>
              <a:rPr b="1" i="1" lang="ru-RU" sz="6000" spc="-1" strike="noStrike">
                <a:solidFill>
                  <a:srgbClr val="00b0f0"/>
                </a:solidFill>
                <a:latin typeface="Calibri"/>
              </a:rPr>
              <a:t>ЗАКЛЮ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изучена, но в последующем буду продолжать внедрять в работу с детьми технику экопластики через Н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ланирую на следующий год изучать передовой опыт в социально – коммуникативно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правлен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творческого уровня в художественно-эстетическом воспитании через экопласти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. Изучить литератур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2. Изучение передового опыта работы с детьми по экопластики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3. Формировать эстетическое отношение к окружающей действительности на основе техники экопласти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f0"/>
                </a:solidFill>
                <a:latin typeface="Calibri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А.Лыкова, Художественный труд в детском саду.Изд. «Цветной мир»,М.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А.Лыкова,Художественный труд в д/с. Экопластика.Аранжеровка и скульптура из природного материала.Изд. «Цветной 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пуз. М.2010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А.Лыкова.Изобразительное творчество в детском саду.Путешествие в тапочках, валенках, листах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д.дом «Цветной мир»,Карапуз.твор.центр СФ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Л.Романовская. Поделки из соленого тес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.АСТ:Минск:Харвест,2007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ЭТАП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:Теоретический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одготовительны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2 ЭТАП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:Основной. Практический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3 ЭТАП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Заключитель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 эта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методической литературы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статей в журналах «Воспитатель ДОУ», «Обруч», «Ребёнок в д/с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опытов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2 ЭТА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ение раб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картотеки игр с природным материа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альбома технологии поделок из природ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 для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бота с природным материалом заключает в себе большие возможности для развития дет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ближение ребёнка с родной природ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роцессе труда рука приобретает уверенность (подготовка к письму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гда присутствует творчеств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роцессе анализа, планирования деятельности развивается мышлен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нимательность работы способствует развитию вним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вается целеустремлённость, настойчивость, умение доводить начатое до конц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 такое экопласти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7885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пластика – такой вид творчества, в котором произведение создаётся в сотворчестве с великим художником – прир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Organization Chart 2"/>
          <p:cNvGrpSpPr/>
          <p:nvPr/>
        </p:nvGrpSpPr>
        <p:grpSpPr>
          <a:xfrm>
            <a:off x="4440600" y="5078520"/>
            <a:ext cx="2478240" cy="1143000"/>
            <a:chOff x="4440600" y="5078520"/>
            <a:chExt cx="2478240" cy="1143000"/>
          </a:xfrm>
        </p:grpSpPr>
        <p:cxnSp>
          <p:nvCxnSpPr>
            <p:cNvPr id="304" name="_s1028"/>
            <p:cNvCxnSpPr>
              <a:stCxn id="305" idx="0"/>
              <a:endCxn id="306" idx="2"/>
            </p:cNvCxnSpPr>
            <p:nvPr/>
          </p:nvCxnSpPr>
          <p:spPr>
            <a:xfrm flipV="1" rot="16200000">
              <a:off x="5892840" y="5322960"/>
              <a:ext cx="229320" cy="653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_s1029"/>
            <p:cNvCxnSpPr>
              <a:stCxn id="308" idx="0"/>
              <a:endCxn id="306" idx="2"/>
            </p:cNvCxnSpPr>
            <p:nvPr/>
          </p:nvCxnSpPr>
          <p:spPr>
            <a:xfrm flipH="1" flipV="1" rot="5400000">
              <a:off x="5239800" y="5322240"/>
              <a:ext cx="229320" cy="65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6" name="_s1030"/>
            <p:cNvSpPr/>
            <p:nvPr/>
          </p:nvSpPr>
          <p:spPr>
            <a:xfrm>
              <a:off x="4911120" y="5078520"/>
              <a:ext cx="1538280" cy="4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экопласти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_s1031"/>
            <p:cNvSpPr/>
            <p:nvPr/>
          </p:nvSpPr>
          <p:spPr>
            <a:xfrm>
              <a:off x="4440600" y="5764320"/>
              <a:ext cx="1172520" cy="4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эколог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_s1032"/>
            <p:cNvSpPr/>
            <p:nvPr/>
          </p:nvSpPr>
          <p:spPr>
            <a:xfrm>
              <a:off x="5746320" y="5764320"/>
              <a:ext cx="1172520" cy="4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ласти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Rectangle 26"/>
          <p:cNvSpPr/>
          <p:nvPr/>
        </p:nvSpPr>
        <p:spPr>
          <a:xfrm>
            <a:off x="179280" y="3429000"/>
            <a:ext cx="7921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наука о среде об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стика – процесс формо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ff"/>
                </a:solidFill>
                <a:latin typeface="Calibri"/>
              </a:rPr>
              <a:t>Как мы понимаем экопласти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95640" y="4869000"/>
            <a:ext cx="61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Calibri"/>
              </a:rPr>
              <a:t>Это создание оригинальных композиций на основе природных материа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7" descr="p10_sdc13454"/>
          <p:cNvPicPr/>
          <p:nvPr/>
        </p:nvPicPr>
        <p:blipFill>
          <a:blip r:embed="rId1"/>
          <a:stretch/>
        </p:blipFill>
        <p:spPr>
          <a:xfrm>
            <a:off x="395280" y="182880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PIC_1643"/>
          <p:cNvPicPr/>
          <p:nvPr/>
        </p:nvPicPr>
        <p:blipFill>
          <a:blip r:embed="rId2"/>
          <a:stretch/>
        </p:blipFill>
        <p:spPr>
          <a:xfrm>
            <a:off x="4572000" y="177336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4:17:21Z</dcterms:created>
  <dc:creator>Евгения</dc:creator>
  <dc:description/>
  <dc:language>en-US</dc:language>
  <cp:lastModifiedBy>1</cp:lastModifiedBy>
  <dcterms:modified xsi:type="dcterms:W3CDTF">2014-06-29T14:46:18Z</dcterms:modified>
  <cp:revision>23</cp:revision>
  <dc:subject/>
  <dc:title>Кружок  «Фантазии природы».</dc:title>
</cp:coreProperties>
</file>