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1880" y="462168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3180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6552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09160" y="213804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2188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6552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09160" y="4621680"/>
            <a:ext cx="27079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1240" y="699840"/>
            <a:ext cx="8599680" cy="58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31800" y="462168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1800" y="2138040"/>
            <a:ext cx="41043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1880" y="4621680"/>
            <a:ext cx="84106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99284c"/>
                </a:solidFill>
                <a:latin typeface="Arial"/>
              </a:rPr>
              <a:t> </a:t>
            </a:r>
            <a:br>
              <a:rPr sz="2600"/>
            </a:br>
            <a:br>
              <a:rPr sz="2600"/>
            </a:br>
            <a:r>
              <a:rPr b="1" i="1" lang="ru-RU" sz="2600" spc="-1" strike="noStrike">
                <a:solidFill>
                  <a:srgbClr val="99284c"/>
                </a:solidFill>
                <a:latin typeface="Arial"/>
              </a:rPr>
              <a:t>«Ранний возраст»</a:t>
            </a:r>
            <a:endParaRPr b="1" i="1" lang="en-US" sz="2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725040" y="3311280"/>
            <a:ext cx="841860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284c"/>
                </a:solidFill>
                <a:latin typeface="Arial"/>
              </a:rPr>
              <a:t>Подготовила Шептикина О.Б.</a:t>
            </a: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284c"/>
                </a:solidFill>
                <a:latin typeface="Arial"/>
              </a:rPr>
              <a:t>2016 г.</a:t>
            </a: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Развитие речи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0880" y="1655280"/>
            <a:ext cx="8418600" cy="47977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6000"/>
          </a:bodyPr>
          <a:p>
            <a:pPr marL="476640" indent="-409680">
              <a:lnSpc>
                <a:spcPct val="93000"/>
              </a:lnSpc>
              <a:spcBef>
                <a:spcPts val="876"/>
              </a:spcBef>
              <a:spcAft>
                <a:spcPts val="87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6800"/>
                <a:tab algn="l" pos="6015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Речь развивается только при наличии речевой среды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76640" indent="-409680">
              <a:lnSpc>
                <a:spcPct val="93000"/>
              </a:lnSpc>
              <a:spcBef>
                <a:spcPts val="876"/>
              </a:spcBef>
              <a:spcAft>
                <a:spcPts val="87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6800"/>
                <a:tab algn="l" pos="6015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Переход от дофонемной речи к фонемной и становлению фонематического слова (до 2-х лет)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83120" indent="0">
              <a:lnSpc>
                <a:spcPct val="93000"/>
              </a:lnSpc>
              <a:spcBef>
                <a:spcPts val="2038"/>
              </a:spcBef>
              <a:spcAft>
                <a:spcPts val="2038"/>
              </a:spcAft>
              <a:buNone/>
              <a:tabLst>
                <a:tab algn="l" pos="0"/>
                <a:tab algn="l" pos="496800"/>
                <a:tab algn="l" pos="6015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83120" indent="0">
              <a:lnSpc>
                <a:spcPct val="93000"/>
              </a:lnSpc>
              <a:spcBef>
                <a:spcPts val="2038"/>
              </a:spcBef>
              <a:spcAft>
                <a:spcPts val="2038"/>
              </a:spcAft>
              <a:buNone/>
              <a:tabLst>
                <a:tab algn="l" pos="0"/>
                <a:tab algn="l" pos="496800"/>
                <a:tab algn="l" pos="6015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83120" indent="0">
              <a:lnSpc>
                <a:spcPct val="93000"/>
              </a:lnSpc>
              <a:spcBef>
                <a:spcPts val="2038"/>
              </a:spcBef>
              <a:spcAft>
                <a:spcPts val="2038"/>
              </a:spcAft>
              <a:buNone/>
              <a:tabLst>
                <a:tab algn="l" pos="0"/>
                <a:tab algn="l" pos="496800"/>
                <a:tab algn="l" pos="6015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83120" indent="0">
              <a:lnSpc>
                <a:spcPct val="93000"/>
              </a:lnSpc>
              <a:buNone/>
              <a:tabLst>
                <a:tab algn="l" pos="0"/>
                <a:tab algn="l" pos="496800"/>
                <a:tab algn="l" pos="6015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К 1,5 годам — 30-100 слов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83120" indent="0">
              <a:lnSpc>
                <a:spcPct val="93000"/>
              </a:lnSpc>
              <a:buNone/>
              <a:tabLst>
                <a:tab algn="l" pos="0"/>
                <a:tab algn="l" pos="496800"/>
                <a:tab algn="l" pos="6015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к 2 годам — 300 слов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83120" indent="0">
              <a:lnSpc>
                <a:spcPct val="93000"/>
              </a:lnSpc>
              <a:buNone/>
              <a:tabLst>
                <a:tab algn="l" pos="0"/>
                <a:tab algn="l" pos="496800"/>
                <a:tab algn="l" pos="6015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к 3 годам — до 1500 слов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808360" y="3095640"/>
            <a:ext cx="417672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Личностное развитие (социализация)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96800" indent="-4269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6800"/>
                <a:tab algn="l" pos="6015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Образуются родственные привязанности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6800" indent="-4269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6800"/>
                <a:tab algn="l" pos="6015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Подражание взрослым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6800" indent="-4269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6800"/>
                <a:tab algn="l" pos="6015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Мама — путь развития уверенности в себе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584360" y="3311640"/>
            <a:ext cx="6335640" cy="36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Кризис 3-х лет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1880" y="17888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96800" indent="-426960">
              <a:lnSpc>
                <a:spcPct val="93000"/>
              </a:lnSpc>
              <a:spcBef>
                <a:spcPts val="876"/>
              </a:spcBef>
              <a:spcAft>
                <a:spcPts val="87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6800"/>
                <a:tab algn="l" pos="6015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Негативизм — отвергание взрослых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6800" indent="-426960">
              <a:lnSpc>
                <a:spcPct val="93000"/>
              </a:lnSpc>
              <a:spcBef>
                <a:spcPts val="876"/>
              </a:spcBef>
              <a:spcAft>
                <a:spcPts val="87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6800"/>
                <a:tab algn="l" pos="6015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Упрямство — против принятых норм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6800" indent="-426960">
              <a:lnSpc>
                <a:spcPct val="93000"/>
              </a:lnSpc>
              <a:spcBef>
                <a:spcPts val="876"/>
              </a:spcBef>
              <a:spcAft>
                <a:spcPts val="87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6800"/>
                <a:tab algn="l" pos="6015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Обесценивание старых игрушек, книжек и т. д.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6800" indent="-426960">
              <a:lnSpc>
                <a:spcPct val="93000"/>
              </a:lnSpc>
              <a:spcBef>
                <a:spcPts val="876"/>
              </a:spcBef>
              <a:spcAft>
                <a:spcPts val="87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6800"/>
                <a:tab algn="l" pos="6015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Своеволие — хочет решать, что делать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6800" indent="-426960">
              <a:lnSpc>
                <a:spcPct val="93000"/>
              </a:lnSpc>
              <a:spcBef>
                <a:spcPts val="876"/>
              </a:spcBef>
              <a:spcAft>
                <a:spcPts val="876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6800"/>
                <a:tab algn="l" pos="6015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Самоутверждение: «Я сам!»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08000" y="4751280"/>
            <a:ext cx="3816360" cy="2278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929200" y="4248000"/>
            <a:ext cx="331164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Благодарим за внимание!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216240" y="1825560"/>
            <a:ext cx="3767040" cy="50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Ранний возраст — это возраст от 1 до 3 лет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661900"/>
                </a:solidFill>
                <a:latin typeface="Arial"/>
              </a:rPr>
              <a:t>Очень важный период в психическом развитии ребёнка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84360" y="2664000"/>
            <a:ext cx="7128000" cy="43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Кризис 1-го года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Разрушение слитности с матерью, приобретение самостоятельности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55640" y="2952720"/>
            <a:ext cx="669636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Важные приобретения: 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1880" y="1655640"/>
            <a:ext cx="8418600" cy="5245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66"/>
                </a:solidFill>
                <a:latin typeface="Arial"/>
              </a:rPr>
              <a:t>1. Прямохождение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66"/>
                </a:solidFill>
                <a:latin typeface="Arial"/>
              </a:rPr>
              <a:t>2. Речевое общение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66"/>
                </a:solidFill>
                <a:latin typeface="Arial"/>
              </a:rPr>
              <a:t>3. Предметная деятельность: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spcBef>
                <a:spcPts val="587"/>
              </a:spcBef>
              <a:spcAft>
                <a:spcPts val="587"/>
              </a:spcAft>
              <a:buNone/>
              <a:tabLst>
                <a:tab algn="l" pos="0"/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66"/>
                </a:solidFill>
                <a:latin typeface="Arial"/>
              </a:rPr>
              <a:t>- развитие орудийных действий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spcBef>
                <a:spcPts val="587"/>
              </a:spcBef>
              <a:spcAft>
                <a:spcPts val="587"/>
              </a:spcAft>
              <a:buNone/>
              <a:tabLst>
                <a:tab algn="l" pos="0"/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66"/>
                </a:solidFill>
                <a:latin typeface="Arial"/>
              </a:rPr>
              <a:t>- развитие соотносящих действий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570720" y="3600360"/>
            <a:ext cx="2284200" cy="3073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079640" y="3683160"/>
            <a:ext cx="5256000" cy="293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Социальная ситуация развития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0" algn="ctr">
              <a:lnSpc>
                <a:spcPct val="93000"/>
              </a:lnSpc>
              <a:buNone/>
              <a:tabLst>
                <a:tab algn="l" pos="0"/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РЕБЕНОК — ПРЕДМЕТ — ВЗРОСЛЫЙ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68360" y="2664000"/>
            <a:ext cx="748836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Ведущий вид деятельности — предметная.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08000" y="1692360"/>
            <a:ext cx="3481560" cy="2484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80000" y="1584360"/>
            <a:ext cx="4427640" cy="2735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833400" y="4362480"/>
            <a:ext cx="3846600" cy="2538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130720" y="4416480"/>
            <a:ext cx="341316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Новообразования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27640" y="4464000"/>
            <a:ext cx="3684600" cy="25480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1240" y="1655640"/>
            <a:ext cx="8499600" cy="5245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96800" indent="-426960">
              <a:lnSpc>
                <a:spcPct val="93000"/>
              </a:lnSpc>
              <a:spcBef>
                <a:spcPts val="1749"/>
              </a:spcBef>
              <a:spcAft>
                <a:spcPts val="1749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6800"/>
                <a:tab algn="l" pos="6015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Двигательная активность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6800" indent="-426960">
              <a:lnSpc>
                <a:spcPct val="93000"/>
              </a:lnSpc>
              <a:spcBef>
                <a:spcPts val="1749"/>
              </a:spcBef>
              <a:spcAft>
                <a:spcPts val="1749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6800"/>
                <a:tab algn="l" pos="6015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Интенсивное развитие речи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6800" indent="-426960">
              <a:lnSpc>
                <a:spcPct val="93000"/>
              </a:lnSpc>
              <a:spcBef>
                <a:spcPts val="1749"/>
              </a:spcBef>
              <a:spcAft>
                <a:spcPts val="1749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6800"/>
                <a:tab algn="l" pos="6015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Зарождение элементов сюжетно-ролевой игры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6800" indent="-426960">
              <a:lnSpc>
                <a:spcPct val="93000"/>
              </a:lnSpc>
              <a:spcBef>
                <a:spcPts val="1749"/>
              </a:spcBef>
              <a:spcAft>
                <a:spcPts val="1749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6800"/>
                <a:tab algn="l" pos="6015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Начинает формироваться самооценка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6800" indent="-426960">
              <a:lnSpc>
                <a:spcPct val="93000"/>
              </a:lnSpc>
              <a:spcBef>
                <a:spcPts val="1749"/>
              </a:spcBef>
              <a:spcAft>
                <a:spcPts val="1749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6800"/>
                <a:tab algn="l" pos="6015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Стремление к самостоятельности, кризис «Я сам!»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1240" y="700200"/>
            <a:ext cx="8607600" cy="884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Зона ближайшего развития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80680" y="158400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Зарождение сюжетно-ролевой игр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13080" y="2232000"/>
            <a:ext cx="5075280" cy="35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Развитие элементов игры: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1880" y="17888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96800" indent="-426960">
              <a:lnSpc>
                <a:spcPct val="93000"/>
              </a:lnSpc>
              <a:spcBef>
                <a:spcPts val="2038"/>
              </a:spcBef>
              <a:spcAft>
                <a:spcPts val="2038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6800"/>
                <a:tab algn="l" pos="6015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66"/>
                </a:solidFill>
                <a:latin typeface="Arial"/>
              </a:rPr>
              <a:t>Предметные игры-подражания взрослым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6800" indent="-426960">
              <a:lnSpc>
                <a:spcPct val="93000"/>
              </a:lnSpc>
              <a:spcBef>
                <a:spcPts val="2038"/>
              </a:spcBef>
              <a:spcAft>
                <a:spcPts val="2038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6800"/>
                <a:tab algn="l" pos="6015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66"/>
                </a:solidFill>
                <a:latin typeface="Arial"/>
              </a:rPr>
              <a:t>Зарождение сюжетно-ролевой игры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6800" indent="-426960">
              <a:lnSpc>
                <a:spcPct val="93000"/>
              </a:lnSpc>
              <a:spcBef>
                <a:spcPts val="2038"/>
              </a:spcBef>
              <a:spcAft>
                <a:spcPts val="2038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6800"/>
                <a:tab algn="l" pos="6015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66"/>
                </a:solidFill>
                <a:latin typeface="Arial"/>
              </a:rPr>
              <a:t>Символическая игра — замещающие действия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6800" indent="-426960">
              <a:lnSpc>
                <a:spcPct val="93000"/>
              </a:lnSpc>
              <a:spcBef>
                <a:spcPts val="2038"/>
              </a:spcBef>
              <a:spcAft>
                <a:spcPts val="2038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6800"/>
                <a:tab algn="l" pos="601560"/>
                <a:tab algn="l" pos="1050840"/>
                <a:tab algn="l" pos="1500120"/>
                <a:tab algn="l" pos="1949400"/>
                <a:tab algn="l" pos="2398680"/>
                <a:tab algn="l" pos="2847960"/>
                <a:tab algn="l" pos="3297240"/>
                <a:tab algn="l" pos="3746520"/>
                <a:tab algn="l" pos="4195800"/>
                <a:tab algn="l" pos="4645080"/>
                <a:tab algn="l" pos="5094360"/>
                <a:tab algn="l" pos="5543640"/>
                <a:tab algn="l" pos="5992920"/>
                <a:tab algn="l" pos="6442200"/>
                <a:tab algn="l" pos="6891480"/>
                <a:tab algn="l" pos="7340760"/>
                <a:tab algn="l" pos="7790040"/>
                <a:tab algn="l" pos="8238960"/>
                <a:tab algn="l" pos="8688240"/>
                <a:tab algn="l" pos="913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66"/>
                </a:solidFill>
                <a:latin typeface="Arial"/>
              </a:rPr>
              <a:t>Режиссёрская игра — озвучивание действий (чух-чух)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32000" y="3968640"/>
            <a:ext cx="5616720" cy="3014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8T18:24:57Z</dcterms:created>
  <dc:creator/>
  <dc:description/>
  <dc:language>en-US</dc:language>
  <cp:lastModifiedBy/>
  <cp:revision>1</cp:revision>
  <dc:subject/>
  <dc:title/>
</cp:coreProperties>
</file>