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A87793-9111-4716-AD06-175758C11C0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8EB91E-CC05-422F-B126-D15A1715EE7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0B86-6ECD-4267-80FC-EEC480C5F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BD15-992A-4CE3-A19D-C724FC03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F570-EB2D-460C-9E2B-DA001AF9F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61B2-6AA0-41EF-9605-C904118CD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D6F4-54FA-47C6-81D9-7F4790DC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9DB9-A318-4709-82A6-7560353C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C763-DD10-4C51-921A-60F55805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D09C-C362-4464-A804-6D182BFA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348B-846F-4BF3-9DD1-C392D116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FD88-7E58-44F8-AA5F-9754A3D6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15CE-0D71-43F4-A025-AAAE0FDC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5D55-880C-495B-A325-E5EF207D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F68AB65-3510-4717-96A1-BFBB79CCDA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2200" y="2266560"/>
            <a:ext cx="9070920" cy="23763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5400" spc="-1" strike="noStrike">
                <a:solidFill>
                  <a:srgbClr val="0033cc"/>
                </a:solidFill>
                <a:latin typeface="Arial"/>
              </a:rPr>
              <a:t>Урок литературного чтения</a:t>
            </a:r>
            <a:br>
              <a:rPr sz="5400"/>
            </a:br>
            <a:r>
              <a:rPr b="1" i="1" lang="ru-RU" sz="5400" spc="-1" strike="noStrike">
                <a:solidFill>
                  <a:srgbClr val="339933"/>
                </a:solidFill>
                <a:latin typeface="Arial"/>
              </a:rPr>
              <a:t>в 1 классе</a:t>
            </a:r>
            <a:r>
              <a:rPr b="1" i="1" lang="ru-RU" sz="54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Bookman Old Style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7200" spc="-1" strike="noStrike">
                <a:solidFill>
                  <a:srgbClr val="339933"/>
                </a:solidFill>
                <a:latin typeface="Arial"/>
              </a:rPr>
              <a:t>Узнать, что такое…</a:t>
            </a:r>
            <a:endParaRPr b="0" lang="en-US" sz="7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7200" spc="-1" strike="noStrike">
                <a:solidFill>
                  <a:srgbClr val="ff3300"/>
                </a:solidFill>
                <a:latin typeface="Arial"/>
              </a:rPr>
              <a:t>заклички.</a:t>
            </a:r>
            <a:endParaRPr b="0" lang="en-US" sz="7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7200" spc="-1" strike="noStrike">
                <a:solidFill>
                  <a:srgbClr val="339933"/>
                </a:solidFill>
                <a:latin typeface="Arial"/>
              </a:rPr>
              <a:t>Зачем нужны…</a:t>
            </a:r>
            <a:endParaRPr b="0" lang="en-US" sz="7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7200" spc="-1" strike="noStrike">
                <a:solidFill>
                  <a:srgbClr val="ff3300"/>
                </a:solidFill>
                <a:latin typeface="Arial"/>
              </a:rPr>
              <a:t>заклички.</a:t>
            </a:r>
            <a:endParaRPr b="0" lang="en-US" sz="7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Когда дождик льёт </a:t>
            </a: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долго-долго </a:t>
            </a: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и становится вредным для посевов, к кому люди обращаются?</a:t>
            </a:r>
            <a:r>
              <a:rPr b="0" lang="ru-RU" sz="5400" spc="-1" strike="noStrike">
                <a:solidFill>
                  <a:srgbClr val="0033cc"/>
                </a:solidFill>
                <a:latin typeface="Gill Sans MT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6360" y="466560"/>
            <a:ext cx="9069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592360" y="539640"/>
            <a:ext cx="496908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А сейчас представьте, что наступила засуха и дождей очень давно не было. Кого на этот раз будут уговаривать и упрашивать люди?</a:t>
            </a:r>
            <a:r>
              <a:rPr b="0" lang="ru-RU" sz="4400" spc="-1" strike="noStrike">
                <a:solidFill>
                  <a:srgbClr val="0033cc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655640" y="395280"/>
            <a:ext cx="71438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Прочитайте закличку, которая осталась и подумайте, когда так просят божью коровк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232000" y="324000"/>
            <a:ext cx="5810400" cy="56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55520" y="46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33cc"/>
                </a:solidFill>
                <a:latin typeface="Arial"/>
              </a:rPr>
              <a:t>Придумайте закличку для весны –красны!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33cc"/>
                </a:solidFill>
                <a:latin typeface="Arial"/>
              </a:rPr>
              <a:t>Зимушка-зима, 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33cc"/>
                </a:solidFill>
                <a:latin typeface="Arial"/>
              </a:rPr>
              <a:t>Отступи, отступи.</a:t>
            </a:r>
            <a:br>
              <a:rPr sz="6000"/>
            </a:br>
            <a:r>
              <a:rPr b="0" lang="ru-RU" sz="6000" spc="-1" strike="noStrike">
                <a:solidFill>
                  <a:srgbClr val="0033cc"/>
                </a:solidFill>
                <a:latin typeface="Arial"/>
              </a:rPr>
              <a:t>Весна-красна,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0033cc"/>
                </a:solidFill>
                <a:latin typeface="Arial"/>
              </a:rPr>
              <a:t>Приходи, наступи.</a:t>
            </a:r>
            <a:r>
              <a:rPr b="0" lang="ru-RU" sz="6000" spc="-1" strike="noStrike">
                <a:solidFill>
                  <a:srgbClr val="0033cc"/>
                </a:solidFill>
                <a:latin typeface="Gill Sans MT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755280"/>
            <a:ext cx="9069480" cy="6000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Здравствуй, солнце!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Здравствуй, день!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Arial"/>
              </a:rPr>
              <a:t>Подарите друг другу улыбк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Если вы научитесь улыбаться красоте, добру, то ваша улыбка всегда будет возвращаться к вам радостью.</a:t>
            </a:r>
            <a:r>
              <a:rPr b="0" lang="ru-RU" sz="4000" spc="-1" strike="noStrike">
                <a:solidFill>
                  <a:srgbClr val="ff3300"/>
                </a:solidFill>
                <a:latin typeface="Gill Sans M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33cc"/>
                </a:solidFill>
                <a:latin typeface="Arial"/>
              </a:rPr>
              <a:t>Уходи от нас, </a:t>
            </a:r>
            <a:br>
              <a:rPr sz="4800"/>
            </a:br>
            <a:r>
              <a:rPr b="0" lang="ru-RU" sz="4800" spc="-1" strike="noStrike">
                <a:solidFill>
                  <a:srgbClr val="0033cc"/>
                </a:solidFill>
                <a:latin typeface="Arial"/>
              </a:rPr>
              <a:t>Зима холодная! </a:t>
            </a:r>
            <a:br>
              <a:rPr sz="4800"/>
            </a:br>
            <a:r>
              <a:rPr b="0" lang="ru-RU" sz="4800" spc="-1" strike="noStrike">
                <a:solidFill>
                  <a:srgbClr val="0033cc"/>
                </a:solidFill>
                <a:latin typeface="Arial"/>
              </a:rPr>
              <a:t>Нам холодная зима </a:t>
            </a:r>
            <a:br>
              <a:rPr sz="4800"/>
            </a:br>
            <a:r>
              <a:rPr b="0" lang="ru-RU" sz="4800" spc="-1" strike="noStrike">
                <a:solidFill>
                  <a:srgbClr val="0033cc"/>
                </a:solidFill>
                <a:latin typeface="Arial"/>
              </a:rPr>
              <a:t>Надоскучила, </a:t>
            </a:r>
            <a:br>
              <a:rPr sz="4800"/>
            </a:br>
            <a:r>
              <a:rPr b="0" lang="ru-RU" sz="4800" spc="-1" strike="noStrike">
                <a:solidFill>
                  <a:srgbClr val="0033cc"/>
                </a:solidFill>
                <a:latin typeface="Arial"/>
              </a:rPr>
              <a:t>Руки, ноги отморозила.</a:t>
            </a:r>
            <a:r>
              <a:rPr b="0" lang="ru-RU" sz="4800" spc="-1" strike="noStrike">
                <a:solidFill>
                  <a:srgbClr val="0033cc"/>
                </a:solidFill>
                <a:latin typeface="Gill Sans MT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Дай, Весна,</a:t>
            </a:r>
            <a:br>
              <a:rPr sz="4400"/>
            </a:b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Добры годы.</a:t>
            </a:r>
            <a:br>
              <a:rPr sz="4400"/>
            </a:b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Годы добрые,</a:t>
            </a:r>
            <a:br>
              <a:rPr sz="4400"/>
            </a:b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Хлеборобные.</a:t>
            </a:r>
            <a:br>
              <a:rPr sz="4400"/>
            </a:b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Приходи к нам, Весна,</a:t>
            </a:r>
            <a:br>
              <a:rPr sz="4400"/>
            </a:b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Со радостью</a:t>
            </a:r>
            <a:br>
              <a:rPr sz="4400"/>
            </a:b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Со великою к нам!</a:t>
            </a:r>
            <a:r>
              <a:rPr b="0" lang="ru-RU" sz="4400" spc="-1" strike="noStrike">
                <a:solidFill>
                  <a:srgbClr val="0033cc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708120"/>
            <a:ext cx="906948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mbria"/>
              </a:rPr>
              <a:t>Молодцы! </a:t>
            </a: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c00000"/>
                </a:solidFill>
                <a:latin typeface="Cambria"/>
              </a:rPr>
              <a:t>Спасибо за урок!</a:t>
            </a:r>
            <a:endParaRPr b="0" lang="en-US" sz="6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00" name="Picture 2" descr="D:\Детские  картинки и анимашки\Картинки\Картинки-анимация\001.gif"/>
          <p:cNvPicPr/>
          <p:nvPr/>
        </p:nvPicPr>
        <p:blipFill>
          <a:blip r:embed="rId2"/>
          <a:stretch/>
        </p:blipFill>
        <p:spPr>
          <a:xfrm>
            <a:off x="4897440" y="2851200"/>
            <a:ext cx="4857840" cy="3357360"/>
          </a:xfrm>
          <a:prstGeom prst="rect">
            <a:avLst/>
          </a:prstGeom>
          <a:ln w="0">
            <a:noFill/>
          </a:ln>
        </p:spPr>
      </p:pic>
      <p:pic>
        <p:nvPicPr>
          <p:cNvPr id="101" name="j0214098.wav" descr=""/>
          <p:cNvPicPr/>
          <p:nvPr/>
        </p:nvPicPr>
        <p:blipFill>
          <a:blip r:embed="rId3"/>
          <a:stretch/>
        </p:blipFill>
        <p:spPr>
          <a:xfrm>
            <a:off x="9540720" y="5637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4745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Bookman Old Style"/>
              </a:rPr>
              <a:t>Жужжащее чтение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6000" y="1258920"/>
            <a:ext cx="3095640" cy="3619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240000" y="2843280"/>
            <a:ext cx="3332160" cy="3619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192720" y="1332000"/>
            <a:ext cx="3619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Bookman Old Style"/>
              </a:rPr>
              <a:t>Дыхательная гимнастика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339933"/>
                </a:solidFill>
                <a:latin typeface="Arial"/>
              </a:rPr>
              <a:t>Ло-ло-ло – на улице тепло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339933"/>
                </a:solidFill>
                <a:latin typeface="Arial"/>
              </a:rPr>
              <a:t>Ать-ать-ать- мы пойдем гулять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339933"/>
                </a:solidFill>
                <a:latin typeface="Arial"/>
              </a:rPr>
              <a:t>Ащ-ащ-ащ-мы наденем плащ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339933"/>
                </a:solidFill>
                <a:latin typeface="Arial"/>
              </a:rPr>
              <a:t>Су-су-су-было холодно в лесу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Bookman Old Style"/>
              </a:rPr>
              <a:t>Дыхательная гимнастика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Мам, мёду бы нам,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Мама, молока бы нам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440000" y="3635280"/>
            <a:ext cx="3936960" cy="3303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688000" y="4140360"/>
            <a:ext cx="244800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33cc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9600" spc="-1" strike="noStrike">
                <a:solidFill>
                  <a:srgbClr val="0033cc"/>
                </a:solidFill>
                <a:latin typeface="Gill Sans MT"/>
              </a:rPr>
              <a:t>Загадки</a:t>
            </a:r>
            <a:endParaRPr b="0" lang="en-US" sz="9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339933"/>
                </a:solidFill>
                <a:latin typeface="Bookman Old Style"/>
              </a:rPr>
              <a:t>Загадка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У извилистой дорожки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Растет солнышко на ножке.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Как дозреет солнышко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Будет горстка зернышек.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672000" y="1619280"/>
            <a:ext cx="24667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Bookman Old Style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Заклички</a:t>
            </a:r>
            <a:endParaRPr b="0" lang="en-US" sz="9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6:43:45Z</dcterms:created>
  <dc:creator>1</dc:creator>
  <dc:description/>
  <dc:language>en-US</dc:language>
  <cp:lastModifiedBy>Кадыровы</cp:lastModifiedBy>
  <dcterms:modified xsi:type="dcterms:W3CDTF">2017-02-18T11:51:09Z</dcterms:modified>
  <cp:revision>33</cp:revision>
  <dc:subject/>
  <dc:title>весна</dc:title>
</cp:coreProperties>
</file>