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27B7B-C773-4C82-881E-8A3F158068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DE31B-E4C3-4738-A635-2B818882D4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537-5A13-4BA3-89AD-4AB797FC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495-55BB-4AB8-A52E-FC6022C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764-3A7A-4A4A-BC3C-E9292A8B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915-5759-474F-8FF8-9696FB1F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D6C-C2DB-48BE-9357-1A97AA2F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30F-5922-4EC4-A998-B67442D7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568-EE75-4791-BF4C-0139348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3FC-3513-49FB-8F0B-2FCD0F4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83E-3604-4ABE-B587-79779D4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19B-BC05-46FC-AF60-DD7D4DA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D2F-25FC-4870-A4C3-EE942D0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94B-C579-4360-B702-52BE132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72176A-53ED-4E64-9178-9344F90E56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2266560"/>
            <a:ext cx="90709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Урок литературного чтения</a:t>
            </a:r>
            <a:br>
              <a:rPr sz="5400"/>
            </a:br>
            <a:r>
              <a:rPr b="1" i="1" lang="ru-RU" sz="5400" spc="-1" strike="noStrike">
                <a:solidFill>
                  <a:srgbClr val="339933"/>
                </a:solidFill>
                <a:latin typeface="Arial"/>
              </a:rPr>
              <a:t>в 1 классе</a:t>
            </a:r>
            <a:r>
              <a:rPr b="1" i="1" lang="ru-RU" sz="5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339933"/>
                </a:solidFill>
                <a:latin typeface="Arial"/>
              </a:rPr>
              <a:t>Узнать, что такое…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заклички.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339933"/>
                </a:solidFill>
                <a:latin typeface="Arial"/>
              </a:rPr>
              <a:t>Зачем нужны…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заклички.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Когда дождик льёт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долго-долго 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и становится вредным для посевов, к кому люди обращаются?</a:t>
            </a:r>
            <a:r>
              <a:rPr b="0" lang="ru-RU" sz="54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6360" y="466560"/>
            <a:ext cx="90691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92360" y="539640"/>
            <a:ext cx="496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А сейчас представьте, что наступила засуха и дождей очень давно не было. Кого на этот раз будут уговаривать и упрашивать люди?</a:t>
            </a:r>
            <a:r>
              <a:rPr b="0" lang="ru-RU" sz="44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55640" y="395280"/>
            <a:ext cx="7143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Прочитайте закличку, которая осталась и подумайте, когда так просят божью коров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32000" y="324000"/>
            <a:ext cx="581040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Придумайте закличку для весны –красны!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Зимушка-зима, 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Отступи, отступи.</a:t>
            </a:r>
            <a:br>
              <a:rPr sz="6000"/>
            </a:b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Весна-красна,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33cc"/>
                </a:solidFill>
                <a:latin typeface="Arial"/>
              </a:rPr>
              <a:t>Приходи, наступи.</a:t>
            </a:r>
            <a:r>
              <a:rPr b="0" lang="ru-RU" sz="60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755280"/>
            <a:ext cx="906948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дравствуй, солнце!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дравствуй, день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Подарите друг другу улыб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сли вы научитесь улыбаться красоте, добру, то ваша улыбка всегда будет возвращаться к вам радостью.</a:t>
            </a:r>
            <a:r>
              <a:rPr b="0" lang="ru-RU" sz="40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ходи от нас,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Зима холодная!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Нам холодная зима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Надоскучила, </a:t>
            </a:r>
            <a:br>
              <a:rPr sz="4800"/>
            </a:b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Руки, ноги отморозила.</a:t>
            </a:r>
            <a:r>
              <a:rPr b="0" lang="ru-RU" sz="48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Дай, Весна,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Добры годы.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Годы добрые,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Хлеборобные.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Приходи к нам, Весна,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о радостью</a:t>
            </a:r>
            <a:br>
              <a:rPr sz="4400"/>
            </a:b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о великою к нам!</a:t>
            </a:r>
            <a:r>
              <a:rPr b="0" lang="ru-RU" sz="4400" spc="-1" strike="noStrike">
                <a:solidFill>
                  <a:srgbClr val="0033cc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708120"/>
            <a:ext cx="9069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Молодцы! 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0" name="Picture 2" descr="D:\Детские  картинки и анимашки\Картинки\Картинки-анимация\001.gif"/>
          <p:cNvPicPr/>
          <p:nvPr/>
        </p:nvPicPr>
        <p:blipFill>
          <a:blip r:embed="rId2"/>
          <a:stretch/>
        </p:blipFill>
        <p:spPr>
          <a:xfrm>
            <a:off x="4897440" y="285120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101" name="j0214098.wav" descr=""/>
          <p:cNvPicPr/>
          <p:nvPr/>
        </p:nvPicPr>
        <p:blipFill>
          <a:blip r:embed="rId3"/>
          <a:stretch/>
        </p:blipFill>
        <p:spPr>
          <a:xfrm>
            <a:off x="9540720" y="563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7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Жужжащее чтение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6000" y="1258920"/>
            <a:ext cx="3095640" cy="361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40000" y="2843280"/>
            <a:ext cx="3332160" cy="361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192720" y="133200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Дыхательная гимнасти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Ло-ло-ло – на улице тепло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Ать-ать-ать- мы пойдем гулять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Ащ-ащ-ащ-мы наденем плащ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Су-су-су-было холодно в лесу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Дыхательная гимнасти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м, мёду бы нам,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339933"/>
                </a:solidFill>
                <a:latin typeface="Arial"/>
              </a:rPr>
              <a:t>Мама, молока бы нам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40000" y="3635280"/>
            <a:ext cx="3936960" cy="330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88000" y="4140360"/>
            <a:ext cx="2448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33cc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0033cc"/>
                </a:solidFill>
                <a:latin typeface="Gill Sans MT"/>
              </a:rPr>
              <a:t>Загадки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Bookman Old Style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 извилистой дорожки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Растет солнышко на ножке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Как дозреет солнышко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Будет горстка зернышек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672000" y="1619280"/>
            <a:ext cx="2466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ookman Old Style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Заклички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>1</dc:creator>
  <dc:description/>
  <dc:language>en-US</dc:language>
  <cp:lastModifiedBy>Кадыровы</cp:lastModifiedBy>
  <dcterms:modified xsi:type="dcterms:W3CDTF">2017-02-18T11:51:09Z</dcterms:modified>
  <cp:revision>33</cp:revision>
  <dc:subject/>
  <dc:title>весна</dc:title>
</cp:coreProperties>
</file>