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BEE-A90F-4279-A059-6FA64A76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168-5BDF-470E-94A8-0006E16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1B4-870C-429E-B709-2C9C7655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6E4-ABA5-47D0-AB83-72EA928B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44B3-4679-4204-AAC5-CA3AA626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96A3-904B-4185-8908-5AD5C48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90DA-0C19-4D46-9F90-02FE48D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8B03-A028-42A2-9C29-5EB82CF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AC1D-F917-4071-830C-2ADB5AAF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F45-7543-42CE-AA98-4FE4662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5AF-6596-4971-95B2-4E5A595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ED6-0991-4A41-A833-D82ECEC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D6E4-5A1C-49ED-B5A8-11C13F9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086-27BD-472C-B01F-0B6928D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B02-4DC7-4832-96E4-788A6C8C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3076-3230-4A80-8996-B7669391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126-BB0C-40A2-A31D-B412F6AF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09C3-99ED-4F9E-87D5-338C39DA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32B4-D8CC-49AA-A076-754D7D0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D863-174C-48D2-9F89-AC30EC1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8FD6-AC93-4956-BF0A-36178A2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F667-C7BF-462A-8D86-24CD5BAF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361-690C-4AC9-935F-633C58B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800E-2EC8-44A4-84F6-A705E4F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4000-9CFF-4E0E-B213-4E48A45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3FF7-C1EE-487A-A0C7-F65AF38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FC9C-042B-4CB8-936C-5935484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4DCB-E456-4A57-89DD-2A1BE7AB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8081-0387-48B1-A711-CBFC349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1A00-86A8-470D-A873-2BFCA2CC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26E7-C8D9-4980-A845-6D9DEFA6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8CC0-0F2A-4622-81CC-EB5C3663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D249-2418-44C1-9D13-10568E06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F35-25F3-48AD-A388-3807ECA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7739-2498-413A-916F-9035685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7D78-D3C8-4771-8489-106984A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27EE-497F-4671-BA6E-10E7BD9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783C-5CF9-49DB-87B5-9292D889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BF50-727E-47EA-A629-CE1B5D4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7E42-D7B2-494C-8CFD-B356CFE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5CF4-4A00-4C4D-8407-EF971C2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0DB6-6716-47F0-92D3-B103D393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D041-1A27-435C-9875-C5FB9FF0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0B5E-F85B-496B-989B-00E11928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993-1ECC-465C-835C-3A17D5E4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5753-5CD6-49DF-A7ED-47C12CD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D1FA-99FB-4777-BDAA-B73ED55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5181-14DB-4428-959B-4730FC54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078D-0191-4716-9B28-5CDBB27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1D48-7050-4A10-B65D-774A112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5952-E167-47C0-9897-8C5B89A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9584-F7F3-4876-8A39-3F28B15E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77CE-D138-4C7B-AF75-5A563D6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659C-1382-4BB2-8EA8-BBF47C7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70AB0-C67F-4BBA-87BB-4BAACF1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D74-29FA-47DF-A646-B916F40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32A7-A358-4F3E-96BC-B1A19069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B8499-9AF4-444C-9873-CFE49C28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B20A-B039-4E07-BF03-12CDCE28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CDC73-CBE2-49FC-BBF6-0D59E33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669D-F088-47C4-ADA6-270B9D4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6F9E0-48CD-4285-A66D-10359412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4D4B-29E7-4B9F-B8A5-DC58D2A8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FFA8-BE15-4385-B4EC-2E0B869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3A7A-0228-4DCD-AE8A-F480191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348F-182D-4D43-83B8-9E6ECD34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F69-D074-4E85-9EEA-BAE4DA9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5C0E-2BED-4B36-8123-A90B7F2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FF2C-2861-4022-8596-007B64C4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3D881-59D9-4CC3-9904-460DF7D1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0DD1-95D4-4C33-8303-10BC8E9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02000-2018-453C-8F60-0D8E5C70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11713-DFDC-465A-8F15-71998C2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C113-CFC6-4D72-B60D-21F3D4EB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C8FDA-3B79-4646-BA79-49D09EA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C0563-E810-4F44-A529-0E9AD4C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46BA2-D6DE-4ADC-BCCA-9B44C8B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D23-061A-47A3-A397-C246208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7D51-9F51-4103-A9D9-EC28176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C8E0-49C0-451B-96B8-05582A7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DF604-8A53-420D-A25F-AE7DE9A7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A954-8C94-4578-BE3D-B845F84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F7AE-3FCC-4B57-925E-F957DFF8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34115-15E7-452C-AF95-22DD7CE9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F0E1-1626-4E84-8D0D-6DF5AAB3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FED09-1CE5-436A-A763-2791BA1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13E02-2D1C-402F-AB6F-47EF078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4E26-66B3-42D9-9151-810BA8D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274-5F66-4ADB-9F6B-A456713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AB035-2B8B-461D-A9B5-F40C4D6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78152-C26F-4B13-BD58-B455277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BC97-CE19-475F-8546-C0ACE32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A178-AFD7-4CE6-B81D-AC1F297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062E-FB14-45A8-AF04-5107C62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E846B-9233-4910-A1F2-996D036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A85F-37DA-4320-97B3-D823F7F5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7D5E-B43E-4114-99D9-DED26A898B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D7D-8008-469E-B524-A7B0AC15249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BCE-4F2C-41A4-B47B-FE32FE755E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53E-99ED-47C0-A6B9-7625CE4D3E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2EA-7DFC-436B-A62D-6EE093364E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A54-97F6-4FC1-849C-58C88D6C66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939-A6F5-42DA-9EE9-6083482B038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287-3BB1-41A6-96FC-3766F5A1530C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82560" y="1494000"/>
            <a:ext cx="8163000" cy="2114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38836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4" descr="IMG_8930.jpg"/>
          <p:cNvPicPr/>
          <p:nvPr/>
        </p:nvPicPr>
        <p:blipFill>
          <a:blip r:embed="rId2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50" name="Содержимое 5" descr="IMG_8931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4" descr="IMG_8937.jpg"/>
          <p:cNvPicPr/>
          <p:nvPr/>
        </p:nvPicPr>
        <p:blipFill>
          <a:blip r:embed="rId2"/>
          <a:stretch/>
        </p:blipFill>
        <p:spPr>
          <a:xfrm>
            <a:off x="428760" y="1857240"/>
            <a:ext cx="4038480" cy="4429440"/>
          </a:xfrm>
          <a:prstGeom prst="rect">
            <a:avLst/>
          </a:prstGeom>
          <a:ln w="0">
            <a:noFill/>
          </a:ln>
        </p:spPr>
      </p:pic>
      <p:pic>
        <p:nvPicPr>
          <p:cNvPr id="353" name="Содержимое 5" descr="IMG_8936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55" name="Содержимое 4" descr="IMG_8938.jpg"/>
          <p:cNvPicPr/>
          <p:nvPr/>
        </p:nvPicPr>
        <p:blipFill>
          <a:blip r:embed="rId2"/>
          <a:stretch/>
        </p:blipFill>
        <p:spPr>
          <a:xfrm>
            <a:off x="457200" y="2471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5" descr="IMG_8939.jpg"/>
          <p:cNvPicPr/>
          <p:nvPr/>
        </p:nvPicPr>
        <p:blipFill>
          <a:blip r:embed="rId3"/>
          <a:stretch/>
        </p:blipFill>
        <p:spPr>
          <a:xfrm>
            <a:off x="4648320" y="24717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3" descr="IMG_8940.jpg"/>
          <p:cNvPicPr/>
          <p:nvPr/>
        </p:nvPicPr>
        <p:blipFill>
          <a:blip r:embed="rId2"/>
          <a:stretch/>
        </p:blipFill>
        <p:spPr>
          <a:xfrm>
            <a:off x="2286000" y="1714680"/>
            <a:ext cx="45259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7:52:43Z</dcterms:created>
  <dc:creator>Наталья</dc:creator>
  <dc:description/>
  <dc:language>en-US</dc:language>
  <cp:lastModifiedBy>Наталья</cp:lastModifiedBy>
  <dcterms:modified xsi:type="dcterms:W3CDTF">2013-12-19T18:23:16Z</dcterms:modified>
  <cp:revision>1</cp:revision>
  <dc:subject/>
  <dc:title>Знакомство с олимпиадой 2014 года. </dc:title>
</cp:coreProperties>
</file>