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1.jpeg" ContentType="image/jpeg"/>
  <Override PartName="/ppt/media/image13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9DA9-530D-4556-B575-DC9F9AEC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9D66-9A13-4AD1-88E0-AFB6F784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467A-9D9F-4E9B-AD41-6C0617235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A925-89CD-485A-A65A-FE6557FD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987C-92A4-4F23-AEEB-360A13C85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7486-127E-4F93-AEA4-8A91028A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A13C-1B4C-4ED5-B49C-3CE43A21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31D3-0755-4812-BEA7-F54FC04D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EDF3-773A-46B9-91A1-F4694F8F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E5E2-43A5-4474-83A2-B1197CB5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11E6-EC8D-4A64-8249-B4A29DC6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2F1A-995C-476C-85EF-5DDDDBC9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2557-B0EE-4E91-9A16-5D5DE552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4EBA-A404-47E7-81CE-02169F16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7E8A-CB8B-49A2-ADE9-F5840213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C04E-F74D-4149-8C54-15CE7D81C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A39E-79F2-487B-B791-36DB12A0E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9E5E2-C31A-4E9C-9047-6D1A8DC7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43E9E-CF4D-4F8A-842B-C99286B2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4A1F5-7CEC-4CEA-8F0C-BA654E89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3010E-8E9B-42F7-A23F-B10A2FAF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7C9B5-6AC8-4716-B4B7-2AD39F95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6F6E-1FCD-4D03-ADEE-A76F9809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39053-69E7-481B-9CEF-8AEFFB9A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07607-E302-4C74-A08D-B969E862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12B85-F2B8-4B08-AE8F-E479B7AE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2AEC3-34B7-4E71-928A-24561C98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95C70-8380-477B-A1AC-E11D7611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0CDCE-0956-4618-9ED2-9AA274356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236FC-2705-4DAE-B5D2-CEDE7E9AB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5FEF2-99B9-4D80-8365-5076808D8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5D34E-38E2-46AF-9052-A9589FED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4E085-CFC2-4B7E-A789-DF46CD4E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33AE-73FC-42CB-B9C5-145BD6EA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626B8-387A-4A03-9A5D-3FEE8B01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0589B-435D-45BA-978D-BA4101B0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933E5-9CDF-4FCC-A7BF-019E14AC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E8BA2-40BB-4DCB-802D-CDA056E5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9FD71-308F-4791-ABF8-6EA4958C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21D10-9AD1-451D-BBA9-D3661BF2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FE5F0-425F-43E2-88A4-25CD8F4E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80337-4AB4-41E8-9063-6F9352CB2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980E5-0B42-477E-B11F-FDDB0638C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50B54-AA4D-4B72-9C26-7386155C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8CE7-0ED2-4A46-A22A-BD404D90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11B38-2EE1-43D1-AB63-F4DE9AE7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90C80-A981-43F3-8BFB-5403F70A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8F4AE-F54E-4029-B3CC-C44CED57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CD3A6-E358-461C-B922-586BAA1B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CBE35-2659-40F5-AD36-DEFE80F9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62960-09E9-4CFC-AE60-2746E489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D1EBF-55D4-488B-B48C-357044CD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6D80D-B50D-4036-AF07-FEC32736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BEE01-2ED8-4841-97B2-C4EC4838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C7D4B-5C8D-465A-A8F3-1CD456E2D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0665-B135-4266-8488-386B65B9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CC66A-8B4A-457A-BCB9-0CDDC78FE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E796F-71E0-4EA7-917B-3E64CF259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722C8-1FA3-4B45-972B-B0E63516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8E40E-1F57-49F0-9C46-9B7FA5B5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031DA-7325-4C8C-B33C-516301D7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2AF98-3F88-414D-9137-F3EB6ED8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5C97C-9AF2-4E17-8BA4-66F46D1B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E7668-9D00-4A71-B719-8CAE1D73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57764-2DF5-4436-8186-689DD78C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2A426-44CE-43E0-B380-8D537002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E2C9-8C26-495F-A03E-112C83AA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B7019-0FE0-4D07-A8EE-BDF69E90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C09F1-A611-4F95-A217-342EB3E0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10CF7-2DF8-44BA-9650-25115EDA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52561-EEC1-4637-A04F-1C8F80CDD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BE03F-F43E-45BE-89E3-10975481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8E33F-22E2-4408-9A03-EAD9FAA9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D4EAE-3D00-44B0-853D-B4135441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2CFF2-2958-449D-A618-331FAF34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0692F-1556-4A0C-B6CA-5FAE6302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A69E7-FCF9-4A39-B35D-5FED12B3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AF08-8986-49BE-892B-8C860C16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01DCC-579F-46D2-B6BE-E4F411DC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07A22-D515-4582-A216-0B5210AE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B8B2E-7A26-41B1-B356-B8D7978F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13F23-8134-44EC-BEBA-121763291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26A5E-E54F-49B9-885B-6CD25DC40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EC416-04EF-4EC9-896A-8A7D84B5E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C0639-1B36-41E5-B06E-80AC03FB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8361C-7C9A-4612-95D0-05B51730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5537A-18D3-4CCF-A9A8-2E9696C9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AF476-3888-42F0-96A8-0F7A7B49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8F24-22A0-467F-B86A-F3642B9A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EDBC4-BE26-4EDC-9FD1-A770F595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99B5D-3757-4EC1-AF33-14FB7D8A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7AD26-64F3-485A-8647-A26FF56D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D7CDB-2E00-4085-9CF9-01304AF9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D22D0-322F-4F92-BBBC-BBBC9C19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DC879-ED50-4707-BDD8-ACD5B5CC3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25DED-F307-4352-AC17-2AA612499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EEA8-026B-425F-B116-680809D14C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5f6e4d"/>
              </a:gs>
              <a:gs pos="100000">
                <a:srgbClr val="c6d9b2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8B3E-5123-438E-8D70-8F409B30DE08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F21D-A99B-4985-8DD4-F8B4B12F74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5f6e4d"/>
              </a:gs>
              <a:gs pos="100000">
                <a:srgbClr val="c6d9b2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412A-F858-426B-9725-D97E9F24854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98F1-9BEF-4C82-8D62-6852344496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659F-4AA8-44F7-A485-E989336722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3E96-CE91-40CD-98DE-CDC4749556B6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D394-29F7-4F00-8434-D0F14DE7E7EA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682560" y="1494000"/>
            <a:ext cx="8163000" cy="211428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388360" cy="1809720"/>
          </a:xfrm>
          <a:prstGeom prst="rect">
            <a:avLst/>
          </a:prstGeom>
          <a:ln w="0">
            <a:noFill/>
          </a:ln>
        </p:spPr>
      </p:pic>
      <p:pic>
        <p:nvPicPr>
          <p:cNvPr id="349" name="Содержимое 4" descr="IMG_8930.jpg"/>
          <p:cNvPicPr/>
          <p:nvPr/>
        </p:nvPicPr>
        <p:blipFill>
          <a:blip r:embed="rId2"/>
          <a:stretch/>
        </p:blipFill>
        <p:spPr>
          <a:xfrm>
            <a:off x="457200" y="24717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350" name="Содержимое 5" descr="IMG_8931.jpg"/>
          <p:cNvPicPr/>
          <p:nvPr/>
        </p:nvPicPr>
        <p:blipFill>
          <a:blip r:embed="rId3"/>
          <a:stretch/>
        </p:blipFill>
        <p:spPr>
          <a:xfrm>
            <a:off x="4648320" y="24717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8160" cy="1547640"/>
          </a:xfrm>
          <a:prstGeom prst="rect">
            <a:avLst/>
          </a:prstGeom>
          <a:ln w="0">
            <a:noFill/>
          </a:ln>
        </p:spPr>
      </p:pic>
      <p:pic>
        <p:nvPicPr>
          <p:cNvPr id="352" name="Содержимое 4" descr="IMG_8937.jpg"/>
          <p:cNvPicPr/>
          <p:nvPr/>
        </p:nvPicPr>
        <p:blipFill>
          <a:blip r:embed="rId2"/>
          <a:stretch/>
        </p:blipFill>
        <p:spPr>
          <a:xfrm>
            <a:off x="428760" y="1857240"/>
            <a:ext cx="4038480" cy="4429440"/>
          </a:xfrm>
          <a:prstGeom prst="rect">
            <a:avLst/>
          </a:prstGeom>
          <a:ln w="0">
            <a:noFill/>
          </a:ln>
        </p:spPr>
      </p:pic>
      <p:pic>
        <p:nvPicPr>
          <p:cNvPr id="353" name="Содержимое 5" descr="IMG_8936.jpg"/>
          <p:cNvPicPr/>
          <p:nvPr/>
        </p:nvPicPr>
        <p:blipFill>
          <a:blip r:embed="rId3"/>
          <a:stretch/>
        </p:blipFill>
        <p:spPr>
          <a:xfrm>
            <a:off x="4648320" y="24717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Заголовок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pic>
        <p:nvPicPr>
          <p:cNvPr id="355" name="Содержимое 4" descr="IMG_8938.jpg"/>
          <p:cNvPicPr/>
          <p:nvPr/>
        </p:nvPicPr>
        <p:blipFill>
          <a:blip r:embed="rId2"/>
          <a:stretch/>
        </p:blipFill>
        <p:spPr>
          <a:xfrm>
            <a:off x="457200" y="24717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356" name="Содержимое 5" descr="IMG_8939.jpg"/>
          <p:cNvPicPr/>
          <p:nvPr/>
        </p:nvPicPr>
        <p:blipFill>
          <a:blip r:embed="rId3"/>
          <a:stretch/>
        </p:blipFill>
        <p:spPr>
          <a:xfrm>
            <a:off x="4648320" y="24717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58" name="Содержимое 3" descr="IMG_8940.jpg"/>
          <p:cNvPicPr/>
          <p:nvPr/>
        </p:nvPicPr>
        <p:blipFill>
          <a:blip r:embed="rId2"/>
          <a:stretch/>
        </p:blipFill>
        <p:spPr>
          <a:xfrm>
            <a:off x="2286000" y="1714680"/>
            <a:ext cx="45259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9T17:52:43Z</dcterms:created>
  <dc:creator>Наталья</dc:creator>
  <dc:description/>
  <dc:language>en-US</dc:language>
  <cp:lastModifiedBy>Наталья</cp:lastModifiedBy>
  <dcterms:modified xsi:type="dcterms:W3CDTF">2013-12-19T18:23:16Z</dcterms:modified>
  <cp:revision>1</cp:revision>
  <dc:subject/>
  <dc:title>Знакомство с олимпиадой 2014 года. </dc:title>
</cp:coreProperties>
</file>