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13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DB0-AFE6-4EDF-8A81-9AB553FA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4CF-AEEB-4C04-AB0E-0BBEE35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4D7-5E64-4E94-9BE1-8AE10B13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D7E-DF75-4CC7-BD49-6D0E5DF0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A91D-4C87-4E2C-8590-0D646059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DDC5-E8AA-4669-8213-587C6AA6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BAF-CDAE-44C0-8AEF-13CC7E6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68DE-185B-448D-B95B-7945CB9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6687-737F-498D-8352-05018E90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C203-E5FD-448B-A524-4DE5028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3A98-50BC-42FF-852D-B3B3613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AF5-89BE-4F08-86A9-FE26D6C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37A6-A440-4D52-91F4-E10C858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3D4E-636A-44D4-A548-16683F9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533-7681-461A-BFF7-9DF8CD87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2D4-AFEE-49D6-A0E3-5612768A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5240-9DE1-4318-B216-B6A0C7F3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9BBB3-2411-44DE-A627-FB8EB160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0761D-C8D6-46A4-9D6E-5BF0395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0F58C-8ED3-4D1A-A03A-73559FA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CBAB6-9CB2-4A58-AE55-1BF3E8A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49A0C-6398-4861-99F9-954B1EE3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CD4-9AD3-462D-8207-C497C8E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ED9E4-7011-4EFD-B1ED-DACB5D4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78724-2041-4355-8B46-5A01C85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6F41A-D48D-444A-AEC8-32F176E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B58C8-150B-40FA-9E13-AEF1A28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D54F6-3142-42BE-B29B-1484A456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4ABBF-E641-486E-8D47-E3F3C529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2E40C-EA7D-4025-BAF0-CC296AA2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AF3-44B4-4374-B44C-B5597E08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233-C96F-4E61-AB2C-4BF93B54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5CB-6513-483F-BD64-55FD2CF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91E-0308-4A70-9732-FBC9BC8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6EA-DC15-42D5-BDCE-4BEC1A1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E13-48AA-4483-8CD1-BDA773E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FE29-78AD-4C08-80E3-08134DFB67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D7A-2850-433E-9A2B-662D78AA98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B18-5737-489C-A84E-75CC6F83CB3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ashti.net/mceinc/goldsqre.htm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img-2007-01.photosight.ru/10/186100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hdwallpapers4you.com/wallpaper/the_pentagon_us_department_of_defense_building_hurrrrrrrrr_rabs_in_high_resolution_desktop_2734x1726_wallpaper-385259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22860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2590920" y="26668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Золотое се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5" descr="gold2"/>
          <p:cNvPicPr/>
          <p:nvPr/>
        </p:nvPicPr>
        <p:blipFill>
          <a:blip r:embed="rId2"/>
          <a:stretch/>
        </p:blipFill>
        <p:spPr>
          <a:xfrm>
            <a:off x="5334120" y="5786280"/>
            <a:ext cx="2993760" cy="83844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4114800" y="482292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Руководитель проек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Орловская Н.Н ,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Выполнил   КАРТУЗОВ АНТО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2590920" y="6440400"/>
            <a:ext cx="358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AutoShape 2"/>
          <p:cNvGrpSpPr/>
          <p:nvPr/>
        </p:nvGrpSpPr>
        <p:grpSpPr>
          <a:xfrm>
            <a:off x="5334120" y="0"/>
            <a:ext cx="1828800" cy="1981080"/>
            <a:chOff x="5334120" y="0"/>
            <a:chExt cx="1828800" cy="1981080"/>
          </a:xfrm>
        </p:grpSpPr>
        <p:pic>
          <p:nvPicPr>
            <p:cNvPr id="270" name="AutoShape 2" descr=""/>
            <p:cNvPicPr/>
            <p:nvPr/>
          </p:nvPicPr>
          <p:blipFill>
            <a:blip r:embed="rId3"/>
            <a:stretch/>
          </p:blipFill>
          <p:spPr>
            <a:xfrm>
              <a:off x="5334120" y="0"/>
              <a:ext cx="1828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6"/>
            <p:cNvSpPr/>
            <p:nvPr/>
          </p:nvSpPr>
          <p:spPr>
            <a:xfrm>
              <a:off x="5811480" y="983520"/>
              <a:ext cx="80964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2" name="Picture 7" descr="moth"/>
          <p:cNvPicPr/>
          <p:nvPr/>
        </p:nvPicPr>
        <p:blipFill>
          <a:blip r:embed="rId4"/>
          <a:stretch/>
        </p:blipFill>
        <p:spPr>
          <a:xfrm>
            <a:off x="304920" y="4800600"/>
            <a:ext cx="3352680" cy="15746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2" descr=""/>
          <p:cNvPicPr/>
          <p:nvPr/>
        </p:nvPicPr>
        <p:blipFill>
          <a:blip r:embed="rId5"/>
          <a:stretch/>
        </p:blipFill>
        <p:spPr>
          <a:xfrm>
            <a:off x="7543800" y="3124080"/>
            <a:ext cx="1270080" cy="16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6" descr="http://www.trinitas.ru/rus/doc/0232/004a/pic/0037/0037-1002.jpg"/>
          <p:cNvPicPr/>
          <p:nvPr/>
        </p:nvPicPr>
        <p:blipFill>
          <a:blip r:embed="rId6"/>
          <a:stretch/>
        </p:blipFill>
        <p:spPr>
          <a:xfrm>
            <a:off x="3581280" y="14479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3" descr="http://s1.fotokto.ru/photo/full/72/720213.jpg"/>
          <p:cNvPicPr/>
          <p:nvPr/>
        </p:nvPicPr>
        <p:blipFill>
          <a:blip r:embed="rId7"/>
          <a:stretch/>
        </p:blipFill>
        <p:spPr>
          <a:xfrm>
            <a:off x="7162920" y="457200"/>
            <a:ext cx="16761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8"/>
          <p:cNvSpPr/>
          <p:nvPr/>
        </p:nvSpPr>
        <p:spPr>
          <a:xfrm>
            <a:off x="533520" y="3809880"/>
            <a:ext cx="8305560" cy="2775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ледовательно отрезая от золотого прямоугольника квадраты и вписывая в каждый по четверти окружности, получаем </a:t>
            </a:r>
            <a:r>
              <a:rPr b="1" lang="ru-RU" sz="2200" spc="-1" strike="noStrike">
                <a:solidFill>
                  <a:srgbClr val="c00000"/>
                </a:solidFill>
                <a:latin typeface="Tahoma"/>
              </a:rPr>
              <a:t>золотую логарифмическую спирал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Форма спирально завитой раковины привлекла внимание Архимеда. Он изучал ее и вывел уравнение спирали. Спираль, вычерченная по этому уравнению, называется </a:t>
            </a:r>
            <a:r>
              <a:rPr b="1" lang="ru-RU" sz="2200" spc="-1" strike="noStrike">
                <a:solidFill>
                  <a:srgbClr val="c00000"/>
                </a:solidFill>
                <a:latin typeface="Tahoma"/>
              </a:rPr>
              <a:t>спираль Архимеда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В настоящее время она широко применяется в техник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743200" y="4572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ая спираль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Рисунок 6" descr="Золотые прямоугольники и спира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7" descr="http://rudocs.exdat.com/data/180/179217/179217_html_m73ba21a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066680"/>
            <a:ext cx="320040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43800" y="3123720"/>
            <a:ext cx="1447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олотое сечение  роз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24280" y="-36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личины отростков и лепестков цикория подчинены правилу золотой пропорции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7" descr="цветок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122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C:\Users\Наталья Алексеевна\Contacts\Pictures\7034a2e64f607eafbbe99e39989f6abb.jpg"/>
          <p:cNvPicPr/>
          <p:nvPr/>
        </p:nvPicPr>
        <p:blipFill>
          <a:blip r:embed="rId2"/>
          <a:stretch/>
        </p:blipFill>
        <p:spPr>
          <a:xfrm>
            <a:off x="914400" y="2133720"/>
            <a:ext cx="2957400" cy="39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http://www.stevenlanier.com/uploads/4/1/3/7/4137870/377352192.jpg"/>
          <p:cNvPicPr/>
          <p:nvPr/>
        </p:nvPicPr>
        <p:blipFill>
          <a:blip r:embed="rId3"/>
          <a:stretch/>
        </p:blipFill>
        <p:spPr>
          <a:xfrm>
            <a:off x="4284720" y="2971800"/>
            <a:ext cx="29448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380880" y="228600"/>
            <a:ext cx="5410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ящерице с первого взгляда улавливаются приятные для нашего глаза пропорции - длина ее хвоста так относится к длине остального тела, как 62 к 38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4191120" cy="1690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6365880" y="3778200"/>
            <a:ext cx="1787400" cy="140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5867280" y="5181480"/>
            <a:ext cx="297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олотые пропорции в яйце птиц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11" descr="http://produkty24.com.ua/sites/default/files/imagecache/uc_product_middlesize/shokolad-kinder-syurpriz-maxi.jpg"/>
          <p:cNvPicPr/>
          <p:nvPr/>
        </p:nvPicPr>
        <p:blipFill>
          <a:blip r:embed="rId3"/>
          <a:stretch/>
        </p:blipFill>
        <p:spPr>
          <a:xfrm>
            <a:off x="5867280" y="533520"/>
            <a:ext cx="2976840" cy="2976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https://im1-tub-ru.yandex.net/i?id=286d99a9a8e96ff6a94699eb9d2ac394&amp;n=33&amp;h=190&amp;w=252"/>
          <p:cNvPicPr/>
          <p:nvPr/>
        </p:nvPicPr>
        <p:blipFill>
          <a:blip r:embed="rId4"/>
          <a:stretch/>
        </p:blipFill>
        <p:spPr>
          <a:xfrm>
            <a:off x="1295280" y="2286000"/>
            <a:ext cx="327672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Arial"/>
              </a:rPr>
              <a:t>Золотое сечение в природ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, что приобретало какую-то форму, образовывалось, росло, стремилось занять место в пространстве и сохранить себя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тремление находит осуществление в основном в двух вариантах – рост вверх или расстилание по поверхности земли и закручивание по спирал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Гете называл спираль "кривой жизни"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раль увидели в расположении семян подсолнечника, в шишках сосны, ананасах, кактусах и т.д. Паук плетет паутину спиралеобразно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Рисунок 7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3067200" cy="22957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2257560" cy="25290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2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995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cdnportal.inetproduce.ru/old/1367762652_spiral.jpg"/>
          <p:cNvPicPr/>
          <p:nvPr/>
        </p:nvPicPr>
        <p:blipFill>
          <a:blip r:embed="rId1"/>
          <a:stretch/>
        </p:blipFill>
        <p:spPr>
          <a:xfrm>
            <a:off x="1066680" y="322200"/>
            <a:ext cx="7086600" cy="629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нергия золотого с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5"/>
          <a:stretch/>
        </p:blipFill>
        <p:spPr>
          <a:xfrm>
            <a:off x="457200" y="9907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6"/>
          <a:stretch/>
        </p:blipFill>
        <p:spPr>
          <a:xfrm>
            <a:off x="4724280" y="914400"/>
            <a:ext cx="3886200" cy="2751120"/>
          </a:xfrm>
          <a:prstGeom prst="rect">
            <a:avLst/>
          </a:prstGeom>
          <a:ln w="0">
            <a:noFill/>
          </a:ln>
        </p:spPr>
      </p:pic>
      <p:pic>
        <p:nvPicPr>
          <p:cNvPr id="345" name="123787" descr="1.24 Спираль в&#13;&#10; космосе"/>
          <p:cNvPicPr/>
          <p:nvPr/>
        </p:nvPicPr>
        <p:blipFill>
          <a:blip r:embed="rId7"/>
          <a:stretch/>
        </p:blipFill>
        <p:spPr>
          <a:xfrm>
            <a:off x="380880" y="3938760"/>
            <a:ext cx="4496040" cy="239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Математическая эстетика </a:t>
            </a:r>
            <a:br>
              <a:rPr sz="3000"/>
            </a:b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Цейзин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600" y="13712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1855 г. немецкий исследователь золотого сечения профессор Цейзинг  пришел к выводу, что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пропорции золотого сечения проявляются в отношении частей тела человека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– длина плеча, предплечья и кисти, кисти и пальцев и т.д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7" descr="C:\Users\Наталья Алексеевна\Contacts\Pictures\14.jpg"/>
          <p:cNvPicPr/>
          <p:nvPr/>
        </p:nvPicPr>
        <p:blipFill>
          <a:blip r:embed="rId1"/>
          <a:stretch/>
        </p:blipFill>
        <p:spPr>
          <a:xfrm>
            <a:off x="5105520" y="1676520"/>
            <a:ext cx="3706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живописи и фотограф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05160" y="11426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На живописном полотне существуют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четыре точки повышенного внимания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Зрительные центры расположены на расстоянии 3/8 и 5/8 от краев любой картины и фотографи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7" descr="Золотое сечение кадра"/>
          <p:cNvPicPr/>
          <p:nvPr/>
        </p:nvPicPr>
        <p:blipFill>
          <a:blip r:embed="rId1"/>
          <a:stretch/>
        </p:blipFill>
        <p:spPr>
          <a:xfrm>
            <a:off x="5562720" y="4572000"/>
            <a:ext cx="2895480" cy="202392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4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8196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картине 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Леонардо да Винчи "Джоконда"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4956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ртрет Моны Лизы привлекает тем, что композиция рисунка построена на"золотых треугольниках" (точнее на треугольниках, являющихся кусками правильного звездчатого пятиугольника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10" descr=""/>
          <p:cNvPicPr/>
          <p:nvPr/>
        </p:nvPicPr>
        <p:blipFill>
          <a:blip r:embed="rId1"/>
          <a:stretch/>
        </p:blipFill>
        <p:spPr>
          <a:xfrm>
            <a:off x="685800" y="1216080"/>
            <a:ext cx="365760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81120" y="131760"/>
            <a:ext cx="3505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Рисунок 24" descr="http://chernov-trezin.narod.ru/ZS_1_0_2.files/image005.jpg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6" descr="http://chernov-trezin.narod.ru/ZS_1_0_2.files/image028.jpg"/>
          <p:cNvPicPr/>
          <p:nvPr/>
        </p:nvPicPr>
        <p:blipFill>
          <a:blip r:embed="rId2"/>
          <a:stretch/>
        </p:blipFill>
        <p:spPr>
          <a:xfrm>
            <a:off x="0" y="3200400"/>
            <a:ext cx="5851440" cy="36576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8" descr="http://chernov-trezin.narod.ru/ZS_1_0_2.files/image003.jpg"/>
          <p:cNvPicPr/>
          <p:nvPr/>
        </p:nvPicPr>
        <p:blipFill>
          <a:blip r:embed="rId3"/>
          <a:stretch/>
        </p:blipFill>
        <p:spPr>
          <a:xfrm>
            <a:off x="5943600" y="3048120"/>
            <a:ext cx="2819520" cy="36464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8" descr="http://www.trinitas.ru/rus/doc/0232/004a/pic/0037/0037-5001.jpg"/>
          <p:cNvPicPr/>
          <p:nvPr/>
        </p:nvPicPr>
        <p:blipFill>
          <a:blip r:embed="rId4"/>
          <a:stretch/>
        </p:blipFill>
        <p:spPr>
          <a:xfrm>
            <a:off x="152280" y="152280"/>
            <a:ext cx="4800600" cy="28958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cxnSp>
        <p:nvCxnSpPr>
          <p:cNvPr id="362" name="AutoShape 6"/>
          <p:cNvCxnSpPr/>
          <p:nvPr/>
        </p:nvCxnSpPr>
        <p:spPr>
          <a:xfrm>
            <a:off x="152280" y="1066320"/>
            <a:ext cx="4725000" cy="2520"/>
          </a:xfrm>
          <a:prstGeom prst="straightConnector1">
            <a:avLst/>
          </a:prstGeom>
          <a:ln w="9360">
            <a:solidFill>
              <a:srgbClr val="ffc000"/>
            </a:solidFill>
            <a:prstDash val="sysDash"/>
            <a:miter/>
          </a:ln>
        </p:spPr>
      </p:cxnSp>
      <p:cxnSp>
        <p:nvCxnSpPr>
          <p:cNvPr id="363" name="AutoShape 6"/>
          <p:cNvCxnSpPr/>
          <p:nvPr/>
        </p:nvCxnSpPr>
        <p:spPr>
          <a:xfrm flipH="1">
            <a:off x="1828440" y="152280"/>
            <a:ext cx="2160" cy="2743920"/>
          </a:xfrm>
          <a:prstGeom prst="straightConnector1">
            <a:avLst/>
          </a:prstGeom>
          <a:ln w="9360">
            <a:solidFill>
              <a:srgbClr val="ffc000"/>
            </a:solidFill>
            <a:prstDash val="sysDash"/>
            <a:miter/>
          </a:ln>
        </p:spPr>
      </p:cxnSp>
      <p:sp>
        <p:nvSpPr>
          <p:cNvPr id="364" name="Прямоугольник 9"/>
          <p:cNvSpPr/>
          <p:nvPr/>
        </p:nvSpPr>
        <p:spPr>
          <a:xfrm>
            <a:off x="335520" y="259092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Васильев «У ок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5715000" y="251460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«Суд Париса»  каме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Прямоугольник 11"/>
          <p:cNvSpPr/>
          <p:nvPr/>
        </p:nvSpPr>
        <p:spPr>
          <a:xfrm>
            <a:off x="595440" y="61722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Иванов «Явление Христа народу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6122520" y="63244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Поющий Один» 8 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6"/>
          <p:cNvSpPr/>
          <p:nvPr/>
        </p:nvSpPr>
        <p:spPr>
          <a:xfrm>
            <a:off x="380880" y="304920"/>
            <a:ext cx="8458200" cy="22269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инцип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олотого сечен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- высшее проявление структурного и функционального совершенства целого и его частей в искусстве, науке, технике и природ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5" descr="iHB4WA29C.jpg"/>
          <p:cNvPicPr/>
          <p:nvPr/>
        </p:nvPicPr>
        <p:blipFill>
          <a:blip r:embed="rId1"/>
          <a:stretch/>
        </p:blipFill>
        <p:spPr>
          <a:xfrm>
            <a:off x="4038480" y="3429000"/>
            <a:ext cx="4550040" cy="2940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://artpostergallery.ru/userdata/image/thumbs/dc/6b/dc6b8d84a5a3e5a88159d1fd022280a9_1.jpg"/>
          <p:cNvPicPr/>
          <p:nvPr/>
        </p:nvPicPr>
        <p:blipFill>
          <a:blip r:embed="rId2"/>
          <a:stretch/>
        </p:blipFill>
        <p:spPr>
          <a:xfrm>
            <a:off x="53352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5000" y="60948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оотношение мы можем увидеть и в здании Собора Парижской Богоматер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Нотр - Дам де Пар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Нотр Дам Де Пари.wmv" descr=""/>
          <p:cNvPicPr/>
          <p:nvPr/>
        </p:nvPicPr>
        <p:blipFill>
          <a:blip r:embed="rId1"/>
          <a:stretch/>
        </p:blipFill>
        <p:spPr>
          <a:xfrm>
            <a:off x="241200" y="685800"/>
            <a:ext cx="531036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5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в архитектуре России</a:t>
            </a:r>
            <a:r>
              <a:rPr b="0" lang="ru-RU" sz="3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1" descr="349n1"/>
          <p:cNvPicPr/>
          <p:nvPr/>
        </p:nvPicPr>
        <p:blipFill>
          <a:blip r:embed="rId1"/>
          <a:stretch/>
        </p:blipFill>
        <p:spPr>
          <a:xfrm>
            <a:off x="1176480" y="1322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4"/>
          <p:cNvSpPr/>
          <p:nvPr/>
        </p:nvSpPr>
        <p:spPr>
          <a:xfrm>
            <a:off x="3023640" y="631332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обор Христа Спасит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8" descr="Архитектурные пропорции"/>
          <p:cNvPicPr/>
          <p:nvPr/>
        </p:nvPicPr>
        <p:blipFill>
          <a:blip r:embed="rId1"/>
          <a:srcRect l="19882" t="0" r="20472" b="0"/>
          <a:stretch/>
        </p:blipFill>
        <p:spPr>
          <a:xfrm>
            <a:off x="4767120" y="3660840"/>
            <a:ext cx="1785960" cy="2651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0" descr="Архитектурные пропорции"/>
          <p:cNvPicPr/>
          <p:nvPr/>
        </p:nvPicPr>
        <p:blipFill>
          <a:blip r:embed="rId2"/>
          <a:srcRect l="10749" t="0" r="13657" b="0"/>
          <a:stretch/>
        </p:blipFill>
        <p:spPr>
          <a:xfrm>
            <a:off x="123840" y="3622680"/>
            <a:ext cx="2093760" cy="279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494080" y="3660840"/>
            <a:ext cx="1836720" cy="27446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6031080" y="6405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Собор на Нер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88560" y="64278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мольный соб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Прямоугольник 1"/>
          <p:cNvSpPr/>
          <p:nvPr/>
        </p:nvSpPr>
        <p:spPr>
          <a:xfrm>
            <a:off x="5983200" y="32162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обор Вознесения Господн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2057400" y="6405480"/>
            <a:ext cx="27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Проект Смольного собо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13" descr="http://im5-tub-ru.yandex.net/i?id=319638125-14-72&amp;n=21"/>
          <p:cNvPicPr/>
          <p:nvPr/>
        </p:nvPicPr>
        <p:blipFill>
          <a:blip r:embed="rId4"/>
          <a:stretch/>
        </p:blipFill>
        <p:spPr>
          <a:xfrm>
            <a:off x="6862680" y="4343400"/>
            <a:ext cx="2046240" cy="1905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476px-St_Basils_Cathedral-500px"/>
          <p:cNvPicPr/>
          <p:nvPr/>
        </p:nvPicPr>
        <p:blipFill>
          <a:blip r:embed="rId5"/>
          <a:stretch/>
        </p:blipFill>
        <p:spPr>
          <a:xfrm>
            <a:off x="46080" y="54000"/>
            <a:ext cx="2498760" cy="31352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11160" y="3189240"/>
            <a:ext cx="28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обор Василия Блаженног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14" descr="http://img-fotki.yandex.ru/get/5822/77302477.2c/0_7b4a2_cfc74aac_L"/>
          <p:cNvPicPr/>
          <p:nvPr/>
        </p:nvPicPr>
        <p:blipFill>
          <a:blip r:embed="rId6"/>
          <a:stretch/>
        </p:blipFill>
        <p:spPr>
          <a:xfrm>
            <a:off x="2732040" y="119160"/>
            <a:ext cx="2638440" cy="31255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2907000" y="324468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Храм Святителя Димитр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Picture 16" descr="http://img-fotki.yandex.ru/get/6112/77302477.31/0_85281_5773854c_L"/>
          <p:cNvPicPr/>
          <p:nvPr/>
        </p:nvPicPr>
        <p:blipFill>
          <a:blip r:embed="rId7"/>
          <a:stretch/>
        </p:blipFill>
        <p:spPr>
          <a:xfrm>
            <a:off x="5570640" y="119160"/>
            <a:ext cx="35384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лотые пропорции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несенского собо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Новочеркасска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Содержимое 5" descr="0_7b0f4_77e3c8b9_XXL[1].jpg"/>
          <p:cNvPicPr/>
          <p:nvPr/>
        </p:nvPicPr>
        <p:blipFill>
          <a:blip r:embed="rId1"/>
          <a:stretch/>
        </p:blipFill>
        <p:spPr>
          <a:xfrm>
            <a:off x="1295280" y="1552680"/>
            <a:ext cx="7351920" cy="5305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7"/>
          <p:cNvSpPr/>
          <p:nvPr/>
        </p:nvSpPr>
        <p:spPr>
          <a:xfrm>
            <a:off x="5715000" y="2514600"/>
            <a:ext cx="1981080" cy="3657600"/>
          </a:xfrm>
          <a:prstGeom prst="rect">
            <a:avLst/>
          </a:prstGeom>
          <a:noFill/>
          <a:ln w="3816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5638680" y="4876920"/>
            <a:ext cx="1828800" cy="0"/>
          </a:xfrm>
          <a:prstGeom prst="line">
            <a:avLst/>
          </a:prstGeom>
          <a:ln w="2844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Прямая соединительная линия 14"/>
          <p:cNvSpPr/>
          <p:nvPr/>
        </p:nvSpPr>
        <p:spPr>
          <a:xfrm>
            <a:off x="5791320" y="4876920"/>
            <a:ext cx="1981080" cy="0"/>
          </a:xfrm>
          <a:prstGeom prst="line">
            <a:avLst/>
          </a:prstGeom>
          <a:ln w="2844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Прямая соединительная линия 21"/>
          <p:cNvSpPr/>
          <p:nvPr/>
        </p:nvSpPr>
        <p:spPr>
          <a:xfrm flipV="1">
            <a:off x="6934320" y="4800600"/>
            <a:ext cx="1440" cy="1295280"/>
          </a:xfrm>
          <a:prstGeom prst="line">
            <a:avLst/>
          </a:prstGeom>
          <a:ln w="2556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867280" y="1981080"/>
            <a:ext cx="1067040" cy="2057400"/>
          </a:xfrm>
          <a:prstGeom prst="rect">
            <a:avLst/>
          </a:prstGeom>
          <a:noFill/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Прямоугольник 34"/>
          <p:cNvSpPr/>
          <p:nvPr/>
        </p:nvSpPr>
        <p:spPr>
          <a:xfrm>
            <a:off x="7162920" y="3200400"/>
            <a:ext cx="609480" cy="10666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Прямоугольник 35"/>
          <p:cNvSpPr/>
          <p:nvPr/>
        </p:nvSpPr>
        <p:spPr>
          <a:xfrm>
            <a:off x="6248520" y="1981080"/>
            <a:ext cx="304560" cy="5335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своей работе  я хотел продемонстрировать красоту и широту «Золотого сечения» в реальной жизни. Проведенные исследования доказали, что многое в окружающей природе  подчиняется правилу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золотого сечения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Цель проекта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5454c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зучение математических закономерностей , определение значения математики в мировой культуре, исскустве, науке и дополнение  знаний представлениями о «Золотом Сечении» как гармонии окружающего мира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1051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A : B = B : C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: B = B : 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нятие «Золотое сеч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олотое сечение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ление непрерывной величины на две части в таком отношении, при котором меньшая часть так относится к большей, как большая ко всей велич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Picture 5" descr="в мат0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146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3276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ОЛОТОЕ СЕЧЕНИЕ В ПРОЦЕНТА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19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 пропорция равн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Рисунок 5" descr="Золотое сечение: Рис.2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114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old2"/>
          <p:cNvPicPr/>
          <p:nvPr/>
        </p:nvPicPr>
        <p:blipFill>
          <a:blip r:embed="rId2"/>
          <a:stretch/>
        </p:blipFill>
        <p:spPr>
          <a:xfrm>
            <a:off x="1143000" y="3886200"/>
            <a:ext cx="701028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геометрии</a:t>
            </a:r>
            <a:br>
              <a:rPr sz="3500"/>
            </a:br>
            <a:br>
              <a:rPr sz="35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ение отрезка в золотом отношении</a:t>
            </a:r>
            <a:br>
              <a:rPr sz="36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C:\Documents and Settings\Администратор\Рабочий стол\деление отрезка.gif"/>
          <p:cNvPicPr/>
          <p:nvPr/>
        </p:nvPicPr>
        <p:blipFill>
          <a:blip r:embed="rId1"/>
          <a:stretch/>
        </p:blipFill>
        <p:spPr>
          <a:xfrm>
            <a:off x="5410080" y="2133720"/>
            <a:ext cx="3343320" cy="18288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90" name="Прямоугольник 8"/>
          <p:cNvSpPr/>
          <p:nvPr/>
        </p:nvSpPr>
        <p:spPr>
          <a:xfrm>
            <a:off x="609480" y="2362320"/>
            <a:ext cx="4114800" cy="14655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Дано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Построить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олотое сечение отрезка АВ, т.е. точку Е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Object 3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928800" cy="5540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1"/>
          <p:cNvSpPr/>
          <p:nvPr/>
        </p:nvSpPr>
        <p:spPr>
          <a:xfrm>
            <a:off x="685800" y="4038480"/>
            <a:ext cx="800100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тро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м прямоугольный треугольник, у которого один катет в два раза больше другого. Для этого восстановим в точке В перпендикуляр к прямой АВ и на нем отложим отрезок ВС=  ½ АВ  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ее, соединим точки А и С, отлож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наконе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Е является искомой, она производит золотое сечение отрезка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AutoShape 2"/>
          <p:cNvGrpSpPr/>
          <p:nvPr/>
        </p:nvGrpSpPr>
        <p:grpSpPr>
          <a:xfrm>
            <a:off x="738360" y="1494000"/>
            <a:ext cx="2985840" cy="4114800"/>
            <a:chOff x="738360" y="1494000"/>
            <a:chExt cx="2985840" cy="4114800"/>
          </a:xfrm>
        </p:grpSpPr>
        <p:pic>
          <p:nvPicPr>
            <p:cNvPr id="294" name="AutoShape 2" descr=""/>
            <p:cNvPicPr/>
            <p:nvPr/>
          </p:nvPicPr>
          <p:blipFill>
            <a:blip r:embed="rId1"/>
            <a:stretch/>
          </p:blipFill>
          <p:spPr>
            <a:xfrm>
              <a:off x="738360" y="1494000"/>
              <a:ext cx="2985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"/>
            <p:cNvSpPr/>
            <p:nvPr/>
          </p:nvSpPr>
          <p:spPr>
            <a:xfrm>
              <a:off x="1517760" y="3537000"/>
              <a:ext cx="132228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" name="TextBox 5"/>
          <p:cNvSpPr/>
          <p:nvPr/>
        </p:nvSpPr>
        <p:spPr>
          <a:xfrm>
            <a:off x="2000160" y="12859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7168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3429000" y="5429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3276720" y="1066680"/>
            <a:ext cx="53337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Золотым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зывается такой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равнобедренный треугольник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ание и боковая сторона которого находятся в золотом отношении: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Object 9" descr=""/>
          <p:cNvPicPr/>
          <p:nvPr/>
        </p:nvPicPr>
        <p:blipFill>
          <a:blip r:embed="rId2"/>
          <a:stretch/>
        </p:blipFill>
        <p:spPr>
          <a:xfrm>
            <a:off x="5214960" y="314316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11" descr=""/>
          <p:cNvPicPr/>
          <p:nvPr/>
        </p:nvPicPr>
        <p:blipFill>
          <a:blip r:embed="rId3"/>
          <a:stretch/>
        </p:blipFill>
        <p:spPr>
          <a:xfrm>
            <a:off x="4143240" y="4572000"/>
            <a:ext cx="3857760" cy="930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4"/>
          <p:cNvSpPr/>
          <p:nvPr/>
        </p:nvSpPr>
        <p:spPr>
          <a:xfrm>
            <a:off x="2132280" y="457200"/>
            <a:ext cx="425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ой тре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6"/>
          <p:cNvSpPr/>
          <p:nvPr/>
        </p:nvSpPr>
        <p:spPr>
          <a:xfrm>
            <a:off x="609480" y="441972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ямоугольник, стороны которого находятся в золотом отношении, т.е. отношение длины к ширине даёт число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φ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 называется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золотым прямоугольником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Object 2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35" descr="http://www.trinitas.ru/rus/doc/0232/004a/pic/0037/0037-1001.gif"/>
          <p:cNvPicPr/>
          <p:nvPr/>
        </p:nvPicPr>
        <p:blipFill>
          <a:blip r:embed="rId2"/>
          <a:stretch/>
        </p:blipFill>
        <p:spPr>
          <a:xfrm>
            <a:off x="838080" y="1143000"/>
            <a:ext cx="3175200" cy="22431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6"/>
          <p:cNvSpPr/>
          <p:nvPr/>
        </p:nvSpPr>
        <p:spPr>
          <a:xfrm>
            <a:off x="2434320" y="4572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ой прямо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Рисунок 7" descr="http://profkom.gaz.ru/img/sb_7.png"/>
          <p:cNvPicPr/>
          <p:nvPr/>
        </p:nvPicPr>
        <p:blipFill>
          <a:blip r:embed="rId3"/>
          <a:stretch/>
        </p:blipFill>
        <p:spPr>
          <a:xfrm>
            <a:off x="5105520" y="114300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Пентаграм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Содержимое 3" descr="http://www.trinitas.ru/rus/doc/0232/004a/pic/0037/0037-1011.gif"/>
          <p:cNvPicPr/>
          <p:nvPr/>
        </p:nvPicPr>
        <p:blipFill>
          <a:blip r:embed="rId1"/>
          <a:stretch/>
        </p:blipFill>
        <p:spPr>
          <a:xfrm>
            <a:off x="457200" y="1143000"/>
            <a:ext cx="2481120" cy="20876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Рисунок 3" descr="Золотое сечение: Рис.3"/>
          <p:cNvPicPr/>
          <p:nvPr/>
        </p:nvPicPr>
        <p:blipFill>
          <a:blip r:embed="rId2"/>
          <a:stretch/>
        </p:blipFill>
        <p:spPr>
          <a:xfrm>
            <a:off x="335268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 flipV="1" rot="10800000">
            <a:off x="533520" y="3269520"/>
            <a:ext cx="8076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ентаграмме провести все диагонали, то в результате  получи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иугольную звезду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и пересечения диагоналей в пентаграмме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ми золотого сечения диагона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ношение синего отрезка к зелёному, красного к синему, зелёного к фиолетовому, рав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6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 этом эти точки образую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овую пентаграм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GHK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ь правильных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E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ание военного ведомства США имеет форму пентаграммы и получило наз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нтагон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начит правильный пятиугольн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9" descr="the pentagon us department of defense building hurrrrrrrrr rabs in high resolu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028880"/>
            <a:ext cx="2514600" cy="209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я</cp:lastModifiedBy>
  <dcterms:modified xsi:type="dcterms:W3CDTF">2017-02-18T12:20:09Z</dcterms:modified>
  <cp:revision>5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