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9DB-51E2-4F0A-AD75-9431589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A9A-4E78-4807-9B4A-6093067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252-B0D2-4BD2-9343-7BFFF562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9C4-0DF7-4BCC-A92A-71E3D643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B05-B368-4C7B-BFB0-91B9BF1B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EC8-8222-45BB-B274-EE674161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607-2BD2-4F58-8B43-D45E5072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7AA-646D-480F-860D-67C86C5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AE5-1494-4233-B787-510B7B6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91F-C62D-4940-B313-ED57C399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F57-D9A9-4305-907C-D6B563E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985-AA17-4332-A02F-8911906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3A85-4E0A-497C-AB15-8960969F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285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2655720" cy="3409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2795400" cy="3048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4762440" cy="2505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629400" y="0"/>
            <a:ext cx="2819520" cy="254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218280" y="2514600"/>
            <a:ext cx="2925720" cy="434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2971800"/>
            <a:ext cx="2658960" cy="38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981080" y="3048120"/>
            <a:ext cx="2451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4762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66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90920" y="2571840"/>
            <a:ext cx="2867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27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173700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62520" y="0"/>
            <a:ext cx="2762280" cy="251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642000" y="0"/>
            <a:ext cx="250200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987880" y="3352680"/>
            <a:ext cx="3156120" cy="350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2446200" cy="3048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971800" y="4368960"/>
            <a:ext cx="3048120" cy="2489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2438280" y="2438280"/>
            <a:ext cx="2667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slex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ift or a c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 the sa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ерно и я так думаю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очн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hink...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умаю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eliev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;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предполага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you think 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Что заставляет вас думать так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’t agree that…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не могу согласиться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ontrary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аобор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think 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так не дум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my opinion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-по моему мнению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, I suppose...;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редполага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sagree with you …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я не согласен с т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but on the other hand…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Да, но с другой сторо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id you know from this le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idn’t know th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Я не знала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ew for me that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Я узнала новое, чт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understand why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Я не понял(а) почем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of opinion th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оё мн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279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173700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62520" y="0"/>
            <a:ext cx="2762280" cy="251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42000" y="0"/>
            <a:ext cx="25020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987880" y="3352680"/>
            <a:ext cx="315612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3809880"/>
            <a:ext cx="244620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971800" y="4368960"/>
            <a:ext cx="3048120" cy="2489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438280" y="2438280"/>
            <a:ext cx="2667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80880"/>
            <a:ext cx="6933960" cy="586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133720"/>
            <a:ext cx="2667240" cy="236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380880"/>
            <a:ext cx="7596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257440" y="838080"/>
            <a:ext cx="10666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4640" y="220968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715000" y="35049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99072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59092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95280" y="38858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76720" y="434340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105520" y="42667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380880"/>
            <a:ext cx="6933960" cy="586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133720"/>
            <a:ext cx="2667240" cy="2361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19360" y="380880"/>
            <a:ext cx="7596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440" y="838080"/>
            <a:ext cx="10666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14640" y="220968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350496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99072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59092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95280" y="38858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434340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105520" y="4266720"/>
            <a:ext cx="9144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057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1981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981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ow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rk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495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eb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914400"/>
            <a:ext cx="8458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yslexia: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 gift or a curse?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666880" cy="227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2693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421632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52680" cy="257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238720" y="4334040"/>
            <a:ext cx="3905280" cy="2523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362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2860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956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666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8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24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648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495680" cy="245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203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83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666880"/>
            <a:ext cx="3009960" cy="3610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429160" y="4726080"/>
            <a:ext cx="3714840" cy="2131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8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956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56386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58200" y="42670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3808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16002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752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533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71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859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279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05560" y="2971800"/>
            <a:ext cx="263844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343400" cy="289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2819520"/>
            <a:ext cx="300204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213372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78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209680"/>
            <a:ext cx="8384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8384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320040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2430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3:22:25Z</dcterms:created>
  <dc:creator>Администратор</dc:creator>
  <dc:description/>
  <dc:language>en-US</dc:language>
  <cp:lastModifiedBy>Пользователь Windows</cp:lastModifiedBy>
  <dcterms:modified xsi:type="dcterms:W3CDTF">2017-02-19T17:41:2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