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DDF-E892-469B-A661-6F6A594E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8E2-2587-4D83-ADF3-F3D85828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7A2-5DBF-41FD-8175-93659990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8FD-9BF8-4871-8913-D6C966AF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763-6912-45AA-BC9A-B147ED31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6E6-E63E-4EBD-8E4E-63C7D19F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80F-3998-4A02-A076-3E4D7C9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7D1-5ABB-4BE8-A445-A85C1605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50C-0111-41B5-BA28-B814DCF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AF4-49DF-40A8-ADC2-640603F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FAB-3CAB-4E80-85C2-95D48D2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3F4-C0C0-44F9-8B2E-22EB766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A89-15D9-43FB-874D-7E16A92C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2655720" cy="3409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2795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4762440" cy="250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629400" y="0"/>
            <a:ext cx="2819520" cy="254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218280" y="2514600"/>
            <a:ext cx="2925720" cy="434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2971800"/>
            <a:ext cx="2658960" cy="38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981080" y="3048120"/>
            <a:ext cx="2451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4762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66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90920" y="2571840"/>
            <a:ext cx="2867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27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17370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62520" y="0"/>
            <a:ext cx="2762280" cy="251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642000" y="0"/>
            <a:ext cx="250200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987880" y="3352680"/>
            <a:ext cx="3156120" cy="350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2446200" cy="3048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971800" y="436896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438280" y="2438280"/>
            <a:ext cx="2667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slex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ift or a c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 the s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ерно и я так думаю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оч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...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ума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eliev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;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предполага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you think 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Что заставляет вас думать так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’t agree that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не могу согласиться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ontrary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аобор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think 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так не дум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my opinion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-по моему мнени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, I suppose...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редполага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with you 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не согласен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on the other hand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а, но с другой сторо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id you know from this le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idn’t know th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не знала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ew for me that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узнала новое, чт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understand why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не понял(а) почем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of opinion th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оё мн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27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17370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62520" y="0"/>
            <a:ext cx="2762280" cy="251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42000" y="0"/>
            <a:ext cx="25020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987880" y="3352680"/>
            <a:ext cx="315612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244620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971800" y="436896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438280" y="2438280"/>
            <a:ext cx="2667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80880"/>
            <a:ext cx="6933960" cy="586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133720"/>
            <a:ext cx="2667240" cy="236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380880"/>
            <a:ext cx="7596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57440" y="838080"/>
            <a:ext cx="10666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4640" y="220968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715000" y="35049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99072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5909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95280" y="38858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76720" y="434340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105520" y="42667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380880"/>
            <a:ext cx="6933960" cy="586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133720"/>
            <a:ext cx="2667240" cy="236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19360" y="380880"/>
            <a:ext cx="7596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440" y="838080"/>
            <a:ext cx="10666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14640" y="220968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35049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99072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5909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95280" y="38858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434340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105520" y="42667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1981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981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ow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495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b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914400"/>
            <a:ext cx="8458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yslexia: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 gift or a curse?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666880" cy="227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269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52680" cy="257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238720" y="4334040"/>
            <a:ext cx="3905280" cy="252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362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286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956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666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24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495680" cy="245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203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8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666880"/>
            <a:ext cx="3009960" cy="3610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429160" y="4726080"/>
            <a:ext cx="3714840" cy="213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8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956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6386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58200" y="42670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808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16002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752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33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71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859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279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05560" y="2971800"/>
            <a:ext cx="263844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34340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300204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213372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7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09680"/>
            <a:ext cx="8384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8384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2004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2430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3:22:25Z</dcterms:created>
  <dc:creator>Администратор</dc:creator>
  <dc:description/>
  <dc:language>en-US</dc:language>
  <cp:lastModifiedBy>Пользователь Windows</cp:lastModifiedBy>
  <dcterms:modified xsi:type="dcterms:W3CDTF">2017-02-19T17:41:2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