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893080" y="0"/>
            <a:ext cx="25092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учитель начальных классов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ига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 e-mail: lazareva@pdps.l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15.jpe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23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755640" y="1700280"/>
            <a:ext cx="756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ЗБУКА МАРКИЗА ЭТИКЕТ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1403280" y="278136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5"/>
          <a:stretch/>
        </p:blipFill>
        <p:spPr>
          <a:xfrm>
            <a:off x="5219640" y="2492280"/>
            <a:ext cx="2463840" cy="366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63640" y="692280"/>
            <a:ext cx="590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Школа вежливых нау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333360"/>
            <a:ext cx="7632720" cy="5832360"/>
          </a:xfrm>
          <a:prstGeom prst="wedgeEllipseCallout">
            <a:avLst>
              <a:gd name="adj1" fmla="val -53222"/>
              <a:gd name="adj2" fmla="val 557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Жесты бывают международные, понятные всем людям мира, а бывают такие, что приняты и понятны только среди жителей одной страны. Например, если француз ощупывает свой подбородок, как бы намекая на то, что у него выросла борода, знайте: он хочет показать, что ваша беседа слишком затянула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403848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уда деть жевательную резинку, если вы находитесь в гостях, за сто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Нужно завернуть её в бумажку и выкинуть в мусорное ведро. Не стоит оставлять её в тарелке, даже в бумаге, а тем более прилеплять её к ст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233880" cy="230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95640" y="76500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вательная резинка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87640" y="1197000"/>
            <a:ext cx="5402160" cy="2857320"/>
          </a:xfrm>
          <a:prstGeom prst="downArrowCallout">
            <a:avLst>
              <a:gd name="adj1" fmla="val 47270"/>
              <a:gd name="adj2" fmla="val 47266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131640" y="1989000"/>
            <a:ext cx="49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делать, если вы вдруг забыли имя собесе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280" y="4076280"/>
            <a:ext cx="57610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Вполне допустимо попросить собеседника назвать свое имя, это лучше, чем назвать человека чужим име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00000" y="3213000"/>
            <a:ext cx="1895760" cy="3121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бывчивость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48000" y="620640"/>
            <a:ext cx="4535640" cy="24400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64000" y="1628280"/>
            <a:ext cx="4038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вы ответите, если кто-то попросит у вас извин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32000" y="2708280"/>
            <a:ext cx="475776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ожалуйста» или «Ничего страшного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6920" y="393372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Когда вы сами просите прощения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нельзя говорить вместо «извините»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«извиняюсь», эта форма подразумевает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что вы извиняете сами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винение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700360" y="2060640"/>
            <a:ext cx="56959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 находитесь у себя дома и принимаете гостей. Среди них есть курящие, а есть некурящие. Должны ли вы как хозяин дома попросить у своих гостей разрешения, чтобы закур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0" y="4994280"/>
            <a:ext cx="3960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Обязатель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урение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48000" y="4149720"/>
            <a:ext cx="4535640" cy="237492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1268280"/>
            <a:ext cx="5040000" cy="2448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987280" y="2133720"/>
            <a:ext cx="533556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гда вы проявляете любезность (например, уступаете место в транспорте), нужно ли проявлять особую настойчив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64000" y="4292640"/>
            <a:ext cx="4038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араясь быть любезным, не стоит перебарщивать, ибо ситуации могут быть разным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юбезность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11280" y="3789360"/>
            <a:ext cx="6408720" cy="2664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49360"/>
            <a:ext cx="4248000" cy="273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95280" y="692280"/>
            <a:ext cx="40388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д вами тарелка с мясом и гарниром, рядом с тарелкой нож и вилка. Опишите, как вы будете справляться с этим блю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41560" y="3284640"/>
            <a:ext cx="5662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В правой руке – нож, в левой – вилка; придерживая мясо вилкой, нужно отрезать от него маленький кусочек, положить на него ножом немного гарнира и, не уронив ни крошки, отправить  в рот. И так, пока не съедите все блю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565360"/>
            <a:ext cx="61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ставлять на тарелке остатки угощения не принято. Лучше взять сразу порцию поменьше, с которой вы справитесь наверняка. И еще: европейский этикет не позволяет резать на кусочки сразу все мясо, положенное на тарелку. Зато именно так принято делать в Аме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11280" y="4702320"/>
            <a:ext cx="2520720" cy="164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068720" y="404640"/>
            <a:ext cx="3745080" cy="2194200"/>
          </a:xfrm>
          <a:prstGeom prst="wedgeRoundRectCallout">
            <a:avLst>
              <a:gd name="adj1" fmla="val -103453"/>
              <a:gd name="adj2" fmla="val 13408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24360" y="907560"/>
            <a:ext cx="4038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ой длины должны быть    носки у мужч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62200" y="3238200"/>
            <a:ext cx="4826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Длина должна быть такой, чтобы при любых обстоятельствах между верхом носка и низом брючины не была ви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564000" y="3789360"/>
            <a:ext cx="4392720" cy="28083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131640" y="1847520"/>
            <a:ext cx="50468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Как правильно есть овощи, положенные на таре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08360" y="3068640"/>
            <a:ext cx="40384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Нужно разделить овощи на части вилкой или ножом. Недопустимо разминать овощи до состояния пюре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55640" y="4133880"/>
            <a:ext cx="3240000" cy="2168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вощи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627280" y="2104920"/>
            <a:ext cx="591192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вам пришли гости и преподнесли большой букет, он упакован в красивую бумагу, украшенную к тому же пышным бантом. Как вы поступите с этим буке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43280" y="4336560"/>
            <a:ext cx="540072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ужно поблагодарить дарящего и, как бы красиво ни был упакован букет, развернуть его и поставить цветы в в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296856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Если вы идете на большое торжество, где соберется больше десяти человек, можно прийти без цветов: прислать их на кануне или сразу после торжества с посыльным, приложив написанную от руки карточку с благодарностью за приглашение  и своей подпис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400120" cy="216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дарок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848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а игра поможет вам познакомиться с азбукой этикета: мы вспомним  вместе, как вести себя в автобусе и театре, что такое фамильярность и опрятность, как правильно есть то или иное блюдо, а также чем вежливость отличается от такт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кажет вам много нового и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16000" y="4221000"/>
            <a:ext cx="712944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РКИЗ ЭТИКЕТ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564000" y="4724280"/>
            <a:ext cx="4248000" cy="1440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1557360"/>
            <a:ext cx="3745080" cy="1727280"/>
          </a:xfrm>
          <a:prstGeom prst="wedgeRoundRectCallout">
            <a:avLst>
              <a:gd name="adj1" fmla="val -31898"/>
              <a:gd name="adj2" fmla="val 12058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779640" y="1557000"/>
            <a:ext cx="381636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м должно быть рукопожа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92000" y="2924280"/>
            <a:ext cx="3970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вялым и не    слишком сильным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27280" y="1989000"/>
            <a:ext cx="58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Психологи говорят, что по тому, как человек протягивает руку для рукопожатия, можно определить, какие отношения с людьми он привык строить. Если протянутая ладонь повернута вверх тыльной стороной, значит, человек рассчитывает на подчиненное положение по отношению к собеседнику, если вниз тыльной стороной – на доминирование; рассчитывая на партнерские отношения, человек протягивает ладонь реб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укопожатие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771280" y="1699920"/>
            <a:ext cx="475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кажите, как пользоваться    бумажными и матерчатыми салф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3357360"/>
            <a:ext cx="784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акрывая стол для торжества, полагается класть не только текстильные, но и бумажные салфетки. Текстильную салфетку принято держать на коленях, а бумажную располагать слева от тарелки. У них разные функции: текстильная салфетка предназначена для защиты одежды, а бумажными обычно вытирают губы и пальцы. Закончив есть, бумажную салфетку кладут в тарелку, а текстильную оставляют слева от тарелки, ведь она дается одна на все застолье, а бумажные салфетки можно брать без ограни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лфетка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95640" y="4005360"/>
            <a:ext cx="4248360" cy="230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1628640"/>
            <a:ext cx="4968720" cy="201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916360" y="1775880"/>
            <a:ext cx="483048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 звоните другу, а трубку берет его мама. Она вас еще не знает. Как вы будете с ней разговари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131640" y="4076640"/>
            <a:ext cx="4907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бязательно нужно поздороваться, назвать свои имя и фамилию, сказать, что вы друг ее сына, и только потом попросить позвать его к телеф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2060640"/>
            <a:ext cx="504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Не принято беспокоить людей звонком до 10 часов утра и после 10 часов веч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39640" y="4653000"/>
            <a:ext cx="2772000" cy="1725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лефон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700000" y="1995480"/>
            <a:ext cx="583884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 вы поступите, если в помещении рядом с вами кто-то чихну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27280" y="3970440"/>
            <a:ext cx="5905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Если вокруг чихающего много людей, совсем не обязательно говорить: «Будьте здоровы», достаточно просто не обращать на это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56536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Есть способ «античих»: сильно потереть перенос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иханье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492360" y="1699920"/>
            <a:ext cx="49672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понадобилось сказать другу что-то такое, что не должны слышать посторонние, можно ли сказать это ему шепотом на ух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08000" y="4652640"/>
            <a:ext cx="45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Шептаться в присутствии третьих лиц считается верхом неприли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2879640" cy="2482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епот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52720" y="1844640"/>
            <a:ext cx="5472000" cy="129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907640" y="1920600"/>
            <a:ext cx="5689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гда необходимо снимать головной уб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836720" y="3212640"/>
            <a:ext cx="5400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Женщины могут не снимать головной убор; мужчина должен снимать его, когда входит  в помещение. Обычай снимать головной убор при встрече почти ушел в прош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484360" y="765000"/>
            <a:ext cx="525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апк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348000" y="1916280"/>
            <a:ext cx="4392720" cy="194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563640" y="2060280"/>
            <a:ext cx="48258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жно ли во время экскурсии задавать вопросы экскурсово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59280" y="4189320"/>
            <a:ext cx="56275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Лучше этого не делать; комментировать увиденное тоже лучше после того, как экскурсия законч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2178360" cy="2374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кскурсия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59280" y="4581360"/>
            <a:ext cx="5616360" cy="165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1916280"/>
            <a:ext cx="5545080" cy="23032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27280" y="2349360"/>
            <a:ext cx="5905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жет ли деловая женщина ходить на работу в мини-юб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00000" y="4221000"/>
            <a:ext cx="5770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гласно деловому этикету мини-юбка не является офисной одеждо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2637000"/>
            <a:ext cx="56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Юбка должна быть тщательно отглажена – без морщинок и ненужных складок. Не рекомендуется надевать на работу одежду из блестящих тканей – парчи, сатина и т.п., которые больше подходят для вечерних туалетов. А также джинсовая одежда не уместна в офисе или деловой поез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1244520" cy="310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бка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59280" y="3933720"/>
            <a:ext cx="5545080" cy="230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50920" y="1844280"/>
            <a:ext cx="40323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правильно съесть ябло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31640" y="3068640"/>
            <a:ext cx="5327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еочищенное яблоко держат вилкой и режут его на 4части. Можно придерживать яблоко рукой, но ни в коем случае нельзя резать его навесу; сердцевину вырезают, придерживая фрукт вилкой на тарелке. Едят дольки с помощью ви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2100600" cy="2516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блоко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193840" y="981000"/>
            <a:ext cx="771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98560" y="981000"/>
            <a:ext cx="771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17840" y="981000"/>
            <a:ext cx="771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14920" y="981000"/>
            <a:ext cx="771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67280" y="981000"/>
            <a:ext cx="77148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62920" y="981000"/>
            <a:ext cx="938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93840" y="2565360"/>
            <a:ext cx="77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98560" y="2565360"/>
            <a:ext cx="77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17840" y="2565360"/>
            <a:ext cx="77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714920" y="2565360"/>
            <a:ext cx="77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865840" y="2565360"/>
            <a:ext cx="77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162920" y="2565360"/>
            <a:ext cx="9381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66920" y="4005360"/>
            <a:ext cx="7714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4005360"/>
            <a:ext cx="7714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90920" y="4005360"/>
            <a:ext cx="7714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88000" y="4005360"/>
            <a:ext cx="7714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8920" y="4005360"/>
            <a:ext cx="7714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236000" y="4005360"/>
            <a:ext cx="93816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17840" y="5300640"/>
            <a:ext cx="771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35280" y="5300640"/>
            <a:ext cx="992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86200" y="5300640"/>
            <a:ext cx="9939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27640" y="5300640"/>
            <a:ext cx="771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771280" y="764640"/>
            <a:ext cx="5689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жно ли здороваться со всеми пассажирами, когда входите в авт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19640" y="4265280"/>
            <a:ext cx="468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т; если в транспорте нет ваших знакомых, следует лишь приветливо улыб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340000" y="2992320"/>
            <a:ext cx="61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Как сказал Марк Твен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«Приветливость – это язы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который может услышать глухой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прочитать слепой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11280" y="4844880"/>
            <a:ext cx="2305080" cy="1481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5229360"/>
            <a:ext cx="431640" cy="2872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03640" y="1267920"/>
            <a:ext cx="54007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известно, что дамам принято дарить цветы. А можно дарить цветы мужчин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3640" y="3716280"/>
            <a:ext cx="5400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а, но только в особо торжественных случаях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кет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2381400" cy="301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03640" y="2420640"/>
            <a:ext cx="53388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ьмите вилкой одну зеленую горошину, не наколов, а поддев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2081520" cy="145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rot="12826200">
            <a:off x="3058560" y="3284640"/>
            <a:ext cx="510840" cy="2690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492000" y="1989000"/>
            <a:ext cx="48675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Можно ли прийти в     гости за час до назначенного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19280" y="4220640"/>
            <a:ext cx="4824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, ведь вы можете застать хозяев враспло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26920" y="3141720"/>
            <a:ext cx="2248200" cy="3157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сти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771280" y="2420640"/>
            <a:ext cx="56278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д вами компот из ягод, блюдце, вилка, ложки чайная, столовая и десертная. Нужно выбрать необходимые для поглощения компота предметы, правильно подать их на стол и потом самим правильно съесть комп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39640" y="2060280"/>
            <a:ext cx="6265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Если вам предложили компот, имейте в виду, что его не пьют, а едят ложечкой. Причем если в компоте присутствуют ягоды с косточкой, то их нужно аккуратно выплюнуть в ложечку, а затем положить на блюдце. Очень дурным тоном считается выпить компот, а затем съесть фр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24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971640" y="3068640"/>
            <a:ext cx="1577880" cy="322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е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76720" y="2060280"/>
            <a:ext cx="47512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пустимо ли, разговаривая, активно жестикулировать, брать собеседника за рукав, за пуговиц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8920" y="4149360"/>
            <a:ext cx="53276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Нельзя; правилами этикета предусматривается умеренность в жестах: жест нужен там, где слов не слыш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640" y="836640"/>
            <a:ext cx="201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9236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971640" y="3213000"/>
            <a:ext cx="1962000" cy="308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1:38:39Z</dcterms:created>
  <dc:creator>L. Lazareva</dc:creator>
  <dc:description/>
  <dc:language>en-US</dc:language>
  <cp:lastModifiedBy>User</cp:lastModifiedBy>
  <dcterms:modified xsi:type="dcterms:W3CDTF">2009-06-26T07:10:27Z</dcterms:modified>
  <cp:revision>32</cp:revision>
  <dc:subject/>
  <dc:title>Azbuka markiza ETIKETA</dc:title>
</cp:coreProperties>
</file>