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4EC-D68F-483D-9670-C3EB31E8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FF3-1B1D-4B22-80C5-7A0E1A5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1A0-D11C-4263-B03B-BAA52555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06E-7A38-48E8-99FE-57973D91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0B3E-6253-4807-86F8-FEBB8CE9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181-CBDD-4DDB-B29C-CBCA0FBB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CFAF-5AEB-4E79-BD2D-DD1628A1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8C74-66CA-4C10-A879-1E24BB96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2BDC-BB43-4F6E-B8C4-F00EA133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3022-C865-4B13-BC30-FA35C311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915-4F17-4404-BBC1-F024C1C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FAC-D02D-47F0-AA06-DA0E337E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F419-7B40-43A9-8817-83E53B5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64BF-CA72-427C-A1B5-7F55593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74A-9FD7-4060-AB13-F7E744EC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A551-64A1-43B1-801A-046C3EEB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A279-232F-45CB-8672-874F622A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6D1-CB12-4724-A753-BBF4004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543-097E-44FD-A44E-43B8F1BE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688-3679-4CF6-B457-F9981137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F91-4D57-4872-89A0-6A87EF71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250-E8A3-494B-A99B-63AAC40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429-269F-46BA-AFC8-39D3401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2B4-8E05-4930-89C6-1774DBC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47BF-8CA7-4782-9D3C-921281BB5E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D527-0617-4B3B-AE28-5FC65A98A3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Музыкальные инструмен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музыки 1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БОУ СОШ № 3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ишкина М.Б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берите лишн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838080" y="1219320"/>
            <a:ext cx="25146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762120" y="2286000"/>
            <a:ext cx="25146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ыч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762120" y="3429000"/>
            <a:ext cx="25905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62120" y="4495680"/>
            <a:ext cx="25905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виш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838080" y="5638680"/>
            <a:ext cx="25909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6172200" y="1219320"/>
            <a:ext cx="25146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ы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6248520" y="2286000"/>
            <a:ext cx="23619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ижё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6248520" y="3352680"/>
            <a:ext cx="23619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цо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6324480" y="4419720"/>
            <a:ext cx="2286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кест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6400800" y="5562720"/>
            <a:ext cx="220968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н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9" descr="event249"/>
          <p:cNvPicPr/>
          <p:nvPr/>
        </p:nvPicPr>
        <p:blipFill>
          <a:blip r:embed="rId1"/>
          <a:stretch/>
        </p:blipFill>
        <p:spPr>
          <a:xfrm>
            <a:off x="3809880" y="4343400"/>
            <a:ext cx="2057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476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гантели поднимает, дальше всех ядро бросает? Быстро бегает, метко стреляет, как одним словом их всех называю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портсм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5" descr="event249"/>
          <p:cNvPicPr/>
          <p:nvPr/>
        </p:nvPicPr>
        <p:blipFill>
          <a:blip r:embed="rId1"/>
          <a:stretch/>
        </p:blipFill>
        <p:spPr>
          <a:xfrm>
            <a:off x="380880" y="0"/>
            <a:ext cx="2057400" cy="1720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lp376074"/>
          <p:cNvPicPr/>
          <p:nvPr/>
        </p:nvPicPr>
        <p:blipFill>
          <a:blip r:embed="rId2"/>
          <a:stretch/>
        </p:blipFill>
        <p:spPr>
          <a:xfrm>
            <a:off x="5181480" y="2286000"/>
            <a:ext cx="2857680" cy="2314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ANd9GcSRF5xBWNibAVQ8IMyqzWRhDcYrlAAMV8-MFs2D4XnymAwyT44NUg"/>
          <p:cNvPicPr/>
          <p:nvPr/>
        </p:nvPicPr>
        <p:blipFill>
          <a:blip r:embed="rId3"/>
          <a:stretch/>
        </p:blipFill>
        <p:spPr>
          <a:xfrm>
            <a:off x="4038480" y="4800600"/>
            <a:ext cx="2133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 птица хоть куда! Не летает никогда. Только бегает как ветер, знают птицу все на све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трау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8" descr="0_c115_e3b2871c_L"/>
          <p:cNvPicPr/>
          <p:nvPr/>
        </p:nvPicPr>
        <p:blipFill>
          <a:blip r:embed="rId1"/>
          <a:stretch/>
        </p:blipFill>
        <p:spPr>
          <a:xfrm>
            <a:off x="4800600" y="251460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event249"/>
          <p:cNvPicPr/>
          <p:nvPr/>
        </p:nvPicPr>
        <p:blipFill>
          <a:blip r:embed="rId2"/>
          <a:stretch/>
        </p:blipFill>
        <p:spPr>
          <a:xfrm>
            <a:off x="457200" y="0"/>
            <a:ext cx="17524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ставьте словосоче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219320" y="1523880"/>
            <a:ext cx="2057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1143000" y="2743200"/>
            <a:ext cx="2133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1066680" y="3962520"/>
            <a:ext cx="22100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е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5562720" y="2743200"/>
            <a:ext cx="23619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5562720" y="1447920"/>
            <a:ext cx="2286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5638680" y="3886200"/>
            <a:ext cx="22100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43000" y="5257800"/>
            <a:ext cx="2133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истуль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5638680" y="5105520"/>
            <a:ext cx="2133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276720" y="1981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276720" y="32004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3276720" y="327636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4"/>
          <p:cNvSpPr/>
          <p:nvPr/>
        </p:nvSpPr>
        <p:spPr>
          <a:xfrm flipV="1">
            <a:off x="3200400" y="44956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3" descr="event249"/>
          <p:cNvPicPr/>
          <p:nvPr/>
        </p:nvPicPr>
        <p:blipFill>
          <a:blip r:embed="rId1"/>
          <a:stretch/>
        </p:blipFill>
        <p:spPr>
          <a:xfrm>
            <a:off x="3048120" y="1380960"/>
            <a:ext cx="3886200" cy="3251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ANd9GcRP7vcIMM_Lr0sU89LK0O2ORpO5sOqPcOEXRIQdBrPWWn_2UNd0sA"/>
          <p:cNvPicPr/>
          <p:nvPr/>
        </p:nvPicPr>
        <p:blipFill>
          <a:blip r:embed="rId2"/>
          <a:stretch/>
        </p:blipFill>
        <p:spPr>
          <a:xfrm>
            <a:off x="6781680" y="1447920"/>
            <a:ext cx="1641600" cy="1952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ANd9GcQNSAavlLISZKJHNAuEFSmkxflMbQN2Av5wwTlVzhEhiE69YxnuzQ"/>
          <p:cNvPicPr/>
          <p:nvPr/>
        </p:nvPicPr>
        <p:blipFill>
          <a:blip r:embed="rId3"/>
          <a:stretch/>
        </p:blipFill>
        <p:spPr>
          <a:xfrm>
            <a:off x="5715000" y="4267080"/>
            <a:ext cx="2743200" cy="182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lp376074"/>
          <p:cNvPicPr/>
          <p:nvPr/>
        </p:nvPicPr>
        <p:blipFill>
          <a:blip r:embed="rId4"/>
          <a:stretch/>
        </p:blipFill>
        <p:spPr>
          <a:xfrm>
            <a:off x="1371600" y="4267080"/>
            <a:ext cx="2857680" cy="2314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0_c115_e3b2871c_L"/>
          <p:cNvPicPr/>
          <p:nvPr/>
        </p:nvPicPr>
        <p:blipFill>
          <a:blip r:embed="rId5"/>
          <a:stretch/>
        </p:blipFill>
        <p:spPr>
          <a:xfrm>
            <a:off x="533520" y="17524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нетресур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google.ru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свистул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ww.google.ru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жалей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tulagorod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Карлс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teanu.ru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пету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lizmult.ru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дед с бабк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nsporta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загад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 Newslab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спортсм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fotka.yandex.ru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страу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ревянные духовые инструмен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ANd9GcQCMpw4ynNnPZmIpkcm9DvMq5WPC8dXLmxJXRaYLYe0lubodqFyBw"/>
          <p:cNvPicPr/>
          <p:nvPr/>
        </p:nvPicPr>
        <p:blipFill>
          <a:blip r:embed="rId1"/>
          <a:stretch/>
        </p:blipFill>
        <p:spPr>
          <a:xfrm>
            <a:off x="1295280" y="19810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4" descr="ANd9GcRwusqBaDWLy3qehjfXQd8y_1JSshNYxpZLEB-dvXedLwplyY2H"/>
          <p:cNvPicPr/>
          <p:nvPr/>
        </p:nvPicPr>
        <p:blipFill>
          <a:blip r:embed="rId2"/>
          <a:stretch/>
        </p:blipFill>
        <p:spPr>
          <a:xfrm>
            <a:off x="4952880" y="2133720"/>
            <a:ext cx="2981520" cy="1533240"/>
          </a:xfrm>
          <a:prstGeom prst="rect">
            <a:avLst/>
          </a:prstGeom>
          <a:ln w="0">
            <a:noFill/>
          </a:ln>
        </p:spPr>
      </p:pic>
      <p:sp>
        <p:nvSpPr>
          <p:cNvPr id="159" name="Oval 16"/>
          <p:cNvSpPr/>
          <p:nvPr/>
        </p:nvSpPr>
        <p:spPr>
          <a:xfrm>
            <a:off x="685800" y="4495680"/>
            <a:ext cx="3048120" cy="1143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ул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4952880" y="4495680"/>
            <a:ext cx="3124440" cy="12193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е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вчонки и мальчишки полюбить его успели. Он – герой веселой книжки, за спиной его пропелле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арлс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8" descr="event249"/>
          <p:cNvPicPr/>
          <p:nvPr/>
        </p:nvPicPr>
        <p:blipFill>
          <a:blip r:embed="rId1"/>
          <a:stretch/>
        </p:blipFill>
        <p:spPr>
          <a:xfrm>
            <a:off x="4419720" y="2514600"/>
            <a:ext cx="449568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ый по белому написал белым. Рыжая пойдёт, белого найдё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ANd9GcRP7vcIMM_Lr0sU89LK0O2ORpO5sOqPcOEXRIQdBrPWWn_2UNd0sA"/>
          <p:cNvPicPr/>
          <p:nvPr/>
        </p:nvPicPr>
        <p:blipFill>
          <a:blip r:embed="rId1"/>
          <a:stretch/>
        </p:blipFill>
        <p:spPr>
          <a:xfrm>
            <a:off x="4672080" y="2590920"/>
            <a:ext cx="313992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event249"/>
          <p:cNvPicPr/>
          <p:nvPr/>
        </p:nvPicPr>
        <p:blipFill>
          <a:blip r:embed="rId2"/>
          <a:stretch/>
        </p:blipFill>
        <p:spPr>
          <a:xfrm>
            <a:off x="228600" y="0"/>
            <a:ext cx="2057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Зайчи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, два, три, четыре, пя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шел зайчик погуля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руг охотник выбегает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 в зайчика стреля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ф-паф, не попал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стрый зайчик убежа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ANd9GcRP7vcIMM_Lr0sU89LK0O2ORpO5sOqPcOEXRIQdBrPWWn_2UNd0sA"/>
          <p:cNvPicPr/>
          <p:nvPr/>
        </p:nvPicPr>
        <p:blipFill>
          <a:blip r:embed="rId1"/>
          <a:stretch/>
        </p:blipFill>
        <p:spPr>
          <a:xfrm>
            <a:off x="5883120" y="2590920"/>
            <a:ext cx="2819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кочкам, по кочкам, по маленьким дорожкам в ямку - бух ! Провалился пету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й, тюк, тюк, тюк, наловил дед щук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бка рыбку пекла, сковородка потек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6" descr="%D0%BF%D0%B5%D1%82%D1%83%D1%85"/>
          <p:cNvPicPr/>
          <p:nvPr/>
        </p:nvPicPr>
        <p:blipFill>
          <a:blip r:embed="rId1"/>
          <a:stretch/>
        </p:blipFill>
        <p:spPr>
          <a:xfrm>
            <a:off x="2057400" y="4419720"/>
            <a:ext cx="2355840" cy="243828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2" descr="95011696"/>
          <p:cNvPicPr/>
          <p:nvPr/>
        </p:nvPicPr>
        <p:blipFill>
          <a:blip r:embed="rId2"/>
          <a:stretch/>
        </p:blipFill>
        <p:spPr>
          <a:xfrm>
            <a:off x="5029200" y="4048200"/>
            <a:ext cx="3753000" cy="2809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event249"/>
          <p:cNvPicPr/>
          <p:nvPr/>
        </p:nvPicPr>
        <p:blipFill>
          <a:blip r:embed="rId3"/>
          <a:stretch/>
        </p:blipFill>
        <p:spPr>
          <a:xfrm>
            <a:off x="457200" y="0"/>
            <a:ext cx="17524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руками машет плавно, слышит каждый инструмент. Он в оркестре самый главный, он в оркестре – президе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Дирижё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event249"/>
          <p:cNvPicPr/>
          <p:nvPr/>
        </p:nvPicPr>
        <p:blipFill>
          <a:blip r:embed="rId1"/>
          <a:stretch/>
        </p:blipFill>
        <p:spPr>
          <a:xfrm>
            <a:off x="457200" y="0"/>
            <a:ext cx="1752480" cy="1465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ANd9GcQNSAavlLISZKJHNAuEFSmkxflMbQN2Av5wwTlVzhEhiE69YxnuzQ"/>
          <p:cNvPicPr/>
          <p:nvPr/>
        </p:nvPicPr>
        <p:blipFill>
          <a:blip r:embed="rId2"/>
          <a:stretch/>
        </p:blipFill>
        <p:spPr>
          <a:xfrm>
            <a:off x="4419720" y="3124080"/>
            <a:ext cx="4572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нные инструмен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й, звенит она, звенит, всех игрою веселит. А всего-то три струны ей для музыки нужны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Балалай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Дом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1316589156_Balalaika"/>
          <p:cNvPicPr/>
          <p:nvPr/>
        </p:nvPicPr>
        <p:blipFill>
          <a:blip r:embed="rId1"/>
          <a:stretch/>
        </p:blipFill>
        <p:spPr>
          <a:xfrm>
            <a:off x="6172200" y="2286000"/>
            <a:ext cx="1905120" cy="1833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ANd9GcQflejxOPRxKfLpQXxDOR1RqrKXbEPvOkLTOCBDpMstdsHZkiv3Qw"/>
          <p:cNvPicPr/>
          <p:nvPr/>
        </p:nvPicPr>
        <p:blipFill>
          <a:blip r:embed="rId2"/>
          <a:stretch/>
        </p:blipFill>
        <p:spPr>
          <a:xfrm>
            <a:off x="6629400" y="4191120"/>
            <a:ext cx="1770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нные инструмен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ANd9GcQflejxOPRxKfLpQXxDOR1RqrKXbEPvOkLTOCBDpMstdsHZkiv3Qw"/>
          <p:cNvPicPr/>
          <p:nvPr/>
        </p:nvPicPr>
        <p:blipFill>
          <a:blip r:embed="rId1"/>
          <a:stretch/>
        </p:blipFill>
        <p:spPr>
          <a:xfrm>
            <a:off x="5867280" y="1676520"/>
            <a:ext cx="2397240" cy="320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1316589156_Balalaika"/>
          <p:cNvPicPr/>
          <p:nvPr/>
        </p:nvPicPr>
        <p:blipFill>
          <a:blip r:embed="rId2"/>
          <a:stretch/>
        </p:blipFill>
        <p:spPr>
          <a:xfrm>
            <a:off x="914400" y="1905120"/>
            <a:ext cx="3143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762120" y="4724280"/>
            <a:ext cx="3124080" cy="1600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410080" y="4800600"/>
            <a:ext cx="3124440" cy="1523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01</cp:lastModifiedBy>
  <dcterms:modified xsi:type="dcterms:W3CDTF">2016-09-30T12:0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