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9194-86D8-4784-9899-674E19C3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BC89-D2CC-456F-A9FD-37A2C503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74D9-8D7E-41BF-BC2C-3C1EE07D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8B62-CFC5-42A1-8256-CC8319F9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6C54-08C5-4B9B-87D7-D9D7D48C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C167-6DB5-4B01-B51C-68A792B6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2D50-1362-45F6-A828-9A20004A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C92D-B77B-4974-91DB-0E95F767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E889-F872-43D6-BC56-61487876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1EB7-C903-4939-A31F-0521123F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2465-A9DF-4A2F-8CD7-3552633E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3857-1BBB-446C-9E72-F4D0BE50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43D8-2208-46EB-8607-96DDD4F5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A06E-8364-4499-8212-C2822B78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5AD4-D693-4627-B951-EE4C94CF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EA74-9004-4318-B0CA-DCA6821B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C00B-989C-47CF-A469-3E052EA7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FA80-05D9-40A7-A7C2-B9354768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CF4E-B889-46BC-9C94-2DE55061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CA5E-E837-4B25-8C81-F5D6C8CF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1C2E-3D5D-4325-9FEA-3B084112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95AE-862E-4359-BCE4-A6392A7E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FD49-11FF-4B8C-8306-63C296B6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4427-6F95-4A98-965F-B43E9C9E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758E-57D5-48D7-A4C7-1139C490D5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8368-E7C9-4A13-927F-C9141E43FE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image" Target="../media/image12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Музыкальные инструменты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952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рок музыки 1 клас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БОУ СОШ № 39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Шишкина М.Б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-609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берите лишне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Oval 3"/>
          <p:cNvSpPr/>
          <p:nvPr/>
        </p:nvSpPr>
        <p:spPr>
          <a:xfrm>
            <a:off x="838080" y="1219320"/>
            <a:ext cx="25146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н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762120" y="2286000"/>
            <a:ext cx="25146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ыч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Oval 5"/>
          <p:cNvSpPr/>
          <p:nvPr/>
        </p:nvSpPr>
        <p:spPr>
          <a:xfrm>
            <a:off x="762120" y="3429000"/>
            <a:ext cx="259056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пу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Oval 6"/>
          <p:cNvSpPr/>
          <p:nvPr/>
        </p:nvSpPr>
        <p:spPr>
          <a:xfrm>
            <a:off x="762120" y="4495680"/>
            <a:ext cx="259056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виш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838080" y="5638680"/>
            <a:ext cx="259092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иф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13"/>
          <p:cNvSpPr/>
          <p:nvPr/>
        </p:nvSpPr>
        <p:spPr>
          <a:xfrm>
            <a:off x="6172200" y="1219320"/>
            <a:ext cx="25146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одны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румент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14"/>
          <p:cNvSpPr/>
          <p:nvPr/>
        </p:nvSpPr>
        <p:spPr>
          <a:xfrm>
            <a:off x="6248520" y="2286000"/>
            <a:ext cx="236196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рижё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Oval 15"/>
          <p:cNvSpPr/>
          <p:nvPr/>
        </p:nvSpPr>
        <p:spPr>
          <a:xfrm>
            <a:off x="6248520" y="3352680"/>
            <a:ext cx="236196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нцо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Oval 16"/>
          <p:cNvSpPr/>
          <p:nvPr/>
        </p:nvSpPr>
        <p:spPr>
          <a:xfrm>
            <a:off x="6324480" y="4419720"/>
            <a:ext cx="22860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кест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Oval 17"/>
          <p:cNvSpPr/>
          <p:nvPr/>
        </p:nvSpPr>
        <p:spPr>
          <a:xfrm>
            <a:off x="6400800" y="5562720"/>
            <a:ext cx="220968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зыкан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19" descr="event249"/>
          <p:cNvPicPr/>
          <p:nvPr/>
        </p:nvPicPr>
        <p:blipFill>
          <a:blip r:embed="rId1"/>
          <a:stretch/>
        </p:blipFill>
        <p:spPr>
          <a:xfrm>
            <a:off x="3809880" y="4343400"/>
            <a:ext cx="205740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0476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гадай, кто это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то гантели поднимает, дальше всех ядро бросает? Быстро бегает, метко стреляет, как одним словом их всех называют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Спортсме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5" descr="event249"/>
          <p:cNvPicPr/>
          <p:nvPr/>
        </p:nvPicPr>
        <p:blipFill>
          <a:blip r:embed="rId1"/>
          <a:stretch/>
        </p:blipFill>
        <p:spPr>
          <a:xfrm>
            <a:off x="380880" y="0"/>
            <a:ext cx="2057400" cy="1720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clp376074"/>
          <p:cNvPicPr/>
          <p:nvPr/>
        </p:nvPicPr>
        <p:blipFill>
          <a:blip r:embed="rId2"/>
          <a:stretch/>
        </p:blipFill>
        <p:spPr>
          <a:xfrm>
            <a:off x="5181480" y="2286000"/>
            <a:ext cx="2857680" cy="2314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ANd9GcSRF5xBWNibAVQ8IMyqzWRhDcYrlAAMV8-MFs2D4XnymAwyT44NUg"/>
          <p:cNvPicPr/>
          <p:nvPr/>
        </p:nvPicPr>
        <p:blipFill>
          <a:blip r:embed="rId3"/>
          <a:stretch/>
        </p:blipFill>
        <p:spPr>
          <a:xfrm>
            <a:off x="4038480" y="4800600"/>
            <a:ext cx="21337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гадай, кто это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а птица хоть куда! Не летает никогда. Только бегает как ветер, знают птицу все на свете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Страу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8" descr="0_c115_e3b2871c_L"/>
          <p:cNvPicPr/>
          <p:nvPr/>
        </p:nvPicPr>
        <p:blipFill>
          <a:blip r:embed="rId1"/>
          <a:stretch/>
        </p:blipFill>
        <p:spPr>
          <a:xfrm>
            <a:off x="4800600" y="251460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event249"/>
          <p:cNvPicPr/>
          <p:nvPr/>
        </p:nvPicPr>
        <p:blipFill>
          <a:blip r:embed="rId2"/>
          <a:stretch/>
        </p:blipFill>
        <p:spPr>
          <a:xfrm>
            <a:off x="457200" y="0"/>
            <a:ext cx="175248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оставьте словосочет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Oval 3"/>
          <p:cNvSpPr/>
          <p:nvPr/>
        </p:nvSpPr>
        <p:spPr>
          <a:xfrm>
            <a:off x="1219320" y="1523880"/>
            <a:ext cx="20574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алай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1143000" y="2743200"/>
            <a:ext cx="213372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5"/>
          <p:cNvSpPr/>
          <p:nvPr/>
        </p:nvSpPr>
        <p:spPr>
          <a:xfrm>
            <a:off x="1066680" y="3962520"/>
            <a:ext cx="221004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лей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5562720" y="2743200"/>
            <a:ext cx="236196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ревян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хово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7"/>
          <p:cNvSpPr/>
          <p:nvPr/>
        </p:nvSpPr>
        <p:spPr>
          <a:xfrm>
            <a:off x="5562720" y="1447920"/>
            <a:ext cx="22860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н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Oval 8"/>
          <p:cNvSpPr/>
          <p:nvPr/>
        </p:nvSpPr>
        <p:spPr>
          <a:xfrm>
            <a:off x="5638680" y="3886200"/>
            <a:ext cx="221004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ревян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хово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43000" y="5257800"/>
            <a:ext cx="213372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истуль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5638680" y="5105520"/>
            <a:ext cx="213372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н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11"/>
          <p:cNvSpPr/>
          <p:nvPr/>
        </p:nvSpPr>
        <p:spPr>
          <a:xfrm>
            <a:off x="3276720" y="19810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Line 12"/>
          <p:cNvSpPr/>
          <p:nvPr/>
        </p:nvSpPr>
        <p:spPr>
          <a:xfrm>
            <a:off x="3276720" y="3200400"/>
            <a:ext cx="24382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13"/>
          <p:cNvSpPr/>
          <p:nvPr/>
        </p:nvSpPr>
        <p:spPr>
          <a:xfrm flipV="1">
            <a:off x="3276720" y="3276360"/>
            <a:ext cx="23619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14"/>
          <p:cNvSpPr/>
          <p:nvPr/>
        </p:nvSpPr>
        <p:spPr>
          <a:xfrm flipV="1">
            <a:off x="3200400" y="4495680"/>
            <a:ext cx="25146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1760" y="-457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 новых встреч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Picture 3" descr="event249"/>
          <p:cNvPicPr/>
          <p:nvPr/>
        </p:nvPicPr>
        <p:blipFill>
          <a:blip r:embed="rId1"/>
          <a:stretch/>
        </p:blipFill>
        <p:spPr>
          <a:xfrm>
            <a:off x="3048120" y="1380960"/>
            <a:ext cx="3886200" cy="3251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ANd9GcRP7vcIMM_Lr0sU89LK0O2ORpO5sOqPcOEXRIQdBrPWWn_2UNd0sA"/>
          <p:cNvPicPr/>
          <p:nvPr/>
        </p:nvPicPr>
        <p:blipFill>
          <a:blip r:embed="rId2"/>
          <a:stretch/>
        </p:blipFill>
        <p:spPr>
          <a:xfrm>
            <a:off x="6781680" y="1447920"/>
            <a:ext cx="1641600" cy="1952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ANd9GcQNSAavlLISZKJHNAuEFSmkxflMbQN2Av5wwTlVzhEhiE69YxnuzQ"/>
          <p:cNvPicPr/>
          <p:nvPr/>
        </p:nvPicPr>
        <p:blipFill>
          <a:blip r:embed="rId3"/>
          <a:stretch/>
        </p:blipFill>
        <p:spPr>
          <a:xfrm>
            <a:off x="5715000" y="4267080"/>
            <a:ext cx="2743200" cy="1824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lp376074"/>
          <p:cNvPicPr/>
          <p:nvPr/>
        </p:nvPicPr>
        <p:blipFill>
          <a:blip r:embed="rId4"/>
          <a:stretch/>
        </p:blipFill>
        <p:spPr>
          <a:xfrm>
            <a:off x="1371600" y="4267080"/>
            <a:ext cx="2857680" cy="23148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0_c115_e3b2871c_L"/>
          <p:cNvPicPr/>
          <p:nvPr/>
        </p:nvPicPr>
        <p:blipFill>
          <a:blip r:embed="rId5"/>
          <a:stretch/>
        </p:blipFill>
        <p:spPr>
          <a:xfrm>
            <a:off x="533520" y="17524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нтернетресурс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google.ru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- свистуль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</a:rPr>
              <a:t>www.google.ru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жалей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tulagorod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Карлсо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teanu.ru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пету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lizmult.ru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дед с бабко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nsportal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загад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 Newslab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– спортсме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fotka.yandex.ru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 страу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Деревянные духовые инструмент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6" descr="ANd9GcQCMpw4ynNnPZmIpkcm9DvMq5WPC8dXLmxJXRaYLYe0lubodqFyBw"/>
          <p:cNvPicPr/>
          <p:nvPr/>
        </p:nvPicPr>
        <p:blipFill>
          <a:blip r:embed="rId1"/>
          <a:stretch/>
        </p:blipFill>
        <p:spPr>
          <a:xfrm>
            <a:off x="1295280" y="19810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14" descr="ANd9GcRwusqBaDWLy3qehjfXQd8y_1JSshNYxpZLEB-dvXedLwplyY2H"/>
          <p:cNvPicPr/>
          <p:nvPr/>
        </p:nvPicPr>
        <p:blipFill>
          <a:blip r:embed="rId2"/>
          <a:stretch/>
        </p:blipFill>
        <p:spPr>
          <a:xfrm>
            <a:off x="4952880" y="2133720"/>
            <a:ext cx="2981520" cy="1533240"/>
          </a:xfrm>
          <a:prstGeom prst="rect">
            <a:avLst/>
          </a:prstGeom>
          <a:ln w="0">
            <a:noFill/>
          </a:ln>
        </p:spPr>
      </p:pic>
      <p:sp>
        <p:nvSpPr>
          <p:cNvPr id="159" name="Oval 16"/>
          <p:cNvSpPr/>
          <p:nvPr/>
        </p:nvSpPr>
        <p:spPr>
          <a:xfrm>
            <a:off x="685800" y="4495680"/>
            <a:ext cx="3048120" cy="1143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истуль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4952880" y="4495680"/>
            <a:ext cx="3124440" cy="12193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лей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гадай, кто это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 девчонки и мальчишки полюбить его успели. Он – герой веселой книжки, за спиной его пропеллер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Карлсо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8" descr="event249"/>
          <p:cNvPicPr/>
          <p:nvPr/>
        </p:nvPicPr>
        <p:blipFill>
          <a:blip r:embed="rId1"/>
          <a:stretch/>
        </p:blipFill>
        <p:spPr>
          <a:xfrm>
            <a:off x="4419720" y="2514600"/>
            <a:ext cx="449568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гадай, кто это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елый по белому написал белым. Рыжая пойдёт, белого найдё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Заяц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6" descr="ANd9GcRP7vcIMM_Lr0sU89LK0O2ORpO5sOqPcOEXRIQdBrPWWn_2UNd0sA"/>
          <p:cNvPicPr/>
          <p:nvPr/>
        </p:nvPicPr>
        <p:blipFill>
          <a:blip r:embed="rId1"/>
          <a:stretch/>
        </p:blipFill>
        <p:spPr>
          <a:xfrm>
            <a:off x="4672080" y="2590920"/>
            <a:ext cx="3139920" cy="3733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event249"/>
          <p:cNvPicPr/>
          <p:nvPr/>
        </p:nvPicPr>
        <p:blipFill>
          <a:blip r:embed="rId2"/>
          <a:stretch/>
        </p:blipFill>
        <p:spPr>
          <a:xfrm>
            <a:off x="228600" y="0"/>
            <a:ext cx="205740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«Зайчик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, два, три, четыре, пять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шел зайчик погулять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друг охотник выбегает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ямо в зайчика стреля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иф-паф, не попал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ыстрый зайчик убежа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ANd9GcRP7vcIMM_Lr0sU89LK0O2ORpO5sOqPcOEXRIQdBrPWWn_2UNd0sA"/>
          <p:cNvPicPr/>
          <p:nvPr/>
        </p:nvPicPr>
        <p:blipFill>
          <a:blip r:embed="rId1"/>
          <a:stretch/>
        </p:blipFill>
        <p:spPr>
          <a:xfrm>
            <a:off x="5883120" y="2590920"/>
            <a:ext cx="28195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йди рит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 кочкам, по кочкам, по маленьким дорожкам в ямку - бух ! Провалился пету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й, тюк, тюк, тюк, наловил дед щук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абка рыбку пекла, сковородка потекл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6" descr="%D0%BF%D0%B5%D1%82%D1%83%D1%85"/>
          <p:cNvPicPr/>
          <p:nvPr/>
        </p:nvPicPr>
        <p:blipFill>
          <a:blip r:embed="rId1"/>
          <a:stretch/>
        </p:blipFill>
        <p:spPr>
          <a:xfrm>
            <a:off x="2057400" y="4419720"/>
            <a:ext cx="2355840" cy="243828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12" descr="95011696"/>
          <p:cNvPicPr/>
          <p:nvPr/>
        </p:nvPicPr>
        <p:blipFill>
          <a:blip r:embed="rId2"/>
          <a:stretch/>
        </p:blipFill>
        <p:spPr>
          <a:xfrm>
            <a:off x="5029200" y="4048200"/>
            <a:ext cx="3753000" cy="2809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event249"/>
          <p:cNvPicPr/>
          <p:nvPr/>
        </p:nvPicPr>
        <p:blipFill>
          <a:blip r:embed="rId3"/>
          <a:stretch/>
        </p:blipFill>
        <p:spPr>
          <a:xfrm>
            <a:off x="457200" y="0"/>
            <a:ext cx="175248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гадай, кто это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н руками машет плавно, слышит каждый инструмент. Он в оркестре самый главный, он в оркестре – президен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Дирижё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5" descr="event249"/>
          <p:cNvPicPr/>
          <p:nvPr/>
        </p:nvPicPr>
        <p:blipFill>
          <a:blip r:embed="rId1"/>
          <a:stretch/>
        </p:blipFill>
        <p:spPr>
          <a:xfrm>
            <a:off x="457200" y="0"/>
            <a:ext cx="1752480" cy="1465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ANd9GcQNSAavlLISZKJHNAuEFSmkxflMbQN2Av5wwTlVzhEhiE69YxnuzQ"/>
          <p:cNvPicPr/>
          <p:nvPr/>
        </p:nvPicPr>
        <p:blipFill>
          <a:blip r:embed="rId2"/>
          <a:stretch/>
        </p:blipFill>
        <p:spPr>
          <a:xfrm>
            <a:off x="4419720" y="3124080"/>
            <a:ext cx="45720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трунные инструмент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й, звенит она, звенит, всех игрою веселит. А всего-то три струны ей для музыки нужны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Балалай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Дом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5" descr="1316589156_Balalaika"/>
          <p:cNvPicPr/>
          <p:nvPr/>
        </p:nvPicPr>
        <p:blipFill>
          <a:blip r:embed="rId1"/>
          <a:stretch/>
        </p:blipFill>
        <p:spPr>
          <a:xfrm>
            <a:off x="6172200" y="2286000"/>
            <a:ext cx="1905120" cy="1833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ANd9GcQflejxOPRxKfLpQXxDOR1RqrKXbEPvOkLTOCBDpMstdsHZkiv3Qw"/>
          <p:cNvPicPr/>
          <p:nvPr/>
        </p:nvPicPr>
        <p:blipFill>
          <a:blip r:embed="rId2"/>
          <a:stretch/>
        </p:blipFill>
        <p:spPr>
          <a:xfrm>
            <a:off x="6629400" y="4191120"/>
            <a:ext cx="17701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трунные инструмент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ANd9GcQflejxOPRxKfLpQXxDOR1RqrKXbEPvOkLTOCBDpMstdsHZkiv3Qw"/>
          <p:cNvPicPr/>
          <p:nvPr/>
        </p:nvPicPr>
        <p:blipFill>
          <a:blip r:embed="rId1"/>
          <a:stretch/>
        </p:blipFill>
        <p:spPr>
          <a:xfrm>
            <a:off x="5867280" y="1676520"/>
            <a:ext cx="2397240" cy="3200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1316589156_Balalaika"/>
          <p:cNvPicPr/>
          <p:nvPr/>
        </p:nvPicPr>
        <p:blipFill>
          <a:blip r:embed="rId2"/>
          <a:stretch/>
        </p:blipFill>
        <p:spPr>
          <a:xfrm>
            <a:off x="914400" y="1905120"/>
            <a:ext cx="3143160" cy="3024000"/>
          </a:xfrm>
          <a:prstGeom prst="rect">
            <a:avLst/>
          </a:prstGeom>
          <a:ln w="0">
            <a:noFill/>
          </a:ln>
        </p:spPr>
      </p:pic>
      <p:sp>
        <p:nvSpPr>
          <p:cNvPr id="196" name="Oval 6"/>
          <p:cNvSpPr/>
          <p:nvPr/>
        </p:nvSpPr>
        <p:spPr>
          <a:xfrm>
            <a:off x="762120" y="4724280"/>
            <a:ext cx="3124080" cy="16002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алай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Oval 7"/>
          <p:cNvSpPr/>
          <p:nvPr/>
        </p:nvSpPr>
        <p:spPr>
          <a:xfrm>
            <a:off x="5410080" y="4800600"/>
            <a:ext cx="3124440" cy="15238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01</cp:lastModifiedBy>
  <dcterms:modified xsi:type="dcterms:W3CDTF">2016-09-30T12:01:3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