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0.png" ContentType="image/png"/>
  <Override PartName="/ppt/media/image18.jpeg" ContentType="image/jpeg"/>
  <Override PartName="/ppt/media/image13.jpeg" ContentType="image/jpeg"/>
  <Override PartName="/ppt/media/image19.jpeg" ContentType="image/jpeg"/>
  <Override PartName="/ppt/media/image11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14.jpeg" ContentType="image/jpeg"/>
  <Override PartName="/ppt/media/image8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394E-9187-4509-A782-E7E1FA54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143F-C808-4158-AA6B-BDB7E427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64C4-B962-4995-9587-BDF72F92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647F-F32A-4B91-A300-660E5FEF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5F8A-2271-4301-BA76-2D68C09F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618D-B625-466C-AA0D-01917293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0153-51D9-4337-83DA-C25871E9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9204-DB78-4428-B220-DFF632BC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32BB-DD53-4A01-9846-B56CAF94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E02A-EF6A-41C7-9DF1-2BF1FE73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A360-620C-4B5C-BE7E-3034F46B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33FC-C5BE-421E-B957-5254B01C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2205-DEAB-46C7-B95B-C765256E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61B0-6850-4608-B2CC-25455809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7191-AA7C-47BA-A344-D2FA194D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7EAB-62BD-4AC4-83AF-08EF62A9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5518-035C-4878-BE6E-7E546342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36656-0AB5-45B1-8F18-67952285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8B464-E2CE-4080-9264-6C2434AF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28AB9-BBC3-42E4-AD03-464EC584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FC847-7327-404A-81B7-8F2F2CD8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6EF4F-7916-4DC9-A7DE-9BA48C57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CB7D-5118-4E6D-9D80-48F1FAE6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80307-D3DB-454C-BCAB-582FDA8A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A875B-F865-47C6-9C07-09849C6F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84E35-8D5D-4D3D-A671-A8447B36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36B37-6656-4059-AB80-3C1E9EF4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C325F-6BE3-45E1-835B-1FCEA495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43574-CB04-44C6-AB48-73F361ED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282D5-2AD9-4671-876D-F7415B90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DE5C9-568A-436D-A932-99F7946C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4F300-F47F-47B5-B257-E6CCE2D5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3ADBE-7EE3-4D2D-AECE-F7681B01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289E-0525-4838-A976-19F964E9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7F601-92B1-4F5C-A426-7D541F70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F9171-766C-479D-9BAB-9F2FF8CF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498C9-9D56-43D8-A9D1-64C4A483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907A4-AFF4-4677-8639-C8E70C15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BB399-6E3D-46F1-A2C4-AC14D900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D6AF8-5AB2-4B51-ADF3-A956C2C6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7A323-949D-4CDF-AE7E-9F685256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84785-401D-4DCA-BCF8-A85633AE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4FBF3-FA7A-4F94-BD3D-6776292B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5FA-6974-43F5-945C-78C1EAB1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8B16-F9CC-4237-BED1-36D37F39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634F-AEB8-4B1F-945E-26B650FB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8CF4-492D-4213-9A53-6F0A63E6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C415-8DFD-47FF-A933-AA30F021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7C60-1BC3-4673-A434-C28067CCA25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AADF-5B04-4F22-9B45-A92E621CE1C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A1D4-D46C-4233-AC6D-2548E5170A7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3A8B-7C5F-4715-A3D3-0B2D4EA67DA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s://yandex.ru/images/search" TargetMode="External"/><Relationship Id="rId3" Type="http://schemas.openxmlformats.org/officeDocument/2006/relationships/hyperlink" Target="https://yandex.ru/images/search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emiart.ru/forum/journal.php?user=47766&amp;comm=139175" TargetMode="External"/><Relationship Id="rId2" Type="http://schemas.openxmlformats.org/officeDocument/2006/relationships/hyperlink" Target="http://demiart.ru/forum/journal.php?user=47766&amp;comm=139175" TargetMode="External"/><Relationship Id="rId3" Type="http://schemas.openxmlformats.org/officeDocument/2006/relationships/hyperlink" Target="http://arts.in.ua/artists/chernov/w/52257/" TargetMode="External"/><Relationship Id="rId4" Type="http://schemas.openxmlformats.org/officeDocument/2006/relationships/hyperlink" Target="http://arts.in.ua/artists/chernov/w/52257/" TargetMode="External"/><Relationship Id="rId5" Type="http://schemas.openxmlformats.org/officeDocument/2006/relationships/hyperlink" Target="http://www.picstopin.com/395/framed-size-30-12-x-22-inches/http:%7C%7Cgallerydriver*com%7CArt%7CTheScourge_72dpi*jpg/" TargetMode="External"/><Relationship Id="rId6" Type="http://schemas.openxmlformats.org/officeDocument/2006/relationships/hyperlink" Target="http://www.picstopin.com/395/framed-size-30-12-x-22-inches/http:%7C%7Cgallerydriver*com%7CArt%7CTheScourge_72dpi*jpg/" TargetMode="External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s://ru.wikipedia.org/wiki/&#1060;&#1088;&#1072;&#1085;&#1094;&#1091;&#1079;&#1089;&#1082;&#1080;&#1081;_&#1103;&#1079;&#1099;&#1082;" TargetMode="External"/><Relationship Id="rId3" Type="http://schemas.openxmlformats.org/officeDocument/2006/relationships/hyperlink" Target="https://ru.wikipedia.org/wiki/&#1055;&#1086;&#1088;&#1090;&#1088;&#1077;&#1090;" TargetMode="External"/><Relationship Id="rId4" Type="http://schemas.openxmlformats.org/officeDocument/2006/relationships/hyperlink" Target="https://ru.wikipedia.org/wiki/&#1055;&#1077;&#1081;&#1079;&#1072;&#1078;" TargetMode="External"/><Relationship Id="rId5" Type="http://schemas.openxmlformats.org/officeDocument/2006/relationships/hyperlink" Target="https://ru.wikipedia.org/wiki/&#1048;&#1089;&#1090;&#1086;&#1088;&#1080;&#1095;&#1077;&#1089;&#1082;&#1072;&#1103;_&#1078;&#1080;&#1074;&#1086;&#1087;&#1080;&#1089;&#1100;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2" descr=""/>
          <p:cNvPicPr/>
          <p:nvPr/>
        </p:nvPicPr>
        <p:blipFill>
          <a:blip r:embed="rId1"/>
          <a:stretch/>
        </p:blipFill>
        <p:spPr>
          <a:xfrm>
            <a:off x="1695600" y="4724280"/>
            <a:ext cx="5960880" cy="1749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73120" y="1773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2745"/>
                </a:solidFill>
                <a:latin typeface="Trebuchet MS"/>
              </a:rPr>
              <a:t>Изображение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8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2745"/>
                </a:solidFill>
                <a:latin typeface="Trebuchet MS"/>
              </a:rPr>
              <a:t>предметного мира.</a:t>
            </a:r>
            <a:br>
              <a:rPr sz="4000"/>
            </a:br>
            <a:r>
              <a:rPr b="1" lang="ru-RU" sz="7200" spc="-1" strike="noStrike">
                <a:solidFill>
                  <a:srgbClr val="212745"/>
                </a:solidFill>
                <a:latin typeface="Trebuchet MS"/>
              </a:rPr>
              <a:t>натюрморт</a:t>
            </a:r>
            <a:endParaRPr b="0" lang="en-US" sz="7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2"/>
          <a:stretch/>
        </p:blipFill>
        <p:spPr>
          <a:xfrm>
            <a:off x="1474920" y="262080"/>
            <a:ext cx="601632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692000" y="5229000"/>
            <a:ext cx="5970600" cy="83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Композиция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Равнобедренный треугольник 6"/>
          <p:cNvSpPr/>
          <p:nvPr/>
        </p:nvSpPr>
        <p:spPr>
          <a:xfrm>
            <a:off x="2268360" y="2349360"/>
            <a:ext cx="1511640" cy="2159280"/>
          </a:xfrm>
          <a:prstGeom prst="triangle">
            <a:avLst>
              <a:gd name="adj" fmla="val 50000"/>
            </a:avLst>
          </a:prstGeom>
          <a:solidFill>
            <a:srgbClr val="b4dcfa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Прямоугольник 7"/>
          <p:cNvSpPr/>
          <p:nvPr/>
        </p:nvSpPr>
        <p:spPr>
          <a:xfrm>
            <a:off x="3419640" y="2924280"/>
            <a:ext cx="2016000" cy="2017440"/>
          </a:xfrm>
          <a:prstGeom prst="rect">
            <a:avLst/>
          </a:prstGeom>
          <a:solidFill>
            <a:srgbClr val="4fadf3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Равнобедренный треугольник 8"/>
          <p:cNvSpPr/>
          <p:nvPr/>
        </p:nvSpPr>
        <p:spPr>
          <a:xfrm>
            <a:off x="5003640" y="1484280"/>
            <a:ext cx="2592720" cy="3673440"/>
          </a:xfrm>
          <a:prstGeom prst="triangle">
            <a:avLst>
              <a:gd name="adj" fmla="val 5000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Прямая соединительная линия 10"/>
          <p:cNvSpPr/>
          <p:nvPr/>
        </p:nvSpPr>
        <p:spPr>
          <a:xfrm>
            <a:off x="250920" y="3573360"/>
            <a:ext cx="2233440" cy="0"/>
          </a:xfrm>
          <a:prstGeom prst="line">
            <a:avLst/>
          </a:prstGeom>
          <a:ln w="9360">
            <a:solidFill>
              <a:srgbClr val="4e6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Прямая соединительная линия 12"/>
          <p:cNvSpPr/>
          <p:nvPr/>
        </p:nvSpPr>
        <p:spPr>
          <a:xfrm>
            <a:off x="7093080" y="3573360"/>
            <a:ext cx="1726920" cy="0"/>
          </a:xfrm>
          <a:prstGeom prst="line">
            <a:avLst/>
          </a:prstGeom>
          <a:ln w="9360">
            <a:solidFill>
              <a:srgbClr val="4e6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Дуга 18"/>
          <p:cNvSpPr/>
          <p:nvPr/>
        </p:nvSpPr>
        <p:spPr>
          <a:xfrm rot="11172600">
            <a:off x="1115640" y="4149720"/>
            <a:ext cx="7128000" cy="2448000"/>
          </a:xfrm>
          <a:custGeom>
            <a:avLst/>
            <a:gdLst/>
            <a:ahLst/>
            <a:rect l="l" t="t" r="r" b="b"/>
            <a:pathLst>
              <a:path stroke="0" w="7127875" h="2447925">
                <a:moveTo>
                  <a:pt x="3563937" y="0"/>
                </a:moveTo>
                <a:cubicBezTo>
                  <a:pt x="5532246" y="0"/>
                  <a:pt x="7127875" y="547987"/>
                  <a:pt x="7127875" y="1223963"/>
                </a:cubicBezTo>
                <a:lnTo>
                  <a:pt x="3563938" y="1223963"/>
                </a:lnTo>
                <a:cubicBezTo>
                  <a:pt x="3563938" y="815975"/>
                  <a:pt x="3563937" y="407988"/>
                  <a:pt x="3563937" y="0"/>
                </a:cubicBezTo>
                <a:close/>
              </a:path>
              <a:path fill="none" w="7127875" h="2447925">
                <a:moveTo>
                  <a:pt x="3563937" y="0"/>
                </a:moveTo>
                <a:cubicBezTo>
                  <a:pt x="5532246" y="0"/>
                  <a:pt x="7127875" y="547987"/>
                  <a:pt x="7127875" y="1223963"/>
                </a:cubicBezTo>
              </a:path>
            </a:pathLst>
          </a:custGeom>
          <a:noFill/>
          <a:ln w="9360">
            <a:solidFill>
              <a:srgbClr val="4e67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176040" y="6480"/>
            <a:ext cx="8571240" cy="16207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476000" y="1125360"/>
            <a:ext cx="59691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Единство предметов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Разнообразие предметов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Целостность композиц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Центр композиц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Симметр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Асимметр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1587600" y="3108240"/>
            <a:ext cx="5968800" cy="646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C:\Users\Al\Desktop\postroenie.jpg"/>
          <p:cNvPicPr/>
          <p:nvPr/>
        </p:nvPicPr>
        <p:blipFill>
          <a:blip r:embed="rId3"/>
          <a:stretch/>
        </p:blipFill>
        <p:spPr>
          <a:xfrm>
            <a:off x="5292720" y="1125360"/>
            <a:ext cx="307980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Натюрморт является отражением времени.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Художники передавали  своё время через предметы и вещи, отражая в нём не только саму жизнь, но и какие-то убеждения и ценности того времени, раскрывая это всё в своём творчестве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1762200" y="401760"/>
            <a:ext cx="5967360" cy="1403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55964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5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0900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Над каким жанром мы сегодня работали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115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0900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Что нового для себя узнали и открыли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115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0900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Кому было трудно и почему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115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0900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Над чем вам ещё необходимо поработать?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115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0900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Чему вы ещё хотите научиться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090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4" descr=""/>
          <p:cNvPicPr/>
          <p:nvPr/>
        </p:nvPicPr>
        <p:blipFill>
          <a:blip r:embed="rId1"/>
          <a:stretch/>
        </p:blipFill>
        <p:spPr>
          <a:xfrm>
            <a:off x="396720" y="1341360"/>
            <a:ext cx="8674200" cy="17924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722160" y="54936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Литератур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3" descr=""/>
          <p:cNvPicPr/>
          <p:nvPr/>
        </p:nvPicPr>
        <p:blipFill>
          <a:blip r:embed="rId1"/>
          <a:stretch/>
        </p:blipFill>
        <p:spPr>
          <a:xfrm>
            <a:off x="920880" y="401760"/>
            <a:ext cx="7375320" cy="16588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1640" y="6237360"/>
            <a:ext cx="5970600" cy="4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56c7aa"/>
                </a:solidFill>
                <a:uFillTx/>
                <a:latin typeface="Trebuchet MS"/>
                <a:hlinkClick r:id="rId2"/>
              </a:rPr>
              <a:t>https://</a:t>
            </a:r>
            <a:r>
              <a:rPr b="0" lang="en-US" sz="1900" spc="-1" strike="noStrike" u="sng">
                <a:solidFill>
                  <a:srgbClr val="56c7aa"/>
                </a:solidFill>
                <a:uFillTx/>
                <a:latin typeface="Trebuchet MS"/>
                <a:hlinkClick r:id="rId3"/>
              </a:rPr>
              <a:t>yandex.ru/images/search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9" name="Picture 2" descr="C:\Users\Al\Desktop\157db3671726fe4fafb96c8b6faa29f0.jpg"/>
          <p:cNvPicPr/>
          <p:nvPr/>
        </p:nvPicPr>
        <p:blipFill>
          <a:blip r:embed="rId4"/>
          <a:srcRect l="7396" t="14954" r="9350" b="0"/>
          <a:stretch/>
        </p:blipFill>
        <p:spPr>
          <a:xfrm>
            <a:off x="1463760" y="1557360"/>
            <a:ext cx="6054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10920" y="5445000"/>
            <a:ext cx="7848360" cy="13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56c7aa"/>
                </a:solidFill>
                <a:uFillTx/>
                <a:latin typeface="Trebuchet MS"/>
                <a:hlinkClick r:id="rId1"/>
              </a:rPr>
              <a:t>http://</a:t>
            </a:r>
            <a:r>
              <a:rPr b="0" lang="en-US" sz="1700" spc="-1" strike="noStrike" u="sng">
                <a:solidFill>
                  <a:srgbClr val="56c7aa"/>
                </a:solidFill>
                <a:uFillTx/>
                <a:latin typeface="Trebuchet MS"/>
                <a:hlinkClick r:id="rId2"/>
              </a:rPr>
              <a:t>demiart.ru/forum/journal.php?user=47766&amp;comm=139175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56c7aa"/>
                </a:solidFill>
                <a:uFillTx/>
                <a:latin typeface="Trebuchet MS"/>
                <a:hlinkClick r:id="rId3"/>
              </a:rPr>
              <a:t>http://arts.in.ua/artists/chernov/w/52257</a:t>
            </a:r>
            <a:r>
              <a:rPr b="0" lang="en-US" sz="1700" spc="-1" strike="noStrike" u="sng">
                <a:solidFill>
                  <a:srgbClr val="56c7aa"/>
                </a:solidFill>
                <a:uFillTx/>
                <a:latin typeface="Trebuchet MS"/>
                <a:hlinkClick r:id="rId4"/>
              </a:rPr>
              <a:t>/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56c7aa"/>
                </a:solidFill>
                <a:uFillTx/>
                <a:latin typeface="Trebuchet MS"/>
                <a:hlinkClick r:id="rId5"/>
              </a:rPr>
              <a:t>http://www.picstopin.com/395/framed-size-30-12-x-22-inches/http:%7C%7Cgallerydriver*com%7CArt%7CTheScourge_72dpi*jpg</a:t>
            </a:r>
            <a:r>
              <a:rPr b="0" lang="en-US" sz="1700" spc="-1" strike="noStrike" u="sng">
                <a:solidFill>
                  <a:srgbClr val="56c7aa"/>
                </a:solidFill>
                <a:uFillTx/>
                <a:latin typeface="Trebuchet MS"/>
                <a:hlinkClick r:id="rId6"/>
              </a:rPr>
              <a:t>/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2" descr="C:\Users\Al\Desktop\52257.jpg"/>
          <p:cNvPicPr/>
          <p:nvPr/>
        </p:nvPicPr>
        <p:blipFill>
          <a:blip r:embed="rId7"/>
          <a:stretch/>
        </p:blipFill>
        <p:spPr>
          <a:xfrm>
            <a:off x="2411280" y="333360"/>
            <a:ext cx="4381560" cy="3210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Al\Desktop\j47766_1273314372.jpg"/>
          <p:cNvPicPr/>
          <p:nvPr/>
        </p:nvPicPr>
        <p:blipFill>
          <a:blip r:embed="rId8"/>
          <a:stretch/>
        </p:blipFill>
        <p:spPr>
          <a:xfrm>
            <a:off x="4788000" y="3040200"/>
            <a:ext cx="3578040" cy="2414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C:\Users\Al\Desktop\1385066565-natyurmort-s-nautilusom-serebryanoy-posudoy-i-egevichnim-pirogom-1646.jpg"/>
          <p:cNvPicPr/>
          <p:nvPr/>
        </p:nvPicPr>
        <p:blipFill>
          <a:blip r:embed="rId9"/>
          <a:stretch/>
        </p:blipFill>
        <p:spPr>
          <a:xfrm>
            <a:off x="1332000" y="3294000"/>
            <a:ext cx="30240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49120" y="5950080"/>
            <a:ext cx="8504280" cy="10047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765000"/>
            <a:ext cx="4897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юрмо́рт (</a:t>
            </a:r>
            <a:r>
              <a:rPr b="0" lang="ru-RU" sz="2000" spc="-1" strike="noStrike" u="sng">
                <a:solidFill>
                  <a:srgbClr val="56c7aa"/>
                </a:solidFill>
                <a:uFillTx/>
                <a:latin typeface="Times New Roman"/>
                <a:ea typeface="Times New Roman"/>
                <a:hlinkClick r:id="rId2"/>
              </a:rPr>
              <a:t>ф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e mort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«мёртвая природа») — изображение неодушевлённых предметов в изобразительном искусстве, в отличие от </a:t>
            </a:r>
            <a:r>
              <a:rPr b="0" lang="ru-RU" sz="2000" spc="-1" strike="noStrike" u="sng">
                <a:solidFill>
                  <a:srgbClr val="56c7aa"/>
                </a:solidFill>
                <a:uFillTx/>
                <a:latin typeface="Times New Roman"/>
                <a:ea typeface="Times New Roman"/>
                <a:hlinkClick r:id="rId3"/>
              </a:rPr>
              <a:t>портретн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жанровой, исторической и </a:t>
            </a:r>
            <a:r>
              <a:rPr b="0" lang="ru-RU" sz="2000" spc="-1" strike="noStrike" u="sng">
                <a:solidFill>
                  <a:srgbClr val="56c7aa"/>
                </a:solidFill>
                <a:uFillTx/>
                <a:latin typeface="Times New Roman"/>
                <a:ea typeface="Times New Roman"/>
                <a:hlinkClick r:id="rId4"/>
              </a:rPr>
              <a:t>пейзажн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матики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ную точку раннего натюрморта можно найти в XV—XVI веках, когда он рассматривался как часть </a:t>
            </a:r>
            <a:r>
              <a:rPr b="0" lang="ru-RU" sz="2000" spc="-1" strike="noStrike" u="sng">
                <a:solidFill>
                  <a:srgbClr val="56c7aa"/>
                </a:solidFill>
                <a:uFillTx/>
                <a:latin typeface="Times New Roman"/>
                <a:ea typeface="Times New Roman"/>
                <a:hlinkClick r:id="rId5"/>
              </a:rPr>
              <a:t>историческ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жанровой композиции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Picture 2" descr="C:\Users\Al\Desktop\47a9c12b343a7488c6b0647c78e9c84e.jpg"/>
          <p:cNvPicPr/>
          <p:nvPr/>
        </p:nvPicPr>
        <p:blipFill>
          <a:blip r:embed="rId6"/>
          <a:stretch/>
        </p:blipFill>
        <p:spPr>
          <a:xfrm>
            <a:off x="5219640" y="620640"/>
            <a:ext cx="36943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700000" y="5876640"/>
            <a:ext cx="5970600" cy="83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45"/>
                </a:solidFill>
                <a:latin typeface="Trebuchet MS"/>
              </a:rPr>
              <a:t>http://www.booksite.ru/enciklopedia/job/9.ht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Picture 3" descr="C:\Users\Al\Desktop\210.jpg"/>
          <p:cNvPicPr/>
          <p:nvPr/>
        </p:nvPicPr>
        <p:blipFill>
          <a:blip r:embed="rId1"/>
          <a:stretch/>
        </p:blipFill>
        <p:spPr>
          <a:xfrm>
            <a:off x="1835280" y="1052640"/>
            <a:ext cx="5786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92160" y="122400"/>
            <a:ext cx="8655120" cy="5108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539280" y="5876640"/>
            <a:ext cx="8280360" cy="83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45"/>
                </a:solidFill>
                <a:latin typeface="Trebuchet MS"/>
              </a:rPr>
              <a:t>http://www.liveinternet.ru/users/5006355/post389114924/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Picture 2" descr="C:\Users\Al\Desktop\gollandskij-natyurmort-07-e1404637159289.jpg"/>
          <p:cNvPicPr/>
          <p:nvPr/>
        </p:nvPicPr>
        <p:blipFill>
          <a:blip r:embed="rId2"/>
          <a:stretch/>
        </p:blipFill>
        <p:spPr>
          <a:xfrm>
            <a:off x="5076720" y="1557360"/>
            <a:ext cx="2467080" cy="2443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C:\Users\Al\Desktop\gollandskij-natyurmort-02-e1404636145182.jpg"/>
          <p:cNvPicPr/>
          <p:nvPr/>
        </p:nvPicPr>
        <p:blipFill>
          <a:blip r:embed="rId3"/>
          <a:stretch/>
        </p:blipFill>
        <p:spPr>
          <a:xfrm>
            <a:off x="250920" y="1413000"/>
            <a:ext cx="3330360" cy="2536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C:\Users\Al\Desktop\gollandskij-natyurmort-01-e1404635970969.jpg"/>
          <p:cNvPicPr/>
          <p:nvPr/>
        </p:nvPicPr>
        <p:blipFill>
          <a:blip r:embed="rId4"/>
          <a:stretch/>
        </p:blipFill>
        <p:spPr>
          <a:xfrm>
            <a:off x="3432240" y="4013280"/>
            <a:ext cx="2908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6040" y="311040"/>
            <a:ext cx="8974440" cy="52056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78920" y="5805360"/>
            <a:ext cx="871380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45"/>
                </a:solidFill>
                <a:latin typeface="Trebuchet MS"/>
              </a:rPr>
              <a:t>http://vechnost7.blogspot.ru/2016/03/francisco-de-zurbaran-1598-1664-2.html?view=snapsho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Picture 2" descr="C:\Users\Al\Desktop\8_1660~1.JPG"/>
          <p:cNvPicPr/>
          <p:nvPr/>
        </p:nvPicPr>
        <p:blipFill>
          <a:blip r:embed="rId2"/>
          <a:stretch/>
        </p:blipFill>
        <p:spPr>
          <a:xfrm>
            <a:off x="1068480" y="1052640"/>
            <a:ext cx="4251240" cy="2305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Users\Al\Desktop\%20%20~1.JPG"/>
          <p:cNvPicPr/>
          <p:nvPr/>
        </p:nvPicPr>
        <p:blipFill>
          <a:blip r:embed="rId3"/>
          <a:stretch/>
        </p:blipFill>
        <p:spPr>
          <a:xfrm>
            <a:off x="1068480" y="3375000"/>
            <a:ext cx="425124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50560" y="549360"/>
            <a:ext cx="4608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Коровин К.А. – Вино, фрукты. 1910.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 algn="r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http://masterart.ru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Picture 2" descr="C:\Users\Al\Desktop\Grabar_IE-Pears-on-the-Green-Drapery-1922-State-Tretyakov-Gallery-575x398.jpg"/>
          <p:cNvPicPr/>
          <p:nvPr/>
        </p:nvPicPr>
        <p:blipFill>
          <a:blip r:embed="rId1"/>
          <a:stretch/>
        </p:blipFill>
        <p:spPr>
          <a:xfrm>
            <a:off x="4427640" y="1484280"/>
            <a:ext cx="4325760" cy="2994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4716360" y="4724280"/>
            <a:ext cx="4627800" cy="884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Al\Desktop\3176.jpg"/>
          <p:cNvPicPr/>
          <p:nvPr/>
        </p:nvPicPr>
        <p:blipFill>
          <a:blip r:embed="rId3"/>
          <a:stretch/>
        </p:blipFill>
        <p:spPr>
          <a:xfrm>
            <a:off x="324000" y="1514520"/>
            <a:ext cx="387648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339400" cy="14986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587664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http://www.artscroll.ru/pag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Picture 2" descr="C:\Users\Al\Desktop\000169.jpg"/>
          <p:cNvPicPr/>
          <p:nvPr/>
        </p:nvPicPr>
        <p:blipFill>
          <a:blip r:embed="rId2"/>
          <a:stretch/>
        </p:blipFill>
        <p:spPr>
          <a:xfrm>
            <a:off x="1298520" y="1125360"/>
            <a:ext cx="68882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7:15:43Z</dcterms:created>
  <dc:creator>Admin</dc:creator>
  <dc:description/>
  <dc:language>en-US</dc:language>
  <cp:lastModifiedBy>Al</cp:lastModifiedBy>
  <dcterms:modified xsi:type="dcterms:W3CDTF">2017-02-19T11:30:43Z</dcterms:modified>
  <cp:revision>28</cp:revision>
  <dc:subject/>
  <dc:title>Изображение предметного мира –  натюрморт</dc:title>
</cp:coreProperties>
</file>