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20.png" ContentType="image/png"/>
  <Override PartName="/ppt/media/image18.jpeg" ContentType="image/jpeg"/>
  <Override PartName="/ppt/media/image13.jpeg" ContentType="image/jpeg"/>
  <Override PartName="/ppt/media/image19.jpeg" ContentType="image/jpeg"/>
  <Override PartName="/ppt/media/image11.png" ContentType="image/png"/>
  <Override PartName="/ppt/media/image22.jpeg" ContentType="image/jpeg"/>
  <Override PartName="/ppt/media/image9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34.jpeg" ContentType="image/jpeg"/>
  <Override PartName="/ppt/media/image14.jpeg" ContentType="image/jpeg"/>
  <Override PartName="/ppt/media/image8.png" ContentType="image/png"/>
  <Override PartName="/ppt/media/image30.png" ContentType="image/png"/>
  <Override PartName="/ppt/media/image28.png" ContentType="image/png"/>
  <Override PartName="/ppt/media/image29.jpeg" ContentType="image/jpeg"/>
  <Override PartName="/ppt/media/image31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1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35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FADD-20E3-469E-9C08-DFE2D2372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822E-E8F1-4918-9E09-2595852DD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698D-35D9-41CC-A450-D0756D633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139C-6C5A-4610-8259-97E915EF8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A25C3-2BF4-4EAA-A6BE-C66AEDEAA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426BB-4F6B-41F8-A1DF-43C23FC64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A63F0-9EF8-451D-86AF-BCFC55DEE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92A8E-FE1C-429B-A56A-5D56F42E9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E7D7A-F3D4-4D26-8D74-E99E8704C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7D51A-966F-4ECB-924D-8500C4B2C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D8A21-486C-409F-B7A0-D34974E79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4456-CFE3-498E-900F-5C4DEEFC5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D1111-9776-4062-8A96-3C3F18A0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FD24D-3C36-4275-A833-B4340D33B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3BCC1-486D-42EA-AE7F-302261A20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FBCCB-D79D-4743-8432-C2137D21F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6A17F-5E1A-4A53-93C3-7ACF570CA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AE985-F005-4C7F-87FF-B4259A7C1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ADAAF-8017-4BFA-8C04-C89E57403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92A68-10ED-4B23-AAB8-0EDD7D453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20673-6580-485C-BF53-594FCBBFD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36428-7CE3-40AD-8C8E-BC164E4D6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DB62-A2F5-4773-88F7-18CC5E3BE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EF843-EFBE-4859-B515-8EDC0F963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35CF2-7AB5-4BB6-8BAD-5EA68DC2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A3E6D-084D-4180-A5A4-7A52589C1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F5BBD-574B-4AEF-9ABA-341F2FD4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A7D92-5F6A-4DCE-B448-C3769F3BD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05FF7-AED3-41C7-AA66-B182FED66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93753-88D1-4985-9E59-5E048B020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898A3-0043-442A-B81C-D2BF9E74D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B09D4-7C35-4AB3-AC5F-0E4D0DDEB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E6F20-F3E4-4AB8-891A-F57031493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40F7-F36C-4DAB-BF37-C43154230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AC6A2-0FA6-4A49-8227-BF56DCC5B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1A387-3D46-41EE-BEE1-9F2EE058B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9DB8E-9F33-4DB9-BC64-2863EAD18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70AC6-B357-4011-B157-E282F808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2878F-00A9-4768-8FA1-56F79390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117DE-8DB1-4FB6-AFA7-4960C4148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1BE10-A5A3-4817-B249-C3C66D681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300B0-1119-4D88-8595-FA91D35E4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8D8B7-D94D-4334-A1FF-D0DC70B93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6F0E-2532-4FB5-BB7E-A2125D8F5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4F0E-5117-4751-9F0F-C4459E89D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60DB-2069-4EA7-98A7-04FAE0D5C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D018-A809-4777-90A7-320882C56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0B68-DC5C-4903-A755-C584FE76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CD96C-0AFB-4846-B1ED-7A43607483E7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480AB-2703-4577-BC76-04D7253C1DDE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78A77-1497-4110-A6C4-83B6358674E6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9E04C-4621-48EB-B2B1-99C9C4673641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s://yandex.ru/images/search" TargetMode="External"/><Relationship Id="rId3" Type="http://schemas.openxmlformats.org/officeDocument/2006/relationships/hyperlink" Target="https://yandex.ru/images/search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demiart.ru/forum/journal.php?user=47766&amp;comm=139175" TargetMode="External"/><Relationship Id="rId2" Type="http://schemas.openxmlformats.org/officeDocument/2006/relationships/hyperlink" Target="http://demiart.ru/forum/journal.php?user=47766&amp;comm=139175" TargetMode="External"/><Relationship Id="rId3" Type="http://schemas.openxmlformats.org/officeDocument/2006/relationships/hyperlink" Target="http://arts.in.ua/artists/chernov/w/52257/" TargetMode="External"/><Relationship Id="rId4" Type="http://schemas.openxmlformats.org/officeDocument/2006/relationships/hyperlink" Target="http://arts.in.ua/artists/chernov/w/52257/" TargetMode="External"/><Relationship Id="rId5" Type="http://schemas.openxmlformats.org/officeDocument/2006/relationships/hyperlink" Target="http://www.picstopin.com/395/framed-size-30-12-x-22-inches/http:%7C%7Cgallerydriver*com%7CArt%7CTheScourge_72dpi*jpg/" TargetMode="External"/><Relationship Id="rId6" Type="http://schemas.openxmlformats.org/officeDocument/2006/relationships/hyperlink" Target="http://www.picstopin.com/395/framed-size-30-12-x-22-inches/http:%7C%7Cgallerydriver*com%7CArt%7CTheScourge_72dpi*jpg/" TargetMode="External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s://ru.wikipedia.org/wiki/&#1060;&#1088;&#1072;&#1085;&#1094;&#1091;&#1079;&#1089;&#1082;&#1080;&#1081;_&#1103;&#1079;&#1099;&#1082;" TargetMode="External"/><Relationship Id="rId3" Type="http://schemas.openxmlformats.org/officeDocument/2006/relationships/hyperlink" Target="https://ru.wikipedia.org/wiki/&#1055;&#1086;&#1088;&#1090;&#1088;&#1077;&#1090;" TargetMode="External"/><Relationship Id="rId4" Type="http://schemas.openxmlformats.org/officeDocument/2006/relationships/hyperlink" Target="https://ru.wikipedia.org/wiki/&#1055;&#1077;&#1081;&#1079;&#1072;&#1078;" TargetMode="External"/><Relationship Id="rId5" Type="http://schemas.openxmlformats.org/officeDocument/2006/relationships/hyperlink" Target="https://ru.wikipedia.org/wiki/&#1048;&#1089;&#1090;&#1086;&#1088;&#1080;&#1095;&#1077;&#1089;&#1082;&#1072;&#1103;_&#1078;&#1080;&#1074;&#1086;&#1087;&#1080;&#1089;&#1100;" TargetMode="External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Rectangle 2" descr=""/>
          <p:cNvPicPr/>
          <p:nvPr/>
        </p:nvPicPr>
        <p:blipFill>
          <a:blip r:embed="rId1"/>
          <a:stretch/>
        </p:blipFill>
        <p:spPr>
          <a:xfrm>
            <a:off x="1695600" y="4724280"/>
            <a:ext cx="5960880" cy="17496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573120" y="1773000"/>
            <a:ext cx="77724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12745"/>
                </a:solidFill>
                <a:latin typeface="Trebuchet MS"/>
              </a:rPr>
              <a:t>Изображение 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spcBef>
                <a:spcPts val="18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12745"/>
                </a:solidFill>
                <a:latin typeface="Trebuchet MS"/>
              </a:rPr>
              <a:t>предметного мира.</a:t>
            </a:r>
            <a:br>
              <a:rPr sz="4000"/>
            </a:br>
            <a:r>
              <a:rPr b="1" lang="ru-RU" sz="7200" spc="-1" strike="noStrike">
                <a:solidFill>
                  <a:srgbClr val="212745"/>
                </a:solidFill>
                <a:latin typeface="Trebuchet MS"/>
              </a:rPr>
              <a:t>натюрморт</a:t>
            </a:r>
            <a:endParaRPr b="0" lang="en-US" sz="7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6" name="Rectangle 2" descr=""/>
          <p:cNvPicPr/>
          <p:nvPr/>
        </p:nvPicPr>
        <p:blipFill>
          <a:blip r:embed="rId2"/>
          <a:stretch/>
        </p:blipFill>
        <p:spPr>
          <a:xfrm>
            <a:off x="1474920" y="262080"/>
            <a:ext cx="6016320" cy="16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1692000" y="5229000"/>
            <a:ext cx="5970600" cy="83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Композиция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Равнобедренный треугольник 6"/>
          <p:cNvSpPr/>
          <p:nvPr/>
        </p:nvSpPr>
        <p:spPr>
          <a:xfrm>
            <a:off x="2268360" y="2349360"/>
            <a:ext cx="1511640" cy="2159280"/>
          </a:xfrm>
          <a:prstGeom prst="triangle">
            <a:avLst>
              <a:gd name="adj" fmla="val 50000"/>
            </a:avLst>
          </a:prstGeom>
          <a:solidFill>
            <a:srgbClr val="b4dcfa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Прямоугольник 7"/>
          <p:cNvSpPr/>
          <p:nvPr/>
        </p:nvSpPr>
        <p:spPr>
          <a:xfrm>
            <a:off x="3419640" y="2924280"/>
            <a:ext cx="2016000" cy="2017440"/>
          </a:xfrm>
          <a:prstGeom prst="rect">
            <a:avLst/>
          </a:prstGeom>
          <a:solidFill>
            <a:srgbClr val="4fadf3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Равнобедренный треугольник 8"/>
          <p:cNvSpPr/>
          <p:nvPr/>
        </p:nvSpPr>
        <p:spPr>
          <a:xfrm>
            <a:off x="5003640" y="1484280"/>
            <a:ext cx="2592720" cy="3673440"/>
          </a:xfrm>
          <a:prstGeom prst="triangle">
            <a:avLst>
              <a:gd name="adj" fmla="val 50000"/>
            </a:avLst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Прямая соединительная линия 10"/>
          <p:cNvSpPr/>
          <p:nvPr/>
        </p:nvSpPr>
        <p:spPr>
          <a:xfrm>
            <a:off x="250920" y="3573360"/>
            <a:ext cx="2233440" cy="0"/>
          </a:xfrm>
          <a:prstGeom prst="line">
            <a:avLst/>
          </a:prstGeom>
          <a:ln w="9360">
            <a:solidFill>
              <a:srgbClr val="4e67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Прямая соединительная линия 12"/>
          <p:cNvSpPr/>
          <p:nvPr/>
        </p:nvSpPr>
        <p:spPr>
          <a:xfrm>
            <a:off x="7093080" y="3573360"/>
            <a:ext cx="1726920" cy="0"/>
          </a:xfrm>
          <a:prstGeom prst="line">
            <a:avLst/>
          </a:prstGeom>
          <a:ln w="9360">
            <a:solidFill>
              <a:srgbClr val="4e67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Дуга 18"/>
          <p:cNvSpPr/>
          <p:nvPr/>
        </p:nvSpPr>
        <p:spPr>
          <a:xfrm rot="11172600">
            <a:off x="1115640" y="4149720"/>
            <a:ext cx="7128000" cy="2448000"/>
          </a:xfrm>
          <a:custGeom>
            <a:avLst/>
            <a:gdLst/>
            <a:ahLst/>
            <a:rect l="l" t="t" r="r" b="b"/>
            <a:pathLst>
              <a:path stroke="0" w="7127875" h="2447925">
                <a:moveTo>
                  <a:pt x="3563937" y="0"/>
                </a:moveTo>
                <a:cubicBezTo>
                  <a:pt x="5532246" y="0"/>
                  <a:pt x="7127875" y="547987"/>
                  <a:pt x="7127875" y="1223963"/>
                </a:cubicBezTo>
                <a:lnTo>
                  <a:pt x="3563938" y="1223963"/>
                </a:lnTo>
                <a:cubicBezTo>
                  <a:pt x="3563938" y="815975"/>
                  <a:pt x="3563937" y="407988"/>
                  <a:pt x="3563937" y="0"/>
                </a:cubicBezTo>
                <a:close/>
              </a:path>
              <a:path fill="none" w="7127875" h="2447925">
                <a:moveTo>
                  <a:pt x="3563937" y="0"/>
                </a:moveTo>
                <a:cubicBezTo>
                  <a:pt x="5532246" y="0"/>
                  <a:pt x="7127875" y="547987"/>
                  <a:pt x="7127875" y="1223963"/>
                </a:cubicBezTo>
              </a:path>
            </a:pathLst>
          </a:custGeom>
          <a:noFill/>
          <a:ln w="9360">
            <a:solidFill>
              <a:srgbClr val="4e67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Заголовок 1" descr=""/>
          <p:cNvPicPr/>
          <p:nvPr/>
        </p:nvPicPr>
        <p:blipFill>
          <a:blip r:embed="rId1"/>
          <a:stretch/>
        </p:blipFill>
        <p:spPr>
          <a:xfrm>
            <a:off x="176040" y="6480"/>
            <a:ext cx="8571240" cy="162072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1476000" y="1125360"/>
            <a:ext cx="596916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Единство предметов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-45720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Разнообразие предметов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-45720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Целостность композиции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-45720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Центр композиции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-45720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Симметрия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-45720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Асимметрия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2"/>
          <a:stretch/>
        </p:blipFill>
        <p:spPr>
          <a:xfrm>
            <a:off x="1587600" y="3108240"/>
            <a:ext cx="5968800" cy="6462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4" descr="C:\Users\Al\Desktop\postroenie.jpg"/>
          <p:cNvPicPr/>
          <p:nvPr/>
        </p:nvPicPr>
        <p:blipFill>
          <a:blip r:embed="rId3"/>
          <a:stretch/>
        </p:blipFill>
        <p:spPr>
          <a:xfrm>
            <a:off x="5292720" y="1125360"/>
            <a:ext cx="3079800" cy="43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 algn="ctr">
              <a:lnSpc>
                <a:spcPct val="8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rebuchet MS"/>
              </a:rPr>
              <a:t>Натюрморт является отражением времени.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 algn="ctr">
              <a:lnSpc>
                <a:spcPct val="8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 algn="ctr">
              <a:lnSpc>
                <a:spcPct val="8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rebuchet MS"/>
              </a:rPr>
              <a:t>Художники передавали  своё время через предметы и вещи, отражая в нём не только саму жизнь, но и какие-то убеждения и ценности того времени, раскрывая это всё в своём творчестве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Заголовок 1" descr=""/>
          <p:cNvPicPr/>
          <p:nvPr/>
        </p:nvPicPr>
        <p:blipFill>
          <a:blip r:embed="rId1"/>
          <a:stretch/>
        </p:blipFill>
        <p:spPr>
          <a:xfrm>
            <a:off x="1762200" y="401760"/>
            <a:ext cx="5967360" cy="140328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899640" y="1700280"/>
            <a:ext cx="7559640" cy="37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15000"/>
              </a:lnSpc>
              <a:spcBef>
                <a:spcPts val="499"/>
              </a:spcBef>
              <a:buClr>
                <a:srgbClr val="c3260c"/>
              </a:buClr>
              <a:buSzPct val="130000"/>
              <a:buFont typeface="Times New Roman"/>
              <a:buAutoNum type="arabicPeriod"/>
              <a:tabLst>
                <a:tab algn="l" pos="90900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Над каким жанром мы сегодня работали?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-457200">
              <a:lnSpc>
                <a:spcPct val="115000"/>
              </a:lnSpc>
              <a:spcBef>
                <a:spcPts val="499"/>
              </a:spcBef>
              <a:buClr>
                <a:srgbClr val="c3260c"/>
              </a:buClr>
              <a:buSzPct val="130000"/>
              <a:buFont typeface="Times New Roman"/>
              <a:buAutoNum type="arabicPeriod"/>
              <a:tabLst>
                <a:tab algn="l" pos="90900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Что нового для себя узнали и открыли?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-457200">
              <a:lnSpc>
                <a:spcPct val="115000"/>
              </a:lnSpc>
              <a:spcBef>
                <a:spcPts val="499"/>
              </a:spcBef>
              <a:buClr>
                <a:srgbClr val="c3260c"/>
              </a:buClr>
              <a:buSzPct val="130000"/>
              <a:buFont typeface="Times New Roman"/>
              <a:buAutoNum type="arabicPeriod"/>
              <a:tabLst>
                <a:tab algn="l" pos="90900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Кому было трудно и почему?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-457200">
              <a:lnSpc>
                <a:spcPct val="115000"/>
              </a:lnSpc>
              <a:spcBef>
                <a:spcPts val="499"/>
              </a:spcBef>
              <a:buClr>
                <a:srgbClr val="c3260c"/>
              </a:buClr>
              <a:buSzPct val="130000"/>
              <a:buFont typeface="Times New Roman"/>
              <a:buAutoNum type="arabicPeriod"/>
              <a:tabLst>
                <a:tab algn="l" pos="90900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Над чем вам ещё необходимо поработать?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-457200">
              <a:lnSpc>
                <a:spcPct val="115000"/>
              </a:lnSpc>
              <a:spcBef>
                <a:spcPts val="499"/>
              </a:spcBef>
              <a:buClr>
                <a:srgbClr val="c3260c"/>
              </a:buClr>
              <a:buSzPct val="130000"/>
              <a:buFont typeface="Times New Roman"/>
              <a:buAutoNum type="arabicPeriod"/>
              <a:tabLst>
                <a:tab algn="l" pos="90900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Чему вы ещё хотите научиться?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0" algn="r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0900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3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8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3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8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3" dur="5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Заголовок 4" descr=""/>
          <p:cNvPicPr/>
          <p:nvPr/>
        </p:nvPicPr>
        <p:blipFill>
          <a:blip r:embed="rId1"/>
          <a:stretch/>
        </p:blipFill>
        <p:spPr>
          <a:xfrm>
            <a:off x="396720" y="1341360"/>
            <a:ext cx="8674200" cy="179244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722160" y="54936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Литература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Заголовок 3" descr=""/>
          <p:cNvPicPr/>
          <p:nvPr/>
        </p:nvPicPr>
        <p:blipFill>
          <a:blip r:embed="rId1"/>
          <a:stretch/>
        </p:blipFill>
        <p:spPr>
          <a:xfrm>
            <a:off x="920880" y="401760"/>
            <a:ext cx="7375320" cy="165888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1331640" y="6237360"/>
            <a:ext cx="5970600" cy="40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476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56c7aa"/>
                </a:solidFill>
                <a:uFillTx/>
                <a:latin typeface="Trebuchet MS"/>
                <a:hlinkClick r:id="rId2"/>
              </a:rPr>
              <a:t>https://</a:t>
            </a:r>
            <a:r>
              <a:rPr b="0" lang="en-US" sz="1900" spc="-1" strike="noStrike" u="sng">
                <a:solidFill>
                  <a:srgbClr val="56c7aa"/>
                </a:solidFill>
                <a:uFillTx/>
                <a:latin typeface="Trebuchet MS"/>
                <a:hlinkClick r:id="rId3"/>
              </a:rPr>
              <a:t>yandex.ru/images/search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90000"/>
              </a:lnSpc>
              <a:spcBef>
                <a:spcPts val="476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90000"/>
              </a:lnSpc>
              <a:spcBef>
                <a:spcPts val="476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9" name="Picture 2" descr="C:\Users\Al\Desktop\157db3671726fe4fafb96c8b6faa29f0.jpg"/>
          <p:cNvPicPr/>
          <p:nvPr/>
        </p:nvPicPr>
        <p:blipFill>
          <a:blip r:embed="rId4"/>
          <a:srcRect l="7396" t="14954" r="9350" b="0"/>
          <a:stretch/>
        </p:blipFill>
        <p:spPr>
          <a:xfrm>
            <a:off x="1463760" y="1557360"/>
            <a:ext cx="605448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610920" y="5445000"/>
            <a:ext cx="7848360" cy="13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lnSpc>
                <a:spcPct val="90000"/>
              </a:lnSpc>
              <a:spcBef>
                <a:spcPts val="425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56c7aa"/>
                </a:solidFill>
                <a:uFillTx/>
                <a:latin typeface="Trebuchet MS"/>
                <a:hlinkClick r:id="rId1"/>
              </a:rPr>
              <a:t>http://</a:t>
            </a:r>
            <a:r>
              <a:rPr b="0" lang="en-US" sz="1700" spc="-1" strike="noStrike" u="sng">
                <a:solidFill>
                  <a:srgbClr val="56c7aa"/>
                </a:solidFill>
                <a:uFillTx/>
                <a:latin typeface="Trebuchet MS"/>
                <a:hlinkClick r:id="rId2"/>
              </a:rPr>
              <a:t>demiart.ru/forum/journal.php?user=47766&amp;comm=139175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90000"/>
              </a:lnSpc>
              <a:spcBef>
                <a:spcPts val="425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56c7aa"/>
                </a:solidFill>
                <a:uFillTx/>
                <a:latin typeface="Trebuchet MS"/>
                <a:hlinkClick r:id="rId3"/>
              </a:rPr>
              <a:t>http://arts.in.ua/artists/chernov/w/52257</a:t>
            </a:r>
            <a:r>
              <a:rPr b="0" lang="en-US" sz="1700" spc="-1" strike="noStrike" u="sng">
                <a:solidFill>
                  <a:srgbClr val="56c7aa"/>
                </a:solidFill>
                <a:uFillTx/>
                <a:latin typeface="Trebuchet MS"/>
                <a:hlinkClick r:id="rId4"/>
              </a:rPr>
              <a:t>/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90000"/>
              </a:lnSpc>
              <a:spcBef>
                <a:spcPts val="425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56c7aa"/>
                </a:solidFill>
                <a:uFillTx/>
                <a:latin typeface="Trebuchet MS"/>
                <a:hlinkClick r:id="rId5"/>
              </a:rPr>
              <a:t>http://www.picstopin.com/395/framed-size-30-12-x-22-inches/http:%7C%7Cgallerydriver*com%7CArt%7CTheScourge_72dpi*jpg</a:t>
            </a:r>
            <a:r>
              <a:rPr b="0" lang="en-US" sz="1700" spc="-1" strike="noStrike" u="sng">
                <a:solidFill>
                  <a:srgbClr val="56c7aa"/>
                </a:solidFill>
                <a:uFillTx/>
                <a:latin typeface="Trebuchet MS"/>
                <a:hlinkClick r:id="rId6"/>
              </a:rPr>
              <a:t>/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90000"/>
              </a:lnSpc>
              <a:spcBef>
                <a:spcPts val="425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90000"/>
              </a:lnSpc>
              <a:spcBef>
                <a:spcPts val="425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90000"/>
              </a:lnSpc>
              <a:spcBef>
                <a:spcPts val="425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1" name="Picture 2" descr="C:\Users\Al\Desktop\52257.jpg"/>
          <p:cNvPicPr/>
          <p:nvPr/>
        </p:nvPicPr>
        <p:blipFill>
          <a:blip r:embed="rId7"/>
          <a:stretch/>
        </p:blipFill>
        <p:spPr>
          <a:xfrm>
            <a:off x="2411280" y="333360"/>
            <a:ext cx="4381560" cy="32101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" descr="C:\Users\Al\Desktop\j47766_1273314372.jpg"/>
          <p:cNvPicPr/>
          <p:nvPr/>
        </p:nvPicPr>
        <p:blipFill>
          <a:blip r:embed="rId8"/>
          <a:stretch/>
        </p:blipFill>
        <p:spPr>
          <a:xfrm>
            <a:off x="4788000" y="3040200"/>
            <a:ext cx="3578040" cy="2414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C:\Users\Al\Desktop\1385066565-natyurmort-s-nautilusom-serebryanoy-posudoy-i-egevichnim-pirogom-1646.jpg"/>
          <p:cNvPicPr/>
          <p:nvPr/>
        </p:nvPicPr>
        <p:blipFill>
          <a:blip r:embed="rId9"/>
          <a:stretch/>
        </p:blipFill>
        <p:spPr>
          <a:xfrm>
            <a:off x="1332000" y="3294000"/>
            <a:ext cx="302400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Заголовок 1" descr=""/>
          <p:cNvPicPr/>
          <p:nvPr/>
        </p:nvPicPr>
        <p:blipFill>
          <a:blip r:embed="rId1"/>
          <a:stretch/>
        </p:blipFill>
        <p:spPr>
          <a:xfrm>
            <a:off x="249120" y="5950080"/>
            <a:ext cx="8504280" cy="100476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250920" y="765000"/>
            <a:ext cx="4897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тюрмо́рт (</a:t>
            </a:r>
            <a:r>
              <a:rPr b="0" lang="ru-RU" sz="2000" spc="-1" strike="noStrike" u="sng">
                <a:solidFill>
                  <a:srgbClr val="56c7aa"/>
                </a:solidFill>
                <a:uFillTx/>
                <a:latin typeface="Times New Roman"/>
                <a:ea typeface="Times New Roman"/>
                <a:hlinkClick r:id="rId2"/>
              </a:rPr>
              <a:t>фр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ure morte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«мёртвая природа») — изображение неодушевлённых предметов в изобразительном искусстве, в отличие от </a:t>
            </a:r>
            <a:r>
              <a:rPr b="0" lang="ru-RU" sz="2000" spc="-1" strike="noStrike" u="sng">
                <a:solidFill>
                  <a:srgbClr val="56c7aa"/>
                </a:solidFill>
                <a:uFillTx/>
                <a:latin typeface="Times New Roman"/>
                <a:ea typeface="Times New Roman"/>
                <a:hlinkClick r:id="rId3"/>
              </a:rPr>
              <a:t>портретно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жанровой, исторической и </a:t>
            </a:r>
            <a:r>
              <a:rPr b="0" lang="ru-RU" sz="2000" spc="-1" strike="noStrike" u="sng">
                <a:solidFill>
                  <a:srgbClr val="56c7aa"/>
                </a:solidFill>
                <a:uFillTx/>
                <a:latin typeface="Times New Roman"/>
                <a:ea typeface="Times New Roman"/>
                <a:hlinkClick r:id="rId4"/>
              </a:rPr>
              <a:t>пейзажно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ематики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ходную точку раннего натюрморта можно найти в XV—XVI веках, когда он рассматривался как часть </a:t>
            </a:r>
            <a:r>
              <a:rPr b="0" lang="ru-RU" sz="2000" spc="-1" strike="noStrike" u="sng">
                <a:solidFill>
                  <a:srgbClr val="56c7aa"/>
                </a:solidFill>
                <a:uFillTx/>
                <a:latin typeface="Times New Roman"/>
                <a:ea typeface="Times New Roman"/>
                <a:hlinkClick r:id="rId5"/>
              </a:rPr>
              <a:t>историческо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ли жанровой композиции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6" name="Picture 2" descr="C:\Users\Al\Desktop\47a9c12b343a7488c6b0647c78e9c84e.jpg"/>
          <p:cNvPicPr/>
          <p:nvPr/>
        </p:nvPicPr>
        <p:blipFill>
          <a:blip r:embed="rId6"/>
          <a:stretch/>
        </p:blipFill>
        <p:spPr>
          <a:xfrm>
            <a:off x="5219640" y="620640"/>
            <a:ext cx="36943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2700000" y="5876640"/>
            <a:ext cx="5970600" cy="83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745"/>
                </a:solidFill>
                <a:latin typeface="Trebuchet MS"/>
              </a:rPr>
              <a:t>http://www.booksite.ru/enciklopedia/job/9.htm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8" name="Picture 3" descr="C:\Users\Al\Desktop\210.jpg"/>
          <p:cNvPicPr/>
          <p:nvPr/>
        </p:nvPicPr>
        <p:blipFill>
          <a:blip r:embed="rId1"/>
          <a:stretch/>
        </p:blipFill>
        <p:spPr>
          <a:xfrm>
            <a:off x="1835280" y="1052640"/>
            <a:ext cx="57862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1" descr=""/>
          <p:cNvPicPr/>
          <p:nvPr/>
        </p:nvPicPr>
        <p:blipFill>
          <a:blip r:embed="rId1"/>
          <a:stretch/>
        </p:blipFill>
        <p:spPr>
          <a:xfrm>
            <a:off x="92160" y="122400"/>
            <a:ext cx="8655120" cy="510840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539280" y="5876640"/>
            <a:ext cx="8280360" cy="83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745"/>
                </a:solidFill>
                <a:latin typeface="Trebuchet MS"/>
              </a:rPr>
              <a:t>http://www.liveinternet.ru/users/5006355/post389114924/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1" name="Picture 2" descr="C:\Users\Al\Desktop\gollandskij-natyurmort-07-e1404637159289.jpg"/>
          <p:cNvPicPr/>
          <p:nvPr/>
        </p:nvPicPr>
        <p:blipFill>
          <a:blip r:embed="rId2"/>
          <a:stretch/>
        </p:blipFill>
        <p:spPr>
          <a:xfrm>
            <a:off x="5076720" y="1557360"/>
            <a:ext cx="2467080" cy="24433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" descr="C:\Users\Al\Desktop\gollandskij-natyurmort-02-e1404636145182.jpg"/>
          <p:cNvPicPr/>
          <p:nvPr/>
        </p:nvPicPr>
        <p:blipFill>
          <a:blip r:embed="rId3"/>
          <a:stretch/>
        </p:blipFill>
        <p:spPr>
          <a:xfrm>
            <a:off x="250920" y="1413000"/>
            <a:ext cx="3330360" cy="25365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C:\Users\Al\Desktop\gollandskij-natyurmort-01-e1404635970969.jpg"/>
          <p:cNvPicPr/>
          <p:nvPr/>
        </p:nvPicPr>
        <p:blipFill>
          <a:blip r:embed="rId4"/>
          <a:stretch/>
        </p:blipFill>
        <p:spPr>
          <a:xfrm>
            <a:off x="3432240" y="4013280"/>
            <a:ext cx="29080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176040" y="311040"/>
            <a:ext cx="8974440" cy="520560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178920" y="5805360"/>
            <a:ext cx="8713800" cy="8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745"/>
                </a:solidFill>
                <a:latin typeface="Trebuchet MS"/>
              </a:rPr>
              <a:t>http://vechnost7.blogspot.ru/2016/03/francisco-de-zurbaran-1598-1664-2.html?view=snapsho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6" name="Picture 2" descr="C:\Users\Al\Desktop\8_1660~1.JPG"/>
          <p:cNvPicPr/>
          <p:nvPr/>
        </p:nvPicPr>
        <p:blipFill>
          <a:blip r:embed="rId2"/>
          <a:stretch/>
        </p:blipFill>
        <p:spPr>
          <a:xfrm>
            <a:off x="1068480" y="1052640"/>
            <a:ext cx="4251240" cy="23050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C:\Users\Al\Desktop\%20%20~1.JPG"/>
          <p:cNvPicPr/>
          <p:nvPr/>
        </p:nvPicPr>
        <p:blipFill>
          <a:blip r:embed="rId3"/>
          <a:stretch/>
        </p:blipFill>
        <p:spPr>
          <a:xfrm>
            <a:off x="1068480" y="3375000"/>
            <a:ext cx="4251240" cy="24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250560" y="549360"/>
            <a:ext cx="460836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90000"/>
              </a:lnSpc>
              <a:spcBef>
                <a:spcPts val="47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404040"/>
                </a:solidFill>
                <a:latin typeface="Trebuchet MS"/>
              </a:rPr>
              <a:t>Коровин К.А. – Вино, фрукты. 1910.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57200" y="4653000"/>
            <a:ext cx="8229600" cy="144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44280" indent="0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44280" indent="0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44280" indent="0" algn="r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http://masterart.ru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44280" indent="0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44280" indent="0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0" name="Picture 2" descr="C:\Users\Al\Desktop\Grabar_IE-Pears-on-the-Green-Drapery-1922-State-Tretyakov-Gallery-575x398.jpg"/>
          <p:cNvPicPr/>
          <p:nvPr/>
        </p:nvPicPr>
        <p:blipFill>
          <a:blip r:embed="rId1"/>
          <a:stretch/>
        </p:blipFill>
        <p:spPr>
          <a:xfrm>
            <a:off x="4427640" y="1484280"/>
            <a:ext cx="4325760" cy="29941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" descr=""/>
          <p:cNvPicPr/>
          <p:nvPr/>
        </p:nvPicPr>
        <p:blipFill>
          <a:blip r:embed="rId2"/>
          <a:stretch/>
        </p:blipFill>
        <p:spPr>
          <a:xfrm>
            <a:off x="4716360" y="4724280"/>
            <a:ext cx="4627800" cy="8845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C:\Users\Al\Desktop\3176.jpg"/>
          <p:cNvPicPr/>
          <p:nvPr/>
        </p:nvPicPr>
        <p:blipFill>
          <a:blip r:embed="rId3"/>
          <a:stretch/>
        </p:blipFill>
        <p:spPr>
          <a:xfrm>
            <a:off x="324000" y="1514520"/>
            <a:ext cx="3876480" cy="29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Заголовок 1" descr=""/>
          <p:cNvPicPr/>
          <p:nvPr/>
        </p:nvPicPr>
        <p:blipFill>
          <a:blip r:embed="rId1"/>
          <a:stretch/>
        </p:blipFill>
        <p:spPr>
          <a:xfrm>
            <a:off x="176040" y="274680"/>
            <a:ext cx="8339400" cy="149868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468360" y="5876640"/>
            <a:ext cx="8229600" cy="53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http://www.artscroll.ru/pag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5" name="Picture 2" descr="C:\Users\Al\Desktop\000169.jpg"/>
          <p:cNvPicPr/>
          <p:nvPr/>
        </p:nvPicPr>
        <p:blipFill>
          <a:blip r:embed="rId2"/>
          <a:stretch/>
        </p:blipFill>
        <p:spPr>
          <a:xfrm>
            <a:off x="1298520" y="1125360"/>
            <a:ext cx="688824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3T17:15:43Z</dcterms:created>
  <dc:creator>Admin</dc:creator>
  <dc:description/>
  <dc:language>en-US</dc:language>
  <cp:lastModifiedBy>Al</cp:lastModifiedBy>
  <dcterms:modified xsi:type="dcterms:W3CDTF">2017-02-19T11:30:43Z</dcterms:modified>
  <cp:revision>28</cp:revision>
  <dc:subject/>
  <dc:title>Изображение предметного мира –  натюрморт</dc:title>
</cp:coreProperties>
</file>