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E09D-EFC0-4619-A9F7-41D3E9B50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6217-9BF9-4263-8B4A-C9C49974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99E1-2065-4D80-8922-1F77E5A51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2C7F-1346-46AB-9E91-96F66431E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D378-520F-436E-B55B-721F778A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F7FA-984B-4F4F-A453-FD3DB26A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F777-4F1D-41DF-93F9-B7CA03E9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40B2-8AE1-441D-9D2C-BAF775C4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EDA6-771E-4781-9C7E-92D6B71D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AB17-D97E-4F2D-8A5D-69E19A7C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3223-D08E-4415-A55E-A2D38920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2AA3-62E0-40B1-8B5E-6772B8AE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33CC-80F8-46E7-9552-544185BC39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692360" y="1125000"/>
            <a:ext cx="6408720" cy="302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5385a"/>
                </a:solidFill>
                <a:latin typeface="Calibri"/>
              </a:rPr>
              <a:t>Урок русского языка в 4 классе по тем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546a"/>
                </a:solidFill>
                <a:latin typeface="Calibri"/>
              </a:rPr>
              <a:t>«Падежные окончани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546a"/>
                </a:solidFill>
                <a:latin typeface="Calibri"/>
              </a:rPr>
              <a:t>имён существительных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546a"/>
                </a:solidFill>
                <a:latin typeface="Calibri"/>
              </a:rPr>
              <a:t>3 склонения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1"/>
          <p:cNvSpPr/>
          <p:nvPr/>
        </p:nvSpPr>
        <p:spPr>
          <a:xfrm>
            <a:off x="1835280" y="1052640"/>
            <a:ext cx="554508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Calibri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3300"/>
                </a:solidFill>
                <a:latin typeface="Calibri"/>
                <a:ea typeface="Times New Roman"/>
              </a:rPr>
              <a:t>Вывод:</a:t>
            </a:r>
            <a:r>
              <a:rPr b="0" lang="ru-RU" sz="3600" spc="-1" strike="noStrike">
                <a:solidFill>
                  <a:srgbClr val="444444"/>
                </a:solidFill>
                <a:latin typeface="Calibri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Имена существительные 3-го склонения в Р., Д., П. падежах в единственном числе имеют окончан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Georgia"/>
                <a:ea typeface="Times New Roman"/>
              </a:rPr>
              <a:t>-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4400640" y="3419640"/>
            <a:ext cx="865080" cy="86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900000" y="1413000"/>
            <a:ext cx="7344000" cy="21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Запомните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оконча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–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у имён существительных 3 склонен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н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Объект 3" descr=""/>
          <p:cNvPicPr/>
          <p:nvPr/>
        </p:nvPicPr>
        <p:blipFill>
          <a:blip r:embed="rId2"/>
          <a:stretch/>
        </p:blipFill>
        <p:spPr>
          <a:xfrm>
            <a:off x="5435640" y="1268280"/>
            <a:ext cx="2738520" cy="27464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971640" y="692280"/>
            <a:ext cx="57610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546a"/>
                </a:solidFill>
                <a:latin typeface="Calibri"/>
              </a:rPr>
              <a:t>Работа в учебни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000099"/>
                </a:solidFill>
                <a:latin typeface="Calibri"/>
              </a:rPr>
              <a:t>стр.34 упражнение 5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755640" y="692280"/>
            <a:ext cx="75614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99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44546a"/>
                </a:solidFill>
                <a:latin typeface="Calibri"/>
              </a:rPr>
              <a:t>Составьте словосочетания 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4546a"/>
                </a:solidFill>
                <a:latin typeface="Calibri"/>
              </a:rPr>
              <a:t>укажите падеж имён существитель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Calibri"/>
              </a:rPr>
              <a:t>Суп, из, фасоль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Calibri"/>
              </a:rPr>
              <a:t>беседовали, о, повесть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Calibri"/>
              </a:rPr>
              <a:t>крошки, на, скатерть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Calibri"/>
              </a:rPr>
              <a:t>говорил, о, дочь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Calibri"/>
              </a:rPr>
              <a:t>подошёл, к, ель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Calibri"/>
              </a:rPr>
              <a:t>гуляла, по, площад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628560" y="764640"/>
            <a:ext cx="788688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546a"/>
                </a:solidFill>
                <a:latin typeface="Calibri"/>
              </a:rPr>
              <a:t>Итог уро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Какие окончания имеют имена существительные 3-го склонения в Р., Д. и П. падежа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Как определить склонение имени существительног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Что значит просклонять имя существительно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Заголовок 1" descr=""/>
          <p:cNvPicPr/>
          <p:nvPr/>
        </p:nvPicPr>
        <p:blipFill>
          <a:blip r:embed="rId2"/>
          <a:stretch/>
        </p:blipFill>
        <p:spPr>
          <a:xfrm>
            <a:off x="865080" y="907920"/>
            <a:ext cx="7450200" cy="12384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8"/>
          <p:cNvSpPr/>
          <p:nvPr/>
        </p:nvSpPr>
        <p:spPr>
          <a:xfrm>
            <a:off x="1547640" y="334656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с.34 упражнение 5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02920" y="764640"/>
            <a:ext cx="6264360" cy="151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44546a"/>
                </a:solidFill>
                <a:latin typeface="Calibri Light"/>
              </a:rPr>
              <a:t>20 февраля</a:t>
            </a:r>
            <a:br>
              <a:rPr sz="3600"/>
            </a:br>
            <a:r>
              <a:rPr b="1" lang="ru-RU" sz="3600" spc="-1" strike="noStrike">
                <a:solidFill>
                  <a:srgbClr val="44546a"/>
                </a:solidFill>
                <a:latin typeface="Calibri Light"/>
              </a:rPr>
              <a:t>Классная работа</a:t>
            </a:r>
            <a:br>
              <a:rPr sz="3600"/>
            </a:br>
            <a:r>
              <a:rPr b="1" lang="ru-RU" sz="3600" spc="-1" strike="noStrike">
                <a:solidFill>
                  <a:srgbClr val="44546a"/>
                </a:solidFill>
                <a:latin typeface="Calibri Light"/>
              </a:rPr>
              <a:t>«Минутка» чистописания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6920" y="2420640"/>
            <a:ext cx="69138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Нн Нн Нн Н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Но на ни не ны оно ни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Натан Неля Норвегия Нева Норильск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2920" y="764640"/>
            <a:ext cx="6264360" cy="151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44546a"/>
                </a:solidFill>
                <a:latin typeface="Calibri Light"/>
              </a:rPr>
              <a:t>Словарная работа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6920" y="2420640"/>
            <a:ext cx="69138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Н…зад, ф…нарь, н…с...комое, н…рцисс, н…род, л...донь, н…с…рог, н…пр…ят…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02920" y="764640"/>
            <a:ext cx="6264360" cy="151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44546a"/>
                </a:solidFill>
                <a:latin typeface="Calibri Light"/>
              </a:rPr>
              <a:t>Словарная работа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9640" y="2420640"/>
            <a:ext cx="72010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  </a:t>
            </a: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Н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зад, ф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нарь,н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с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комое, н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рци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сс</a:t>
            </a: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, н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род, л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донь, н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с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рог, н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пр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ят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74311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Карусель,           степь, печ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1692360" y="620640"/>
            <a:ext cx="5904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546a"/>
                </a:solidFill>
                <a:latin typeface="Calibri"/>
              </a:rPr>
              <a:t>Какое слово «лишнее»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3203640" y="1557360"/>
            <a:ext cx="151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тюль,</a:t>
            </a:r>
            <a:r>
              <a:rPr b="1" lang="ru-RU" sz="3600" spc="-1" strike="noStrike">
                <a:solidFill>
                  <a:srgbClr val="000099"/>
                </a:solidFill>
                <a:latin typeface="Calibri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58920" y="456840"/>
            <a:ext cx="681984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47800" y="3873240"/>
            <a:ext cx="74484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44546a"/>
              </a:solidFill>
              <a:latin typeface="Calibri"/>
            </a:endParaRPr>
          </a:p>
        </p:txBody>
      </p:sp>
      <p:pic>
        <p:nvPicPr>
          <p:cNvPr id="59" name="Прямоугольник 3" descr=""/>
          <p:cNvPicPr/>
          <p:nvPr/>
        </p:nvPicPr>
        <p:blipFill>
          <a:blip r:embed="rId2"/>
          <a:stretch/>
        </p:blipFill>
        <p:spPr>
          <a:xfrm>
            <a:off x="1305000" y="1243080"/>
            <a:ext cx="6334200" cy="474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899640" y="1699920"/>
            <a:ext cx="741708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Находить имена существительные 3 склонения в текс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Научиться склонять имена существительные 3 склон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Правильно писать безударные падежные окончания имён существительных 3 склон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Заголовок 1" descr=""/>
          <p:cNvPicPr/>
          <p:nvPr/>
        </p:nvPicPr>
        <p:blipFill>
          <a:blip r:embed="rId2"/>
          <a:stretch/>
        </p:blipFill>
        <p:spPr>
          <a:xfrm>
            <a:off x="920880" y="622440"/>
            <a:ext cx="682128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"/>
          <p:cNvSpPr/>
          <p:nvPr/>
        </p:nvSpPr>
        <p:spPr>
          <a:xfrm>
            <a:off x="1332000" y="2852640"/>
            <a:ext cx="66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Georgia"/>
                <a:ea typeface="Arial"/>
              </a:rPr>
              <a:t>рожь         отмел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1"/>
          <p:cNvSpPr/>
          <p:nvPr/>
        </p:nvSpPr>
        <p:spPr>
          <a:xfrm>
            <a:off x="755640" y="1268280"/>
            <a:ext cx="756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4546a"/>
                </a:solidFill>
                <a:latin typeface="Arial"/>
                <a:ea typeface="Arial"/>
              </a:rPr>
              <a:t>Просклонять имена существительны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1"/>
          <p:cNvSpPr/>
          <p:nvPr/>
        </p:nvSpPr>
        <p:spPr>
          <a:xfrm>
            <a:off x="1332000" y="1052640"/>
            <a:ext cx="5599080" cy="45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153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И.п. рожь  ,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отме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153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Р.п.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ржи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отмел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153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Д.п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 ржи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отмел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153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В.п.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рожь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 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отме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153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Т.п.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рожью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отмель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153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П.п.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о ржи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 ,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об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отмел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5472000" y="126828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2843280" y="20048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4"/>
          <a:stretch/>
        </p:blipFill>
        <p:spPr>
          <a:xfrm>
            <a:off x="4684680" y="20048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5"/>
          <a:stretch/>
        </p:blipFill>
        <p:spPr>
          <a:xfrm>
            <a:off x="3419640" y="36464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6"/>
          <a:stretch/>
        </p:blipFill>
        <p:spPr>
          <a:xfrm>
            <a:off x="5580000" y="3573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7"/>
          <a:stretch/>
        </p:blipFill>
        <p:spPr>
          <a:xfrm>
            <a:off x="5433840" y="4365720"/>
            <a:ext cx="327240" cy="325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8"/>
          <a:stretch/>
        </p:blipFill>
        <p:spPr>
          <a:xfrm>
            <a:off x="3311640" y="4365720"/>
            <a:ext cx="325440" cy="325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9"/>
          <a:stretch/>
        </p:blipFill>
        <p:spPr>
          <a:xfrm>
            <a:off x="3294000" y="51148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"/>
          <p:cNvPicPr/>
          <p:nvPr/>
        </p:nvPicPr>
        <p:blipFill>
          <a:blip r:embed="rId10"/>
          <a:stretch/>
        </p:blipFill>
        <p:spPr>
          <a:xfrm>
            <a:off x="5851440" y="5095800"/>
            <a:ext cx="362160" cy="360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"/>
          <p:cNvPicPr/>
          <p:nvPr/>
        </p:nvPicPr>
        <p:blipFill>
          <a:blip r:embed="rId11"/>
          <a:stretch/>
        </p:blipFill>
        <p:spPr>
          <a:xfrm>
            <a:off x="2916360" y="279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"/>
          <p:cNvPicPr/>
          <p:nvPr/>
        </p:nvPicPr>
        <p:blipFill>
          <a:blip r:embed="rId12"/>
          <a:stretch/>
        </p:blipFill>
        <p:spPr>
          <a:xfrm>
            <a:off x="481320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13"/>
          <a:stretch/>
        </p:blipFill>
        <p:spPr>
          <a:xfrm>
            <a:off x="3419640" y="1268280"/>
            <a:ext cx="28728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1T13:33:44Z</dcterms:created>
  <dc:creator>катя</dc:creator>
  <dc:description/>
  <dc:language>en-US</dc:language>
  <cp:lastModifiedBy>Agent</cp:lastModifiedBy>
  <dcterms:modified xsi:type="dcterms:W3CDTF">2017-02-19T18:42:56Z</dcterms:modified>
  <cp:revision>19</cp:revision>
  <dc:subject/>
  <dc:title>Презентация PowerPoint</dc:title>
</cp:coreProperties>
</file>