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F0C-BBC5-430F-853B-B8164252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398-4029-40A6-8E58-BA5F7860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388-2C40-4D49-83ED-08D36ED8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4ED-B7E7-4869-9680-7A1A4B6F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BA0-C34E-49DE-B1E4-6E99B59E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7CD-4BB0-4100-B112-C91140A6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2AD-4E65-42EE-A8AC-EB4F1FE2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A40-D186-4ACE-80AE-4CB9DD25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77E-79E8-4000-8892-2ED5358C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C9A-2932-4EB6-AF3C-77D7A4AF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6C0-6F7D-4F1A-9C0C-8D9F35E8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116-ABAF-4F96-A6C5-573B9C73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FDF5-D1E8-4937-A83D-8D571C8D5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зентация экипажа «Космонав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Пастушкова Оля-капитан экип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ысоева Катя-бортинже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Шальнева Яна-астр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Юрьев Антон-уче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Сафонова Таня -исследов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СТАРТ  РАКЕТЫ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7520" y="228600"/>
            <a:ext cx="6708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ПОЛЁТ  РАКЕТЫ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66760" y="228600"/>
            <a:ext cx="68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КОСМОНАВ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152280"/>
            <a:ext cx="6912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5486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ИСКУССТВЕННЫЙ  СПУТНИК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04920" y="228600"/>
            <a:ext cx="68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ВИД НА ЗЕМЛЮ ИЗ КОСМОС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66760" y="228600"/>
            <a:ext cx="68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КОМЕТ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79360" y="228600"/>
            <a:ext cx="6708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ЕТЕОРИ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68280" y="228600"/>
            <a:ext cx="6607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7:23:12Z</dcterms:created>
  <dc:creator>Admin</dc:creator>
  <dc:description/>
  <dc:language>en-US</dc:language>
  <cp:lastModifiedBy>Admin</cp:lastModifiedBy>
  <dcterms:modified xsi:type="dcterms:W3CDTF">2011-02-13T07:23:12Z</dcterms:modified>
  <cp:revision>1</cp:revision>
  <dc:subject/>
  <dc:title>Презентация экипажа «Космонавты»</dc:title>
</cp:coreProperties>
</file>