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A6C-CBCF-40FB-93CD-93E60C8B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476-876B-479F-A734-D5787051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2AB-E109-415E-AEB6-41454A19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3FF-3637-4B56-8E33-DBB11F05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E87-3725-4E2B-89F4-3F90889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6CF-07C9-439F-88D2-EFB91ED0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FD0-9DC8-479F-A8CC-E6B6438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BD8-AE65-4789-B351-5F047A52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482-FB3B-4528-9EF0-9C95E46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722-9207-4C4E-A79E-9E042B9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BB9-F236-4780-A67A-C194757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B5F-FF48-4948-BE3F-E043BA4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6D1-61DF-4CB7-A0F6-1E01FF054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 экипажа «Космонав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Пастушкова Оля-капитан экип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ысоева Катя-бортинже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Шальнева Яна-астр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Юрьев Антон-уч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Сафонова Таня -исследов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СТАРТ  РАКЕТЫ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7520" y="228600"/>
            <a:ext cx="670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ОЛЁТ  РАКЕТ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6676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52280"/>
            <a:ext cx="6912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4860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ИСКУССТВЕННЫЙ  СПУТНИК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0492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ВИД НА ЗЕМЛЮ ИЗ КОСМОС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66760" y="228600"/>
            <a:ext cx="68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МЕТ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79360" y="228600"/>
            <a:ext cx="670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ЕТЕОРИ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68280" y="228600"/>
            <a:ext cx="6607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7:23:12Z</dcterms:created>
  <dc:creator>Admin</dc:creator>
  <dc:description/>
  <dc:language>en-US</dc:language>
  <cp:lastModifiedBy>Admin</cp:lastModifiedBy>
  <dcterms:modified xsi:type="dcterms:W3CDTF">2011-02-13T07:23:12Z</dcterms:modified>
  <cp:revision>1</cp:revision>
  <dc:subject/>
  <dc:title>Презентация экипажа «Космонавты»</dc:title>
</cp:coreProperties>
</file>