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wmf" ContentType="image/x-wmf"/>
  <Override PartName="/ppt/media/image5.jpeg" ContentType="image/jpeg"/>
  <Override PartName="/ppt/media/image1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BE33-80B3-4662-9CBC-8EDF81BC9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00A6-C71B-4BB8-B3DD-9D6519BCD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3A16-51CB-47CE-946D-A714DD503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6098-C64B-4C5F-8C3A-55E1E2EBD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D8A1-A57F-4398-A3A4-0DCEEEC2F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7F71-68FF-48F1-B889-80C8D21CB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8896-3E25-4A7B-8162-EA99F7B67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A897-518F-410E-8900-25EEAF44E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AFA8-4292-4EA2-919C-D8EDF8110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368F-25BD-41C9-AC8A-D9A6EF88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5844-2942-4705-86A2-7CF574C0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0B5F-E58F-494B-83FD-E175E6CC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AB784-6838-490B-B46F-438373A4B9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9"/>
          <p:cNvSpPr/>
          <p:nvPr/>
        </p:nvSpPr>
        <p:spPr>
          <a:xfrm>
            <a:off x="785880" y="571680"/>
            <a:ext cx="7215120" cy="5451120"/>
          </a:xfrm>
          <a:custGeom>
            <a:avLst/>
            <a:gdLst>
              <a:gd name="textAreaLeft" fmla="*/ 642240 w 7215120"/>
              <a:gd name="textAreaRight" fmla="*/ 6572880 w 7215120"/>
              <a:gd name="textAreaTop" fmla="*/ 642240 h 5451120"/>
              <a:gd name="textAreaBottom" fmla="*/ 4808880 h 5451120"/>
            </a:gdLst>
            <a:ahLst/>
            <a:rect l="textAreaLeft" t="textAreaTop" r="textAreaRight" b="textAreaBottom"/>
            <a:pathLst>
              <a:path w="2858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4989" y="21600"/>
                </a:lnTo>
                <a:arcTo wR="3600" hR="3600" stAng="10800000" swAng="5400000"/>
                <a:lnTo>
                  <a:pt x="28589" y="3600"/>
                </a:lnTo>
                <a:arcTo wR="3600" hR="3600" stAng="5400000" swAng="5400000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1652760" y="1494000"/>
            <a:ext cx="5767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с, точно терем распис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ловый, золотой, багря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селой, пестрою сте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оит над светлою поля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acaciann.mp3" descr=""/>
          <p:cNvPicPr/>
          <p:nvPr/>
        </p:nvPicPr>
        <p:blipFill>
          <a:blip r:embed="rId2"/>
          <a:stretch/>
        </p:blipFill>
        <p:spPr>
          <a:xfrm>
            <a:off x="8643960" y="6357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200"/>
                            </p:stCondLst>
                            <p:childTnLst>
                              <p:par>
                                <p:cTn id="35" nodeType="afterEffect" fill="hold" presetClass="entr" presetID="8" presetSubtype="32">
                                  <p:stCondLst>
                                    <p:cond delay="3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7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" dur="1" fill="hold">
                                    <p:stCondLst>
                                      <p:cond evt="end">
                                        <p:tn val="35"/>
                                      </p:cond>
                                    </p:stCondLst>
                                  </p:cTn>
                                  <p:tgtEl>
                                    <p:spTgt spid="4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200"/>
                            </p:stCondLst>
                            <p:childTnLst>
                              <p:par>
                                <p:cTn id="40" nodeType="afterEffect" fill="hold" presetClass="exit" presetID="5" presetSubtype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checkerboard(across)" transition="out">
                                      <p:cBhvr additive="repl">
                                        <p:cTn id="41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7700"/>
                            </p:stCondLst>
                            <p:childTnLst>
                              <p:par>
                                <p:cTn id="44" nodeType="afterEffect" fill="hold" presetClass="exit" presetID="5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Users\Пользователь\Desktop\0039-039-Sinkvej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C:\Users\Еленушка\Desktop\история\fon_pos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ставь себе отметку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99680" y="1676520"/>
            <a:ext cx="8286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а уроке я работал :  актив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ассив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Я отвечал   :           верно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е вер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Я другим    :            помога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е помог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0" descr="EXPO2577"/>
          <p:cNvPicPr/>
          <p:nvPr/>
        </p:nvPicPr>
        <p:blipFill>
          <a:blip r:embed="rId1"/>
          <a:stretch/>
        </p:blipFill>
        <p:spPr>
          <a:xfrm>
            <a:off x="0" y="0"/>
            <a:ext cx="9144000" cy="3429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EXPO2517"/>
          <p:cNvPicPr/>
          <p:nvPr/>
        </p:nvPicPr>
        <p:blipFill>
          <a:blip r:embed="rId2"/>
          <a:stretch/>
        </p:blipFill>
        <p:spPr>
          <a:xfrm>
            <a:off x="0" y="3429000"/>
            <a:ext cx="9144000" cy="3429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5"/>
          <p:cNvSpPr/>
          <p:nvPr/>
        </p:nvSpPr>
        <p:spPr>
          <a:xfrm>
            <a:off x="642960" y="4429080"/>
            <a:ext cx="49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Надо уважать все существ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 ползающих муравьё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 парящих в небе ор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6" descr="J0287349"/>
          <p:cNvPicPr/>
          <p:nvPr/>
        </p:nvPicPr>
        <p:blipFill>
          <a:blip r:embed="rId3"/>
          <a:stretch/>
        </p:blipFill>
        <p:spPr>
          <a:xfrm>
            <a:off x="6084720" y="1773360"/>
            <a:ext cx="2592720" cy="25923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17"/>
          <p:cNvSpPr/>
          <p:nvPr/>
        </p:nvSpPr>
        <p:spPr>
          <a:xfrm>
            <a:off x="1285920" y="357120"/>
            <a:ext cx="250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99"/>
                </a:solidFill>
                <a:latin typeface="Arial"/>
              </a:rPr>
              <a:t>Помните!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8"/>
          <p:cNvSpPr/>
          <p:nvPr/>
        </p:nvSpPr>
        <p:spPr>
          <a:xfrm>
            <a:off x="0" y="1285920"/>
            <a:ext cx="70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сё что видишь вокруг, наход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очень хрупко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равнове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428760" y="3429000"/>
            <a:ext cx="435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0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500"/>
                            </p:stCondLst>
                            <p:childTnLst>
                              <p:par>
                                <p:cTn id="11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77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770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C:\Documents and Settings\Елена\Мои документы\Мои рисунки\картинки1\603003.JPG"/>
          <p:cNvPicPr/>
          <p:nvPr/>
        </p:nvPicPr>
        <p:blipFill>
          <a:blip r:embed="rId1"/>
          <a:stretch/>
        </p:blipFill>
        <p:spPr>
          <a:xfrm>
            <a:off x="-500040" y="0"/>
            <a:ext cx="1028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Users\Пользователь\Desktop\ллес.jpeg"/>
          <p:cNvPicPr/>
          <p:nvPr/>
        </p:nvPicPr>
        <p:blipFill>
          <a:blip r:embed="rId1"/>
          <a:stretch/>
        </p:blipFill>
        <p:spPr>
          <a:xfrm>
            <a:off x="250920" y="260280"/>
            <a:ext cx="856908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5"/>
          <p:cNvSpPr/>
          <p:nvPr/>
        </p:nvSpPr>
        <p:spPr>
          <a:xfrm>
            <a:off x="755640" y="6021360"/>
            <a:ext cx="7704000" cy="582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 flipV="1">
            <a:off x="-5508720" y="1052280"/>
            <a:ext cx="14971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безымянный5"/>
          <p:cNvPicPr/>
          <p:nvPr/>
        </p:nvPicPr>
        <p:blipFill>
          <a:blip r:embed="rId2"/>
          <a:stretch/>
        </p:blipFill>
        <p:spPr>
          <a:xfrm>
            <a:off x="1258920" y="1413000"/>
            <a:ext cx="6626160" cy="4464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7"/>
          <p:cNvSpPr txBox="1"/>
          <p:nvPr/>
        </p:nvSpPr>
        <p:spPr>
          <a:xfrm>
            <a:off x="539640" y="0"/>
            <a:ext cx="828036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Лес – это природное сообществ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-491760" y="6021360"/>
            <a:ext cx="102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00"/>
                </a:solidFill>
                <a:latin typeface="Monotype Corsiva"/>
              </a:rPr>
              <a:t>Все растения и животные тесно связаны между соб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325800" y="1674720"/>
            <a:ext cx="141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ЕРЕВ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305280" y="3135240"/>
            <a:ext cx="112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ТРА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449280" y="4503600"/>
            <a:ext cx="74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МХ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7598160" y="3357720"/>
            <a:ext cx="113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Т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7667640" y="4653000"/>
            <a:ext cx="112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ЗВЕ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6949800" y="1557360"/>
            <a:ext cx="18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АСЕКОМ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500"/>
                            </p:stCondLst>
                            <p:childTnLst>
                              <p:par>
                                <p:cTn id="6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500"/>
                            </p:stCondLst>
                            <p:childTnLst>
                              <p:par>
                                <p:cTn id="7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4000"/>
                            </p:stCondLst>
                            <p:childTnLst>
                              <p:par>
                                <p:cTn id="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6000"/>
                            </p:stCondLst>
                            <p:childTnLst>
                              <p:par>
                                <p:cTn id="8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0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68360" y="274680"/>
          <a:ext cx="8218440" cy="5746680"/>
        </p:xfrm>
        <a:graphic>
          <a:graphicData uri="http://schemas.openxmlformats.org/drawingml/2006/table">
            <a:tbl>
              <a:tblPr/>
              <a:tblGrid>
                <a:gridCol w="790560"/>
                <a:gridCol w="7427880"/>
              </a:tblGrid>
              <a:tr h="4777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Зна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Значение зна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1319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нформация, которая уже известна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0447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+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овая информация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0461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―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умал инач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0461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?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что осталось непонятным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Users\Пользователь\Desktop\img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Users\Пользователь\Desktop\лесные этажи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Users\Пользователь\Desktop\290775-greenpeace-ten-rusya-ya-buyuk-suclama-523c96fed2e25.jpg"/>
          <p:cNvPicPr/>
          <p:nvPr/>
        </p:nvPicPr>
        <p:blipFill>
          <a:blip r:embed="rId1"/>
          <a:stretch/>
        </p:blipFill>
        <p:spPr>
          <a:xfrm>
            <a:off x="179280" y="333360"/>
            <a:ext cx="878544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кологические проблемы лес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Группа 10"/>
          <p:cNvGrpSpPr/>
          <p:nvPr/>
        </p:nvGrpSpPr>
        <p:grpSpPr>
          <a:xfrm>
            <a:off x="285840" y="2000160"/>
            <a:ext cx="8572320" cy="1271520"/>
            <a:chOff x="285840" y="2000160"/>
            <a:chExt cx="8572320" cy="1271520"/>
          </a:xfrm>
        </p:grpSpPr>
        <p:sp>
          <p:nvSpPr>
            <p:cNvPr id="63" name="Пятно 2 8"/>
            <p:cNvSpPr/>
            <p:nvPr/>
          </p:nvSpPr>
          <p:spPr>
            <a:xfrm>
              <a:off x="285840" y="2000160"/>
              <a:ext cx="8572320" cy="1271520"/>
            </a:xfrm>
            <a:prstGeom prst="irregularSeal2">
              <a:avLst/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Box 12"/>
            <p:cNvSpPr/>
            <p:nvPr/>
          </p:nvSpPr>
          <p:spPr>
            <a:xfrm>
              <a:off x="2786040" y="2214360"/>
              <a:ext cx="3857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ru-RU" sz="4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ырубка лес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Группа 11"/>
          <p:cNvGrpSpPr/>
          <p:nvPr/>
        </p:nvGrpSpPr>
        <p:grpSpPr>
          <a:xfrm>
            <a:off x="0" y="3071880"/>
            <a:ext cx="9144000" cy="1643040"/>
            <a:chOff x="0" y="3071880"/>
            <a:chExt cx="9144000" cy="1643040"/>
          </a:xfrm>
        </p:grpSpPr>
        <p:sp>
          <p:nvSpPr>
            <p:cNvPr id="66" name="7-конечная звезда 13"/>
            <p:cNvSpPr/>
            <p:nvPr/>
          </p:nvSpPr>
          <p:spPr>
            <a:xfrm>
              <a:off x="0" y="3071880"/>
              <a:ext cx="9144000" cy="1643040"/>
            </a:xfrm>
            <a:custGeom>
              <a:avLst/>
              <a:gdLst>
                <a:gd name="textAreaLeft" fmla="*/ 2034720 w 9144000"/>
                <a:gd name="textAreaRight" fmla="*/ 7109280 w 9144000"/>
                <a:gd name="textAreaTop" fmla="*/ 325440 h 1643040"/>
                <a:gd name="textAreaBottom" fmla="*/ 1237320 h 1643040"/>
              </a:gdLst>
              <a:ahLst/>
              <a:rect l="textAreaLeft" t="textAreaTop" r="textAreaRight" b="textAreaBottom"/>
              <a:pathLst>
                <a:path w="9144000" h="1643074">
                  <a:moveTo>
                    <a:pt x="-24" y="1056672"/>
                  </a:moveTo>
                  <a:lnTo>
                    <a:pt x="1408068" y="731241"/>
                  </a:lnTo>
                  <a:lnTo>
                    <a:pt x="905536" y="325432"/>
                  </a:lnTo>
                  <a:lnTo>
                    <a:pt x="3163933" y="325433"/>
                  </a:lnTo>
                  <a:lnTo>
                    <a:pt x="4572000" y="0"/>
                  </a:lnTo>
                  <a:lnTo>
                    <a:pt x="5980067" y="325433"/>
                  </a:lnTo>
                  <a:lnTo>
                    <a:pt x="8238464" y="325432"/>
                  </a:lnTo>
                  <a:lnTo>
                    <a:pt x="7735932" y="731241"/>
                  </a:lnTo>
                  <a:lnTo>
                    <a:pt x="9144024" y="1056672"/>
                  </a:lnTo>
                  <a:lnTo>
                    <a:pt x="7109267" y="1237273"/>
                  </a:lnTo>
                  <a:lnTo>
                    <a:pt x="6606720" y="1643083"/>
                  </a:lnTo>
                  <a:lnTo>
                    <a:pt x="4572000" y="1462479"/>
                  </a:lnTo>
                  <a:lnTo>
                    <a:pt x="2537280" y="1643083"/>
                  </a:lnTo>
                  <a:lnTo>
                    <a:pt x="2034733" y="1237273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89a4a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Box 14"/>
            <p:cNvSpPr/>
            <p:nvPr/>
          </p:nvSpPr>
          <p:spPr>
            <a:xfrm>
              <a:off x="2143080" y="3286080"/>
              <a:ext cx="56437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законная охота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браконьерство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Группа 19"/>
          <p:cNvGrpSpPr/>
          <p:nvPr/>
        </p:nvGrpSpPr>
        <p:grpSpPr>
          <a:xfrm>
            <a:off x="428760" y="4643280"/>
            <a:ext cx="8572320" cy="1271880"/>
            <a:chOff x="428760" y="4643280"/>
            <a:chExt cx="8572320" cy="1271880"/>
          </a:xfrm>
        </p:grpSpPr>
        <p:sp>
          <p:nvSpPr>
            <p:cNvPr id="69" name="Пятно 2 15"/>
            <p:cNvSpPr/>
            <p:nvPr/>
          </p:nvSpPr>
          <p:spPr>
            <a:xfrm>
              <a:off x="428760" y="4643280"/>
              <a:ext cx="8572320" cy="1271880"/>
            </a:xfrm>
            <a:prstGeom prst="irregularSeal2">
              <a:avLst/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Box 16"/>
            <p:cNvSpPr/>
            <p:nvPr/>
          </p:nvSpPr>
          <p:spPr>
            <a:xfrm>
              <a:off x="2643120" y="4857480"/>
              <a:ext cx="3857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Лесные пожары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Группа 20"/>
          <p:cNvGrpSpPr/>
          <p:nvPr/>
        </p:nvGrpSpPr>
        <p:grpSpPr>
          <a:xfrm>
            <a:off x="1143000" y="5643720"/>
            <a:ext cx="7143840" cy="1071360"/>
            <a:chOff x="1143000" y="5643720"/>
            <a:chExt cx="7143840" cy="1071360"/>
          </a:xfrm>
        </p:grpSpPr>
        <p:sp>
          <p:nvSpPr>
            <p:cNvPr id="72" name="5-конечная звезда 17"/>
            <p:cNvSpPr/>
            <p:nvPr/>
          </p:nvSpPr>
          <p:spPr>
            <a:xfrm>
              <a:off x="1143000" y="5643720"/>
              <a:ext cx="7143840" cy="1071360"/>
            </a:xfrm>
            <a:custGeom>
              <a:avLst/>
              <a:gdLst>
                <a:gd name="textAreaLeft" fmla="*/ 2207520 w 7143840"/>
                <a:gd name="textAreaRight" fmla="*/ 4936320 w 7143840"/>
                <a:gd name="textAreaTop" fmla="*/ 409320 h 1071360"/>
                <a:gd name="textAreaBottom" fmla="*/ 818640 h 1071360"/>
              </a:gdLst>
              <a:ahLst/>
              <a:rect l="textAreaLeft" t="textAreaTop" r="textAreaRight" b="textAreaBottom"/>
              <a:pathLst>
                <a:path w="7143800" h="1071570">
                  <a:moveTo>
                    <a:pt x="8" y="409302"/>
                  </a:moveTo>
                  <a:lnTo>
                    <a:pt x="2728704" y="409305"/>
                  </a:lnTo>
                  <a:lnTo>
                    <a:pt x="3571900" y="0"/>
                  </a:lnTo>
                  <a:lnTo>
                    <a:pt x="4415096" y="409305"/>
                  </a:lnTo>
                  <a:lnTo>
                    <a:pt x="7143792" y="409302"/>
                  </a:lnTo>
                  <a:lnTo>
                    <a:pt x="4936221" y="662263"/>
                  </a:lnTo>
                  <a:lnTo>
                    <a:pt x="5779458" y="1071566"/>
                  </a:lnTo>
                  <a:lnTo>
                    <a:pt x="3571900" y="818601"/>
                  </a:lnTo>
                  <a:lnTo>
                    <a:pt x="1364342" y="1071566"/>
                  </a:lnTo>
                  <a:lnTo>
                    <a:pt x="2207579" y="662263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89a4a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Box 18"/>
            <p:cNvSpPr/>
            <p:nvPr/>
          </p:nvSpPr>
          <p:spPr>
            <a:xfrm>
              <a:off x="3714840" y="5857920"/>
              <a:ext cx="1714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Мусор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3T04:53:09Z</dcterms:created>
  <dc:creator>C4</dc:creator>
  <dc:description/>
  <dc:language>en-US</dc:language>
  <cp:lastModifiedBy>Пользователь</cp:lastModifiedBy>
  <dcterms:modified xsi:type="dcterms:W3CDTF">2016-12-13T21:44:23Z</dcterms:modified>
  <cp:revision>84</cp:revision>
  <dc:subject/>
  <dc:title>Слайд 1</dc:title>
</cp:coreProperties>
</file>