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8D5-E7DE-4D1E-A915-0B43AF39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EE6-A2AD-4FC2-BBA4-56EEE885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44B-E836-42E5-BDB3-7D10DBF1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2C4-D08C-457C-BFA4-D55E1ABF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9EB-22D2-4C29-A15A-5E3AEB70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583-81E0-4A6B-9D52-19969E2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131-798F-48EB-BCA4-26C30C3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792-902A-4E73-8F36-CDD3A46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D48-B8CD-4050-8752-8406906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BA7-1332-4D91-B80A-A660F08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D99-DB68-4F00-895F-582AF91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A6B-6D2D-49CA-B449-AC05037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62E-1DCF-4C36-9E8B-E6FC7C60E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52760" y="1494000"/>
            <a:ext cx="576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, точно терем распи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овый, золотой,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ой, пестрою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ит над светлою поля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2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200"/>
                            </p:stCondLst>
                            <p:childTnLst>
                              <p:par>
                                <p:cTn id="40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7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Пользователь\Desktop\0039-039-Sinkvej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себе отметк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9680" y="167652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уроке я работал :  акти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сс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отвечал   :           верн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ве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другим    :            помог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помог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Пользователь\Desktop\ллес.jpeg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274680"/>
          <a:ext cx="8218440" cy="5746680"/>
        </p:xfrm>
        <a:graphic>
          <a:graphicData uri="http://schemas.openxmlformats.org/drawingml/2006/table">
            <a:tbl>
              <a:tblPr/>
              <a:tblGrid>
                <a:gridCol w="790560"/>
                <a:gridCol w="7427880"/>
              </a:tblGrid>
              <a:tr h="477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Зн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Значение 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1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формация, которая уже известна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44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вая информаци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―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умал инач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4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то осталось непонятным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Пользователь\Desktop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Пользователь\Desktop\лесные этаж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Пользователь\Desktop\290775-greenpeace-ten-rusya-ya-buyuk-suclama-523c96fed2e25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10"/>
          <p:cNvGrpSpPr/>
          <p:nvPr/>
        </p:nvGrpSpPr>
        <p:grpSpPr>
          <a:xfrm>
            <a:off x="285840" y="2000160"/>
            <a:ext cx="8572320" cy="1271520"/>
            <a:chOff x="285840" y="2000160"/>
            <a:chExt cx="8572320" cy="1271520"/>
          </a:xfrm>
        </p:grpSpPr>
        <p:sp>
          <p:nvSpPr>
            <p:cNvPr id="63" name="Пятно 2 8"/>
            <p:cNvSpPr/>
            <p:nvPr/>
          </p:nvSpPr>
          <p:spPr>
            <a:xfrm>
              <a:off x="285840" y="2000160"/>
              <a:ext cx="8572320" cy="127152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2786040" y="221436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убка л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1"/>
          <p:cNvGrpSpPr/>
          <p:nvPr/>
        </p:nvGrpSpPr>
        <p:grpSpPr>
          <a:xfrm>
            <a:off x="0" y="3071880"/>
            <a:ext cx="9144000" cy="1643040"/>
            <a:chOff x="0" y="3071880"/>
            <a:chExt cx="9144000" cy="1643040"/>
          </a:xfrm>
        </p:grpSpPr>
        <p:sp>
          <p:nvSpPr>
            <p:cNvPr id="66" name="7-конечная звезда 13"/>
            <p:cNvSpPr/>
            <p:nvPr/>
          </p:nvSpPr>
          <p:spPr>
            <a:xfrm>
              <a:off x="0" y="3071880"/>
              <a:ext cx="9144000" cy="1643040"/>
            </a:xfrm>
            <a:custGeom>
              <a:avLst/>
              <a:gdLst>
                <a:gd name="textAreaLeft" fmla="*/ 2034720 w 9144000"/>
                <a:gd name="textAreaRight" fmla="*/ 7109280 w 9144000"/>
                <a:gd name="textAreaTop" fmla="*/ 325440 h 1643040"/>
                <a:gd name="textAreaBottom" fmla="*/ 1237320 h 1643040"/>
              </a:gdLst>
              <a:ahLst/>
              <a:rect l="textAreaLeft" t="textAreaTop" r="textAreaRight" b="textAreaBottom"/>
              <a:pathLst>
                <a:path w="9144000" h="1643074">
                  <a:moveTo>
                    <a:pt x="-24" y="1056672"/>
                  </a:moveTo>
                  <a:lnTo>
                    <a:pt x="1408068" y="731241"/>
                  </a:lnTo>
                  <a:lnTo>
                    <a:pt x="905536" y="325432"/>
                  </a:lnTo>
                  <a:lnTo>
                    <a:pt x="3163933" y="325433"/>
                  </a:lnTo>
                  <a:lnTo>
                    <a:pt x="4572000" y="0"/>
                  </a:lnTo>
                  <a:lnTo>
                    <a:pt x="5980067" y="325433"/>
                  </a:lnTo>
                  <a:lnTo>
                    <a:pt x="8238464" y="325432"/>
                  </a:lnTo>
                  <a:lnTo>
                    <a:pt x="7735932" y="731241"/>
                  </a:lnTo>
                  <a:lnTo>
                    <a:pt x="9144024" y="1056672"/>
                  </a:lnTo>
                  <a:lnTo>
                    <a:pt x="7109267" y="1237273"/>
                  </a:lnTo>
                  <a:lnTo>
                    <a:pt x="6606720" y="1643083"/>
                  </a:lnTo>
                  <a:lnTo>
                    <a:pt x="4572000" y="1462479"/>
                  </a:lnTo>
                  <a:lnTo>
                    <a:pt x="2537280" y="1643083"/>
                  </a:lnTo>
                  <a:lnTo>
                    <a:pt x="2034733" y="1237273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4"/>
            <p:cNvSpPr/>
            <p:nvPr/>
          </p:nvSpPr>
          <p:spPr>
            <a:xfrm>
              <a:off x="2143080" y="3286080"/>
              <a:ext cx="564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законная охот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браконьерство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9"/>
          <p:cNvGrpSpPr/>
          <p:nvPr/>
        </p:nvGrpSpPr>
        <p:grpSpPr>
          <a:xfrm>
            <a:off x="428760" y="4643280"/>
            <a:ext cx="8572320" cy="1271880"/>
            <a:chOff x="428760" y="4643280"/>
            <a:chExt cx="8572320" cy="1271880"/>
          </a:xfrm>
        </p:grpSpPr>
        <p:sp>
          <p:nvSpPr>
            <p:cNvPr id="69" name="Пятно 2 15"/>
            <p:cNvSpPr/>
            <p:nvPr/>
          </p:nvSpPr>
          <p:spPr>
            <a:xfrm>
              <a:off x="428760" y="4643280"/>
              <a:ext cx="8572320" cy="1271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6"/>
            <p:cNvSpPr/>
            <p:nvPr/>
          </p:nvSpPr>
          <p:spPr>
            <a:xfrm>
              <a:off x="2643120" y="485748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сные пожар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20"/>
          <p:cNvGrpSpPr/>
          <p:nvPr/>
        </p:nvGrpSpPr>
        <p:grpSpPr>
          <a:xfrm>
            <a:off x="1143000" y="5643720"/>
            <a:ext cx="7143840" cy="1071360"/>
            <a:chOff x="1143000" y="5643720"/>
            <a:chExt cx="7143840" cy="1071360"/>
          </a:xfrm>
        </p:grpSpPr>
        <p:sp>
          <p:nvSpPr>
            <p:cNvPr id="72" name="5-конечная звезда 17"/>
            <p:cNvSpPr/>
            <p:nvPr/>
          </p:nvSpPr>
          <p:spPr>
            <a:xfrm>
              <a:off x="1143000" y="5643720"/>
              <a:ext cx="7143840" cy="1071360"/>
            </a:xfrm>
            <a:custGeom>
              <a:avLst/>
              <a:gdLst>
                <a:gd name="textAreaLeft" fmla="*/ 2207520 w 7143840"/>
                <a:gd name="textAreaRight" fmla="*/ 4936320 w 7143840"/>
                <a:gd name="textAreaTop" fmla="*/ 409320 h 1071360"/>
                <a:gd name="textAreaBottom" fmla="*/ 818640 h 1071360"/>
              </a:gdLst>
              <a:ahLst/>
              <a:rect l="textAreaLeft" t="textAreaTop" r="textAreaRight" b="textAreaBottom"/>
              <a:pathLst>
                <a:path w="7143800" h="1071570">
                  <a:moveTo>
                    <a:pt x="8" y="409302"/>
                  </a:moveTo>
                  <a:lnTo>
                    <a:pt x="2728704" y="409305"/>
                  </a:lnTo>
                  <a:lnTo>
                    <a:pt x="3571900" y="0"/>
                  </a:lnTo>
                  <a:lnTo>
                    <a:pt x="4415096" y="409305"/>
                  </a:lnTo>
                  <a:lnTo>
                    <a:pt x="7143792" y="409302"/>
                  </a:lnTo>
                  <a:lnTo>
                    <a:pt x="4936221" y="662263"/>
                  </a:lnTo>
                  <a:lnTo>
                    <a:pt x="5779458" y="1071566"/>
                  </a:lnTo>
                  <a:lnTo>
                    <a:pt x="3571900" y="818601"/>
                  </a:lnTo>
                  <a:lnTo>
                    <a:pt x="1364342" y="1071566"/>
                  </a:lnTo>
                  <a:lnTo>
                    <a:pt x="2207579" y="662263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8"/>
            <p:cNvSpPr/>
            <p:nvPr/>
          </p:nvSpPr>
          <p:spPr>
            <a:xfrm>
              <a:off x="3714840" y="5857920"/>
              <a:ext cx="171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со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Пользователь</cp:lastModifiedBy>
  <dcterms:modified xsi:type="dcterms:W3CDTF">2016-12-13T21:44:23Z</dcterms:modified>
  <cp:revision>84</cp:revision>
  <dc:subject/>
  <dc:title>Слайд 1</dc:title>
</cp:coreProperties>
</file>