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029-F737-4EAE-A3BE-2FCF34A1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92C-F51C-4F31-A896-32E046BA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D19-B725-43D6-BC52-DC13E7B6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682-BB08-4332-865E-08C16DFC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72D4-387E-4C41-963B-7DB5404B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7C99-7821-4D82-A76C-B07DE7E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2BB5-9254-427D-A090-060F309F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B9F5-539C-4012-91A0-6A8134EF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78D4-6AE8-45B2-BF93-8BFE9DF6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307A-F4EC-4C32-BAF7-1AFDA75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AAE8-A3EE-45F8-9639-E6CD3032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32A-2CD8-42E1-9488-506FD159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F2A8-F159-49C2-858E-702A6D31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108E-20F3-4C94-8601-1F750285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142A-D58C-429D-91D4-FC276C4C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B2DC-341D-4433-A1CF-DC6C7ACC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4F9B-4BB5-48C9-85DA-72FD75A6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8143-1329-4974-9E57-9D37C473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6457-98C5-4479-88F6-E4161E80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A720-D616-4F89-BE74-A0169A3D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E4A4-D6C6-43CD-B518-929D97E8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CB15-98E7-49D0-BEDF-2A0192BE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233-ADD9-47C3-B43F-D2941C8B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BD5B-3ADE-4D47-B290-F5358040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2629-C51D-4F1C-9BD7-DD229497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7726-AFEA-4DF9-84A5-15F67F16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907BA-AB3E-452A-90FE-74CAD60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90FB-28A6-45A0-BF0A-36499921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BFC9-BDE5-4FF9-972F-00EC8813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DA83-E993-4ED9-AA27-5513D861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B29D-C214-4E4F-BFD9-EDCD0213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8D2F-2D17-4AB1-B704-449C3328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116F-684C-41F7-96D7-AC0FEC25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E67-6854-4EF2-8008-54C1E93E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6728-8622-418A-BF4A-736EDE7C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83C27-1089-463A-9B0C-C32BBB7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76446-7F38-4EE0-93D5-CD681A82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5061-EEB7-4042-9AFE-3A1E921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00E2C-EAC4-4B5F-84AA-263AFC21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441FE-4589-4CAF-9437-85B7939B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D405-E3CF-480A-8685-187003C7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9C23F-FAEB-4F7A-AEFD-FE702DD2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A7D95-1391-4B8A-A8AA-5FF0D062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FC7E0-36D1-486E-B4FE-A1EBC66C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926-3BBB-4205-8339-A53E301F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29A6E-FA0F-4320-BCDC-4459F1FA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123CB-CF37-47F6-8C6D-1C4E7C88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D1040-FE99-49F1-8A0B-893ED844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374C-7AFB-4909-9B3D-2E9D9A88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A7B8-221B-4785-9B12-191556E5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D7A0B-6B7F-4D6C-9267-D0DA8622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936A0-397F-4A9F-BEF6-29E3F612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50A8E-BA42-4D87-BC66-B6C4D06B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44466-C9AC-490C-A61F-3B093348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E9C44-A7F6-407A-9BCE-71095B84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B48-D8C3-47A5-B347-2CAE95D0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03D8-3343-46EB-8C54-A83E2D4D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8EC-17AB-4A3F-BE49-7E6CB8E8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D08-764D-4FA9-82A0-8D67C34D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639-B35B-4294-B4CF-E7ABCD7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1190-367F-4175-B6F5-C29E5A06D41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87C5-EBF6-4811-A218-C05983335530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001F-59A4-4AD7-B8B7-3446049E3A8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1D3D-550E-4410-99BE-B64B1C3D7241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B679-39B7-4C13-8808-BB1E66D1BAC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7255080" cy="1090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ма выступлен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дивидуальный образовательный маршрут выпускников 9,11 класс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оль «пробельных листов» в подготовке к ГИ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КОУ Берёзовской СОШ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инчук А.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кабрь, 2015 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676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ление </a:t>
            </a: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первичного анализа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денной контрольной работы (+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ление </a:t>
            </a: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подробного анализа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денной работы (+)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ление </a:t>
            </a: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индивидуальных маршрутов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каждого учащегос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Работа по ИОМ формирует у школьник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Основы учебно-познавательной компетен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Самостоятельно организовываться на заняти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Планировать свою работу согласно цели и зада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Оценивать и анализировать свою работ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347760" y="317520"/>
            <a:ext cx="746100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системе отслеживать уровень подготовки учащихся к государственной итоговой аттестации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воевременно выявлять проблемные темы по учебным предметам, что позволяет точечно спланировать работу учителя-предметника по подготовке к ОГЭ и ЕГЭ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означить учащихся группы «риска» по отношению к результатам единого (основного) государственного экзамена на раннем этапе подготовки, что способствует более качественной работе с данной категорией выпускник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ленаправленно готовить одаренных учащихся к выполнению усложненных зада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ботая с выпускниками в индивидуальном режиме  в конце учебного года мы  получили  улучшение состояния обученности учащихся, стойкое  повышение качества знаний, уровня подготовленности обучающихся к государственной итоговой аттестаци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2015 году все выпускники 9,11 классов успешно сдали ГИ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7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бота по индивидуальным образовательным маршрутам является основным направлением деятельности учителей большинства стран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ОМ – путь следования учащегося в изучении материала с учетом его индивидуальных способностей и запросов при осуществлении учителем педагогической поддерж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дставляет собой специальную программу действий  более ранней диагностики проблем учащихся и оказанию им индивидуальной помощ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70580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этап – распределить учащихся по уровня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высо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средний ( «группа роста»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низкий ( «группа риска»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этап – алгоритм создания  И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Постановка цел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Выбор способов реализации це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Оформление маршрутного лис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этап – Подведение итогов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иагностические работ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Работа над преодолением пробелов в ЗУ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Работа над формированием мотивации к учен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Работа по развитию основных мыслительных операций, повышение качества мыслительной деятельности учащего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Углубление знаний и подготовка к решению второй ча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ИО 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еника (цы) ______ класс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 ____________ учебный го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Цель маршрута:     ______________________________________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3610080"/>
          <a:ext cx="7696080" cy="3017880"/>
        </p:xfrm>
        <a:graphic>
          <a:graphicData uri="http://schemas.openxmlformats.org/drawingml/2006/table">
            <a:tbl>
              <a:tblPr/>
              <a:tblGrid>
                <a:gridCol w="404640"/>
                <a:gridCol w="1805040"/>
                <a:gridCol w="2057400"/>
                <a:gridCol w="1828800"/>
                <a:gridCol w="16002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ема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зульт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лан работы для 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льнейшие действия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шение квадратных урав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утает виды кв.уравнений, их алгоритмы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Работа по 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Теория - зач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 след.уроке –карточка, повторная проверка ЗУ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роение графика кв.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шибки при нахождении вершины парабо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Выучить форму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Алгоритм   постр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п.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 построение граф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рифметическая прогре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шибки в вычислен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ности  арифм.прогре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Повторить действия с обыкн.дроб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див.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прави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устный с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тренаж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09480" y="1558800"/>
          <a:ext cx="7010640" cy="4926240"/>
        </p:xfrm>
        <a:graphic>
          <a:graphicData uri="http://schemas.openxmlformats.org/drawingml/2006/table">
            <a:tbl>
              <a:tblPr/>
              <a:tblGrid>
                <a:gridCol w="533520"/>
                <a:gridCol w="1362240"/>
                <a:gridCol w="542880"/>
                <a:gridCol w="609480"/>
                <a:gridCol w="685800"/>
                <a:gridCol w="609480"/>
                <a:gridCol w="762120"/>
                <a:gridCol w="685800"/>
                <a:gridCol w="517680"/>
                <a:gridCol w="701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веряемые элементы по кодификато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ния перво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йствия с числ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авнение чис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ндартный вид чис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ния второй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еобразова-ние алгебраичес-ких выра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80880" y="1752480"/>
          <a:ext cx="7315200" cy="4429080"/>
        </p:xfrm>
        <a:graphic>
          <a:graphicData uri="http://schemas.openxmlformats.org/drawingml/2006/table">
            <a:tbl>
              <a:tblPr/>
              <a:tblGrid>
                <a:gridCol w="1463760"/>
                <a:gridCol w="1461960"/>
                <a:gridCol w="1463760"/>
                <a:gridCol w="1462320"/>
                <a:gridCol w="1463400"/>
              </a:tblGrid>
              <a:tr h="108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чет пробелов в ЗУН по теме «Линейная функц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роение граф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очки пересечения графика с осями координ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очки пересечения графиков линейной 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ответствие между графиком линейной функции и коээфициентами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рамов 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Разработка и коррекция календарно-тематического планировани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Аналитическая деятельнос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Разработка индивидуальных маршрутов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едение «пробельных листов»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Точечный контроль: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каждой темы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каждого умени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о проверяемым элементам по кодификатор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ерва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группа – учащиеся, проявляющие особый интерес к предмету (одаренные), у которых, как правило, сформированы основные умени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Формы работы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групповые занятия , самостоятельная работа ученика ,индивидуальная работа по усложненным заданиям, выполнение онлайн-тест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торая группа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– учащиеся со средними способностями, (как правило – большинство), умения сформированы на 50-70 % (группа «роста»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ормы работы: групповая , индивидуальная, самостоятельная работа под руководством учителя, практические занятия в составе класс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ретья группа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– учащиеся группы «РИСК», не преодолевшие минимальный порог, у которых не сформирована большая часть умени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Формы работ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– групповая и индивидуальна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12-07T11:55:00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