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AABBD-B63D-4A24-AD97-1D4E90A0E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73890-2736-4832-9DE1-21BA298BE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92CA4-6D43-4162-86B5-0FFE11049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63A6E-0CDA-45BA-B831-EBBDE551C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D592A-D2AA-4A67-9787-E2E0DA24D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B4BC0-2D35-47B4-B866-E0244BB70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75BE7-5019-47CB-A964-06291DF95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4A30A-F0EB-46D8-93A9-41EBE49D7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FC21E-F6C7-4995-80C6-E778870C2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CB7E2-B759-4401-976E-382713F26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01EE1-559C-4E14-BFFF-8F1A5C9F8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DA5A5-4990-48E5-93C2-38CCBD19E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BE093-84B7-4E61-ABA0-880719F6F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DFB1F-5840-476B-840C-02A916819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4BBF0-C88C-4C5C-8335-1F47A33F2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62882-A6F8-4312-9A17-5084D57FB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802F9-E8EC-42C7-BD05-62D7B8B76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3B462E-5CC2-45B1-8FAF-A95CDFE9D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CD2A3F-5562-43F2-BFB5-E18DAFBDB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21CA4D-06F4-45F2-BA32-B1C1767C6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5879BE-5A70-46EF-9C55-523B8DB06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102C1D-F8A0-40FF-AB38-D3C0346AD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21EA4-DE16-40A5-86DD-0A56BB2C0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9EFBA3-568C-4343-9D20-B00245251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C87A22-7B1D-4E3D-B36B-38C6A75DD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BC8A31-40C3-4D3A-A9B5-1B5A61095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11FF81-6421-4097-A1C5-7352F5F6A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CBDEFD-FAB1-4D1A-B1A0-076C46098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676870-FC4B-4388-8951-F32CADE5D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78A088-1277-4E39-AEBD-2208B7E2C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1B6147-1A0B-4A50-84F2-0F22CE67A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076A35-45AF-4715-AE86-DFD0831F0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6116F6-872B-4A40-A2A2-5F26B5B7D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44903-521B-4BD3-8638-C3E98F4A8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227074-754A-46C7-B444-E003F6B66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EA63FF-D795-4C70-9A8F-ED16AA263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CE91E2-4443-4CC0-A77C-1824660D8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35DD97-F9C7-495A-9A9A-AF0A67600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0FC3A9-4DBA-45D8-B454-5AE98496A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B45912-2D13-41B8-ABD5-C3030A65C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E615C1-7DD4-4B05-B425-54B6D17F4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D538EE-2804-426B-953E-3E441383F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96D3BF-8142-4D29-B8BF-0D7AD4690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2B601A-4B65-4D1B-82C0-E8C9FC706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4C047-6948-41BF-A8E1-ACE939554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6CC2F1-4547-4DFF-8040-754F31C29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86B686-109A-4FE0-B89F-E92367788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29BDD6-AAFF-4C35-9816-5977FA7CD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DCAFCD-0A80-4666-8C79-0E3BC192F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175C6B-B569-4596-BC99-1CB287D89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87FA51-60A0-4A34-ADD2-15878DDD9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19AD8E-C9B9-44FF-A3CD-02F00B75B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974BE7-5019-40A7-B2E4-01A0AE6D7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A7B7DB-0C55-42D2-98D0-03640EC88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C81BE1-55D9-49D4-B5BC-1AAEED754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D144E-A704-4076-8D8B-573F20978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C5455E-66EF-4655-9831-4FB3D2ABF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70269-FF4E-42AC-8128-BEFE30C1F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9F726-C939-49AA-93A1-DF4D07EA6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C977D-9469-4BF6-900F-E86C92A38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EF797-F24F-4797-A458-2B0F4371C001}" type="slidenum">
              <a:rPr b="0" lang="ru-RU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A0098-E340-4E10-B999-7A7E3C33C056}" type="slidenum">
              <a:rPr b="0" lang="ru-RU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B6902-8A84-42CE-9D8A-1C1CE8BE0937}" type="slidenum">
              <a:rPr b="0" lang="ru-RU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29A53-2F8C-435A-BB48-CFF0DD866087}" type="slidenum">
              <a:rPr b="0" lang="ru-RU" sz="1100" spc="-1" strike="noStrike">
                <a:solidFill>
                  <a:srgbClr val="f4e7ed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00438-D1E5-46E3-82ED-D11B1E458C30}" type="slidenum">
              <a:rPr b="0" lang="ru-RU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Rectangle 4" descr=""/>
          <p:cNvPicPr/>
          <p:nvPr/>
        </p:nvPicPr>
        <p:blipFill>
          <a:blip r:embed="rId1"/>
          <a:stretch/>
        </p:blipFill>
        <p:spPr>
          <a:xfrm>
            <a:off x="450720" y="378000"/>
            <a:ext cx="7255080" cy="109044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Тема выступления: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Индивидуальный образовательный маршрут выпускников 9,11 классов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Роль «пробельных листов» в подготовке к ГИА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Учитель математики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МКОУ Берёзовской СОШ: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Пинчук А.И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Декабрь, 2015 г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Rectangle 2" descr=""/>
          <p:cNvPicPr/>
          <p:nvPr/>
        </p:nvPicPr>
        <p:blipFill>
          <a:blip r:embed="rId1"/>
          <a:stretch/>
        </p:blipFill>
        <p:spPr>
          <a:xfrm>
            <a:off x="244440" y="317520"/>
            <a:ext cx="7667640" cy="115092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Составление </a:t>
            </a:r>
            <a:r>
              <a:rPr b="0" lang="ru-RU" sz="2600" spc="-1" strike="noStrike">
                <a:solidFill>
                  <a:srgbClr val="b13f9a"/>
                </a:solidFill>
                <a:latin typeface="Trebuchet MS"/>
              </a:rPr>
              <a:t>первичного анализа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проведенной контрольной работы (+);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-6094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Составление </a:t>
            </a:r>
            <a:r>
              <a:rPr b="0" lang="ru-RU" sz="2600" spc="-1" strike="noStrike">
                <a:solidFill>
                  <a:srgbClr val="b13f9a"/>
                </a:solidFill>
                <a:latin typeface="Trebuchet MS"/>
              </a:rPr>
              <a:t>подробного анализа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проведенной работы (+);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-6094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Составление </a:t>
            </a:r>
            <a:r>
              <a:rPr b="0" lang="ru-RU" sz="2600" spc="-1" strike="noStrike">
                <a:solidFill>
                  <a:srgbClr val="b13f9a"/>
                </a:solidFill>
                <a:latin typeface="Trebuchet MS"/>
              </a:rPr>
              <a:t>индивидуальных маршрутов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на каждого учащегося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Rectangle 2" descr=""/>
          <p:cNvPicPr/>
          <p:nvPr/>
        </p:nvPicPr>
        <p:blipFill>
          <a:blip r:embed="rId1"/>
          <a:stretch/>
        </p:blipFill>
        <p:spPr>
          <a:xfrm>
            <a:off x="450720" y="291960"/>
            <a:ext cx="7255080" cy="117648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    </a:t>
            </a:r>
            <a:r>
              <a:rPr b="0" lang="ru-RU" sz="2600" spc="-1" strike="noStrike" u="sng">
                <a:solidFill>
                  <a:srgbClr val="000000"/>
                </a:solidFill>
                <a:uFillTx/>
                <a:latin typeface="Trebuchet MS"/>
              </a:rPr>
              <a:t>Работа по ИОМ формирует у школьников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-609480">
              <a:spcBef>
                <a:spcPts val="601"/>
              </a:spcBef>
              <a:buClr>
                <a:srgbClr val="b13f9a"/>
              </a:buClr>
              <a:buSzPct val="73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1.Основы учебно-познавательной компетенции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-609480">
              <a:spcBef>
                <a:spcPts val="601"/>
              </a:spcBef>
              <a:buClr>
                <a:srgbClr val="b13f9a"/>
              </a:buClr>
              <a:buSzPct val="73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2.Самостоятельно организовываться на занятиях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-609480">
              <a:spcBef>
                <a:spcPts val="601"/>
              </a:spcBef>
              <a:buClr>
                <a:srgbClr val="b13f9a"/>
              </a:buClr>
              <a:buSzPct val="73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3.Планировать свою работу согласно цели и задачи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-609480">
              <a:spcBef>
                <a:spcPts val="601"/>
              </a:spcBef>
              <a:buClr>
                <a:srgbClr val="b13f9a"/>
              </a:buClr>
              <a:buSzPct val="73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4.Оценивать и анализировать свою работу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Rectangle 2" descr=""/>
          <p:cNvPicPr/>
          <p:nvPr/>
        </p:nvPicPr>
        <p:blipFill>
          <a:blip r:embed="rId1"/>
          <a:stretch/>
        </p:blipFill>
        <p:spPr>
          <a:xfrm>
            <a:off x="347760" y="317520"/>
            <a:ext cx="7461000" cy="11509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В системе отслеживать уровень подготовки учащихся к государственной итоговой аттестации;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Своевременно выявлять проблемные темы по учебным предметам, что позволяет точечно спланировать работу учителя-предметника по подготовке к ОГЭ и ЕГЭ;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обозначить учащихся группы «риска» по отношению к результатам единого (основного) государственного экзамена на раннем этапе подготовки, что способствует более качественной работе с данной категорией выпускников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Целенаправленно готовить одаренных учащихся к выполнению усложненных заданий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Rectangle 2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115092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Работая с выпускниками в индивидуальном режиме  в конце учебного года мы  получили  улучшение состояния обученности учащихся, стойкое  повышение качества знаний, уровня подготовленности обучающихся к государственной итоговой аттестации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В 2015 году все выпускники 9,11 классов успешно сдали ГИА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Rectangle 7" descr=""/>
          <p:cNvPicPr/>
          <p:nvPr/>
        </p:nvPicPr>
        <p:blipFill>
          <a:blip r:embed="rId1"/>
          <a:stretch/>
        </p:blipFill>
        <p:spPr>
          <a:xfrm>
            <a:off x="450720" y="291960"/>
            <a:ext cx="7255080" cy="1176480"/>
          </a:xfrm>
          <a:prstGeom prst="rect">
            <a:avLst/>
          </a:prstGeom>
          <a:ln w="0">
            <a:noFill/>
          </a:ln>
        </p:spPr>
      </p:pic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Работа по индивидуальным образовательным маршрутам является основным направлением деятельности учителей большинства стран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ИОМ – путь следования учащегося в изучении материала с учетом его индивидуальных способностей и запросов при осуществлении учителем педагогической поддержки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Представляет собой специальную программу действий  более ранней диагностики проблем учащихся и оказанию им индивидуальной помощи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Rectangle 2" descr=""/>
          <p:cNvPicPr/>
          <p:nvPr/>
        </p:nvPicPr>
        <p:blipFill>
          <a:blip r:embed="rId1"/>
          <a:stretch/>
        </p:blipFill>
        <p:spPr>
          <a:xfrm>
            <a:off x="450720" y="291960"/>
            <a:ext cx="7705800" cy="117648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I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этап – распределить учащихся по уровням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           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1.высокий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            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2.средний ( «группа роста»)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            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3.низкий ( «группа риска»)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II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этап – алгоритм создания  ИОМ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            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1.Постановка цели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            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2.Выбор способов реализации цели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            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3.Оформление маршрутного листа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III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этап – Подведение итогов –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                            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диагностические работы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Rectangle 2" descr=""/>
          <p:cNvPicPr/>
          <p:nvPr/>
        </p:nvPicPr>
        <p:blipFill>
          <a:blip r:embed="rId1"/>
          <a:stretch/>
        </p:blipFill>
        <p:spPr>
          <a:xfrm>
            <a:off x="450720" y="291960"/>
            <a:ext cx="7255080" cy="117648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1.Работа над преодолением пробелов в ЗУН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2.Работа над формированием мотивации к учению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3.Работа по развитию основных мыслительных операций, повышение качества мыслительной деятельности учащегося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4.Углубление знаний и подготовка к решению второй части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Rectangle 2" descr=""/>
          <p:cNvPicPr/>
          <p:nvPr/>
        </p:nvPicPr>
        <p:blipFill>
          <a:blip r:embed="rId1"/>
          <a:stretch/>
        </p:blipFill>
        <p:spPr>
          <a:xfrm>
            <a:off x="450720" y="291960"/>
            <a:ext cx="7255080" cy="117648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ФИО ________________________________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Ученика (цы) ______ класса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на ____________ учебный год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Цель маршрута:     ______________________________________        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228600" y="3610080"/>
          <a:ext cx="7696080" cy="3017880"/>
        </p:xfrm>
        <a:graphic>
          <a:graphicData uri="http://schemas.openxmlformats.org/drawingml/2006/table">
            <a:tbl>
              <a:tblPr/>
              <a:tblGrid>
                <a:gridCol w="404640"/>
                <a:gridCol w="1805040"/>
                <a:gridCol w="2057400"/>
                <a:gridCol w="1828800"/>
                <a:gridCol w="1600200"/>
              </a:tblGrid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Тема занят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Результат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рабо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План работы для учащегос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Дальнейшие действия учител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Решение квадратных уравнен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Путает виды кв.уравнений, их алгоритмы реш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.Работа по О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.Теория - зачет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На след.уроке –карточка, повторная проверка ЗУ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Построение графика кв.функ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Ошибки при нахождении вершины парабол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.Выучить формул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.Алгоритм   постро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Доп.зада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на построение график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3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Арифметическая прогресс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Ошибки в вычислении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разности  арифм.прогресс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.Повторить действия с обыкн.дробя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Индив.рабо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правил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устный сче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тренаже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Rectangle 2" descr=""/>
          <p:cNvPicPr/>
          <p:nvPr/>
        </p:nvPicPr>
        <p:blipFill>
          <a:blip r:embed="rId1"/>
          <a:stretch/>
        </p:blipFill>
        <p:spPr>
          <a:xfrm>
            <a:off x="450720" y="291960"/>
            <a:ext cx="7255080" cy="117648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609480" y="1558800"/>
          <a:ext cx="7010640" cy="4926240"/>
        </p:xfrm>
        <a:graphic>
          <a:graphicData uri="http://schemas.openxmlformats.org/drawingml/2006/table">
            <a:tbl>
              <a:tblPr/>
              <a:tblGrid>
                <a:gridCol w="533520"/>
                <a:gridCol w="1362240"/>
                <a:gridCol w="542880"/>
                <a:gridCol w="609480"/>
                <a:gridCol w="685800"/>
                <a:gridCol w="609480"/>
                <a:gridCol w="762120"/>
                <a:gridCol w="685800"/>
                <a:gridCol w="517680"/>
                <a:gridCol w="701640"/>
              </a:tblGrid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№ </a:t>
                      </a: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п/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Проверяемые элементы по кодификатор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№</a:t>
                      </a: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№ </a:t>
                      </a: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№ </a:t>
                      </a: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№ </a:t>
                      </a: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№ </a:t>
                      </a: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№ </a:t>
                      </a: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№ </a:t>
                      </a: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№ </a:t>
                      </a: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</a:tr>
              <a:tr h="5202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Задания первой ча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Действия с числа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Сравнение чисе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Стандартный вид числ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  <a:tr h="31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733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Задания второй ча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  <a:tr h="115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Преобразова-ние алгебраичес-ких выраже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Заголовок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1150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5" name=""/>
          <p:cNvGraphicFramePr/>
          <p:nvPr/>
        </p:nvGraphicFramePr>
        <p:xfrm>
          <a:off x="380880" y="1752480"/>
          <a:ext cx="7315200" cy="4429080"/>
        </p:xfrm>
        <a:graphic>
          <a:graphicData uri="http://schemas.openxmlformats.org/drawingml/2006/table">
            <a:tbl>
              <a:tblPr/>
              <a:tblGrid>
                <a:gridCol w="1463760"/>
                <a:gridCol w="1461960"/>
                <a:gridCol w="1463760"/>
                <a:gridCol w="1462320"/>
                <a:gridCol w="1463400"/>
              </a:tblGrid>
              <a:tr h="108900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Учет пробелов в ЗУН по теме «Линейная функция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9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ФИ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учени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Построение графи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Точки пересечения графика с осями координа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Точки пересечения графиков линейной функ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Соответствие между графиком линейной функции и коээфициентами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K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и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46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Абрамов К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_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_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  <a:tr h="46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46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  <a:tr h="46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Rectangle 2" descr=""/>
          <p:cNvPicPr/>
          <p:nvPr/>
        </p:nvPicPr>
        <p:blipFill>
          <a:blip r:embed="rId1"/>
          <a:stretch/>
        </p:blipFill>
        <p:spPr>
          <a:xfrm>
            <a:off x="450720" y="291960"/>
            <a:ext cx="7255080" cy="117648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rebuchet MS"/>
              </a:rPr>
              <a:t>Разработка и коррекция календарно-тематического планирования;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rebuchet MS"/>
              </a:rPr>
              <a:t>Аналитическая деятельность;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rebuchet MS"/>
              </a:rPr>
              <a:t>Разработка индивидуальных маршрутов;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rebuchet MS"/>
              </a:rPr>
              <a:t>Ведение «пробельных листов»;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rebuchet MS"/>
              </a:rPr>
              <a:t>Точечный контроль: </a:t>
            </a:r>
            <a:r>
              <a:rPr b="1" i="1" lang="ru-RU" sz="2600" spc="-1" strike="noStrike">
                <a:solidFill>
                  <a:srgbClr val="000000"/>
                </a:solidFill>
                <a:latin typeface="Trebuchet MS"/>
              </a:rPr>
              <a:t>каждой темы</a:t>
            </a:r>
            <a:r>
              <a:rPr b="0" i="1" lang="ru-RU" sz="2600" spc="-1" strike="noStrike">
                <a:solidFill>
                  <a:srgbClr val="000000"/>
                </a:solidFill>
                <a:latin typeface="Trebuchet MS"/>
              </a:rPr>
              <a:t>, </a:t>
            </a:r>
            <a:r>
              <a:rPr b="1" i="1" lang="ru-RU" sz="2600" spc="-1" strike="noStrike">
                <a:solidFill>
                  <a:srgbClr val="000000"/>
                </a:solidFill>
                <a:latin typeface="Trebuchet MS"/>
              </a:rPr>
              <a:t>каждого умения </a:t>
            </a:r>
            <a:r>
              <a:rPr b="0" i="1" lang="ru-RU" sz="2600" spc="-1" strike="noStrike">
                <a:solidFill>
                  <a:srgbClr val="000000"/>
                </a:solidFill>
                <a:latin typeface="Trebuchet MS"/>
              </a:rPr>
              <a:t>по проверяемым элементам по кодификатору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Rectangle 2" descr=""/>
          <p:cNvPicPr/>
          <p:nvPr/>
        </p:nvPicPr>
        <p:blipFill>
          <a:blip r:embed="rId1"/>
          <a:stretch/>
        </p:blipFill>
        <p:spPr>
          <a:xfrm>
            <a:off x="450720" y="291960"/>
            <a:ext cx="7255080" cy="117648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rebuchet MS"/>
              </a:rPr>
              <a:t>Первая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 группа – учащиеся, проявляющие особый интерес к предмету (одаренные), у которых, как правило, сформированы основные умения.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Trebuchet MS"/>
              </a:rPr>
              <a:t>Формы работы: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 групповые занятия , самостоятельная работа ученика ,индивидуальная работа по усложненным заданиям, выполнение онлайн-тестов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rebuchet MS"/>
              </a:rPr>
              <a:t>Вторая группа 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– учащиеся со средними способностями, (как правило – большинство), умения сформированы на 50-70 % (группа «роста»).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Формы работы: групповая , индивидуальная, самостоятельная работа под руководством учителя, практические занятия в составе класса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rebuchet MS"/>
              </a:rPr>
              <a:t>Третья группа 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– учащиеся группы «РИСК», не преодолевшие минимальный порог, у которых не сформирована большая часть умений.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Trebuchet MS"/>
              </a:rPr>
              <a:t>Формы работы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 – групповая и индивидуальная.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dmin</dc:creator>
  <dc:description/>
  <dc:language>en-US</dc:language>
  <cp:lastModifiedBy>admin</cp:lastModifiedBy>
  <dcterms:modified xsi:type="dcterms:W3CDTF">2015-12-07T11:55:00Z</dcterms:modified>
  <cp:revision>3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