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3.png" ContentType="image/png"/>
  <Override PartName="/ppt/media/image11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9.png" ContentType="image/png"/>
  <Override PartName="/ppt/media/image10.gif" ContentType="image/gif"/>
  <Override PartName="/ppt/media/image33.jpeg" ContentType="image/jpeg"/>
  <Override PartName="/ppt/media/image35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43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27.gif" ContentType="image/gif"/>
  <Override PartName="/ppt/media/image5.jpeg" ContentType="image/jpe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17A2-1F03-47A2-8C0B-0C9002F3D9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4951-935A-4E37-A6BF-E4DD033B8A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558-0DF2-45BE-AF27-25131F25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ECA-DDE9-478F-BF89-F1666666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3CF5-073B-40A0-839F-43180F85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A2F0-5540-4193-9FF9-E49BAFBE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8FD-FD18-4773-83E7-B352E587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982D-8E24-406D-A996-70D92497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DDD-F362-4E1E-8CAB-7A94F7A9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7ED-D248-4D36-8886-1252E146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05E-19FC-4796-B286-C1670A7D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36C-4C31-4866-8114-DAB4F827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D49-E8CD-4E58-B3D4-C937A3B6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1FA-B639-45BA-894E-6BDD6464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BAA2-2529-457D-A691-B87FC8ED5B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7030a0"/>
                </a:solidFill>
                <a:latin typeface="Comic Sans MS"/>
              </a:rPr>
              <a:t>«Сказка ложь, да в ней намек – </a:t>
            </a:r>
            <a:br>
              <a:rPr sz="2800"/>
            </a:br>
            <a:r>
              <a:rPr b="0" i="1" lang="ru-RU" sz="2800" spc="-1" strike="noStrike">
                <a:solidFill>
                  <a:srgbClr val="7030a0"/>
                </a:solidFill>
                <a:latin typeface="Comic Sans MS"/>
              </a:rPr>
              <a:t>добрым молодцам урок»</a:t>
            </a:r>
            <a:br>
              <a:rPr sz="2800"/>
            </a:br>
            <a:br>
              <a:rPr sz="2800"/>
            </a:br>
            <a:r>
              <a:rPr b="0" i="1" lang="ru-RU" sz="3600" spc="-1" strike="noStrike">
                <a:solidFill>
                  <a:srgbClr val="441d61"/>
                </a:solidFill>
                <a:latin typeface="Comic Sans MS"/>
              </a:rPr>
              <a:t>тема: «Воспитание сказкой»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42720" y="2999880"/>
            <a:ext cx="664380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7e1a"/>
                </a:solidFill>
                <a:latin typeface="Comic Sans MS"/>
              </a:rPr>
              <a:t>Творческое наз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7e1a"/>
                </a:solidFill>
                <a:latin typeface="Comic Sans MS"/>
              </a:rPr>
              <a:t>«Что за прелесть эти сказ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тор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спитатели группы №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уряк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357120" y="3500280"/>
            <a:ext cx="2214720" cy="2928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II </a:t>
            </a: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этап - основ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20202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Comic Sans MS"/>
              </a:rPr>
              <a:t>Разработка конспектов заня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0202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202020"/>
                </a:solidFill>
                <a:latin typeface="Comic Sans MS"/>
              </a:rPr>
              <a:t>Проведение бесед, праздников, досуг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0202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Comic Sans MS"/>
              </a:rPr>
              <a:t>Совместное с родителями воспитанников изготовление атрибутов для сюжетно-ролевых иг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0202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Comic Sans MS"/>
              </a:rPr>
              <a:t>Проведение нетрадиционных форм консультаций для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0202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Comic Sans MS"/>
              </a:rPr>
              <a:t>Ознакомление детей с различными видами продуктив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0202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Comic Sans MS"/>
              </a:rPr>
              <a:t>Наблюдение за продуктивной деятельностью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0202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Comic Sans MS"/>
              </a:rPr>
              <a:t>Ведение фоторепортажа во время работы над проек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0202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020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Админ\Рабочий стол\Картинки\8.jpeg"/>
          <p:cNvPicPr/>
          <p:nvPr/>
        </p:nvPicPr>
        <p:blipFill>
          <a:blip r:embed="rId1"/>
          <a:stretch/>
        </p:blipFill>
        <p:spPr>
          <a:xfrm>
            <a:off x="7143840" y="357120"/>
            <a:ext cx="171432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III </a:t>
            </a: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этап - заключите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mic Sans MS"/>
              </a:rPr>
              <a:t>Выявление уровня знаний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d0d0d"/>
                </a:solidFill>
                <a:latin typeface="Comic Sans MS"/>
              </a:rPr>
              <a:t>Оформление выставок, стен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mic Sans MS"/>
              </a:rPr>
              <a:t>Организация презентации итогов проекта для педагогов МДОУ и родителей групп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mic Sans MS"/>
              </a:rPr>
              <a:t>Оценка проведенной работы ( самооценка воспитателей, отзывы родителей и воспитанни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:\Documents and Settings\Админ\Рабочий стол\Картинки\с.jpeg"/>
          <p:cNvPicPr/>
          <p:nvPr/>
        </p:nvPicPr>
        <p:blipFill>
          <a:blip r:embed="rId1"/>
          <a:stretch/>
        </p:blipFill>
        <p:spPr>
          <a:xfrm>
            <a:off x="1143000" y="3929040"/>
            <a:ext cx="2143080" cy="2612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E:\DCIM\101_PANA\P1010771.JPG"/>
          <p:cNvPicPr/>
          <p:nvPr/>
        </p:nvPicPr>
        <p:blipFill>
          <a:blip r:embed="rId2"/>
          <a:stretch/>
        </p:blipFill>
        <p:spPr>
          <a:xfrm>
            <a:off x="4429080" y="3732120"/>
            <a:ext cx="3786120" cy="2840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Овал 17"/>
          <p:cNvSpPr/>
          <p:nvPr/>
        </p:nvSpPr>
        <p:spPr>
          <a:xfrm rot="120000">
            <a:off x="5597280" y="2620800"/>
            <a:ext cx="2881080" cy="1465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ть   познавательного интер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18"/>
          <p:cNvSpPr/>
          <p:nvPr/>
        </p:nvSpPr>
        <p:spPr>
          <a:xfrm rot="19320000">
            <a:off x="4699080" y="1241280"/>
            <a:ext cx="3154320" cy="15004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предметно-развивающ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19"/>
          <p:cNvSpPr/>
          <p:nvPr/>
        </p:nvSpPr>
        <p:spPr>
          <a:xfrm rot="15120000">
            <a:off x="2321280" y="785880"/>
            <a:ext cx="2691000" cy="1428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фортсть образователноьно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20"/>
          <p:cNvSpPr/>
          <p:nvPr/>
        </p:nvSpPr>
        <p:spPr>
          <a:xfrm rot="1800000">
            <a:off x="1058760" y="1771560"/>
            <a:ext cx="2857680" cy="12859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е бесед, занятий, викто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21"/>
          <p:cNvSpPr/>
          <p:nvPr/>
        </p:nvSpPr>
        <p:spPr>
          <a:xfrm rot="20820000">
            <a:off x="404640" y="3065400"/>
            <a:ext cx="3286440" cy="14288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е конкурса чтецов «Родом из дет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22"/>
          <p:cNvSpPr/>
          <p:nvPr/>
        </p:nvSpPr>
        <p:spPr>
          <a:xfrm rot="17280000">
            <a:off x="3778200" y="1167840"/>
            <a:ext cx="2431800" cy="10000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выста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23"/>
          <p:cNvSpPr/>
          <p:nvPr/>
        </p:nvSpPr>
        <p:spPr>
          <a:xfrm rot="1980000">
            <a:off x="4943160" y="4030560"/>
            <a:ext cx="3071880" cy="14288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картотеки игр с использованием ска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24"/>
          <p:cNvSpPr/>
          <p:nvPr/>
        </p:nvSpPr>
        <p:spPr>
          <a:xfrm rot="18240000">
            <a:off x="1447560" y="4373280"/>
            <a:ext cx="2714760" cy="11430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познаватель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25"/>
          <p:cNvSpPr/>
          <p:nvPr/>
        </p:nvSpPr>
        <p:spPr>
          <a:xfrm rot="5340000">
            <a:off x="2897640" y="4631400"/>
            <a:ext cx="2171880" cy="1071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26"/>
          <p:cNvSpPr/>
          <p:nvPr/>
        </p:nvSpPr>
        <p:spPr>
          <a:xfrm rot="3900000">
            <a:off x="3776040" y="4549680"/>
            <a:ext cx="2571840" cy="11430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мелкой мо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27"/>
          <p:cNvSpPr/>
          <p:nvPr/>
        </p:nvSpPr>
        <p:spPr>
          <a:xfrm>
            <a:off x="3143160" y="2571840"/>
            <a:ext cx="2643120" cy="1714320"/>
          </a:xfrm>
          <a:prstGeom prst="ellipse">
            <a:avLst/>
          </a:prstGeom>
          <a:solidFill>
            <a:srgbClr val="e3de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omic Sans MS"/>
              </a:rPr>
              <a:t>Ожидаемые результ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зультативност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силась активность родителей в участии воспитатель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или выставку детских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ли конкурс чтецов «Родом из детств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ли в группе картотеку литератур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ед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готовили атрибуты к сюжетно-ролевым игр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ли детский проект: «Средства передвижения сказочных героев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ли консультацию для родителей: «От сказки к воспитанию ребенк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или наглядный материал для родителей в папку передвиж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гатилась игровая и учебно-игровая деятельност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Documents and Settings\Админ\Рабочий стол\Картинки\0792222b0c77b039ed36b5a0fa520752.jpg"/>
          <p:cNvPicPr/>
          <p:nvPr/>
        </p:nvPicPr>
        <p:blipFill>
          <a:blip r:embed="rId1"/>
          <a:stretch/>
        </p:blipFill>
        <p:spPr>
          <a:xfrm>
            <a:off x="6786720" y="1714680"/>
            <a:ext cx="2017440" cy="2025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85560"/>
            <a:ext cx="67579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800" spc="-1" strike="noStrike">
                <a:solidFill>
                  <a:srgbClr val="2d2d8a"/>
                </a:solidFill>
                <a:latin typeface="Comic Sans MS"/>
              </a:rPr>
              <a:t>Сказка всегда насыщена социальными действиями и сильна нравственной основой. Сказочная мудрость помогает найти выход из затруднительного положения. В сказке создаются, складываются и формируются эталоны жизни, эталоны поведения. И очень важно, чтобы ребенок регулярно прикасался к этим норм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Temps soleil tourne"/>
          <p:cNvPicPr/>
          <p:nvPr/>
        </p:nvPicPr>
        <p:blipFill>
          <a:blip r:embed="rId1"/>
          <a:stretch/>
        </p:blipFill>
        <p:spPr>
          <a:xfrm>
            <a:off x="250920" y="404640"/>
            <a:ext cx="1004760" cy="1152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Documents and Settings\Админ\Рабочий стол\Картинки\п.jpeg"/>
          <p:cNvPicPr/>
          <p:nvPr/>
        </p:nvPicPr>
        <p:blipFill>
          <a:blip r:embed="rId2"/>
          <a:srcRect l="25397" t="0" r="23810" b="0"/>
          <a:stretch/>
        </p:blipFill>
        <p:spPr>
          <a:xfrm>
            <a:off x="6572160" y="4332240"/>
            <a:ext cx="2214720" cy="2525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00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Конкурс чтецов «Родом из детст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E:\DCIM\101_PANA\P1010708.JPG"/>
          <p:cNvPicPr/>
          <p:nvPr/>
        </p:nvPicPr>
        <p:blipFill>
          <a:blip r:embed="rId1"/>
          <a:stretch/>
        </p:blipFill>
        <p:spPr>
          <a:xfrm rot="21060000">
            <a:off x="285480" y="1285560"/>
            <a:ext cx="2547720" cy="1911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E:\DCIM\101_PANA\P1010709.JPG"/>
          <p:cNvPicPr/>
          <p:nvPr/>
        </p:nvPicPr>
        <p:blipFill>
          <a:blip r:embed="rId2"/>
          <a:stretch/>
        </p:blipFill>
        <p:spPr>
          <a:xfrm rot="540000">
            <a:off x="6286320" y="1285920"/>
            <a:ext cx="2589120" cy="1941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E:\DCIM\101_PANA\P1010710.JPG"/>
          <p:cNvPicPr/>
          <p:nvPr/>
        </p:nvPicPr>
        <p:blipFill>
          <a:blip r:embed="rId3"/>
          <a:stretch/>
        </p:blipFill>
        <p:spPr>
          <a:xfrm>
            <a:off x="3357720" y="1333440"/>
            <a:ext cx="2428560" cy="1822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E:\DCIM\101_PANA\P1010717.JPG"/>
          <p:cNvPicPr/>
          <p:nvPr/>
        </p:nvPicPr>
        <p:blipFill>
          <a:blip r:embed="rId4"/>
          <a:stretch/>
        </p:blipFill>
        <p:spPr>
          <a:xfrm>
            <a:off x="4929120" y="3643200"/>
            <a:ext cx="3571920" cy="2679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E:\DCIM\101_PANA\P1010718.JPG"/>
          <p:cNvPicPr/>
          <p:nvPr/>
        </p:nvPicPr>
        <p:blipFill>
          <a:blip r:embed="rId5"/>
          <a:stretch/>
        </p:blipFill>
        <p:spPr>
          <a:xfrm>
            <a:off x="571680" y="3643200"/>
            <a:ext cx="3555720" cy="2667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188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omic Sans MS"/>
              </a:rPr>
              <a:t>Наше творче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E:\DCIM\101_PANA\P1010720.JPG"/>
          <p:cNvPicPr/>
          <p:nvPr/>
        </p:nvPicPr>
        <p:blipFill>
          <a:blip r:embed="rId1"/>
          <a:stretch/>
        </p:blipFill>
        <p:spPr>
          <a:xfrm>
            <a:off x="4643280" y="1143000"/>
            <a:ext cx="4089600" cy="3067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E:\DCIM\101_PANA\P1010721.JPG"/>
          <p:cNvPicPr/>
          <p:nvPr/>
        </p:nvPicPr>
        <p:blipFill>
          <a:blip r:embed="rId2"/>
          <a:stretch/>
        </p:blipFill>
        <p:spPr>
          <a:xfrm>
            <a:off x="285840" y="2357280"/>
            <a:ext cx="3881520" cy="2911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E:\DCIM\101_PANA\P1010716.JPG"/>
          <p:cNvPicPr/>
          <p:nvPr/>
        </p:nvPicPr>
        <p:blipFill>
          <a:blip r:embed="rId3"/>
          <a:stretch/>
        </p:blipFill>
        <p:spPr>
          <a:xfrm>
            <a:off x="4429080" y="4286160"/>
            <a:ext cx="3000600" cy="2251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7e1a"/>
                </a:solidFill>
                <a:latin typeface="Comic Sans MS"/>
              </a:rPr>
              <a:t>Детский проект</a:t>
            </a:r>
            <a:br>
              <a:rPr sz="4000"/>
            </a:br>
            <a:r>
              <a:rPr b="1" lang="ru-RU" sz="4000" spc="-1" strike="noStrike">
                <a:solidFill>
                  <a:srgbClr val="107e1a"/>
                </a:solidFill>
                <a:latin typeface="Comic Sans MS"/>
              </a:rPr>
              <a:t>«Средства передвижения сказочных герое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71388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Comic Sans MS"/>
              </a:rPr>
              <a:t>Творческое назв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omic Sans MS"/>
              </a:rPr>
              <a:t>«Лети, лети лепест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omic Sans MS"/>
              </a:rPr>
              <a:t>                     </a:t>
            </a: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Авторы: Анжелика Алпат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                                          </a:t>
            </a: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Инна Гребень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                                          </a:t>
            </a: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Дима Кан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Админ\Рабочий стол\Картинки\4.jpeg"/>
          <p:cNvPicPr/>
          <p:nvPr/>
        </p:nvPicPr>
        <p:blipFill>
          <a:blip r:embed="rId1"/>
          <a:stretch/>
        </p:blipFill>
        <p:spPr>
          <a:xfrm>
            <a:off x="6715080" y="2143080"/>
            <a:ext cx="2027160" cy="2689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Documents and Settings\Админ\Рабочий стол\Картинки\д.jpeg"/>
          <p:cNvPicPr/>
          <p:nvPr/>
        </p:nvPicPr>
        <p:blipFill>
          <a:blip r:embed="rId2"/>
          <a:stretch/>
        </p:blipFill>
        <p:spPr>
          <a:xfrm>
            <a:off x="3500280" y="2357280"/>
            <a:ext cx="1857600" cy="1327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Админ\Рабочий стол\Картинки\т.jpeg"/>
          <p:cNvPicPr/>
          <p:nvPr/>
        </p:nvPicPr>
        <p:blipFill>
          <a:blip r:embed="rId3"/>
          <a:stretch/>
        </p:blipFill>
        <p:spPr>
          <a:xfrm>
            <a:off x="285840" y="1643040"/>
            <a:ext cx="1643040" cy="1928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Documents and Settings\Админ\Рабочий стол\Картинки\л.jpeg"/>
          <p:cNvPicPr/>
          <p:nvPr/>
        </p:nvPicPr>
        <p:blipFill>
          <a:blip r:embed="rId4"/>
          <a:stretch/>
        </p:blipFill>
        <p:spPr>
          <a:xfrm>
            <a:off x="928800" y="5072040"/>
            <a:ext cx="1928880" cy="1443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71440" y="274680"/>
            <a:ext cx="507204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Литературная 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428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Mistr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Mistr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Mistral"/>
              </a:rPr>
              <a:t>    </a:t>
            </a:r>
            <a:r>
              <a:rPr b="1" lang="ru-RU" sz="6000" spc="-1" strike="noStrike">
                <a:solidFill>
                  <a:srgbClr val="0070c0"/>
                </a:solidFill>
                <a:latin typeface="Mistral"/>
              </a:rPr>
              <a:t>Сказки Корнея Чуковского</a:t>
            </a: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Documents and Settings\Админ\Рабочий стол\Картинки\4ukovsky.jpg"/>
          <p:cNvPicPr/>
          <p:nvPr/>
        </p:nvPicPr>
        <p:blipFill>
          <a:blip r:embed="rId1"/>
          <a:stretch/>
        </p:blipFill>
        <p:spPr>
          <a:xfrm>
            <a:off x="214200" y="12859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4143240" y="4572000"/>
            <a:ext cx="3089520" cy="202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1285920" y="4500720"/>
            <a:ext cx="1857240" cy="2017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4"/>
          <a:stretch/>
        </p:blipFill>
        <p:spPr>
          <a:xfrm>
            <a:off x="6572160" y="285840"/>
            <a:ext cx="2251080" cy="3214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.Б. Фесюкова «Воспитание сказкой»: Харьков «ФОЛИО»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.Н. Прохорова «Путешествие по Фанталии»: С.-Петербург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.А. Юзбекова «Ступеньки творчества»:М.:ЛИНКА-ПРЕСС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. Мацкевич. Дорогами сказки/ «Дошкольное воспитание». - №3. – 2007. – с.38-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.Дунаева . О значении художественной  литературы в формировании личности ребенка/ «Дошкольное воспитание». - №6. – 2007. – с. 35-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4597a0"/>
                </a:solidFill>
                <a:latin typeface="Comic Sans MS"/>
              </a:rPr>
              <a:t>Цель проекта </a:t>
            </a:r>
            <a:r>
              <a:rPr b="1" lang="ru-RU" sz="4000" spc="-1" strike="noStrike">
                <a:solidFill>
                  <a:srgbClr val="4597a0"/>
                </a:solidFill>
                <a:latin typeface="Comic Sans MS"/>
              </a:rPr>
              <a:t>-</a:t>
            </a:r>
            <a:r>
              <a:rPr b="1" lang="ru-RU" sz="2400" spc="-1" strike="noStrike">
                <a:solidFill>
                  <a:srgbClr val="4597a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4597a0"/>
                </a:solidFill>
                <a:latin typeface="Comic Sans MS"/>
              </a:rPr>
              <a:t>создание особой эмоциональной атмосферы увлеченности с помощью живого слова, музыки, зрительных образов, поэтического текста, игровых си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14440" y="2000160"/>
            <a:ext cx="55004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4b50"/>
                </a:solidFill>
                <a:latin typeface="Comic Sans MS"/>
              </a:rPr>
              <a:t>Задач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224b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24b50"/>
                </a:solidFill>
                <a:latin typeface="Comic Sans MS"/>
              </a:rPr>
              <a:t>Продолжать формировать у детей интерес к сказк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224b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24b50"/>
                </a:solidFill>
                <a:latin typeface="Comic Sans MS"/>
              </a:rPr>
              <a:t>Помогать устанавливать простые причинные связи между событиями, видеть поступки персонажей и правильно их оценива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224b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24b50"/>
                </a:solidFill>
                <a:latin typeface="Comic Sans MS"/>
              </a:rPr>
              <a:t>Развивать воображение, творческие способности дете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224b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24b50"/>
                </a:solidFill>
                <a:latin typeface="Comic Sans MS"/>
              </a:rPr>
              <a:t>Поддерживать внимание и  интерес детей к слов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Админ\Рабочий стол\Картинки\по.jpeg"/>
          <p:cNvPicPr/>
          <p:nvPr/>
        </p:nvPicPr>
        <p:blipFill>
          <a:blip r:embed="rId1"/>
          <a:stretch/>
        </p:blipFill>
        <p:spPr>
          <a:xfrm>
            <a:off x="285840" y="2857680"/>
            <a:ext cx="2928960" cy="3557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Реализация раздела «Чтение художественной литературы» по образовательной области «Речевое развитие» является актуальным направлением. Одним из направлений является знакомство детей со сказкой. О значении сказок говорят педагоги и психологи, которые доказали, что сказки положительно влияют не только на формирование речи, но и на общее развитие ребенка. В каждой сказке разумно сочетаются познавательный, эмоциональный и игровой аспек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285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Comic Sans MS"/>
              </a:rPr>
              <a:t>Основополагающи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3786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Comic Sans MS"/>
              </a:rPr>
              <a:t>Чему учит сказ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Documents and Settings\Админ\Рабочий стол\Картинки\ьл.jpeg"/>
          <p:cNvPicPr/>
          <p:nvPr/>
        </p:nvPicPr>
        <p:blipFill>
          <a:blip r:embed="rId1"/>
          <a:stretch/>
        </p:blipFill>
        <p:spPr>
          <a:xfrm>
            <a:off x="357120" y="285840"/>
            <a:ext cx="2757600" cy="2297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Админ\Рабочий стол\Картинки\9.jpeg"/>
          <p:cNvPicPr/>
          <p:nvPr/>
        </p:nvPicPr>
        <p:blipFill>
          <a:blip r:embed="rId2"/>
          <a:stretch/>
        </p:blipFill>
        <p:spPr>
          <a:xfrm>
            <a:off x="5000760" y="3714840"/>
            <a:ext cx="3938400" cy="282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астник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400" y="1213920"/>
            <a:ext cx="82580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спитанники общеразвивающей группы №8 для детей в возрасте 6-7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спит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д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узыка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рок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 19 по 23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E:\DCIM\101_PANA\P1010412.JPG"/>
          <p:cNvPicPr/>
          <p:nvPr/>
        </p:nvPicPr>
        <p:blipFill>
          <a:blip r:embed="rId1"/>
          <a:stretch/>
        </p:blipFill>
        <p:spPr>
          <a:xfrm>
            <a:off x="4500720" y="242892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Аннотация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28760" y="928800"/>
            <a:ext cx="40384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оль детских сказок в развитии детей многогранна: от развития фантазии до развития речи. Она учит детей жизни, рассказывает о добре и зле. Читая и рассказывая сказки мы развиваем внутренний мир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928440"/>
            <a:ext cx="40384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азка помогает формировать основы поведения и общения, расширяет познание детей, словарный запас малыша, помогает правильно строить диалог, развивает связную речь, формирует умение задавать вопросы. Сказки должны входить в план воспитания детей как средство воспитания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Админ\Рабочий стол\Картинки\ллэ..jpeg"/>
          <p:cNvPicPr/>
          <p:nvPr/>
        </p:nvPicPr>
        <p:blipFill>
          <a:blip r:embed="rId1"/>
          <a:stretch/>
        </p:blipFill>
        <p:spPr>
          <a:xfrm>
            <a:off x="0" y="4591080"/>
            <a:ext cx="1920960" cy="2181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Админ\Рабочий стол\Картинки\жз.jpeg"/>
          <p:cNvPicPr/>
          <p:nvPr/>
        </p:nvPicPr>
        <p:blipFill>
          <a:blip r:embed="rId2"/>
          <a:stretch/>
        </p:blipFill>
        <p:spPr>
          <a:xfrm>
            <a:off x="1714680" y="4857840"/>
            <a:ext cx="1379520" cy="1660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Админ\Рабочий стол\Картинки\стс.jpeg"/>
          <p:cNvPicPr/>
          <p:nvPr/>
        </p:nvPicPr>
        <p:blipFill>
          <a:blip r:embed="rId3"/>
          <a:stretch/>
        </p:blipFill>
        <p:spPr>
          <a:xfrm>
            <a:off x="3114720" y="4370400"/>
            <a:ext cx="1695240" cy="2139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Образователь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равственный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добрых чув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ая за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зка и мате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зка и 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мышления и во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мелкой моторики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Ange"/>
          <p:cNvPicPr/>
          <p:nvPr/>
        </p:nvPicPr>
        <p:blipFill>
          <a:blip r:embed="rId1"/>
          <a:stretch/>
        </p:blipFill>
        <p:spPr>
          <a:xfrm>
            <a:off x="5786280" y="1714680"/>
            <a:ext cx="2810160" cy="2784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omic Sans MS"/>
              </a:rPr>
              <a:t>Этап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готов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Определение тематики, задач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содержания мероприя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Сбор, анализ методической литера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Подбор и подготовка инструментария, материала к проведению мероприятий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Разработка темати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omic Sans MS"/>
              </a:rPr>
              <a:t>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Documents and Settings\Админ\Рабочий стол\Картинки\bfad16d85d690d8b2721eaf7e10.jpg"/>
          <p:cNvPicPr/>
          <p:nvPr/>
        </p:nvPicPr>
        <p:blipFill>
          <a:blip r:embed="rId1"/>
          <a:stretch/>
        </p:blipFill>
        <p:spPr>
          <a:xfrm>
            <a:off x="4857840" y="3786120"/>
            <a:ext cx="3781440" cy="2665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Documents and Settings\Админ\Рабочий стол\Картинки\2.jpeg"/>
          <p:cNvPicPr/>
          <p:nvPr/>
        </p:nvPicPr>
        <p:blipFill>
          <a:blip r:embed="rId2"/>
          <a:stretch/>
        </p:blipFill>
        <p:spPr>
          <a:xfrm>
            <a:off x="2762280" y="4286160"/>
            <a:ext cx="20955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Тематическое пла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071360"/>
            <a:ext cx="83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19.10 – «Дорогами сказок А.С.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             </a:t>
            </a: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- Аппликация «Золотая рыб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20.10 – «В гостях у дедушки Корне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             </a:t>
            </a: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- Викторина по сказкам К.И.Чуко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21.10 – «Сказки от пословиц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22.10 – Конкурс чтецов «Родом из дет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         </a:t>
            </a: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- занятие «Средства передвижения сказочных героев» (детский проек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23.10 – Развлечение «В гостях у Бурати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         </a:t>
            </a:r>
            <a:r>
              <a:rPr b="0" lang="ru-RU" sz="2800" spc="-1" strike="noStrike">
                <a:solidFill>
                  <a:srgbClr val="262673"/>
                </a:solidFill>
                <a:latin typeface="Comic Sans MS"/>
              </a:rPr>
              <a:t>- Консультация для родителей «От сказки к воспитанию ребен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5:05:29Z</dcterms:created>
  <dc:creator>Administrator</dc:creator>
  <dc:description/>
  <dc:language>en-US</dc:language>
  <cp:lastModifiedBy>Administrator</cp:lastModifiedBy>
  <dcterms:modified xsi:type="dcterms:W3CDTF">2017-02-19T15:44:51Z</dcterms:modified>
  <cp:revision>56</cp:revision>
  <dc:subject/>
  <dc:title>    «Сказка ложь, да в ней намек –  добрым молодцам урок»  тема: «Воспитание сказкой»            </dc:title>
</cp:coreProperties>
</file>