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3.png" ContentType="image/png"/>
  <Override PartName="/ppt/media/image11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9.png" ContentType="image/png"/>
  <Override PartName="/ppt/media/image10.gif" ContentType="image/gif"/>
  <Override PartName="/ppt/media/image33.jpeg" ContentType="image/jpeg"/>
  <Override PartName="/ppt/media/image35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27.gif" ContentType="image/gif"/>
  <Override PartName="/ppt/media/image5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06A0-624F-4858-98E9-FE48015CAC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9EF9-F40A-4E3D-B03D-6F8B3EE663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AD5-A72F-48D0-A30D-91ABACD6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3CD-3067-41E8-B8BB-CAAC37A1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ECF-2B81-4FBE-9F6A-6CCB0167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15B-4D89-4D09-8317-C468DABA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139-C507-406E-BF4C-0447C0F4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2EA-B620-463A-A57B-35132BB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876-33A0-4035-9377-A06F906A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754-5EE6-48CD-9055-757A87D1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5A6-C6A6-45D0-A346-BDE0EDB1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136-F702-421E-B546-4640564A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8B5-A37E-4293-A8BF-ED1631F4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FBF-9A2C-4B01-9F41-73C0D790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2D9A-E724-4CC2-B767-7F6CF7665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7030a0"/>
                </a:solidFill>
                <a:latin typeface="Comic Sans MS"/>
              </a:rPr>
              <a:t>«Сказка ложь, да в ней намек – </a:t>
            </a:r>
            <a:br>
              <a:rPr sz="2800"/>
            </a:br>
            <a:r>
              <a:rPr b="0" i="1" lang="ru-RU" sz="2800" spc="-1" strike="noStrike">
                <a:solidFill>
                  <a:srgbClr val="7030a0"/>
                </a:solidFill>
                <a:latin typeface="Comic Sans MS"/>
              </a:rPr>
              <a:t>добрым молодцам урок»</a:t>
            </a:r>
            <a:br>
              <a:rPr sz="2800"/>
            </a:br>
            <a:br>
              <a:rPr sz="2800"/>
            </a:br>
            <a:r>
              <a:rPr b="0" i="1" lang="ru-RU" sz="3600" spc="-1" strike="noStrike">
                <a:solidFill>
                  <a:srgbClr val="441d61"/>
                </a:solidFill>
                <a:latin typeface="Comic Sans MS"/>
              </a:rPr>
              <a:t>тема: «Воспитание сказкой»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2720" y="2999880"/>
            <a:ext cx="66438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7e1a"/>
                </a:solidFill>
                <a:latin typeface="Comic Sans MS"/>
              </a:rPr>
              <a:t>Творческое наз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7e1a"/>
                </a:solidFill>
                <a:latin typeface="Comic Sans MS"/>
              </a:rPr>
              <a:t>«Что за прелесть эти сказ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тор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питатели группы №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уряк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357120" y="3500280"/>
            <a:ext cx="221472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II </a:t>
            </a: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этап - основ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Разработка конспектов зан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Проведение бесед, праздников, досу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Совместное с родителями воспитанников изготовление атрибутов для сюжетно-ролевых иг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Проведение нетрадиционных форм консультаций для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Ознакомление детей с различными видами продуктив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Наблюдение за продуктивной деятельностью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Ведение фоторепортажа во время работы над проек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Админ\Рабочий стол\Картинки\8.jpeg"/>
          <p:cNvPicPr/>
          <p:nvPr/>
        </p:nvPicPr>
        <p:blipFill>
          <a:blip r:embed="rId1"/>
          <a:stretch/>
        </p:blipFill>
        <p:spPr>
          <a:xfrm>
            <a:off x="7143840" y="357120"/>
            <a:ext cx="171432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III </a:t>
            </a: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этап - заключи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Выявление уровня знаний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Оформление выставок, стен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Организация презентации итогов проекта для педагогов МДОУ и родителей груп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Оценка проведенной работы ( самооценка воспитателей, отзывы родителей и воспитанн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:\Documents and Settings\Админ\Рабочий стол\Картинки\с.jpeg"/>
          <p:cNvPicPr/>
          <p:nvPr/>
        </p:nvPicPr>
        <p:blipFill>
          <a:blip r:embed="rId1"/>
          <a:stretch/>
        </p:blipFill>
        <p:spPr>
          <a:xfrm>
            <a:off x="1143000" y="3929040"/>
            <a:ext cx="2143080" cy="2612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E:\DCIM\101_PANA\P1010771.JPG"/>
          <p:cNvPicPr/>
          <p:nvPr/>
        </p:nvPicPr>
        <p:blipFill>
          <a:blip r:embed="rId2"/>
          <a:stretch/>
        </p:blipFill>
        <p:spPr>
          <a:xfrm>
            <a:off x="4429080" y="373212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17"/>
          <p:cNvSpPr/>
          <p:nvPr/>
        </p:nvSpPr>
        <p:spPr>
          <a:xfrm rot="120000">
            <a:off x="5597280" y="2620800"/>
            <a:ext cx="2881080" cy="1465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ть   познавательного инте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8"/>
          <p:cNvSpPr/>
          <p:nvPr/>
        </p:nvSpPr>
        <p:spPr>
          <a:xfrm rot="19320000">
            <a:off x="4699080" y="1241280"/>
            <a:ext cx="3154320" cy="15004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предметно-развив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9"/>
          <p:cNvSpPr/>
          <p:nvPr/>
        </p:nvSpPr>
        <p:spPr>
          <a:xfrm rot="15120000">
            <a:off x="2321280" y="785880"/>
            <a:ext cx="2691000" cy="1428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фортсть образователноьн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20"/>
          <p:cNvSpPr/>
          <p:nvPr/>
        </p:nvSpPr>
        <p:spPr>
          <a:xfrm rot="1800000">
            <a:off x="1058760" y="1771560"/>
            <a:ext cx="2857680" cy="1285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бесед, занятий, викто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21"/>
          <p:cNvSpPr/>
          <p:nvPr/>
        </p:nvSpPr>
        <p:spPr>
          <a:xfrm rot="20820000">
            <a:off x="404640" y="3065400"/>
            <a:ext cx="3286440" cy="1428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конкурса чтецов «Родом из дет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22"/>
          <p:cNvSpPr/>
          <p:nvPr/>
        </p:nvSpPr>
        <p:spPr>
          <a:xfrm rot="17280000">
            <a:off x="3778200" y="1167840"/>
            <a:ext cx="2431800" cy="10000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выста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23"/>
          <p:cNvSpPr/>
          <p:nvPr/>
        </p:nvSpPr>
        <p:spPr>
          <a:xfrm rot="1980000">
            <a:off x="4943160" y="4030560"/>
            <a:ext cx="3071880" cy="14288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картотеки игр с использованием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24"/>
          <p:cNvSpPr/>
          <p:nvPr/>
        </p:nvSpPr>
        <p:spPr>
          <a:xfrm rot="18240000">
            <a:off x="1447560" y="4373280"/>
            <a:ext cx="2714760" cy="1143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познаватель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25"/>
          <p:cNvSpPr/>
          <p:nvPr/>
        </p:nvSpPr>
        <p:spPr>
          <a:xfrm rot="5340000">
            <a:off x="2897640" y="4631400"/>
            <a:ext cx="2171880" cy="1071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26"/>
          <p:cNvSpPr/>
          <p:nvPr/>
        </p:nvSpPr>
        <p:spPr>
          <a:xfrm rot="3900000">
            <a:off x="3776040" y="4549680"/>
            <a:ext cx="2571840" cy="11430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мелкой мо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7"/>
          <p:cNvSpPr/>
          <p:nvPr/>
        </p:nvSpPr>
        <p:spPr>
          <a:xfrm>
            <a:off x="3143160" y="2571840"/>
            <a:ext cx="2643120" cy="1714320"/>
          </a:xfrm>
          <a:prstGeom prst="ellipse">
            <a:avLst/>
          </a:prstGeom>
          <a:solidFill>
            <a:srgbClr val="e3de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mic Sans MS"/>
              </a:rPr>
              <a:t>Ожидаемые результ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зультатив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силась активность родителей в участии воспит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или выставку детски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ли конкурс чтецов «Родом из детств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ли в группе картотеку литератур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е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готовили атрибуты к сюжетно-ролевым игр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ли детский проект: «Средства передвижения сказочных героев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ли консультацию для родителей: «От сказки к воспитанию ребенк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или наглядный материал для родителей в папку передвиж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гатилась игровая и учебно-игровая деятель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Админ\Рабочий стол\Картинки\0792222b0c77b039ed36b5a0fa520752.jpg"/>
          <p:cNvPicPr/>
          <p:nvPr/>
        </p:nvPicPr>
        <p:blipFill>
          <a:blip r:embed="rId1"/>
          <a:stretch/>
        </p:blipFill>
        <p:spPr>
          <a:xfrm>
            <a:off x="6786720" y="1714680"/>
            <a:ext cx="2017440" cy="2025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85560"/>
            <a:ext cx="6757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800" spc="-1" strike="noStrike">
                <a:solidFill>
                  <a:srgbClr val="2d2d8a"/>
                </a:solidFill>
                <a:latin typeface="Comic Sans MS"/>
              </a:rPr>
              <a:t>Сказка всегда насыщена социальными действиями и сильна нравственной основой. Сказочная мудрость помогает найти выход из затруднительного положения. В сказке создаются, складываются и формируются эталоны жизни, эталоны поведения. И очень важно, чтобы ребенок регулярно прикасался к этим нор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Temps soleil tourne"/>
          <p:cNvPicPr/>
          <p:nvPr/>
        </p:nvPicPr>
        <p:blipFill>
          <a:blip r:embed="rId1"/>
          <a:stretch/>
        </p:blipFill>
        <p:spPr>
          <a:xfrm>
            <a:off x="250920" y="404640"/>
            <a:ext cx="1004760" cy="115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Админ\Рабочий стол\Картинки\п.jpeg"/>
          <p:cNvPicPr/>
          <p:nvPr/>
        </p:nvPicPr>
        <p:blipFill>
          <a:blip r:embed="rId2"/>
          <a:srcRect l="25397" t="0" r="23810" b="0"/>
          <a:stretch/>
        </p:blipFill>
        <p:spPr>
          <a:xfrm>
            <a:off x="6572160" y="4332240"/>
            <a:ext cx="2214720" cy="2525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Конкурс чтецов «Родом из детст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E:\DCIM\101_PANA\P1010708.JPG"/>
          <p:cNvPicPr/>
          <p:nvPr/>
        </p:nvPicPr>
        <p:blipFill>
          <a:blip r:embed="rId1"/>
          <a:stretch/>
        </p:blipFill>
        <p:spPr>
          <a:xfrm rot="21060000">
            <a:off x="285480" y="1285560"/>
            <a:ext cx="2547720" cy="191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E:\DCIM\101_PANA\P1010709.JPG"/>
          <p:cNvPicPr/>
          <p:nvPr/>
        </p:nvPicPr>
        <p:blipFill>
          <a:blip r:embed="rId2"/>
          <a:stretch/>
        </p:blipFill>
        <p:spPr>
          <a:xfrm rot="540000">
            <a:off x="6286320" y="1285920"/>
            <a:ext cx="2589120" cy="1941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:\DCIM\101_PANA\P1010710.JPG"/>
          <p:cNvPicPr/>
          <p:nvPr/>
        </p:nvPicPr>
        <p:blipFill>
          <a:blip r:embed="rId3"/>
          <a:stretch/>
        </p:blipFill>
        <p:spPr>
          <a:xfrm>
            <a:off x="3357720" y="1333440"/>
            <a:ext cx="2428560" cy="1822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E:\DCIM\101_PANA\P1010717.JPG"/>
          <p:cNvPicPr/>
          <p:nvPr/>
        </p:nvPicPr>
        <p:blipFill>
          <a:blip r:embed="rId4"/>
          <a:stretch/>
        </p:blipFill>
        <p:spPr>
          <a:xfrm>
            <a:off x="4929120" y="364320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E:\DCIM\101_PANA\P1010718.JPG"/>
          <p:cNvPicPr/>
          <p:nvPr/>
        </p:nvPicPr>
        <p:blipFill>
          <a:blip r:embed="rId5"/>
          <a:stretch/>
        </p:blipFill>
        <p:spPr>
          <a:xfrm>
            <a:off x="571680" y="3643200"/>
            <a:ext cx="355572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188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mic Sans MS"/>
              </a:rPr>
              <a:t>Наше творче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E:\DCIM\101_PANA\P1010720.JPG"/>
          <p:cNvPicPr/>
          <p:nvPr/>
        </p:nvPicPr>
        <p:blipFill>
          <a:blip r:embed="rId1"/>
          <a:stretch/>
        </p:blipFill>
        <p:spPr>
          <a:xfrm>
            <a:off x="4643280" y="1143000"/>
            <a:ext cx="4089600" cy="306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E:\DCIM\101_PANA\P1010721.JPG"/>
          <p:cNvPicPr/>
          <p:nvPr/>
        </p:nvPicPr>
        <p:blipFill>
          <a:blip r:embed="rId2"/>
          <a:stretch/>
        </p:blipFill>
        <p:spPr>
          <a:xfrm>
            <a:off x="285840" y="2357280"/>
            <a:ext cx="3881520" cy="291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E:\DCIM\101_PANA\P1010716.JPG"/>
          <p:cNvPicPr/>
          <p:nvPr/>
        </p:nvPicPr>
        <p:blipFill>
          <a:blip r:embed="rId3"/>
          <a:stretch/>
        </p:blipFill>
        <p:spPr>
          <a:xfrm>
            <a:off x="4429080" y="4286160"/>
            <a:ext cx="3000600" cy="225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7e1a"/>
                </a:solidFill>
                <a:latin typeface="Comic Sans MS"/>
              </a:rPr>
              <a:t>Детский проект</a:t>
            </a:r>
            <a:br>
              <a:rPr sz="4000"/>
            </a:br>
            <a:r>
              <a:rPr b="1" lang="ru-RU" sz="4000" spc="-1" strike="noStrike">
                <a:solidFill>
                  <a:srgbClr val="107e1a"/>
                </a:solidFill>
                <a:latin typeface="Comic Sans MS"/>
              </a:rPr>
              <a:t>«Средства передвижения сказочных герое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71388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omic Sans MS"/>
              </a:rPr>
              <a:t>Творческое назв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omic Sans MS"/>
              </a:rPr>
              <a:t>«Лети, лети лепест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omic Sans MS"/>
              </a:rPr>
              <a:t>                     </a:t>
            </a: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Авторы: Анжелика Алпат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                                          </a:t>
            </a: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Инна Гребень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                                          </a:t>
            </a: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Дима Кан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Админ\Рабочий стол\Картинки\4.jpeg"/>
          <p:cNvPicPr/>
          <p:nvPr/>
        </p:nvPicPr>
        <p:blipFill>
          <a:blip r:embed="rId1"/>
          <a:stretch/>
        </p:blipFill>
        <p:spPr>
          <a:xfrm>
            <a:off x="6715080" y="2143080"/>
            <a:ext cx="2027160" cy="268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Админ\Рабочий стол\Картинки\д.jpeg"/>
          <p:cNvPicPr/>
          <p:nvPr/>
        </p:nvPicPr>
        <p:blipFill>
          <a:blip r:embed="rId2"/>
          <a:stretch/>
        </p:blipFill>
        <p:spPr>
          <a:xfrm>
            <a:off x="3500280" y="2357280"/>
            <a:ext cx="1857600" cy="1327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Админ\Рабочий стол\Картинки\т.jpeg"/>
          <p:cNvPicPr/>
          <p:nvPr/>
        </p:nvPicPr>
        <p:blipFill>
          <a:blip r:embed="rId3"/>
          <a:stretch/>
        </p:blipFill>
        <p:spPr>
          <a:xfrm>
            <a:off x="285840" y="164304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Documents and Settings\Админ\Рабочий стол\Картинки\л.jpeg"/>
          <p:cNvPicPr/>
          <p:nvPr/>
        </p:nvPicPr>
        <p:blipFill>
          <a:blip r:embed="rId4"/>
          <a:stretch/>
        </p:blipFill>
        <p:spPr>
          <a:xfrm>
            <a:off x="928800" y="5072040"/>
            <a:ext cx="1928880" cy="1443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71440" y="274680"/>
            <a:ext cx="507204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Литературная 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42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Mistr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Mistr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Mistral"/>
              </a:rPr>
              <a:t>    </a:t>
            </a:r>
            <a:r>
              <a:rPr b="1" lang="ru-RU" sz="6000" spc="-1" strike="noStrike">
                <a:solidFill>
                  <a:srgbClr val="0070c0"/>
                </a:solidFill>
                <a:latin typeface="Mistral"/>
              </a:rPr>
              <a:t>Сказки Корнея Чуковского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Админ\Рабочий стол\Картинки\4ukovsky.jpg"/>
          <p:cNvPicPr/>
          <p:nvPr/>
        </p:nvPicPr>
        <p:blipFill>
          <a:blip r:embed="rId1"/>
          <a:stretch/>
        </p:blipFill>
        <p:spPr>
          <a:xfrm>
            <a:off x="214200" y="12859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4143240" y="4572000"/>
            <a:ext cx="3089520" cy="202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1285920" y="4500720"/>
            <a:ext cx="1857240" cy="201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6572160" y="285840"/>
            <a:ext cx="2251080" cy="321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.Б. Фесюкова «Воспитание сказкой»: Харьков «ФОЛИО»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.Н. Прохорова «Путешествие по Фанталии»: С.-Петербург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.А. Юзбекова «Ступеньки творчества»:М.:ЛИНКА-ПРЕСС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. Мацкевич. Дорогами сказки/ «Дошкольное воспитание». - №3. – 2007. – с.38-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.Дунаева . О значении художественной  литературы в формировании личности ребенка/ «Дошкольное воспитание». - №6. – 2007. – с. 35-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597a0"/>
                </a:solidFill>
                <a:latin typeface="Comic Sans MS"/>
              </a:rPr>
              <a:t>Цель проекта </a:t>
            </a:r>
            <a:r>
              <a:rPr b="1" lang="ru-RU" sz="4000" spc="-1" strike="noStrike">
                <a:solidFill>
                  <a:srgbClr val="4597a0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4597a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4597a0"/>
                </a:solidFill>
                <a:latin typeface="Comic Sans MS"/>
              </a:rPr>
              <a:t>создание особой эмоциональной атмосферы увлеченности с помощью живого слова, музыки, зрительных образов, поэтического текста, игров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14440" y="2000160"/>
            <a:ext cx="55004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4b50"/>
                </a:solidFill>
                <a:latin typeface="Comic Sans MS"/>
              </a:rPr>
              <a:t>Задач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224b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24b50"/>
                </a:solidFill>
                <a:latin typeface="Comic Sans MS"/>
              </a:rPr>
              <a:t>Продолжать формировать у детей интерес к сказ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224b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24b50"/>
                </a:solidFill>
                <a:latin typeface="Comic Sans MS"/>
              </a:rPr>
              <a:t>Помогать устанавливать простые причинные связи между событиями, видеть поступки персонажей и правильно их оценива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224b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24b50"/>
                </a:solidFill>
                <a:latin typeface="Comic Sans MS"/>
              </a:rPr>
              <a:t>Развивать воображение, творческие способности дет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224b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24b50"/>
                </a:solidFill>
                <a:latin typeface="Comic Sans MS"/>
              </a:rPr>
              <a:t>Поддерживать внимание и  интерес детей к слов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Админ\Рабочий стол\Картинки\по.jpeg"/>
          <p:cNvPicPr/>
          <p:nvPr/>
        </p:nvPicPr>
        <p:blipFill>
          <a:blip r:embed="rId1"/>
          <a:stretch/>
        </p:blipFill>
        <p:spPr>
          <a:xfrm>
            <a:off x="285840" y="2857680"/>
            <a:ext cx="2928960" cy="3557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Реализация раздела «Чтение художественной литературы» по образовательной области «Речевое развитие» является актуальным направлением. Одним из направлений является знакомство детей со сказкой. О значении сказок говорят педагоги и психологи, которые доказали, что сказки положительно влияют не только на формирование речи, но и на общее развитие ребенка. В каждой сказке разумно сочетаются познавательный, эмоциональный и игровой аспек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28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Comic Sans MS"/>
              </a:rPr>
              <a:t>Основополагающ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786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omic Sans MS"/>
              </a:rPr>
              <a:t>Чему учит сказ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Documents and Settings\Админ\Рабочий стол\Картинки\ьл.jpeg"/>
          <p:cNvPicPr/>
          <p:nvPr/>
        </p:nvPicPr>
        <p:blipFill>
          <a:blip r:embed="rId1"/>
          <a:stretch/>
        </p:blipFill>
        <p:spPr>
          <a:xfrm>
            <a:off x="357120" y="285840"/>
            <a:ext cx="2757600" cy="2297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Админ\Рабочий стол\Картинки\9.jpeg"/>
          <p:cNvPicPr/>
          <p:nvPr/>
        </p:nvPicPr>
        <p:blipFill>
          <a:blip r:embed="rId2"/>
          <a:stretch/>
        </p:blipFill>
        <p:spPr>
          <a:xfrm>
            <a:off x="5000760" y="3714840"/>
            <a:ext cx="3938400" cy="282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астник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400" y="1213920"/>
            <a:ext cx="8258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анники общеразвивающей группы №8 для детей в возрасте 6-7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зыка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рок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19 по 23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E:\DCIM\101_PANA\P1010412.JPG"/>
          <p:cNvPicPr/>
          <p:nvPr/>
        </p:nvPicPr>
        <p:blipFill>
          <a:blip r:embed="rId1"/>
          <a:stretch/>
        </p:blipFill>
        <p:spPr>
          <a:xfrm>
            <a:off x="4500720" y="242892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Аннотац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760" y="928800"/>
            <a:ext cx="40384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ль детских сказок в развитии детей многогранна: от развития фантазии до развития речи. Она учит детей жизни, рассказывает о добре и зле. Читая и рассказывая сказки мы развиваем внутренний мир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928440"/>
            <a:ext cx="40384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азка помогает формировать основы поведения и общения, расширяет познание детей, словарный запас малыша, помогает правильно строить диалог, развивает связную речь, формирует умение задавать вопросы. Сказки должны входить в план воспитания детей как средство воспитания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Админ\Рабочий стол\Картинки\ллэ..jpeg"/>
          <p:cNvPicPr/>
          <p:nvPr/>
        </p:nvPicPr>
        <p:blipFill>
          <a:blip r:embed="rId1"/>
          <a:stretch/>
        </p:blipFill>
        <p:spPr>
          <a:xfrm>
            <a:off x="0" y="4591080"/>
            <a:ext cx="1920960" cy="218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Админ\Рабочий стол\Картинки\жз.jpeg"/>
          <p:cNvPicPr/>
          <p:nvPr/>
        </p:nvPicPr>
        <p:blipFill>
          <a:blip r:embed="rId2"/>
          <a:stretch/>
        </p:blipFill>
        <p:spPr>
          <a:xfrm>
            <a:off x="1714680" y="4857840"/>
            <a:ext cx="1379520" cy="1660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Админ\Рабочий стол\Картинки\стс.jpeg"/>
          <p:cNvPicPr/>
          <p:nvPr/>
        </p:nvPicPr>
        <p:blipFill>
          <a:blip r:embed="rId3"/>
          <a:stretch/>
        </p:blipFill>
        <p:spPr>
          <a:xfrm>
            <a:off x="3114720" y="4370400"/>
            <a:ext cx="1695240" cy="2139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Образователь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равственный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добрых чув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за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а и ма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а и 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мышления и во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мелкой моторики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Ange"/>
          <p:cNvPicPr/>
          <p:nvPr/>
        </p:nvPicPr>
        <p:blipFill>
          <a:blip r:embed="rId1"/>
          <a:stretch/>
        </p:blipFill>
        <p:spPr>
          <a:xfrm>
            <a:off x="5786280" y="1714680"/>
            <a:ext cx="2810160" cy="278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готов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Определение тематики, задач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содержания меропри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Сбор, анализ методической литера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Подбор и подготовка инструментария, материала к проведению мероприятий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Разработка темат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Админ\Рабочий стол\Картинки\bfad16d85d690d8b2721eaf7e10.jpg"/>
          <p:cNvPicPr/>
          <p:nvPr/>
        </p:nvPicPr>
        <p:blipFill>
          <a:blip r:embed="rId1"/>
          <a:stretch/>
        </p:blipFill>
        <p:spPr>
          <a:xfrm>
            <a:off x="4857840" y="3786120"/>
            <a:ext cx="3781440" cy="266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Админ\Рабочий стол\Картинки\2.jpeg"/>
          <p:cNvPicPr/>
          <p:nvPr/>
        </p:nvPicPr>
        <p:blipFill>
          <a:blip r:embed="rId2"/>
          <a:stretch/>
        </p:blipFill>
        <p:spPr>
          <a:xfrm>
            <a:off x="2762280" y="4286160"/>
            <a:ext cx="20955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Тематическое 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071360"/>
            <a:ext cx="83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19.10 – «Дорогами сказок А.С.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             </a:t>
            </a: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- Аппликация «Золотая рыб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20.10 – «В гостях у дедушки Корне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             </a:t>
            </a: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- Викторина по сказкам К.И.Чуко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21.10 – «Сказки от пословиц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22.10 – Конкурс чтецов «Родом из дет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- занятие «Средства передвижения сказочных героев» (детский проек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23.10 – Развлечение «В гостях у Бурати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- Консультация для родителей «От сказки к воспитанию ребе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5:05:29Z</dcterms:created>
  <dc:creator>Administrator</dc:creator>
  <dc:description/>
  <dc:language>en-US</dc:language>
  <cp:lastModifiedBy>Administrator</cp:lastModifiedBy>
  <dcterms:modified xsi:type="dcterms:W3CDTF">2017-02-19T15:44:51Z</dcterms:modified>
  <cp:revision>56</cp:revision>
  <dc:subject/>
  <dc:title>    «Сказка ложь, да в ней намек –  добрым молодцам урок»  тема: «Воспитание сказкой»            </dc:title>
</cp:coreProperties>
</file>