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BB80-DB75-42F3-AFD3-4FDC65E37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CF54-21CF-4049-B491-A827329A259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AC5-B6AA-42A0-A1F7-47573C41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3D2-1C3F-4875-9B39-CD30ED9B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DD0-01CC-4C29-8EA4-E8C2DE94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E95-878F-4BE8-8CC6-355261CD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A20-980F-44D9-98E4-1C0A6E8A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8D4-A5EC-4248-86D4-DF4BC354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175-9375-43FA-A677-467ECBFF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CD6-F256-4781-83F5-2509B94A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782-F2B8-49C7-852A-C2451C0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1D1-864D-4A38-B141-0CC9CCF9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599-C40D-4191-A504-FC056B77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484-356C-4133-98F6-9385595B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DA1F-27BA-47D1-AB5C-9FF9913AF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1360" y="1928880"/>
            <a:ext cx="7715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Проект</a:t>
            </a:r>
            <a:br>
              <a:rPr sz="4400"/>
            </a:b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Сотрудничество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тский сад – ГИБДД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Безопасные дороги – детям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43200" y="4572000"/>
            <a:ext cx="52149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 Black"/>
              </a:rPr>
              <a:t>Воспитатель : Евсеев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1681200" cy="1685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1214280" y="357120"/>
            <a:ext cx="7286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Детский сад 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Радуга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 р.п. Базарный Карабулак Саратовской области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»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_________________________________________________________________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412600, Саратовская область, р.п. Базарный Карабулак, ул. Некрасова, д.16 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а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»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  ОГРН 1106444000541 ИНН 64040055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863424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2d8a"/>
                </a:solidFill>
                <a:uFillTx/>
                <a:latin typeface="Arial"/>
              </a:rPr>
              <a:t>Тема проекта: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 «Безопасные дороги -  детям»</a:t>
            </a:r>
            <a:br>
              <a:rPr sz="2400"/>
            </a:b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(формирование знаний о правилах дорожного движения у детей дошкольного возраста)</a:t>
            </a:r>
            <a:br>
              <a:rPr sz="2400"/>
            </a:br>
            <a:r>
              <a:rPr b="1" lang="ru-RU" sz="2400" spc="-1" strike="noStrike" u="sng">
                <a:solidFill>
                  <a:srgbClr val="2d2d8a"/>
                </a:solidFill>
                <a:uFillTx/>
                <a:latin typeface="Arial"/>
              </a:rPr>
              <a:t>Вид проекта: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практико-ориентировочный, долгосрочный, открытый, коллективный, с участием родителей, инспектора ГИБДД.</a:t>
            </a:r>
            <a:br>
              <a:rPr sz="2400"/>
            </a:br>
            <a:r>
              <a:rPr b="1" lang="ru-RU" sz="2400" spc="-1" strike="noStrike" u="sng">
                <a:solidFill>
                  <a:srgbClr val="2d2d8a"/>
                </a:solidFill>
                <a:uFillTx/>
                <a:latin typeface="Arial"/>
              </a:rPr>
              <a:t>Цель проекта: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 Создать условия для интенсификации работы с семьей на основе двухстороннего взаимодействия, направленных на усвоение и закрепление знаний детей и их родителей о правилах дорожного движе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715080" y="4253040"/>
            <a:ext cx="2698920" cy="260496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0520" y="380880"/>
            <a:ext cx="85582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Срок реализации: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Сентябрь 2014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г.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май 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Место события:</a:t>
            </a: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 МБДОУ детский сад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Участники проекта</a:t>
            </a:r>
            <a:r>
              <a:rPr b="0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 дети старшего дошкольного возраста 5-7 лет, родители, воспитатели,  инспектор ГИБДД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929200" y="3714840"/>
            <a:ext cx="2698920" cy="260496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Проблема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643040"/>
            <a:ext cx="86342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Ежегодно на дорогах нашей страны совершаются миллионы дорожно-транспортных происшествий, в результате которых тысячи детей погибают, десятки тысяч  получают ранения и травмы. Часто виновниками дорожно-транспортных происшествий являются сами дети, которые играют вблизи дорог, переходят улицу в неположенном месте, неправильно входят в транспортные средства и выходят из них. Высокий уровень ДДТТ в России во многом обусловлен недостаточной организацией профилактики, воспитания, обучения дошкольников основам безопасного дорожного движения  в детском саду и семье. Сами родители  осознанно нарушают Правила дорожного движения при де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71720" y="428760"/>
            <a:ext cx="2214360" cy="1500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520" y="357120"/>
            <a:ext cx="855828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2d2d8a"/>
                </a:solidFill>
                <a:uFillTx/>
                <a:latin typeface="Times New Roman"/>
                <a:ea typeface="Times New Roman"/>
              </a:rPr>
              <a:t>Задачи проект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Формировать у детей старшего дошкольного возраста потребности усвоения правил дорожного и пешеходного движения на улице, доро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 Прививать детям практические навыки ориентирования в дорожно-транспортной ситуации, дорожных знаках, сигналах светофора, разметке дороги, через информативно-поисковую дея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С помощью разнообразных методов и приемов оптимизировать работу с родителями детей дошкольного возраста для полноценного развития личности ребенка и закреплению знаний о правилах дорожного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Создать условия для формирования социальных навыков и норм поведения на основе совместной деятельности с родителями и взаимн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Развивать познавательный интерес, умение детей своевременно и самостоятельно указывать на проблемную ситуацию и делиться с окружающими людьми приобретенным опы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Активизировать работу по пропаганде правил дорожного движения и безопасного образа жизни среди детей, родителей, обществ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929280" y="5000760"/>
            <a:ext cx="15004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8080" y="35712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520" y="1714320"/>
            <a:ext cx="8558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Актуальность проекта заключается в том, что у детей познавательное развитие, направленное на удовлетворение социального интереса формируется только  при условии целенаправленного руководства со стороны взросл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Важно как можно раньше пробудить,  развить и повысить стремление к получению практических навыков пешеходного безопасного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Взрослым необходимо повышать познавательный интерес детей к социальной действительности. Интерес будет высоким, если ребенок будет активным участником педагогического процесса, если у него будет возможность лично исследовать, проявлять самостоятельность под умелым педагогическим руководством взрослого, который будет направлять ребенка, а не подмен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Одним из перспективных методов, способствующих решению проблемы, по познавательной активности детей, является метод проектирования в старшем дошкольном возрасте. Дидактический смысл проекта заключается в том, что он помогает связать обучение с жизнью, формирует навыки безопасного пешеходного движения, развивает познавательную активность, умение определять возможные методы решения проблемы с помощью взрослого, а затем 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Первое воспитательное учреждение, первый несемейный социальный институт, с которым вступают в контакт родители – это детский сад. Дальнейшее развитие ребенка зависит от совместной работы родителей и педагогов. Ведь как бы серьезно ни продумывались формы воспитания детей в детском саду, невозможно достигнуть поставленной цели без постоянной поддержки и активного участия родителей в педагогическом проце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85880" y="0"/>
            <a:ext cx="15001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одержимое 2"/>
          <p:cNvSpPr/>
          <p:nvPr/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Подготовительный </a:t>
            </a:r>
            <a:r>
              <a:rPr b="0" i="1" lang="ru-RU" sz="3200" spc="-1" strike="noStrike">
                <a:solidFill>
                  <a:srgbClr val="2d2d8a"/>
                </a:solidFill>
                <a:latin typeface="Arial"/>
              </a:rPr>
              <a:t>(аналитический)</a:t>
            </a: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Основной </a:t>
            </a:r>
            <a:r>
              <a:rPr b="0" i="1" lang="ru-RU" sz="3200" spc="-1" strike="noStrike">
                <a:solidFill>
                  <a:srgbClr val="2d2d8a"/>
                </a:solidFill>
                <a:latin typeface="Arial"/>
              </a:rPr>
              <a:t>(реализация намеченных план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Заключительный </a:t>
            </a:r>
            <a:r>
              <a:rPr b="0" i="1" lang="ru-RU" sz="3200" spc="-1" strike="noStrike">
                <a:solidFill>
                  <a:srgbClr val="2d2d8a"/>
                </a:solidFill>
                <a:latin typeface="Arial"/>
              </a:rPr>
              <a:t>( презентация, продукт деятельности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445080" y="3809880"/>
            <a:ext cx="2698920" cy="26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Создание оптимальных и необходимых условий для организации совместной деятельности с родителями по профилактике детского дорожно-транспортного травматизма ДДТТ ;</a:t>
            </a:r>
            <a:br>
              <a:rPr sz="2400"/>
            </a:br>
            <a:r>
              <a:rPr b="0" lang="ru-RU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.Формирование у детей элементарных норм и правил дорожно-транспортной безопасности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Привитие  дошкольникам  умения ориентироваться в дорожных ситуациях на пути движения в детский сад и об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858000" y="4495680"/>
            <a:ext cx="19731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ан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Рассматривание плакатов по безопасности дорожного движения с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Конкурс на лучший рисунок по ПД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Проведение занятий по ПДД, дидактических, сюжетно-ролевых иг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Чтение произведений по тематике ПД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Информационные стенды для родителей по ПД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Просмотр призе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2698920" cy="26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</cp:lastModifiedBy>
  <dcterms:modified xsi:type="dcterms:W3CDTF">2017-02-19T16:40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