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BCC9-E036-4506-8DD5-145E18EFD2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4854-EFF9-4C8A-BD2A-031540C2410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5C3-0766-4BDE-A53A-192AFA11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1C1-0A0A-4E97-BB0E-F24847EA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165-07B5-4F33-A7BA-F2E2DADD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7A7-9102-48EE-96E0-D8CC5F89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97EC-57E1-4C93-BCA7-18F5F34C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D12C-2DCA-4FC2-87B8-46ABBF89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3DED-5A32-4BE9-AD9D-617A075B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BC6-3091-40A7-81CE-19D2E312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2A91-770E-4446-BC71-B1F71C79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F6E-C2F1-4777-8D8F-6E4C74D9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C7C-BBE4-40E5-B10D-9E92C8CE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BD4-2234-4DEA-8962-6919A26C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C3FB-35C8-45AA-8A6C-A7BB4E46C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1360" y="1928880"/>
            <a:ext cx="7715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Проект</a:t>
            </a:r>
            <a:br>
              <a:rPr sz="4400"/>
            </a:b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«</a:t>
            </a: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Сотрудничество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: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етский сад – ГИБДД»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«Безопасные дороги – детям</a:t>
            </a: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43200" y="4572000"/>
            <a:ext cx="52149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 Black"/>
              </a:rPr>
              <a:t>Воспитатель : Евсеева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5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1681200" cy="16858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1214280" y="357120"/>
            <a:ext cx="7286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333399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Детский сад </a:t>
            </a:r>
            <a:r>
              <a:rPr b="1" lang="ru-RU" sz="1200" spc="-1" strike="noStrike">
                <a:solidFill>
                  <a:srgbClr val="333399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Радуга</a:t>
            </a:r>
            <a:r>
              <a:rPr b="1" lang="ru-RU" sz="1200" spc="-1" strike="noStrike">
                <a:solidFill>
                  <a:srgbClr val="333399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 р.п. Базарный Карабулак Саратовской области</a:t>
            </a:r>
            <a:r>
              <a:rPr b="1" lang="ru-RU" sz="1200" spc="-1" strike="noStrike">
                <a:solidFill>
                  <a:srgbClr val="333399"/>
                </a:solidFill>
                <a:latin typeface="Calibri"/>
                <a:ea typeface="Times New Roman"/>
              </a:rPr>
              <a:t>»</a:t>
            </a:r>
            <a:br>
              <a:rPr sz="1200"/>
            </a:br>
            <a:r>
              <a:rPr b="1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_________________________________________________________________</a:t>
            </a:r>
            <a:br>
              <a:rPr sz="1200"/>
            </a:br>
            <a:r>
              <a:rPr b="1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412600, Саратовская область, р.п. Базарный Карабулак, ул. Некрасова, д.16 </a:t>
            </a:r>
            <a:r>
              <a:rPr b="1" lang="ru-RU" sz="1200" spc="-1" strike="noStrike">
                <a:solidFill>
                  <a:srgbClr val="333399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а</a:t>
            </a:r>
            <a:r>
              <a:rPr b="1" lang="ru-RU" sz="1200" spc="-1" strike="noStrike">
                <a:solidFill>
                  <a:srgbClr val="333399"/>
                </a:solidFill>
                <a:latin typeface="Calibri"/>
                <a:ea typeface="Times New Roman"/>
              </a:rPr>
              <a:t>»</a:t>
            </a:r>
            <a:br>
              <a:rPr sz="1200"/>
            </a:br>
            <a:r>
              <a:rPr b="1" lang="ru-RU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  ОГРН 1106444000541 ИНН 64040055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371600"/>
            <a:ext cx="863424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d2d8a"/>
                </a:solidFill>
                <a:uFillTx/>
                <a:latin typeface="Arial"/>
              </a:rPr>
              <a:t>Тема проекта: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 «Безопасные дороги -  детям»</a:t>
            </a:r>
            <a:br>
              <a:rPr sz="2400"/>
            </a:b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(формирование знаний о правилах дорожного движения у детей дошкольного возраста)</a:t>
            </a:r>
            <a:br>
              <a:rPr sz="2400"/>
            </a:br>
            <a:r>
              <a:rPr b="1" lang="ru-RU" sz="2400" spc="-1" strike="noStrike" u="sng">
                <a:solidFill>
                  <a:srgbClr val="2d2d8a"/>
                </a:solidFill>
                <a:uFillTx/>
                <a:latin typeface="Arial"/>
              </a:rPr>
              <a:t>Вид проекта: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практико-ориентировочный, долгосрочный, открытый, коллективный, с участием родителей, инспектора ГИБДД.</a:t>
            </a:r>
            <a:br>
              <a:rPr sz="2400"/>
            </a:br>
            <a:r>
              <a:rPr b="1" lang="ru-RU" sz="2400" spc="-1" strike="noStrike" u="sng">
                <a:solidFill>
                  <a:srgbClr val="2d2d8a"/>
                </a:solidFill>
                <a:uFillTx/>
                <a:latin typeface="Arial"/>
              </a:rPr>
              <a:t>Цель проекта:</a:t>
            </a: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  Создать условия для интенсификации работы с семьей на основе двухстороннего взаимодействия, направленных на усвоение и закрепление знаний детей и их родителей о правилах дорожного движения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715080" y="4253040"/>
            <a:ext cx="2698920" cy="2604960"/>
          </a:xfrm>
          <a:prstGeom prst="rect">
            <a:avLst/>
          </a:prstGeom>
          <a:ln w="0">
            <a:noFill/>
          </a:ln>
        </p:spPr>
      </p:pic>
    </p:spTree>
  </p:cSld>
  <p:transition spd="slow" advTm="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80520" y="380880"/>
            <a:ext cx="855828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d2d8a"/>
                </a:solidFill>
                <a:uFillTx/>
                <a:latin typeface="Arial"/>
              </a:rPr>
              <a:t>Срок реализации:</a:t>
            </a: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d2d8a"/>
                </a:solidFill>
                <a:latin typeface="Arial"/>
              </a:rPr>
              <a:t>Сентябрь 2014</a:t>
            </a: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d2d8a"/>
                </a:solidFill>
                <a:latin typeface="Arial"/>
              </a:rPr>
              <a:t>г.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2d8a"/>
                </a:solidFill>
                <a:latin typeface="Arial"/>
              </a:rPr>
              <a:t>май 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d2d8a"/>
                </a:solidFill>
                <a:uFillTx/>
                <a:latin typeface="Arial"/>
              </a:rPr>
              <a:t>Место события:</a:t>
            </a:r>
            <a:r>
              <a:rPr b="0" lang="ru-RU" sz="2800" spc="-1" strike="noStrike">
                <a:solidFill>
                  <a:srgbClr val="2d2d8a"/>
                </a:solidFill>
                <a:latin typeface="Arial"/>
              </a:rPr>
              <a:t> МБДОУ детский сад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d2d8a"/>
                </a:solidFill>
                <a:uFillTx/>
                <a:latin typeface="Arial"/>
              </a:rPr>
              <a:t>Участники проекта</a:t>
            </a:r>
            <a:r>
              <a:rPr b="0" lang="ru-RU" sz="2800" spc="-1" strike="noStrike" u="sng">
                <a:solidFill>
                  <a:srgbClr val="2d2d8a"/>
                </a:solidFill>
                <a:uFillTx/>
                <a:latin typeface="Arial"/>
              </a:rPr>
              <a:t>:</a:t>
            </a:r>
            <a:r>
              <a:rPr b="0" lang="ru-RU" sz="2800" spc="-1" strike="noStrike">
                <a:solidFill>
                  <a:srgbClr val="2d2d8a"/>
                </a:solidFill>
                <a:latin typeface="Arial"/>
              </a:rPr>
              <a:t> дети старшего дошкольного возраста 5-7 лет, родители, воспитатели,  инспектор ГИБДД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929200" y="3714840"/>
            <a:ext cx="2698920" cy="2604960"/>
          </a:xfrm>
          <a:prstGeom prst="rect">
            <a:avLst/>
          </a:prstGeom>
          <a:ln w="0">
            <a:noFill/>
          </a:ln>
        </p:spPr>
      </p:pic>
    </p:spTree>
  </p:cSld>
  <p:transition spd="slow" advTm="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Проблема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643040"/>
            <a:ext cx="86342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Ежегодно на дорогах нашей страны совершаются миллионы дорожно-транспортных происшествий, в результате которых тысячи детей погибают, десятки тысяч  получают ранения и травмы. Часто виновниками дорожно-транспортных происшествий являются сами дети, которые играют вблизи дорог, переходят улицу в неположенном месте, неправильно входят в транспортные средства и выходят из них. Высокий уровень ДДТТ в России во многом обусловлен недостаточной организацией профилактики, воспитания, обучения дошкольников основам безопасного дорожного движения  в детском саду и семье. Сами родители  осознанно нарушают Правила дорожного движения при де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071720" y="428760"/>
            <a:ext cx="2214360" cy="1500120"/>
          </a:xfrm>
          <a:prstGeom prst="rect">
            <a:avLst/>
          </a:prstGeom>
          <a:ln w="0">
            <a:noFill/>
          </a:ln>
        </p:spPr>
      </p:pic>
    </p:spTree>
  </p:cSld>
  <p:transition spd="slow" advTm="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520" y="357120"/>
            <a:ext cx="855828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2d2d8a"/>
                </a:solidFill>
                <a:uFillTx/>
                <a:latin typeface="Times New Roman"/>
                <a:ea typeface="Times New Roman"/>
              </a:rPr>
              <a:t>Задачи проект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.Формировать у детей старшего дошкольного возраста потребности усвоения правил дорожного и пешеходного движения на улице, дорог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. Прививать детям практические навыки ориентирования в дорожно-транспортной ситуации, дорожных знаках, сигналах светофора, разметке дороги, через информативно-поисковую деятель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.С помощью разнообразных методов и приемов оптимизировать работу с родителями детей дошкольного возраста для полноценного развития личности ребенка и закреплению знаний о правилах дорожного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.Создать условия для формирования социальных навыков и норм поведения на основе совместной деятельности с родителями и взаимной помо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.Развивать познавательный интерес, умение детей своевременно и самостоятельно указывать на проблемную ситуацию и делиться с окружающими людьми приобретенным опы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.Активизировать работу по пропаганде правил дорожного движения и безопасного образа жизни среди детей, родителей, обществен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6929280" y="5000760"/>
            <a:ext cx="150048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8080" y="35712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ктуальност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520" y="1714320"/>
            <a:ext cx="8558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d2d8a"/>
                </a:solidFill>
                <a:latin typeface="Arial"/>
              </a:rPr>
              <a:t>Актуальность проекта заключается в том, что у детей познавательное развитие, направленное на удовлетворение социального интереса формируется только  при условии целенаправленного руководства со стороны взросл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d2d8a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2d2d8a"/>
                </a:solidFill>
                <a:latin typeface="Arial"/>
              </a:rPr>
              <a:t>Важно как можно раньше пробудить,  развить и повысить стремление к получению практических навыков пешеходного безопасного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d2d8a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2d2d8a"/>
                </a:solidFill>
                <a:latin typeface="Arial"/>
              </a:rPr>
              <a:t>Взрослым необходимо повышать познавательный интерес детей к социальной действительности. Интерес будет высоким, если ребенок будет активным участником педагогического процесса, если у него будет возможность лично исследовать, проявлять самостоятельность под умелым педагогическим руководством взрослого, который будет направлять ребенка, а не подмен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d2d8a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2d2d8a"/>
                </a:solidFill>
                <a:latin typeface="Arial"/>
              </a:rPr>
              <a:t>Одним из перспективных методов, способствующих решению проблемы, по познавательной активности детей, является метод проектирования в старшем дошкольном возрасте. Дидактический смысл проекта заключается в том, что он помогает связать обучение с жизнью, формирует навыки безопасного пешеходного движения, развивает познавательную активность, умение определять возможные методы решения проблемы с помощью взрослого, а затем и самостоя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d2d8a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2d2d8a"/>
                </a:solidFill>
                <a:latin typeface="Arial"/>
              </a:rPr>
              <a:t>Первое воспитательное учреждение, первый несемейный социальный институт, с которым вступают в контакт родители – это детский сад. Дальнейшее развитие ребенка зависит от совместной работы родителей и педагогов. Ведь как бы серьезно ни продумывались формы воспитания детей в детском саду, невозможно достигнуть поставленной цели без постоянной поддержки и активного участия родителей в педагогическом проце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85880" y="0"/>
            <a:ext cx="150012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Этапы реализации проект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одержимое 2"/>
          <p:cNvSpPr/>
          <p:nvPr/>
        </p:nvSpPr>
        <p:spPr>
          <a:xfrm>
            <a:off x="304920" y="1066680"/>
            <a:ext cx="86104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Arial"/>
              </a:rPr>
              <a:t>Подготовительный </a:t>
            </a:r>
            <a:r>
              <a:rPr b="0" i="1" lang="ru-RU" sz="3200" spc="-1" strike="noStrike">
                <a:solidFill>
                  <a:srgbClr val="2d2d8a"/>
                </a:solidFill>
                <a:latin typeface="Arial"/>
              </a:rPr>
              <a:t>(аналитический)</a:t>
            </a:r>
            <a:r>
              <a:rPr b="0" lang="ru-RU" sz="3200" spc="-1" strike="noStrike">
                <a:solidFill>
                  <a:srgbClr val="2d2d8a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Arial"/>
              </a:rPr>
              <a:t>Основной </a:t>
            </a:r>
            <a:r>
              <a:rPr b="0" i="1" lang="ru-RU" sz="3200" spc="-1" strike="noStrike">
                <a:solidFill>
                  <a:srgbClr val="2d2d8a"/>
                </a:solidFill>
                <a:latin typeface="Arial"/>
              </a:rPr>
              <a:t>(реализация намеченных план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Arial"/>
              </a:rPr>
              <a:t>Заключительный </a:t>
            </a:r>
            <a:r>
              <a:rPr b="0" i="1" lang="ru-RU" sz="3200" spc="-1" strike="noStrike">
                <a:solidFill>
                  <a:srgbClr val="2d2d8a"/>
                </a:solidFill>
                <a:latin typeface="Arial"/>
              </a:rPr>
              <a:t>( презентация, продукт деятельности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445080" y="3809880"/>
            <a:ext cx="2698920" cy="26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полагаемый 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Создание оптимальных и необходимых условий для организации совместной деятельности с родителями по профилактике детского дорожно-транспортного травматизма ДДТТ ;</a:t>
            </a:r>
            <a:br>
              <a:rPr sz="2400"/>
            </a:br>
            <a:r>
              <a:rPr b="0" lang="ru-RU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.Формирование у детей элементарных норм и правил дорожно-транспортной безопасности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Привитие  дошкольникам  умения ориентироваться в дорожных ситуациях на пути движения в детский сад и обра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858000" y="4495680"/>
            <a:ext cx="19731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лан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Рассматривание плакатов по безопасности дорожного движения с дет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Конкурс на лучший рисунок по ПД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Проведение занятий по ПДД, дидактических, сюжетно-ролевых иг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Чтение произведений по тематике ПД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2bf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Информационные стенды для родителей по ПД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Просмотр призе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6172200" y="3809880"/>
            <a:ext cx="2698920" cy="260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</cp:lastModifiedBy>
  <dcterms:modified xsi:type="dcterms:W3CDTF">2017-02-19T16:40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