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EC6F-78B8-4D0B-9C50-928FD0A98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4BCB-7182-4AA8-B456-B107F452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7B1B-B25B-4A06-93C7-6E2B8A5D0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8907-0357-4C22-B8A8-75B36DF41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27B2E-7C41-4601-B68B-800FD6DA8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8DCC-F3E6-44A3-B5DB-33A2CCFA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F36D-1946-4B51-AF3A-EC200489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6CFA-FD63-4733-81DF-1AFCA009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BDBD2-D416-4634-A3D4-48168FC6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8986-4072-4DA3-9573-AE0B6951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909B-FAA3-469F-B15A-D5F4FAA7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7351-5FC7-415E-A84C-CE0C383B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77DE-43D7-4FDB-A561-7E104CBB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7B12-4AAA-436E-9D18-34BC0283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49296-1821-4C8F-ABDD-9F204D23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AB6A-C2E1-4F20-8CCA-D37A60DAF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1389-27A1-4DA0-99B1-99210BA48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407FB-172D-47B2-8EEB-D815CD021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E1BFA-93FD-44EF-BA66-8F4447B9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6A4CE-5678-489E-8FE8-75209A8A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0A794-4DD7-485C-B0C4-8AC78F40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BE921-23A1-47B7-8A23-B15A1B60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543A-0B9D-45F1-A3F5-44969BD4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EDF71-88E9-411B-844E-42FAD6BF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4CAA9-B9DF-451D-AAE3-F0ACABDD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0DB08-2D21-40F4-982E-64A32008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B31BC-892C-4C1E-BB25-210823B7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FC5B8-D84F-47EE-8DFC-96BD2558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F77A8-3925-4ECF-AFFE-2E040B0CD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3BDB8-6D74-42F9-9044-17A51D66B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DC6CA-1C00-4E0E-BB0C-539DEE47F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371FC-677F-440C-8EC2-AB63B1C7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D40B2-EAEB-4A9F-9EB4-E1825006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1B9D-0D05-434D-96E6-FE46F99C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E2841-75DE-4909-9A93-926C4EAB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31017-A0CD-4FC7-B546-032DF7A5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C382C-E7EE-44F2-9758-EBE4089C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1C280-E335-4EE8-81AC-717A2C76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C4FB0-49AA-4C9E-A3EB-45522CC4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6683C-5033-4AD8-86A6-12E11565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21B51-7F53-4652-A97C-81EA5569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68A67-0A8D-4FEC-BEBE-BEDFCBA88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2197D-F1A3-439E-A4CC-B0C4F3F48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CBC8A-2001-4C8A-BF98-09C178AE9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D9FF-CECB-4667-9B2B-D8E31257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FE681-43D4-4670-B88A-6B60A82E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ACC6B-6F48-4D65-98FD-62679D53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2A5C8-74E3-4E93-BBB6-00EEDFF5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D1845-9506-452E-9920-77F40926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2364A-CEC4-46C5-BED7-3D1DF9B2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7D2B2-AEBC-44E8-9C49-FBE53D58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048C4-0BD6-41F2-918A-60C5785D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6516F-DF1B-46EA-923C-626FDDE4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2340E-69BC-4BAA-A904-22052874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BE2FC-0615-4B61-8E88-7589EF3A5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6192-9876-484A-AD8A-5D28F9AD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40D8E-4FB2-4479-A988-93232F0DF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37D4-0DA0-447A-8B99-F43D8C94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BEAC-FDFD-4E7F-872B-FBEFB47C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D5A8-561F-46FE-9B86-D466FF70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072F-58A0-4035-95F8-55B2793827B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3771-5427-46C0-9D5E-4C21647CC97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1EDB-BBBF-4A03-88F4-4EEBF69C660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88ED-8E8B-4DAC-9A89-2629D7F79BF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466D-BD7F-4827-8137-B8AA631E611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04000" cy="2808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Arial Black"/>
              </a:rPr>
              <a:t>Развивающее обучение: сотрудничество учителя и ученика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24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из опыта работы учителя начальных класс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ГБОУ СОШ № 511 Пушкинского район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г. Санкт – Петербурга  </a:t>
            </a:r>
            <a:br>
              <a:rPr sz="2400"/>
            </a:br>
            <a:r>
              <a:rPr b="0" lang="ru-RU" sz="2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Деркач О.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2014 г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03280" y="529920"/>
            <a:ext cx="8183520" cy="5202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шаг в обучении может означать сто шагов в развит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.В.Выгот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Цель обучения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остижение оптимального  общего развития каждого ребенка при сохранении его психического и физического здоровь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539280" y="620640"/>
            <a:ext cx="8047080" cy="5184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lvl="1" marL="345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07f09"/>
                </a:solidFill>
                <a:latin typeface="Times New Roman"/>
                <a:ea typeface="Times New Roman"/>
              </a:rPr>
              <a:t>Дидактические принципы системы развивающего обуч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5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на высоком уровне трудности при соблюдении меры трудност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5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ая роль теоретических знаний в обучен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5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знание учащимися процесса обучен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5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ый темп изучения материал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5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 развитием всех учащихся -  как сильных, так и слабы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5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07f09"/>
                </a:solidFill>
                <a:latin typeface="Times New Roman"/>
                <a:ea typeface="Times New Roman"/>
              </a:rPr>
              <a:t>Методические свойства развивающей систе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гра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у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из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тив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5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9280" y="620280"/>
            <a:ext cx="8070840" cy="5256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07f09"/>
                </a:solidFill>
                <a:latin typeface="Times New Roman"/>
                <a:ea typeface="Times New Roman"/>
              </a:rPr>
              <a:t>Учитель в развивающей системе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о компетентный учитель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манист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правный партнёр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тор  учебной деятельност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 коллективного процесса позна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Ученик в развивающей системе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стная личность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ъект учен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 учебного сотрудничеств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ически мыслящий человек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ченик, а учащий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503280" y="529920"/>
            <a:ext cx="8183520" cy="5202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истема взаимоотношений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трудничество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артнёрство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творчество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переживани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вместная деятельность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иалог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643280"/>
            <a:ext cx="8183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Сотрудничество и партнерство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7" name="Picture 2" descr="D:\ТАТЬЯНА ПАВЛОВНА\рабочий стол 2013-2014 сентябрь, октябрь\фото для ТИ\01\Изображение 108.jpg"/>
          <p:cNvPicPr/>
          <p:nvPr/>
        </p:nvPicPr>
        <p:blipFill>
          <a:blip r:embed="rId1"/>
          <a:stretch/>
        </p:blipFill>
        <p:spPr>
          <a:xfrm>
            <a:off x="500040" y="1285920"/>
            <a:ext cx="3930840" cy="2946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D:\ТАТЬЯНА ПАВЛОВНА\3Б\Белая башня\Белая башня 368.jpg"/>
          <p:cNvPicPr/>
          <p:nvPr/>
        </p:nvPicPr>
        <p:blipFill>
          <a:blip r:embed="rId2"/>
          <a:stretch/>
        </p:blipFill>
        <p:spPr>
          <a:xfrm>
            <a:off x="4643280" y="1285920"/>
            <a:ext cx="393084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4941720"/>
            <a:ext cx="8183520" cy="7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07f09"/>
                </a:solidFill>
                <a:latin typeface="Verdana"/>
              </a:rPr>
              <a:t>Сотворчество и сопереживание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4643280" y="1785960"/>
            <a:ext cx="3930840" cy="29480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"/>
          <p:cNvPicPr/>
          <p:nvPr/>
        </p:nvPicPr>
        <p:blipFill>
          <a:blip r:embed="rId2"/>
          <a:stretch/>
        </p:blipFill>
        <p:spPr>
          <a:xfrm>
            <a:off x="571680" y="1785960"/>
            <a:ext cx="393048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83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07f09"/>
                </a:solidFill>
                <a:latin typeface="Verdana"/>
              </a:rPr>
              <a:t>Совместная деятельность и диалог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3" name="Picture 7" descr=""/>
          <p:cNvPicPr/>
          <p:nvPr/>
        </p:nvPicPr>
        <p:blipFill>
          <a:blip r:embed="rId1"/>
          <a:stretch/>
        </p:blipFill>
        <p:spPr>
          <a:xfrm>
            <a:off x="608040" y="1719360"/>
            <a:ext cx="3930480" cy="29462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8" descr=""/>
          <p:cNvPicPr/>
          <p:nvPr/>
        </p:nvPicPr>
        <p:blipFill>
          <a:blip r:embed="rId2"/>
          <a:stretch/>
        </p:blipFill>
        <p:spPr>
          <a:xfrm>
            <a:off x="4653000" y="1719360"/>
            <a:ext cx="393048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857480"/>
            <a:ext cx="8183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пасибо за внимание!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жеские отношения между учителем и учениками, создание внутреннего побуждения к учению, вся атмосфера живого познания действуют как необходимые компоненты целостной системы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ков Л.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9T11:04:33Z</dcterms:created>
  <dc:creator>DEN</dc:creator>
  <dc:description/>
  <dc:language>en-US</dc:language>
  <cp:lastModifiedBy>Пользователь</cp:lastModifiedBy>
  <dcterms:modified xsi:type="dcterms:W3CDTF">2014-05-14T14:30:26Z</dcterms:modified>
  <cp:revision>11</cp:revision>
  <dc:subject/>
  <dc:title>Развивающее обучение: сотрудничество учителя и ученика</dc:title>
</cp:coreProperties>
</file>