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8FB-72CE-46CF-8071-277EC873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0F2-3C7C-4C72-A136-F29845A6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0AF-2BAF-47A9-A074-D2657A02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7E8-2EB9-4141-979D-4FE90A0D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DD68-DC87-41CC-A6F0-E90FFEE3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8320-89AC-46CC-94CF-554BF748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E05-1DC3-4CF6-9F9C-58F88F03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8222-69D2-40CC-8643-B8ACC5CA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29B0-05DE-4871-9DE1-965DA6CD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13B-0990-469D-B1D5-95AB6F62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F4FB-6A1B-4C5A-A74B-00D8036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6FB-2BAA-4B0B-B899-6DA8918E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E051-C219-415B-A954-9E18C1B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A3D-EFF8-4F63-B023-A341D17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87F4-E37C-476A-8CE2-9683570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D2EC-4953-490A-93D2-2EDEC176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6DCD-717B-4EB8-A227-7C1FD724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3D24-E369-48D9-B49E-7EB05969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B3C0-BF02-4D5D-A27A-19B1AEA5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28B1-CD76-4809-81CB-0845738B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03C6-73E2-47E0-BF28-3C3CC93C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6933-A63E-4518-91B9-E79C3942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5E8-E65B-4DAC-A372-7589A2F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73CA-DE6D-4893-BC11-05041EE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D94A-872A-4579-9198-93D29A1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47AC-BE5D-4C0D-8AC3-385D1BA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019A-0A9A-4213-9B29-ED11071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2517-AD5A-4635-8E84-E746FB18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D5D4-50F2-431C-9316-0DB8871E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2724-954B-40D6-B55D-56AD0947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6181-0AE5-43C8-91A1-12ADA13B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0973-32D5-4104-AC52-D9E515F6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8F17-3B93-41D5-B50E-7578C8B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837-885F-49F3-BEDF-83AC7D8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615E-C0A8-47A6-A567-7C6B3CC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56F7-0406-4FCA-9E30-09C946E3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457B-C1BC-4EA5-8BE1-D79E53A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18BD-3D70-4BA7-8A43-72C2AF28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2910-0E81-4574-A8BE-E63F00B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8D91-6943-4E5E-A1E3-45454DF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7C94-D72E-4B60-BCA7-8C7BCCC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8DEA-69BE-4AB8-9EB0-53386BF7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3209-9128-4826-861E-FA414E91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903C-A832-4BDA-89CE-E4739D93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7DA-F212-4731-B4F3-4492596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5FA69-09A3-4B7C-B102-E5B7F86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07048-9066-4E28-99DB-444EA7FE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90EB-CC66-41AD-B0EA-A659EE81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02F5E-3834-4D30-A6E1-E64EFDD0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2BA1-5D53-42F0-8C8D-010DB782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02BF-E3FC-49CF-8236-D4C03863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86B7-CC60-4E16-9C27-61499780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BB74-6876-4A2E-8D58-C85C0D6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39C4-87B2-4A9C-93C7-7E12986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5DDCE-8B39-4021-855A-2FB19504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5D2-35A0-4936-994F-B712C1D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1A685-7F56-44D9-A079-E04EFD28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613-A764-4949-9657-6367257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39A-DDFF-4E0B-A203-53DCB28D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F22-6A1E-4E73-B4A1-6D94183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EBA7-0166-44B8-B9F0-423697B0E2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8AC-9D75-4984-B14E-90B57C476A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FAA-00C5-4DEE-A339-F700D560ED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9602-C043-4CAA-820D-590BBBFF4A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3C15-572A-4BC9-9BD0-C7CCA96D39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Arial Black"/>
              </a:rPr>
              <a:t>Развивающее обучение: сотрудничество учителя и учени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з опыта работы учителя начальных класс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БОУ СОШ № 511 Пушкинского райо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. Санкт – Петербурга  </a:t>
            </a:r>
            <a:br>
              <a:rPr sz="2400"/>
            </a:b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еркач О.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014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03280" y="529920"/>
            <a:ext cx="818352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шаг в обучении может означать сто шагов в развит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В.Выгот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 обучен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стижение оптимального  общего развития каждого ребенка при сохранении его психического и физического здоровь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280" y="620640"/>
            <a:ext cx="8047080" cy="518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345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Дидактические принципы системы 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высоком уровне трудности при соблюдении меры труд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роль теоретических знаний в обуч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учащимися процесса обуч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темп изучения матери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азвитием всех учащихся -  как сильных, так и слаб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Методические свойства развивающей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из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5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9280" y="620280"/>
            <a:ext cx="807084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Times New Roman"/>
                <a:ea typeface="Times New Roman"/>
              </a:rPr>
              <a:t>Учитель в развивающей систем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 компетентный учител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ный партнё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коллективного процесса позн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Ученик в развивающей систем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ая лич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уч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учебного сотрудничеств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и мыслящий челове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еник, а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29920"/>
            <a:ext cx="818352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 взаимоотношен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че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тнёр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ворче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ережи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местная дея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ло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643280"/>
            <a:ext cx="8183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отрудничество и партнерст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Picture 2" descr="D:\ТАТЬЯНА ПАВЛОВНА\рабочий стол 2013-2014 сентябрь, октябрь\фото для ТИ\01\Изображение 108.jpg"/>
          <p:cNvPicPr/>
          <p:nvPr/>
        </p:nvPicPr>
        <p:blipFill>
          <a:blip r:embed="rId1"/>
          <a:stretch/>
        </p:blipFill>
        <p:spPr>
          <a:xfrm>
            <a:off x="500040" y="1285920"/>
            <a:ext cx="3930840" cy="294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D:\ТАТЬЯНА ПАВЛОВНА\3Б\Белая башня\Белая башня 368.jpg"/>
          <p:cNvPicPr/>
          <p:nvPr/>
        </p:nvPicPr>
        <p:blipFill>
          <a:blip r:embed="rId2"/>
          <a:stretch/>
        </p:blipFill>
        <p:spPr>
          <a:xfrm>
            <a:off x="4643280" y="1285920"/>
            <a:ext cx="39308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18352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отворчество и сопереживани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3930840" cy="294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571680" y="1785960"/>
            <a:ext cx="3930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овместная деятельность и диалог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608040" y="1719360"/>
            <a:ext cx="3930480" cy="294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2"/>
          <a:stretch/>
        </p:blipFill>
        <p:spPr>
          <a:xfrm>
            <a:off x="4653000" y="1719360"/>
            <a:ext cx="3930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85748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ские отношения между учителем и учениками, создание внутреннего побуждения к учению, вся атмосфера живого познания действуют как необходимые компоненты целостной систе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ков Л.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1:04:33Z</dcterms:created>
  <dc:creator>DEN</dc:creator>
  <dc:description/>
  <dc:language>en-US</dc:language>
  <cp:lastModifiedBy>Пользователь</cp:lastModifiedBy>
  <dcterms:modified xsi:type="dcterms:W3CDTF">2014-05-14T14:30:26Z</dcterms:modified>
  <cp:revision>11</cp:revision>
  <dc:subject/>
  <dc:title>Развивающее обучение: сотрудничество учителя и ученика</dc:title>
</cp:coreProperties>
</file>