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53A-BC52-4D06-B5F1-85571C68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519-B476-475A-B320-F0F2DB9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5A7-C08F-4A21-8487-C87A9B25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FEB-8FAA-42DE-A873-8A02801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64D-A950-4423-8A61-9B615738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2253-2A8F-4C36-82BA-EBB82DF6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29BA-6778-4921-A9CE-ED80F22F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E8FE-CBAE-4B30-89BB-13D5CA7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EC84-A265-42DD-97FD-5491A353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3393-6B9C-4B69-87C3-9FD2257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43EB-4A45-41FE-BC88-0256487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F32-9082-4153-BCB1-262BA1C2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00E9-048A-4BAF-8291-4238A69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42D8-EB01-4790-9A26-9A53A2E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68C4-B5D4-42F4-8A07-7C907E8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19FA-8E00-4E42-A7EE-5CF1620A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8A9-9B88-41A0-B855-4EF5F9CB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27B-DFD9-4B7E-83E9-EE6ACDE5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C61-A6C3-43E2-97B2-220DAE9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98A-72B5-419B-8DB8-F841083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EE5-C2FC-4690-878A-EC2BEA95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775-532C-4DFC-909B-D273B2E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100-4CCE-42A2-96D3-104217B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8E2-E7FD-4608-8730-50FBB60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365-135C-4A28-B049-6C6A098780D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E39-EE65-48B4-A5C3-50DF58AADCA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766000" cy="388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714480" y="4429080"/>
            <a:ext cx="542916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математ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ирилловская С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Санкт-Петербур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гонометрические вычисления применяются практически во всех областях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ометр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из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женер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е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ое значение имеет техник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риангуля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зволяющая измерять расстояния до недалеких звезд в астрономии, между ориентирами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нтролировать системы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вигации спут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strips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42880" y="2779560"/>
            <a:ext cx="822312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850240" cy="132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02030201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39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39680" y="262080"/>
            <a:ext cx="3151080" cy="488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02030301"/>
          <p:cNvPicPr/>
          <p:nvPr/>
        </p:nvPicPr>
        <p:blipFill>
          <a:blip r:embed="rId2"/>
          <a:stretch/>
        </p:blipFill>
        <p:spPr>
          <a:xfrm>
            <a:off x="2411280" y="125280"/>
            <a:ext cx="6732720" cy="67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31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х – любое число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 tg x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х – любое число, кроме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x=/2+ n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ctg x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 – любое число, кроме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x=n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1372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                     [-1;1]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ctr">
              <a:lnSpc>
                <a:spcPct val="100000"/>
              </a:lnSpc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y= tg x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 y=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Book Antiqua"/>
              </a:rPr>
              <a:t>ctg x   </a:t>
            </a: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                    Любое значение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8200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560" y="1844640"/>
            <a:ext cx="851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ечетные фун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sin (–х) = –sin 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tg (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) = –tg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ctg (–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) = –ctg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тные функ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cos (–х) = cos 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008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8000" y="1484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иод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T=2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sin (х + 2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sin 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cos(х + 2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 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cos 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иод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T=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tg(х +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tg х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ctg(х +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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) = ctg х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8:04:41Z</dcterms:created>
  <dc:creator>компьютер</dc:creator>
  <dc:description/>
  <dc:language>en-US</dc:language>
  <cp:lastModifiedBy>FINN</cp:lastModifiedBy>
  <dcterms:modified xsi:type="dcterms:W3CDTF">2017-02-19T16:43:08Z</dcterms:modified>
  <cp:revision>10</cp:revision>
  <dc:subject/>
  <dc:title>Слайд 1</dc:title>
</cp:coreProperties>
</file>