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BC9-0DC8-45C9-ACBC-303EF3DD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FB9-4970-4214-AE34-41C83A2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292-AC11-4F59-866C-5CA306DE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1CA-4163-4364-AE4B-72C06B37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308-323D-49D8-9D68-0A2D9BCA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82E-CF5B-42ED-8FF6-6632E755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973-6996-4B6F-AA99-E8F6E910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9D9-6013-44ED-A92B-D3C6FD76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EFA-7380-4F68-952B-9DF2381B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F67-0ACE-4599-A076-D962133C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FFD-3AAD-4CAC-9795-EB1E4815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D8D-8EAA-481B-BFA3-8C7FFC9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6BE0-B09B-4391-BA96-926375CBE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991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оциональная (психологическая)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стиж профессии ИЛИ професс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ординирующая ИЛИ посредническа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адиционное ИЛИ аграрно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ализац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рриториальн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мьи, брак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8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9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жданские ИЛИ гражданско-правовы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380960"/>
            <a:ext cx="86774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192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3278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1452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7956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614600"/>
            <a:ext cx="8893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8:41:46Z</dcterms:created>
  <dc:creator>Гыук</dc:creator>
  <dc:description/>
  <dc:language>en-US</dc:language>
  <cp:lastModifiedBy>Гыук</cp:lastModifiedBy>
  <dcterms:modified xsi:type="dcterms:W3CDTF">2014-02-28T08:53:42Z</dcterms:modified>
  <cp:revision>2</cp:revision>
  <dc:subject/>
  <dc:title>1</dc:title>
</cp:coreProperties>
</file>