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C574-6117-4B65-9508-1C9C9590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D7D-84E1-4C52-AED4-439CA6E5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DAB-765E-41B1-8551-99DACA25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225F-1659-443E-BAC2-4E3C321A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8DC-718F-45DC-BBA1-77C83382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BC9-B0B6-421D-824E-ABB16361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FC38-200D-44D2-8301-1989B3AB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47EB-F258-4266-AA25-F4702648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EB89-28F0-45F3-84F7-B0BDA834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7C0A-8AD9-4360-8243-C7333408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87ED-B51C-4AB3-8111-1D7E929C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4F97-D367-4ADB-A452-7F9FB7B1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2D4E-264B-4718-B8A0-3D8493B97E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1590840"/>
            <a:ext cx="914400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79912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моциональная (психологическая)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стиж профессии ИЛИ профессия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ординирующая ИЛИ посредническая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адиционное ИЛИ аграрное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циализация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6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рриториальные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7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мьи, брака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8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9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ажданские ИЛИ гражданско-правовые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10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9280" y="1380960"/>
            <a:ext cx="867744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1590840"/>
            <a:ext cx="914400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1928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3278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14528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795636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1614600"/>
            <a:ext cx="88930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08:41:46Z</dcterms:created>
  <dc:creator>Гыук</dc:creator>
  <dc:description/>
  <dc:language>en-US</dc:language>
  <cp:lastModifiedBy>Гыук</cp:lastModifiedBy>
  <dcterms:modified xsi:type="dcterms:W3CDTF">2014-02-28T08:53:42Z</dcterms:modified>
  <cp:revision>2</cp:revision>
  <dc:subject/>
  <dc:title>1</dc:title>
</cp:coreProperties>
</file>