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8274-E513-4A90-A151-97E0CED6E6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20E8-DBC8-43A0-BF29-D026A910EFD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80D8-D3C7-479A-8C47-7F32099B253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1D9-EE4F-4B23-BD3C-53E4C7F0ACB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7316-8139-4901-AD4C-652B5EDD75C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2C4F-55D6-4872-8D8B-A93D283E7DE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61C6-2953-4AD8-856B-16752FDF226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0D9D-6AF1-440E-98B6-2A53EA047F3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3D8D-3860-4F05-8A73-9DCA168298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E08D-6993-43BC-8948-FD085CCBC51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C42D-5AA4-4BA4-803E-1317BC8D896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3A88-9A58-4B13-9D78-65C20118C48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185C-32CB-4A15-B045-43900CE70AE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757A-F103-47A4-9762-DF1CA67A18F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78D-603B-482A-90CD-7C4618B5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E22-28D6-4977-B609-46E49A6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7F1A5-D7B6-4638-B6EC-4318AB2B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A69D2-4D0D-4519-B574-C055EA0D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99E07-0680-4594-BAFE-50F8AEFE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233D6-AE43-411C-B971-BA16370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C01E1-8724-4422-AA23-1F3E9669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54906-696D-4705-A5A0-E822446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6D984-0435-444F-98CB-FC5E3DDC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AAAFF-7741-4C0E-B9D6-5D3D9A56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D216C-04CA-49F0-A892-60C71396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8CF91-982E-4574-96CB-F801AE45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102-7AF4-4B4F-94CB-46A8EFD1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69933-EEAD-4B06-8D40-EF54EAC1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14DE8-BF88-40A1-B8B2-97C15D84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5C3E9-B26D-405A-8060-F882CAC7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111B4-7600-4DD8-A00B-706A3E00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AA04D-A454-4697-B9FA-18052B90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79551-C961-4F4D-98FB-7AEF2BD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3EE5F-890B-4E24-8CF5-A59072F2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7FB68-6E64-4613-AF17-98F12A26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66985-9CAD-469A-BEA1-74193ECF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182D0-8685-443E-A8F0-7D76E25C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831-8305-4A36-9C63-5F4D5256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7D592-ECEE-49E2-94F5-B92B38E6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B2006-EED5-4285-AC95-B4DB0BE5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DD3B4-336F-4FFE-8192-3DCB33FF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F5295-E622-4385-9BA7-97E7EFB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69DDA-9384-49FE-BCA7-9837062D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08B4E-95AC-4405-BD65-262C40A8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F0978-1335-4018-B12A-E504F109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4B5AF-E2AD-41BC-9B1D-55247B68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08AD8-C554-4577-8AE3-5D7DC073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EFC0B-8328-407C-8407-689E681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81D1-2DFC-4D4E-9CB0-6C980B25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4DF2C-5812-4B2F-821A-7E8AFC54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2F1EC-6DE2-4A24-9446-CE5C4008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22797-C854-48A7-AE47-09F48CE3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5C2C2-137C-4BEC-B608-CA31F19E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3FD67-22C6-4A7E-9207-78DFFC49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24516-6439-4A54-B7BA-3BF785B1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B7B85-8452-45DA-870B-B0178A6B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8513B-DD99-45FF-86B9-74D4F3D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15C50-CB2C-4E27-A77F-59E01BA1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77B26-3375-4EE8-BD17-929A2DB2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80F2-A60D-454F-9A83-67D2B9C6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C4F96-29F1-4B73-B43A-C3CCE08F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C15FC-E456-47E2-9FC8-B5EA326C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38350-2DED-4EA2-9CDD-97012E34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42BFC-C20F-49AB-8D06-04628C14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153A6-04EA-4CB4-93AA-9936F569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57753-9BB7-44F2-8315-9EF25675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3851F-9283-4106-9310-D2BDBD59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96857-80FA-4C19-B10D-619943C4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882E7-584A-481A-B72D-31B90A35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0D9C9-CA27-422C-BB76-28278F91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E7D4-BD45-475C-BA1E-DA65C143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98BD3-0D97-4006-AF85-24CE8AD1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0BE60-9D8F-49F8-8A9D-6716B2F7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0CD74-8D1A-4E14-9322-FB50244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4AEA7-27DD-4AF0-BDB6-81CAB00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3FF32-63EB-4133-A3AA-830854FD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4C170-2985-4A14-B381-3BBF4356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759F6-5DDE-4AF6-ACCA-B56948CC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BC7DE-9CAC-455C-94BB-66901365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F86BE-2BB8-477E-9B89-5414C990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23310-13D4-4007-8282-A21EA6F7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D548-2C35-47F1-A4FC-6A5A3849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5F22F-1540-46A7-BA38-EFFC5742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4CDE2-DC63-4C60-82A3-FD687C30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3D239-B995-479D-B505-95BC3B6A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AB47F-7845-45C2-B55E-5F02C111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D81B6-5510-45F3-9036-5441E43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95677-859D-43F4-9530-6A4C954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17985-7624-4640-B79A-6AA9B2C4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483BF-FB46-4A9B-AFBC-87D53065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9D3A6-FF79-414C-91A5-984EA38E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984BF-6D14-4BC1-8B87-64ABF208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E676-27FA-48E4-B268-698FF8F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9A009-3E42-4F3A-81C8-8689BB79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C0536-2A2A-4F8E-A965-783143F0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55271-1F4F-47B1-A1E5-015E8690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97F36-17A8-4F6B-B525-91110F5C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6EFE3-751A-42FD-930F-28430EB5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F1B07-2431-4E42-A351-AAC8A1C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DD139-1F88-4481-9DE2-56457AD3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F5005-BD36-4979-8470-40D79705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AC5C9-B466-49DC-85A8-DA91CFE6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9BADD-6FA3-4732-91DD-E8C3A2DD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75FA-CCF1-4513-B675-7B29B8BD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92985-8F9F-43B4-90FA-8D02C631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F5487-9944-44EF-9641-342FE04E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05C0B-08C9-43A2-9B95-1E4EFBF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AE3BB-9B58-463A-9EAA-2AEA2777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460C0-0399-40F6-BC68-A184CF4F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1EF1E-B519-4670-BE1E-1EA95CA6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49F36-3E54-4B1A-8EEE-C2A38C87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5FADA-509A-4B76-A7BE-A2CA820E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8EFC5-4A80-42B5-9B35-579FB64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B6D8A-A6C8-4CA7-98B6-CC3D9601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A2D9-621A-4937-A8B5-FBDA5343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DC00E-DA50-4814-A0B3-69A5BEB8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69040-EBE0-4BF4-9639-143CC918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6A51E-2170-463A-8C61-D5CF861E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A46FA1-4FEF-4D15-9191-1E10247E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6AD28-44B5-40AC-B951-4DAB875A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8F752-F576-4144-8E7B-0F4009E9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24F813-E467-40C8-BCBD-A5A0B0F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03C77-486E-4757-84D8-776C0A14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23545-04D2-4947-80CA-1F6FFF75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18D88-CF30-4097-966E-2382EA9B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1B9-CDB7-4D0A-819D-A64E1D87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B17C-4243-4F74-A48D-EFF5BE2E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E98EE-F287-4B0F-8CE2-08B5332C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2B849-2BC3-472B-B64B-8AE6000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3C403-6099-4ACD-A006-9954F65C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9FDDE-7BBA-4AD7-94CD-CA8B58C7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BC710-DF59-48A4-8D1B-FF1FA3F8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8C328-98D8-4ADB-B24F-1B718E04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8C1D0-7700-4B7E-B206-BAC443F1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51F62-6273-411F-90D8-8F99F426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2C0AE-AE22-4E8B-8EF0-D107C3A3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DEFB5-08F2-4D48-9577-67A281A0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CC33-61AD-433B-9959-6DBB9DB3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D5984-BA50-408D-B568-95838192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4FF9C-2EEC-42B3-AB7D-B49D5944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E4060-ECFC-4D62-A221-92138CD6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79078-D639-4089-BCA8-5D4CE7A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254A9-EA36-4B9B-A362-101600FF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04118-3047-4F4D-8510-ABFB0680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12979-D186-4257-867F-974BFF2C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776AA-24E3-485A-A01C-3FC4376D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2E36D-96BD-4AA4-A813-CC71D4D5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DF87C-E5FA-4BCC-BE4E-F523F800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BAF2-C314-4BDF-8CE0-916EF34D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72FE6-AED5-40C0-A3F1-7848C0A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D33689-4051-433C-A286-25BD883A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3519C-F82C-402A-AA5A-8781A8C8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17EAA-C301-44C0-86A4-64439DFD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22883-F71F-4A9E-B581-C033918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C854D-3E88-4620-A547-69D5DA6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2E33E-8697-48F0-9268-290B64AD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ECCA3-717E-4ABF-8E92-B1B07A13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4CB51-CB01-4218-A4F6-2741B29D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DEEF65-170D-42FC-8858-0DCDCD0C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DF7A-08C4-4D6F-8ABD-B3C349F3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5D7CB-0539-4E52-9065-ED7EF1C3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A39F2-E131-4E23-B4B7-C3DEE7D1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07E1B-0B54-4AA0-89A4-5CBDC346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B9AC3-B342-4E87-9013-79E37E15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A9E294-9787-465F-BD07-AD3D9124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F5DD2-67C8-4339-8433-6CAD1B13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5C8C0-C4EB-4F84-B6BF-5EDD2D3D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7F5E8D-63D7-44AE-AC07-0B3A865A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7D8D9-E16D-429D-A222-B097F500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BDEAF-3A9C-43E3-A0E8-9042B634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1B3B-0C55-4728-A4F9-66E07ADE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64543F-7994-42BF-AD57-8B33B898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21970-47AC-4F10-8EBE-E0F8EC90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F50202-A705-42B4-BC0C-1577D063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EDE11-63AD-494A-BD72-5D3006D0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22F35-319A-4FE1-9E7B-D99B1D13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2DF568-6343-493A-872D-981C28F7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BBE74-4BF1-4C60-872B-FDE76B0B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3F86F7-2CEB-4B47-8E25-373576BD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40B6A4-DBEA-4C20-A35E-AD3AC0B7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B2F0A-2DA3-44B8-AA3A-02CE44D4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34B4-66D9-4CFD-9B85-393BD876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C9F318-3B31-4EC6-85B4-881E12D8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59C9A-4E09-4174-89A9-E19EBEA1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7FE21-08B5-4200-AD0C-0B948EE5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ADF2F-663F-45C7-9318-756EE494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AE3FEA-B0EE-47CC-876C-50517E11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6A2793-8816-42CE-ABC0-5A7B4407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48DD2D-EFF9-48E7-AAED-1D58D6EC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DC62D3-86A7-494B-96DC-EE537ADE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704252-2558-40A5-8BC5-5C5CAAE6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7A7216-0BC3-48AD-A937-2F8C61C1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22BD-8449-4F19-80EB-19B6DC9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162058-8F2B-419B-B2DA-0154515A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323954-6B54-4D09-804C-8519B8D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159DDD-3E47-4212-A1F2-6E9FD658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C66912-6BA4-4C1E-B091-966F8F54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9E1C7D-4F8D-4D22-A1EE-F8AE1A75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890959-915C-45A9-A126-2402B8B0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E94CF-2488-437D-9E87-D0B83CE8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B71065-A321-4720-B760-DF2FE06F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4A53A9-4C61-445A-850C-B65EBCAA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A1DB10-36A1-4C50-867A-31FD624A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7F483-62A0-46AF-936B-D37125E1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7A7778-3EFC-47EF-B93B-4DE0EFE9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ECE4FB-D22F-4A91-82FF-5377C1A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AE69B4-70AA-43F9-8524-A49EDF0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215BA1-EE92-4B1F-822E-C4CC06E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5AD309-0FB5-4408-A8E5-18DDE04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783619-16C2-483A-AA8D-DDB3E398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3E349C-5421-4A6A-A8D9-DADE1B3A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745562-DA02-4588-91AD-DA85545D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8ABDF5-D0B3-4731-BFF3-33A8A623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33B945-56F0-4C6A-8127-AE8152B8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C897-F767-462C-A74A-D4DF4E1D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59CB5A-6C8F-41FE-9326-8CA43BC7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A874D2-74C6-4CEB-9AB7-F8105842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9EAC8B-1AAB-4EEC-B281-BF993406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CA4D37-B22B-4F0E-88A8-4F793A9F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27FDB7-A803-466A-B8F0-60A1D34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E00318-2FEC-47E9-A8CD-9C7FC7E4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BEF83B-D548-4DDF-BBA5-319A549F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41FC0F-91CC-4889-B16D-A8C6081B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F39D8-2ABE-48E9-9A15-C86A612C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6BACA1-08BE-4E54-A867-224A34BB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62E8-6AD0-448B-AF49-9BE0217E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92005C-F40F-4924-A8F1-A25765A3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8DCB27-BB65-45A3-AFB4-856C8D7F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0AC2B3-DF2E-4608-9EF1-24D5B371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D2430A-159E-497C-8C40-BBE9E701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4100C6-9C95-400A-B717-4F9C31A8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12B1F5-1BF8-4F53-864F-F881FA78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8856DB-0ACD-43B2-A464-D63F4D6D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E9E40C-5837-4F5A-823B-C3A5CD33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961878-8D5B-4ECF-8663-11E4A23E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A9308A-31D6-4B14-A912-55AA7424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5F2-9D73-414F-9FFA-67723A0D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4B9B-A9B1-4B05-9F02-D70B8546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7D7261-1D28-4062-AA9C-3FFD89C5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17747-0B93-43DF-9D18-1B71669A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9FFF-6596-4E9E-9F20-7DA0A149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3E04A-7141-4FC5-9807-6D970304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D0FF-4E15-4092-B31F-EB0D8FB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F524-5E26-479B-86BC-494F46C8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E633-9CE3-4E8D-B4D3-C734A93E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ADBB-5F8A-4BE5-886F-1DC5F6C1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1507-DC3A-4023-A9F7-629D13C2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4F85-3DD9-4E60-8F17-D87D8DC8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EA7-609C-4E9A-BAF5-B04FAE63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A023D-773D-4B7C-A43B-FC02C1E7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8AC0F-1547-42B8-998A-00F342C5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5C46-2670-4911-9CED-C3E71EBF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12E2-A23E-4DF8-8CE9-0F99EAE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41D51-B400-4387-BFDD-EAF98AF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D6642-5543-4DCE-AA16-527424A1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3C47-38B4-455E-9CD9-E1857F10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E064-03FD-438C-816B-DE395077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4232-67F9-4545-990B-817D15B6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70BA1-F8DA-47D0-8C3A-0D98A116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735-0E8E-458F-A4FA-75942862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F731E-6D3F-4F02-9912-4BE960B4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83E35-6C20-4AD6-9FD9-6CA8E34C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2CF3-9482-4657-87B1-CBF87542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10BB-684F-4C9D-AE5A-D415F442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259BA-825F-4981-AE03-3D66B8A6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16C8C-BAC2-4CFA-B3B7-56FA7145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D5865-18B3-4A9C-B3E1-044A502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53E6-66CF-49A4-BEF9-9CC96AF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F7C7A-2612-43A1-BBE6-D5158717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F82A0-5942-4324-9E5B-AC339622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847-C065-42BD-96F3-09F293ED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C66CB-E471-46DB-BE80-59A15B78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1ED60-43CF-4ABF-AD6C-2EE02539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A0ACD-2D3E-475B-836A-C721BABC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BC343-C632-4FD9-8F39-7C5F53E0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3095-8C19-440E-9E97-3B4C954D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B616-66DC-49C1-BF4A-794169E3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57DF-4E74-48B7-A2F6-2E86C596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EA68B-E436-4971-81F3-5E8ED4B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C8AAF-3889-4632-95F6-9409C1D0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8C4A7-EA74-4974-AD5C-89FFAEE0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FF9-180B-4093-BCC9-F12461F7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A7A93-5881-42A3-9FDD-40F258FF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42D40-A169-40FF-A453-615D48E4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E2A23-34D9-43C1-B6BA-E7F02C51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BC42E-FBA5-4F8B-B4B3-023867B9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E3B7-A172-4829-971A-37CEDCDE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E2AB9-EBD4-4D24-AF7F-7472F3F3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B3D02-43BC-47F4-86B2-D35939CD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4BFBE-193A-4CCC-A708-37365E2E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5C028-D018-405D-A2D0-62D42CCE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5F0A1-2A0F-46A0-8C08-5A3710A0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746-CB39-44F1-AC20-31201BF0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BE52F-16E6-4BB6-90D3-1C156CE4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AE9DE-F1A9-4578-ADDB-41119FE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B9D76-CD65-45F7-8C64-EA37740E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4B8FE-495C-4386-BA77-2167E940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E3F27-6E8A-45FF-8474-57DCC79E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ADD5F-17AF-4AD3-A26A-A859B8AF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2C6DB-E256-4DE6-A840-CC144CA9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EF00A-C0E3-404B-85D1-CAE3467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FC6A-F1E1-44A4-906A-435953E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F6429-10C4-4832-B40D-8D87FB7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387-DCC5-4633-B97D-A0B9C05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556D2-A570-4D4B-B813-8A692D9A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5CB97-35AE-4AC0-B187-96C6DF40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E0374-90A4-4500-8797-AD00AA95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969E4-94D8-4458-B8B0-87FD4BF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AA9E8-9548-4D88-9DD3-132039F4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07CFF-E2BE-4065-85E1-1919AF9F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867EA-1B03-4E8F-915A-038879F5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3E4D0-0620-4238-B4EB-319613C4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D612E-7F81-46C3-9C78-1D3D637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67496-3A80-4DCF-B707-8AA5B486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F333-3972-449E-A957-16F71A1AD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2160-104E-4F04-BC93-887528DBCE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D851-B899-40EA-80BC-8FAA08F552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CA8D-63EC-4BCB-A0EE-A62EB214EA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8F85-0F86-445A-B327-592697B958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E410-F629-4493-9C13-B4C4D295AD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35CF-60E9-40A2-8EF8-2D00328B5E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563-1C98-4484-B0CB-0835A29FA8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19B-DE15-4E6C-9092-D85F884942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BF14-0AC1-4601-A72A-3F9A76974F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FA04-2464-47D1-86FD-16469107F1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45ED-736B-47F1-AA91-93FA308D1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24A6-14F2-4078-842B-1CB8375E06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4F62-89AC-460F-94F4-5269594F74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D4A1-0CD9-4029-B5AE-60DD231D47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3394-5CF1-454F-8A05-5C5608F9B6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CE82-AE89-4A75-A6B8-EB980BDA23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F552-52A2-4EEF-B091-317EA96F6C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4C74-E1B2-4026-B9A3-DDBFB85BAB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C31-A863-4D75-B19A-22B5FCD602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544B-1B9C-4EB7-A4E5-B675A547E5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A6B0-17FE-48F3-B108-D5DD226843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EA2-190F-4691-AC70-C4159A4509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4831-2916-4789-AC03-A380E238AE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885F-A700-4861-94E2-D9DC9CF6B3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-27000" y="0"/>
            <a:ext cx="7424640" cy="5568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3254400" y="0"/>
            <a:ext cx="5889600" cy="5013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-41400" y="1557360"/>
            <a:ext cx="7972560" cy="53006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4"/>
          <a:stretch/>
        </p:blipFill>
        <p:spPr>
          <a:xfrm>
            <a:off x="333360" y="1557360"/>
            <a:ext cx="8810640" cy="53006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6" descr=""/>
          <p:cNvPicPr/>
          <p:nvPr/>
        </p:nvPicPr>
        <p:blipFill>
          <a:blip r:embed="rId5"/>
          <a:stretch/>
        </p:blipFill>
        <p:spPr>
          <a:xfrm>
            <a:off x="179280" y="476280"/>
            <a:ext cx="87854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" nodeType="after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6" presetSubtype="1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" nodeType="afterEffect" fill="hold" presetClass="entr" presetID="3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15C5-BA91-40A3-ADE6-DEB5B8E5611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Text Box 3"/>
          <p:cNvSpPr/>
          <p:nvPr/>
        </p:nvSpPr>
        <p:spPr>
          <a:xfrm>
            <a:off x="179280" y="809640"/>
            <a:ext cx="871380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3.Простейшие 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000" spc="-1" strike="noStrike">
                <a:solidFill>
                  <a:srgbClr val="0b5395"/>
                </a:solidFill>
                <a:latin typeface="Calibri"/>
              </a:rPr>
              <a:t>микроорганизмы, составляющие подцарство одноклеточных животных. Под этим названием объединяется множество самых разнообразных организмов, которые имеют один общий отличительный признак: тело их состоит всего из одной клетки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которые одноклеточные по своему строению ближе к животным, другие — к растениям. Расселены простейшие по всей поверхности планеты. Такие тяжелые заболевания, как малярия, сонная болезнь, вызываются паразитами — простейши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0238-550E-4A51-B716-1629E7EF5F0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6" name="Picture 2" descr="http://img1.liveinternet.ru/images/attach/c/3/76/858/76858041_1234263012_prosteywye.jpg"/>
          <p:cNvPicPr/>
          <p:nvPr/>
        </p:nvPicPr>
        <p:blipFill>
          <a:blip r:embed="rId1"/>
          <a:stretch/>
        </p:blipFill>
        <p:spPr>
          <a:xfrm>
            <a:off x="216000" y="620640"/>
            <a:ext cx="871200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E224-1AB8-440B-8D8F-A1B97B13E04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179280" y="809640"/>
            <a:ext cx="871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4.Грибки микроскопические. </a:t>
            </a:r>
            <a:r>
              <a:rPr b="1" i="1" lang="ru-RU" sz="3000" spc="-1" strike="noStrike">
                <a:solidFill>
                  <a:srgbClr val="0b5395"/>
                </a:solidFill>
                <a:latin typeface="Calibri"/>
              </a:rPr>
              <a:t>Грибы имеют сходство и с растениями, и животными. Как животные, грибы потребляют готовые органические вещества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изводить их сами, как растения, грибы не могут, но в отличие от животных пищу они не заглатывают, а всасывают всей своей поверхностью, как растения. От бактерий грибы отличает наличие ядра в клетке. Некоторые микроскопические грибы вызывают грибковые заболевания кожи, могут вызвать на коже туловища и конечностей высыпания аллергического происхо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EAD4-6D3F-4E70-9AC4-C2C7DE5700E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2" name="Picture 2" descr="http://img-fotki.yandex.ru/get/3207/aleshirokikh.4/0_19f4_a6d6862d_XL"/>
          <p:cNvPicPr/>
          <p:nvPr/>
        </p:nvPicPr>
        <p:blipFill>
          <a:blip r:embed="rId1"/>
          <a:stretch/>
        </p:blipFill>
        <p:spPr>
          <a:xfrm>
            <a:off x="20520" y="765000"/>
            <a:ext cx="91029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3" name=""/>
          <p:cNvGraphicFramePr/>
          <p:nvPr/>
        </p:nvGraphicFramePr>
        <p:xfrm>
          <a:off x="468360" y="765000"/>
          <a:ext cx="8229600" cy="5935680"/>
        </p:xfrm>
        <a:graphic>
          <a:graphicData uri="http://schemas.openxmlformats.org/drawingml/2006/table">
            <a:tbl>
              <a:tblPr/>
              <a:tblGrid>
                <a:gridCol w="4248000"/>
                <a:gridCol w="398160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ые болезни, вызываемые возбудителями, паразитирующими в организме человека( антропонозы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ые болезни, к возбудителям которых восприимчив человек(зооноз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ишечные инфек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юшной тиф, вирусный гепатит А, вирусный гепатит Е, дизентерия, полиомиелит, холера, паратиф А и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тулизм, бруцеллез, сальмонелл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нфекции дыхательных пу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тряная оспа, грипп, дифтерия, коклюш, корь, краснуха, оспа натуральная, скарлат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оррагическая лихорадка с почечным синдромом, орнито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ассификац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250920" y="1125360"/>
          <a:ext cx="8435880" cy="5543640"/>
        </p:xfrm>
        <a:graphic>
          <a:graphicData uri="http://schemas.openxmlformats.org/drawingml/2006/table">
            <a:tbl>
              <a:tblPr/>
              <a:tblGrid>
                <a:gridCol w="4321080"/>
                <a:gridCol w="4114800"/>
              </a:tblGrid>
              <a:tr h="617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ровяные инфек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ный тиф эпидемический( вшивый), окопный лихорадка, сыпной ти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шиный тиф эпидемический, возвратный тиф клещевой, желтая лихорадка, клещевой энцефалит, комариный энцефалит, туляремия, чума, Ку - лихорад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нфекция наружных покров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усный гепатит В, вирусный гепатит С, вирусный гепати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ИЧ – инфекция, гонорея, рожа, сифилис, трах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шенство, сап, сибирская язва, столбняк, ящу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ассификац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чина возникновен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Прямоугольник 2"/>
          <p:cNvSpPr/>
          <p:nvPr/>
        </p:nvSpPr>
        <p:spPr>
          <a:xfrm>
            <a:off x="250920" y="90792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осредственн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чиной возникновения инфекционной болезни являет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внедрение в организм человека болезнетворных возбудителей и вступление их во взаимодействие с клетками и тканями организ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Иногда возникновение инфекционной болезни может быть вызвано попаданием в организм, главным образом с пищей, токсинов болезнетворных возбуд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Прямоугольник 4" descr=""/>
          <p:cNvPicPr/>
          <p:nvPr/>
        </p:nvPicPr>
        <p:blipFill>
          <a:blip r:embed="rId1"/>
          <a:stretch/>
        </p:blipFill>
        <p:spPr>
          <a:xfrm>
            <a:off x="201600" y="590400"/>
            <a:ext cx="961920" cy="5561280"/>
          </a:xfrm>
          <a:prstGeom prst="rect">
            <a:avLst/>
          </a:prstGeom>
          <a:ln w="0">
            <a:noFill/>
          </a:ln>
        </p:spPr>
      </p:pic>
      <p:sp>
        <p:nvSpPr>
          <p:cNvPr id="1081" name="Прямоугольник 3"/>
          <p:cNvSpPr/>
          <p:nvPr/>
        </p:nvSpPr>
        <p:spPr>
          <a:xfrm>
            <a:off x="1592280" y="620640"/>
            <a:ext cx="7200720" cy="107964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кально-ораль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м путем передаются все кишечные инфекции. Микроб с калом, рвотными массами больного попадает на пищевые продукты, воду, посуду, а затем через рот в желудочно-кишечный тракт здорового челове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Прямоугольник 7"/>
          <p:cNvSpPr/>
          <p:nvPr/>
        </p:nvSpPr>
        <p:spPr>
          <a:xfrm>
            <a:off x="1625760" y="3056040"/>
            <a:ext cx="7200720" cy="8046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Жидкост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арактерен для кровяных инфекций. Переносчиками этой группы заболеваний служат кровососущие насекомые: блохи, вши, клещи, комары и т.п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1627200" y="4005360"/>
            <a:ext cx="7200720" cy="86364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актный или контактно-бытов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м путем происходит заражение большинством венерических заболеваний при тесном общении здорового человека с больн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Прямоугольник 9"/>
          <p:cNvSpPr/>
          <p:nvPr/>
        </p:nvSpPr>
        <p:spPr>
          <a:xfrm>
            <a:off x="1592280" y="5002200"/>
            <a:ext cx="7200720" cy="107964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ооноз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носчиками зоонозных инфекций служат дикие и домашние животные. Заражение происходит при укусах или при тесном контакте с больными животны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Прямоугольник 10"/>
          <p:cNvSpPr/>
          <p:nvPr/>
        </p:nvSpPr>
        <p:spPr>
          <a:xfrm>
            <a:off x="1625760" y="1849320"/>
            <a:ext cx="7200720" cy="108108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здушно-капельны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м путем распространяются все вирусные заболевания верхних дыхательных путей. Вирус со слизью при чихании или разговоре попадает на слизистые верхних дыхательных путей здорового челове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86" name="Прямая со стрелкой 6"/>
          <p:cNvCxnSpPr>
            <a:endCxn id="1081" idx="1"/>
          </p:cNvCxnSpPr>
          <p:nvPr/>
        </p:nvCxnSpPr>
        <p:spPr>
          <a:xfrm>
            <a:off x="1115640" y="1160280"/>
            <a:ext cx="47700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cxnSp>
        <p:nvCxnSpPr>
          <p:cNvPr id="1087" name="Прямая со стрелкой 12"/>
          <p:cNvCxnSpPr>
            <a:endCxn id="1085" idx="1"/>
          </p:cNvCxnSpPr>
          <p:nvPr/>
        </p:nvCxnSpPr>
        <p:spPr>
          <a:xfrm>
            <a:off x="1116000" y="2388960"/>
            <a:ext cx="51048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cxnSp>
        <p:nvCxnSpPr>
          <p:cNvPr id="1088" name="Прямая со стрелкой 14"/>
          <p:cNvCxnSpPr>
            <a:endCxn id="1082" idx="1"/>
          </p:cNvCxnSpPr>
          <p:nvPr/>
        </p:nvCxnSpPr>
        <p:spPr>
          <a:xfrm>
            <a:off x="1116000" y="3458880"/>
            <a:ext cx="51048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cxnSp>
        <p:nvCxnSpPr>
          <p:cNvPr id="1089" name="Прямая со стрелкой 18"/>
          <p:cNvCxnSpPr>
            <a:endCxn id="1083" idx="1"/>
          </p:cNvCxnSpPr>
          <p:nvPr/>
        </p:nvCxnSpPr>
        <p:spPr>
          <a:xfrm>
            <a:off x="1116000" y="4436640"/>
            <a:ext cx="51192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cxnSp>
        <p:nvCxnSpPr>
          <p:cNvPr id="1090" name="Прямая со стрелкой 20"/>
          <p:cNvCxnSpPr>
            <a:endCxn id="1084" idx="1"/>
          </p:cNvCxnSpPr>
          <p:nvPr/>
        </p:nvCxnSpPr>
        <p:spPr>
          <a:xfrm>
            <a:off x="1115640" y="5541480"/>
            <a:ext cx="477000" cy="1080"/>
          </a:xfrm>
          <a:prstGeom prst="straightConnector1">
            <a:avLst/>
          </a:prstGeom>
          <a:ln w="28440">
            <a:solidFill>
              <a:srgbClr val="7e9632"/>
            </a:solidFill>
            <a:miter/>
            <a:tailEnd len="med" type="triangle" w="med"/>
          </a:ln>
        </p:spPr>
      </p:cxnSp>
      <p:sp>
        <p:nvSpPr>
          <p:cNvPr id="1091" name="Прямоугольник 21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новные пути передачи инфекции и их характерист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риоды развит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353880" y="692280"/>
          <a:ext cx="8466120" cy="5781600"/>
        </p:xfrm>
        <a:graphic>
          <a:graphicData uri="http://schemas.openxmlformats.org/drawingml/2006/table">
            <a:tbl>
              <a:tblPr/>
              <a:tblGrid>
                <a:gridCol w="84661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Инкубационный пери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73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межуток времени от момента заражения до появления первых клинических симптомов боле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Начальный пери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провождается общими проявлениями инфекционной болезни: недомоганием, часто — ознобом, повышением температуры тела, головной болью, иногда тошнотой, т.е. признаками болезни, не имеющими сколько-нибудь четких специфических особен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Период основных проявлений боле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74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рактеризуется возникновением наиболее существенных и специфических симптомов данной боле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Период угасания симптомов боле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91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епенное исчезновение основных симптомов боле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гистрац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Прямоугольник 1"/>
          <p:cNvSpPr/>
          <p:nvPr/>
        </p:nvSpPr>
        <p:spPr>
          <a:xfrm>
            <a:off x="50760" y="585720"/>
            <a:ext cx="8985240" cy="59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04a4a"/>
                </a:solidFill>
                <a:latin typeface="Arial"/>
              </a:rPr>
              <a:t>Инфекционные заболевания, больные которыми подлежат индивидуальному учету в центрах госсанэпиднадзора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брюшной тиф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паратифы А, В, С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другие сальмонеллезные инфекци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бактериальная дизентерия (шигеллез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пищевые токсикоинфекции, вызванные стафилококками и другими бактериальными и неуточненными инфекционными возбудителям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иерсиниозы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амебиаз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балантидиаз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колиты, энтериты, гастроэнтериты, вызванные установленными бактериальными возбудителями, аденовирусами, энтеровирусами и другими вирусами; вызванные неустановленными инфекционными возбудителями; заболевания предположительно инфекционного характер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тулярем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сибирская язв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04a4a"/>
                </a:solidFill>
                <a:latin typeface="Calibri"/>
                <a:ea typeface="Arial Unicode MS"/>
              </a:rPr>
              <a:t>бруцеллез (все формы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5D3-51A4-41E3-BD61-4D62A7A84FC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Rectangle 2"/>
          <p:cNvSpPr/>
          <p:nvPr/>
        </p:nvSpPr>
        <p:spPr>
          <a:xfrm>
            <a:off x="395280" y="2500200"/>
            <a:ext cx="82454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b539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b5395"/>
                </a:solidFill>
                <a:latin typeface="Calibri"/>
              </a:rPr>
              <a:t>Урок 20.Инфекционные болез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сновные инфекционные заболевания, их классификация и профилак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Calibri"/>
              </a:rPr>
              <a:t>ОБЖ. 10 клас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Calibri"/>
              </a:rPr>
              <a:t>Ленков Святослав Викторович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9" name="Picture 3" descr="OurNewSchool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риоды развит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Прямоугольник 1"/>
          <p:cNvSpPr/>
          <p:nvPr/>
        </p:nvSpPr>
        <p:spPr>
          <a:xfrm>
            <a:off x="50760" y="585720"/>
            <a:ext cx="89852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листериоз, эризипелоид, пастереллез и другие бактериальные зоо-ноз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дифтер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коклюш (включая бактериологически подтвержденный паракоклюш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скарлати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цереброспинальный менингит, менингококцемия и другие менинго-кокковые инфек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асептический энтеровирусный менингит (включая острые серозные менингиты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столбня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синдром приобретенного иммунодефици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внутрибольничные (гнойно-септические инфекции), связанные с оказанием медицинской помощи пациента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острый полиомиели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ветряная осп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корь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краснух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японский комариный, клещевой весенне-летний и трансмиссивные энцефали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4a4a"/>
                </a:solidFill>
                <a:latin typeface="Calibri"/>
                <a:ea typeface="Arial Unicode MS"/>
              </a:rPr>
              <a:t>крымская, омская и другие геморрагические лихорадки, геморрагическая лихорадка с почечным синдромом и другие вирусные заболев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риоды развития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Прямоугольник 1"/>
          <p:cNvSpPr/>
          <p:nvPr/>
        </p:nvSpPr>
        <p:spPr>
          <a:xfrm>
            <a:off x="50760" y="585720"/>
            <a:ext cx="9093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вирусные гепатиты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бешенство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эпидемический паротит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орнитоз (пситтакоз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инфекционный мононуклео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ящур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эпидемический сыпной тиф, болезнь Брилля, лихорадка Ку, клещевой сыпной тиф, мышиный сыпной тиф и другие риккетсиозы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малярия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пневмоцисто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лейшманио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легионелле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лептоспироз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гельминтозы (трематодозы, эхинококкозы, тениоз, тениаринхоз, дифиллоботриоз, гименолепидоз, трихинеллез, анкилостомидозы, аскаридоз, стронгилоидоз, трихоцефалез, энтеробиоз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завозные тропические заболевания (паразитарные и вирусные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buClr>
                <a:srgbClr val="504a4a"/>
              </a:buClr>
              <a:buFont typeface="Calibri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04a4a"/>
                </a:solidFill>
                <a:latin typeface="Calibri"/>
                <a:ea typeface="Arial Unicode MS"/>
              </a:rPr>
              <a:t>педикулез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филактика инфекционных заболева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Профилактик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комплекс мероприятий, направленных на обеспечение высокого уровня здоровья людей, их творческого долголетия, устранение причин заболеваний, улучшение условий труда, быта и отдыха населения, охраны окружающей сре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филактика подразумевает проведение оздоровительных мероприятий, направленных на повышение иммунитета организма человека для поддержания его невосприимчивости к инфекционным болезня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ммун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610920" y="907560"/>
            <a:ext cx="82342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ммунитет обеспечивается комплексом защитных реакций организма, благодаря которым поддерживается постоянство внутренней среды челове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ммунная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468360" y="1844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мунная система- это совокупность  органов, тканей и клеток, обеспечивающих развитие иммунного ответа и защиту организма от агентов, обладающих чужеродными свойствами и нарушающими постоянство состава и свойств внутренней среды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С. мобилизирует организм на борьбу с инородными телам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ммунизация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офилактики заболевания инфекционными болезнями большое значение име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ммуниз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пецифическая профилактика инфекционных болез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 иммунизацию активную, основанную на введении вакцин или антитоксинов,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ассив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и которой вводят иммунную сыворотку или иммунноглобул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Овал 1"/>
          <p:cNvSpPr/>
          <p:nvPr/>
        </p:nvSpPr>
        <p:spPr>
          <a:xfrm>
            <a:off x="2484360" y="1841400"/>
            <a:ext cx="4464000" cy="3095640"/>
          </a:xfrm>
          <a:prstGeom prst="ellips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эпидемические (противоэпизоотические) и санитарно-гигиенические мероприятия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Овал 2"/>
          <p:cNvSpPr/>
          <p:nvPr/>
        </p:nvSpPr>
        <p:spPr>
          <a:xfrm>
            <a:off x="4572000" y="23760"/>
            <a:ext cx="3313080" cy="230364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ннее выявление больных и подозрительных по заболеванию путем обходов дворов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Овал 3"/>
          <p:cNvSpPr/>
          <p:nvPr/>
        </p:nvSpPr>
        <p:spPr>
          <a:xfrm>
            <a:off x="1692360" y="115920"/>
            <a:ext cx="3274920" cy="195264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силенное медицинское и ветеринарное наблюдение за зараженны­ми, их изоляцию и лечение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Овал 4"/>
          <p:cNvSpPr/>
          <p:nvPr/>
        </p:nvSpPr>
        <p:spPr>
          <a:xfrm>
            <a:off x="6480000" y="1700280"/>
            <a:ext cx="2556000" cy="154944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нитарную       обработку люд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Овал 5"/>
          <p:cNvSpPr/>
          <p:nvPr/>
        </p:nvSpPr>
        <p:spPr>
          <a:xfrm>
            <a:off x="108000" y="1700280"/>
            <a:ext cx="2951280" cy="187308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зинфекцию одежды, обуви, предметов ухода и т.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Овал 6"/>
          <p:cNvSpPr/>
          <p:nvPr/>
        </p:nvSpPr>
        <p:spPr>
          <a:xfrm>
            <a:off x="6227640" y="3141720"/>
            <a:ext cx="2700360" cy="172728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зинфекцию территории, сооружений, транспорта, жилых и общественных по­мещени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Овал 7"/>
          <p:cNvSpPr/>
          <p:nvPr/>
        </p:nvSpPr>
        <p:spPr>
          <a:xfrm>
            <a:off x="4716360" y="4554360"/>
            <a:ext cx="3424320" cy="212436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становление противоэпидемического режима работы лечебно-профилактичес­ких и других медицинских учреждений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Овал 8"/>
          <p:cNvSpPr/>
          <p:nvPr/>
        </p:nvSpPr>
        <p:spPr>
          <a:xfrm>
            <a:off x="395280" y="3321000"/>
            <a:ext cx="2935440" cy="226872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еззараживание пищевых отходов, сточных вод и продуктов жизнедеятельнос­ти больных и здоровых индивидуумов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Овал 9"/>
          <p:cNvSpPr/>
          <p:nvPr/>
        </p:nvSpPr>
        <p:spPr>
          <a:xfrm>
            <a:off x="2124000" y="4689360"/>
            <a:ext cx="2843280" cy="2070360"/>
          </a:xfrm>
          <a:prstGeom prst="ellipse">
            <a:avLst/>
          </a:prstGeom>
          <a:noFill/>
          <a:ln w="5724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санитарно-просветительной рабо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BA8-1DF1-4248-A2CB-4E8640D4C40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такое инфекционные боле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Text Box 3"/>
          <p:cNvSpPr/>
          <p:nvPr/>
        </p:nvSpPr>
        <p:spPr>
          <a:xfrm>
            <a:off x="250920" y="836640"/>
            <a:ext cx="8642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ИНФЕКЦИОННЫЕ БОЛЕЗНИ </a:t>
            </a:r>
            <a:r>
              <a:rPr b="1" i="1" lang="ru-RU" sz="4400" spc="-1" strike="noStrike">
                <a:solidFill>
                  <a:srgbClr val="0b5395"/>
                </a:solidFill>
                <a:latin typeface="Calibri"/>
              </a:rPr>
              <a:t>– это группа болезней, которые вызываются специфическими возбудителями: болезнетворными бактериями, вирусами, простейшими, грибками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B35C-B1A5-470C-B95B-DD7A1C446EE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чина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3"/>
          <p:cNvSpPr/>
          <p:nvPr/>
        </p:nvSpPr>
        <p:spPr>
          <a:xfrm>
            <a:off x="250920" y="836640"/>
            <a:ext cx="8642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b5395"/>
                </a:solidFill>
                <a:latin typeface="Calibri"/>
              </a:rPr>
              <a:t>Причиной возникновения инфекционной болезни является внедрение в организм человека болезнетворных возбудителей и вступление их во взаимодействие с клетками и тканями организма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5DBE-BF3B-4249-9DA7-2AB6B70B223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8" name="Picture 2" descr="http://medicalplanet.su/Img/458.jpg"/>
          <p:cNvPicPr/>
          <p:nvPr/>
        </p:nvPicPr>
        <p:blipFill>
          <a:blip r:embed="rId1"/>
          <a:stretch/>
        </p:blipFill>
        <p:spPr>
          <a:xfrm>
            <a:off x="611280" y="557280"/>
            <a:ext cx="763272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A787-F451-4CC6-9FB7-E9335E9F4DB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3"/>
          <p:cNvSpPr/>
          <p:nvPr/>
        </p:nvSpPr>
        <p:spPr>
          <a:xfrm>
            <a:off x="179280" y="809640"/>
            <a:ext cx="87138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1.Бактерии</a:t>
            </a:r>
            <a:r>
              <a:rPr b="1" i="1" lang="ru-RU" sz="3000" spc="-1" strike="noStrike">
                <a:solidFill>
                  <a:srgbClr val="0b5395"/>
                </a:solidFill>
                <a:latin typeface="Arial"/>
                <a:ea typeface="Arial"/>
              </a:rPr>
              <a:t>—это одноклеточные микроорганизмы с примитивным ядром без ядерной оболочк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В зависимости от формы бактерии делят на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кокки, имеющие шаровидную форму;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палочки,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ириллы — спиралевидные извитые бактерии,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брионы, имеющие вид изогнутых палочек;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ирохеты — длинные извитые бактери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198D-8C65-4E9A-B302-27E076963A1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4" name="Picture 2" descr="http://engschool18.ru/uploads/posts/2010-09/1284146453_rrrrr6.jpg"/>
          <p:cNvPicPr/>
          <p:nvPr/>
        </p:nvPicPr>
        <p:blipFill>
          <a:blip r:embed="rId1"/>
          <a:stretch/>
        </p:blipFill>
        <p:spPr>
          <a:xfrm>
            <a:off x="423720" y="614520"/>
            <a:ext cx="829656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4325-103A-4531-9237-0BD1D7A44A1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Text Box 3"/>
          <p:cNvSpPr/>
          <p:nvPr/>
        </p:nvSpPr>
        <p:spPr>
          <a:xfrm>
            <a:off x="179280" y="809640"/>
            <a:ext cx="87138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Calibri"/>
              </a:rPr>
              <a:t>2. Вирусы — </a:t>
            </a:r>
            <a:r>
              <a:rPr b="1" i="1" lang="ru-RU" sz="3000" spc="-1" strike="noStrike">
                <a:solidFill>
                  <a:srgbClr val="0b5395"/>
                </a:solidFill>
                <a:latin typeface="Calibri"/>
              </a:rPr>
              <a:t>особая группа широко распространенных микроскопических инфекционных агентов, вызывающих заболевание человека, животных, растений и бактерий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ирусы относятся к внутриклеточным паразитам и имеют основные свойства живых существ: они способны размножаться, обладают наследственностью и изменчивостью, хорошо приспосабливаются к меняющимся условиям окружающей среды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Впервые вирус был открыт в 1892 г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766E-E69F-453B-8D89-BCB58AB6923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збудители инфекционных болезне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0" name="Picture 2" descr="http://demotivatori.info/uploads/posts/2011-07-29/demotivatory-prikoly-novye-ruki-vsegda-tyanutsya-k_1.jpg"/>
          <p:cNvPicPr/>
          <p:nvPr/>
        </p:nvPicPr>
        <p:blipFill>
          <a:blip r:embed="rId1"/>
          <a:stretch/>
        </p:blipFill>
        <p:spPr>
          <a:xfrm>
            <a:off x="1547640" y="561960"/>
            <a:ext cx="604872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5:37:54Z</dcterms:created>
  <dc:creator>Ирина</dc:creator>
  <dc:description/>
  <dc:language>en-US</dc:language>
  <cp:lastModifiedBy>Святослав Ленков</cp:lastModifiedBy>
  <dcterms:modified xsi:type="dcterms:W3CDTF">2017-02-20T16:22:33Z</dcterms:modified>
  <cp:revision>21</cp:revision>
  <dc:subject/>
  <dc:title>ОСНОВНЫЕ ИНФЕКЦИОННЫЕ БОЛЕЗНИ, ИХ КЛАССИФИКАЦИЯ И ПРОФИЛАКТИКА</dc:title>
</cp:coreProperties>
</file>