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dt" idx="7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ftr" idx="7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 type="sldNum" idx="7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FBCB-41E8-4BC8-BE19-54228C722D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1CFE-D538-4BF6-A373-3F11F24B1D3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4F4B-F326-4C98-9B9E-0ECFB8B9A01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04AA-87B4-4E24-AC6D-5257EFBECB4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A3A7-B820-4CF7-81AE-0DECCA64CAE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0D80-8A90-459D-991C-7984EF8A54A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7F0F-9CA6-4168-A43D-9BD54391F36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7432-55A5-42C2-9A6D-FA82142E65A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277C-41DC-4829-AC43-D0AD60A8545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1C5D-4BD7-46B7-8651-41B087B2D96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43C3-6AAF-4E33-9244-6405B905D72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2AE2-FA6C-4874-B64D-106BF205095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AE7D-CAAF-4D97-BA63-CB7A642DFD8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49D7-577E-4A07-8403-495BD918CA2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732-FA53-4D0F-875A-A0883ED1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B1A9-A7BA-45ED-B3EA-C8726128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C955E-DF8D-42DC-8E21-5E0A5BBD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E70B8-0F0D-476E-8A55-45D3CD58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F15B2-B0A9-46DA-8C00-3CDF0C2D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B6E1F-BCAF-447F-829D-93781BA4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9119F-081E-47F3-ABD3-31A1AD9A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9F765-7EBA-4C6D-B694-BAAE172F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DA8B1-3171-4CF2-85F2-289B03BA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C7271-253F-4C3D-B23A-171F19EA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13216-C034-4F30-82EC-A4231B56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1CCC4-AF8A-437D-9B30-DC77C429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DBB-E53E-4D14-8B73-33D87E9F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97078-85D7-486B-8191-620D352E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EC715-F2DC-4024-A969-C3D7B96A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2ABCA-93B1-4BBF-BF00-4C49D5B3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A3C5E-8792-48E9-9436-044D0820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83AF6-79A3-4F3C-B5BB-9474FC52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0D3CE-32A2-4905-9ED4-A2614549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4EB36-D5FF-4095-9995-4D37A519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3738D-E75F-4425-A849-D59E3AA1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910B0-4DF7-406A-867B-7515CBE5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888F6-2F61-4EF6-ADEF-90DE2A4E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FD9-0BC1-48C4-AC4F-97EEFF9E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B8A59-42C4-4BB9-AC3E-88F4924F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31211-A685-458A-B93B-083AC23A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D1998-3C13-49EE-B6F2-FD246DC8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4E25A-ED73-45EF-8F2F-F662B54B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70B8D-ABFE-431D-BDBB-2495EAFD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3B889-300D-4E39-9DD3-94C54D35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0B344-3E91-465F-9486-4F8734A0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8B98D-B0BD-4EE0-943C-24ECFB87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F6F06-EA3C-49C9-824E-1022558C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5C41A-3ECF-4AEC-A9D7-13678E1C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71C7-64EA-4A19-8E04-CD4F2042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A19B3-0E08-4CBD-8BD4-8A5EFC92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F8515-6CFC-431C-848C-77F06501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4047A-9E4D-4587-9142-9A942BD7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85EF7-A999-4B67-9573-8200D113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1BC48-F82C-4632-B884-CF097D34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CAC37-7AE8-4EE3-8743-9067CD3E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6CDCE-D523-4E49-B5E4-3C1258A7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FA2C3-7D9A-46D0-8BCC-1B78731C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FF6C1-22D2-4C0C-A267-A118503B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551EE-4E87-4622-9BF7-8A341615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C8D0-D51F-4A69-A150-3583E7A4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58590-0651-4930-B26F-CFFAAE2A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B00D9-EE1B-4CA7-8795-3726BCF8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334E3-5351-4EF2-BDFD-1B8A5D9E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BC792-4046-48F0-A64B-496231DB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08344-90CE-4CDF-8973-0A5C292F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FF2C36-67CA-4862-9186-28AF8696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23E96-00CA-4F62-93B4-5D681532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B1E2D-2BAE-4DB8-8A18-363EB87A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9DC33-6D46-43A3-909B-C68AEDF9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9FCC00-E220-4A51-BAC8-A830CAE3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C12D-0988-4FC5-BD52-2AD9CF6C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34D18-E1F0-45DF-A093-517F949F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AB8A8-CC86-4C09-B19D-F95AAA6F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915D9-DBC9-4EB8-95BA-6158AF8A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734D5-DCFD-4837-B43D-107944FC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41E67-9F43-472F-8687-439809B3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F7C63-2BDF-4202-ABA3-F5C9E226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BA0A0-FA51-4518-AF24-3F4A6007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607FE0-D766-4ADC-8C2E-23719C7C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00846-3F30-4FDA-A8FF-55D73792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628A07-EFC1-4F16-95E5-D880AF24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8119-C4A9-4F0D-9A69-F7F297F8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62179A-9A25-4B3A-A07F-36632CB4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9473D1-9A70-4727-8440-BD3D1B58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2CFF4-441E-4280-A38E-13E027A0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A9AC5-E732-4571-AE85-F47134D8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F8A3D2-065D-4557-A63C-28AF0740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C6789E-77A3-4040-9A6C-B54E4C56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8FE2A6-6FD1-418E-A793-FC40C871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FF6ED2-7781-48B1-BDFF-CAE27BFE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FFB27-16CF-471A-8D9A-905294F9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00AFF8-2A6B-4967-912E-112A8E20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04A9-A3BB-4285-B70D-997CEE69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BA09AF-9A59-49AB-B056-B116A06F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64E50C-3D8A-4B53-8DD7-9D64D236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33159C-7BB1-46D9-BD62-0FEDD328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E73801-410E-4840-9116-A2B55978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5A49FF-98E9-49A3-824D-04CC0E32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C12742-4F19-46D8-AFA7-BCEB7F7A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21F633-6A75-41E7-94C5-73F6A53E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7D1017-84D8-4328-8841-A3C2EB05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0E15F6-5308-4657-9E94-AB983FD6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A13AE3-84DD-4C92-86A9-8A9871A5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DF68-7A9D-4465-AFF7-745B4C4E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F46964-3903-4E3F-B02B-23273BBA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74C101-8B36-4175-B145-19411B77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0DE552-08B9-4FDB-B531-B6570F25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9B892F-4BB6-4FBB-9CF7-732B0277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EF296F-98F2-4149-8E4E-0D5A392B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97180F-03FE-4B5E-A2D3-F7320C9E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FAE23E-CD27-41D1-A506-DCA2E3B4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6FE71F-4E12-4866-BFB3-84EF3A9C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99EDEC-5484-4EC5-B740-364D7E39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5ED85C-E99B-45DC-89F6-C4C37ACC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68F8-FFDD-4B0E-B9AC-06A4D5E2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876A62-0E8D-432C-B89E-A96A46F5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9952A3-DC01-44F2-9919-D2EC26C1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CCE344-DD27-416C-9522-8E475E8D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D2B649-1271-4161-83EB-B015D918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B39898-C999-47E0-B3E3-9C324D85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925720-2D0C-4C22-8D7B-F0FE334A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FC43F8-9489-4F90-88BE-5AF4C736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1A4CAF-868C-42B8-AA12-EDF3F747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4F3A0B-F4EC-4F90-A6DB-02FF9BB3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812786-0A42-40AB-8DD6-D05D2F26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ADC-5FA4-44CF-BE65-FFA8B9C8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7962-59F7-4AB6-8A9D-2006EAE1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238515-27A9-4322-A116-9D93D3B2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456866-D9A5-4B0D-9501-232FF59D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F1B995-9E6E-421E-87C2-DFF44A5E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B71B1E-BE9A-4738-8078-2BD92193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F00825-BF2F-4AEA-94BA-E6548A36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FE45F2-C522-4F0E-92E1-7EDAAD9A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3E40DB-F5B1-449A-BE4B-D12E60B4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50A1E8-E648-4B3D-AA18-33129C14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0C5CDC-EACA-4E07-A3D9-EBDBD995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BB5697-2300-4577-B886-FAAC4E3F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D796-5F3C-4689-89D7-18AFED6A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6FE1B3-5595-46D5-8D9E-9566251E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58E70F-5E63-4B6B-9E6B-FDED9F90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A14E5F-E058-4CBB-A35A-820EA7B3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7D9548-2B77-4827-94A6-44E26280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43ED0C-4C4E-4403-BDD5-E0904583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0F9731-63FA-4964-9B83-CB863CDD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1ABF8A-6D71-447D-AA9B-7722B4FF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40ECBD-ED97-4FB0-9246-E321E969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E36232-3139-47A1-863B-B6F37501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08D083-1D05-4794-88E5-CC28CB25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A670-5EA2-44ED-BDA1-63865CB4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461069-B347-4741-9888-C617487A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4261DD-6B97-443A-9F14-0339F82F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5D9ED2-94F6-4D10-B08C-EC7D69F4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3670FA-6D61-4F08-A2E4-D25155B6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CFD698-6DCA-46DE-90CC-A7F227A8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FEFEF8-933A-4B12-A162-9DE22050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6AFF2B-2FDD-420A-BBC5-6CF9401C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A6BBE2-3F68-4939-89FB-8833878C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CE9AA0-B8BA-46AD-B4E8-A6678935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8F0602-A6FA-4D94-BD35-C958B4FC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F0C3-694F-45A7-90F5-5967D2F5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DAFEC6-F1A5-4341-B3E1-E0087007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8E4053-2D0B-46C2-97D6-21C9FE9E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8BF65A-E86D-4AD8-AEAB-87C59297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F1FD2B-3C31-4A51-A146-D11E596B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D04856-5695-438C-8CE3-BFC8DCAF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6D1D05-5E6D-4BCF-8831-30A13C00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795C2B-46A4-47B2-BE18-8B195EF9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674115-0246-4A72-95C9-AA66F2C2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27E5DA-A199-4CEA-A6B7-F510F6B8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DD63AD-5409-4B36-9E0E-600B4108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8787-3C60-43E4-ACEA-D7CA723A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571A4D-D910-4ED6-B6BC-FE9660C5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02E117-C707-4390-B00F-56FEF095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A10335-ABB5-4ED7-8276-5DE0FA57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F6188E-7B48-470A-B1C0-67832F39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8840B3-4E2F-4795-9160-82C9F46C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9C24D4-3EB5-483E-A7D6-56D39BD7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A33F10-59AE-463A-AF84-140F7FB5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722FF4-5BF2-45AB-9DAE-C51C3B65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3E7F0B-0A4A-4FE1-869D-01B0EC05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524BC8-A506-4FA1-8688-641B94C8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CC6E5-51E6-4E2F-A79B-224C544A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7B49CF-867A-4936-B76D-05FE1DE3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232B2D-0838-40D5-819A-7A336344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BC9D8A-BEF1-40A9-9E69-CBDCD32C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9231C4-5165-4CC5-8D44-AAB698A7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35C2F4-15AF-4CD4-88D6-AAD60E45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9D3635-9FD3-4DE5-92CC-6B3CDDC1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595437-8B83-4EB9-8C3E-FE1FACBB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7A91BD-7804-446D-B8AF-A332FA8A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700AF8-3086-42DB-A5F1-C8DECD1F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17B8E8-5C3B-42BC-B486-8BB55A04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A3CAE-7FAA-409A-8D2A-55F7B62B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D5A359-FC34-493E-830A-4287DC18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0B9898-7F16-498B-AA7A-B3FC1B8E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CE86D2-A89D-4BAA-8AED-C8FB122D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61CF57-41FC-40FD-88AC-6B69EBA9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76087B-98A5-447C-BFC4-7C66BFFD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26374F-4A91-42C0-9387-4745A514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E5082A-EAC1-4E28-A66F-58AC6777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2AC660-92F9-40CC-95EE-95E85B23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0F80C6-53DE-49D9-AEC5-19CD0901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9457A7-84FB-4D22-BE56-F2E2FE61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DF612-4B06-4C50-A35E-0C7DC20E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940BCA-E317-476B-B74B-35AFF63D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FA2CB9-B0AE-4C64-AA96-D4CE5D42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4A2700-E998-4EFE-934E-8B86D1B6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213F6B-3777-4567-8C58-27D88701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9E17FB-CAC1-4E38-A33C-EF0533DE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FB8A07-0F73-449D-B6D8-671EA6D7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B654BD-88C8-4DA7-8F8F-507D634F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3E19EB-955E-40C5-B670-6622BBD0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1EA720-2BC6-44C7-B0E7-A05838B0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58739B-8AB9-4718-B092-97AE7CFF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01EBA-4676-40ED-8D7F-4A05E1B0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2EC46D-FE8B-48AB-8CEB-B127B0A1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07AA4A-4A99-4CA1-85DB-186A5770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0B8D90-8161-46C3-9750-A307F9DC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3285C2-C7BF-4062-A056-3B7F8B13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0D8733-B106-4A9B-91E4-73CEA3C6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2D434B-7CB5-4C1B-BF29-507DF08B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87D2AC-830D-4C8F-919E-ED29017F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97D7BC-66D8-468E-B1E3-27956A23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7BCD03-96B1-481C-BC25-EEFB6505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CCE784-0D79-4535-A80E-12A8D90A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B17FC-BC0C-4A74-86D6-6FA9F898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6E8C9B-B94D-4EE7-92C4-0F9CEF9E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1D97EA-BD99-4A1A-8B96-A199147F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188AAF-776B-4893-B056-AEBE335B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1517A3-2259-4BBD-8785-B994E4EC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6E1C16-5436-40D5-A6F7-66CC290F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16A306-D9C8-417B-B45D-D7173204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C0E949-EB48-428F-93FC-7F3C9A01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F76C17-5F7D-4996-A6F5-D8CA72ED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1C1990-3C5E-4D67-B81D-3EB09889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6F59A4-98D2-4C3C-8454-57722CF6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922-3F78-4B15-9AB5-26839912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BF2E9-27AC-4512-90C0-D2694F0B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B4DDCC-0237-4DD0-A9EE-BBCE743E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13507-906D-4828-B5EC-FF390C1C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0752F-6F2A-4D32-AC3A-739540A6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1F1C3-6546-43CD-80B3-F7E283AE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A066E-6946-415A-83C4-5CA6B16D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E5953-8216-459B-80AF-38EAFEB1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2FE98-F354-47ED-807B-FF6ED583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AA507-CC20-4A4E-B06F-36593A7E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652B3-4FBC-4899-826F-E556B981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6A5E4-36AD-4617-84DB-46EB336A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856-2BD3-426D-A6B6-01C7586D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E0D59-966D-408D-AEBE-54FC57F1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05B05-BC9D-4C1A-94DA-770485B8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DF7D4-7BBA-4A63-A57C-CE1C568D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62D2F-52A8-4C96-931B-4AA40DE7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3C294-825C-46C1-9CED-ED7839F7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7D48B-F7D5-446E-8083-00854C89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0CA1A-5BA5-487E-BB79-D2CDB733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75AEE-D5CE-4C68-BE12-DBF33A46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A275F-786F-446A-A1E1-88F16582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F583D-67F4-4B58-933B-D918D375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CF09-F180-41EA-A0DF-8FC7BA75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36953-EF21-4B32-81A6-DF11E3E9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42BE3-4394-4949-B8F3-ABB25631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A0CE3-33C3-4A9B-9A09-B00F6B4B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39C1C-7F54-42A3-8A4F-153F79AA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69477-FDC8-4D7B-BB35-2442D3A5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1D202-C687-4CD3-B617-6627E650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DBD4D-0B51-47C8-838D-F2FDF813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07F19-C9A6-4714-8B03-2B9F650B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2DEF2-EE2F-46B5-9295-B409CA55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01116-7303-431F-881F-DDE4C98C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30B-2ED0-47C0-B365-F11DB4A3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E3A28-2AB5-4159-B2A9-C4A282E2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8C185-7F93-47F2-BDE9-9D7EC529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C7E03-45FA-4937-A28B-C95AD899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1A105-F5B4-4B5B-92D1-BAC8E5FB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FAA79-E40D-41EF-A23F-1B9D45B5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22BBE-57F4-4EEB-86DC-C3FD034D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3361E-5763-474A-8AF8-D6CACDA3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3BCE9-835A-4B5A-8C54-25BB1E55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19ECD-3211-4CBA-8421-4D924B22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04094-0B1C-4EDA-9540-CECA0500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9D2A-C82A-47E8-9A79-2B8B62C8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695EF-33DE-4859-863E-764B7ACC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77806-17F5-46B2-833F-7AAB855B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E8FFC-E259-4130-9086-D0DF008F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57F96-16D8-4CE1-88C4-80BC2BF8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678A2-C61A-465F-A897-6C9570E6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FC2F2-7967-4B03-96CE-9DB30463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EB696-10EC-4CB5-A28C-DEBCAC98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536C3-365F-409C-9FB8-240DB505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1B6EB-DC99-4B2A-BF7C-62D7876F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76A3B-76A9-4751-BBFF-CAA644B8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F2B8-F210-426B-A145-EBC17ADB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F5C8F-A2D1-4034-ACD1-7E29EE93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A45F1-4D6C-4462-AC40-C8667CBC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06F36-C2EF-409E-B5AC-317E2CF8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3BF6F-D21F-469C-A064-3F6C7FE1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515E7-F6B6-4BCB-A1E3-8944BBDB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5B3B8-70D5-417E-ABED-997AAA09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8DBDD-5FDA-4799-B263-1D8BFA9D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E6EF1-B713-49E7-B4A9-D6DA7B16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82CBD-5955-41D0-8B8A-421244B0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4D397-1A8F-490F-8B17-EBAA317F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4301-76CA-4212-828B-B8DC0265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5AF0F-5EC4-4025-BCC5-E81A6D06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6BDA7-ABD4-4127-B4D7-3F4A9EE0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407C9-3DB0-41E6-8937-C4E7E409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F3B7D-6A8B-48A4-BFC2-B0CD88B8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A73EB-C323-4BA5-B7FE-56653696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4F5CF-01E3-45AA-87F4-1B676BE2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1C8EB-8748-4C2F-9131-14309D1A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2F519-3CD4-437F-B872-7C046E8B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CB113-773D-4FE8-B165-8FA88C7C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357FA-84E9-40BF-AE3B-9CFF3A57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A9F1-FDBC-46A5-8184-9ADBCA18DB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8EC2-1D5F-4AEB-8BED-26C3A689FB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3693-999D-4DBC-A384-CB6113FE754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03D7-3655-4BA4-977C-4835C7F3C3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C893-778A-42C3-B101-ACB88EF4E8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BFD1-29C5-4106-A7FF-84D1DDABBD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DF27-0C40-433B-A286-C966AD4E65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AC59-69C4-442F-BF21-E25FB93C4E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F065-7E3D-456E-8B92-E4EEB6E531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8022-F152-4DD8-A42E-F75AC72788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1E86-1BC9-466D-8995-8B2EF93F22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BF32-B9AB-418D-9EF4-A175635414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6F1C-6657-452D-B254-CC7C6B3F47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9164-9F23-45F4-869F-94BFE2181E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F1FC-FC49-43B6-A35A-55BFF80654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6C37-2834-4F7B-8B14-DFEF88BBB92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34C1-70FB-47A8-9099-B75E0802C5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B091-D6E2-4642-880B-2BFEEE8105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D584-3ED6-4E3A-9A70-09B8E8DDC9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208C-B6F5-4004-BF74-DF339522FA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B525-156D-43A5-AED9-F7638733C5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DEE0-9A17-497F-8720-E90418EDB0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E8E9-7B55-4571-817A-55A7749DBF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9CDC-8E4B-41FB-9DFE-028217EDFE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DAD1-2E3D-4102-BF95-2C782BE52F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2" descr=""/>
          <p:cNvPicPr/>
          <p:nvPr/>
        </p:nvPicPr>
        <p:blipFill>
          <a:blip r:embed="rId1"/>
          <a:stretch/>
        </p:blipFill>
        <p:spPr>
          <a:xfrm>
            <a:off x="-27000" y="0"/>
            <a:ext cx="7424640" cy="5568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2"/>
          <a:stretch/>
        </p:blipFill>
        <p:spPr>
          <a:xfrm>
            <a:off x="3254400" y="0"/>
            <a:ext cx="5889600" cy="50133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3"/>
          <a:stretch/>
        </p:blipFill>
        <p:spPr>
          <a:xfrm>
            <a:off x="-41400" y="1557360"/>
            <a:ext cx="7972560" cy="53006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"/>
          <p:cNvPicPr/>
          <p:nvPr/>
        </p:nvPicPr>
        <p:blipFill>
          <a:blip r:embed="rId4"/>
          <a:stretch/>
        </p:blipFill>
        <p:spPr>
          <a:xfrm>
            <a:off x="333360" y="1557360"/>
            <a:ext cx="8810640" cy="53006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6" descr=""/>
          <p:cNvPicPr/>
          <p:nvPr/>
        </p:nvPicPr>
        <p:blipFill>
          <a:blip r:embed="rId5"/>
          <a:stretch/>
        </p:blipFill>
        <p:spPr>
          <a:xfrm>
            <a:off x="179280" y="476280"/>
            <a:ext cx="878544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" nodeType="after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2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" nodeType="afterEffect" fill="hold" presetClass="entr" presetID="6" presetSubtype="1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" nodeType="afterEffect" fill="hold" presetClass="entr" presetID="3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7BF2-7FDB-4D8B-AF4D-860BB74CE4B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збудители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Text Box 3"/>
          <p:cNvSpPr/>
          <p:nvPr/>
        </p:nvSpPr>
        <p:spPr>
          <a:xfrm>
            <a:off x="179280" y="809640"/>
            <a:ext cx="871380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3.Простейшие —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000" spc="-1" strike="noStrike">
                <a:solidFill>
                  <a:srgbClr val="0b5395"/>
                </a:solidFill>
                <a:latin typeface="Calibri"/>
              </a:rPr>
              <a:t>микроорганизмы, составляющие подцарство одноклеточных животных. Под этим названием объединяется множество самых разнообразных организмов, которые имеют один общий отличительный признак: тело их состоит всего из одной клетки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которые одноклеточные по своему строению ближе к животным, другие — к растениям. Расселены простейшие по всей поверхности планеты. Такие тяжелые заболевания, как малярия, сонная болезнь, вызываются паразитами — простейши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D4D5-58AA-4142-AC77-85E334E0D8D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збудители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6" name="Picture 2" descr="http://img1.liveinternet.ru/images/attach/c/3/76/858/76858041_1234263012_prosteywye.jpg"/>
          <p:cNvPicPr/>
          <p:nvPr/>
        </p:nvPicPr>
        <p:blipFill>
          <a:blip r:embed="rId1"/>
          <a:stretch/>
        </p:blipFill>
        <p:spPr>
          <a:xfrm>
            <a:off x="216000" y="620640"/>
            <a:ext cx="871200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A2D1-BC77-46DD-9C61-B5BA1E27F30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збудители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Text Box 3"/>
          <p:cNvSpPr/>
          <p:nvPr/>
        </p:nvSpPr>
        <p:spPr>
          <a:xfrm>
            <a:off x="179280" y="809640"/>
            <a:ext cx="87138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4.Грибки микроскопические. </a:t>
            </a:r>
            <a:r>
              <a:rPr b="1" i="1" lang="ru-RU" sz="3000" spc="-1" strike="noStrike">
                <a:solidFill>
                  <a:srgbClr val="0b5395"/>
                </a:solidFill>
                <a:latin typeface="Calibri"/>
              </a:rPr>
              <a:t>Грибы имеют сходство и с растениями, и животными. Как животные, грибы потребляют готовые органические вещества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изводить их сами, как растения, грибы не могут, но в отличие от животных пищу они не заглатывают, а всасывают всей своей поверхностью, как растения. От бактерий грибы отличает наличие ядра в клетке. Некоторые микроскопические грибы вызывают грибковые заболевания кожи, могут вызвать на коже туловища и конечностей высыпания аллергического происхожд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34B5-56B1-45D8-AE93-E5095A2C2A0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збудители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2" name="Picture 2" descr="http://img-fotki.yandex.ru/get/3207/aleshirokikh.4/0_19f4_a6d6862d_XL"/>
          <p:cNvPicPr/>
          <p:nvPr/>
        </p:nvPicPr>
        <p:blipFill>
          <a:blip r:embed="rId1"/>
          <a:stretch/>
        </p:blipFill>
        <p:spPr>
          <a:xfrm>
            <a:off x="20520" y="765000"/>
            <a:ext cx="91029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3" name=""/>
          <p:cNvGraphicFramePr/>
          <p:nvPr/>
        </p:nvGraphicFramePr>
        <p:xfrm>
          <a:off x="468360" y="765000"/>
          <a:ext cx="8229600" cy="5935680"/>
        </p:xfrm>
        <a:graphic>
          <a:graphicData uri="http://schemas.openxmlformats.org/drawingml/2006/table">
            <a:tbl>
              <a:tblPr/>
              <a:tblGrid>
                <a:gridCol w="4248000"/>
                <a:gridCol w="398160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екционные болезни, вызываемые возбудителями, паразитирующими в организме человека( антропонозы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екционные болезни, к возбудителям которых восприимчив человек(зооноз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ишечные инфекц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юшной тиф, вирусный гепатит А, вирусный гепатит Е, дизентерия, полиомиелит, холера, паратиф А и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тулизм, бруцеллез, сальмонелле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нфекции дыхательных пут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2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тряная оспа, грипп, дифтерия, коклюш, корь, краснуха, оспа натуральная, скарлат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моррагическая лихорадка с почечным синдромом, орнито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лассификация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6" name=""/>
          <p:cNvGraphicFramePr/>
          <p:nvPr/>
        </p:nvGraphicFramePr>
        <p:xfrm>
          <a:off x="250920" y="1125360"/>
          <a:ext cx="8435880" cy="5543640"/>
        </p:xfrm>
        <a:graphic>
          <a:graphicData uri="http://schemas.openxmlformats.org/drawingml/2006/table">
            <a:tbl>
              <a:tblPr/>
              <a:tblGrid>
                <a:gridCol w="4321080"/>
                <a:gridCol w="4114800"/>
              </a:tblGrid>
              <a:tr h="617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ровяные инфекц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ный тиф эпидемический( вшивый), окопный лихорадка, сыпной ти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шиный тиф эпидемический, возвратный тиф клещевой, желтая лихорадка, клещевой энцефалит, комариный энцефалит, туляремия, чума, Ку - лихорад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нфекция наружных покров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русный гепатит В, вирусный гепатит С, вирусный гепатит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ИЧ – инфекция, гонорея, рожа, сифилис, трах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шенство, сап, сибирская язва, столбняк, ящу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лассификация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ичина возникновения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Прямоугольник 2"/>
          <p:cNvSpPr/>
          <p:nvPr/>
        </p:nvSpPr>
        <p:spPr>
          <a:xfrm>
            <a:off x="250920" y="907920"/>
            <a:ext cx="8713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посредственн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чиной возникновения инфекционной болезни являетс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внедрение в организм человека болезнетворных возбудителей и вступление их во взаимодействие с клетками и тканями организм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Иногда возникновение инфекционной болезни может быть вызвано попаданием в организм, главным образом с пищей, токсинов болезнетворных возбудите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Прямоугольник 4" descr=""/>
          <p:cNvPicPr/>
          <p:nvPr/>
        </p:nvPicPr>
        <p:blipFill>
          <a:blip r:embed="rId1"/>
          <a:stretch/>
        </p:blipFill>
        <p:spPr>
          <a:xfrm>
            <a:off x="201600" y="590400"/>
            <a:ext cx="961920" cy="5561280"/>
          </a:xfrm>
          <a:prstGeom prst="rect">
            <a:avLst/>
          </a:prstGeom>
          <a:ln w="0">
            <a:noFill/>
          </a:ln>
        </p:spPr>
      </p:pic>
      <p:sp>
        <p:nvSpPr>
          <p:cNvPr id="1081" name="Прямоугольник 3"/>
          <p:cNvSpPr/>
          <p:nvPr/>
        </p:nvSpPr>
        <p:spPr>
          <a:xfrm>
            <a:off x="1592280" y="620640"/>
            <a:ext cx="7200720" cy="1079640"/>
          </a:xfrm>
          <a:prstGeom prst="rect">
            <a:avLst/>
          </a:prstGeom>
          <a:gradFill rotWithShape="0">
            <a:gsLst>
              <a:gs pos="0">
                <a:srgbClr val="e4ff9f"/>
              </a:gs>
              <a:gs pos="100000">
                <a:srgbClr val="f8ffe4"/>
              </a:gs>
            </a:gsLst>
            <a:lin ang="16200000"/>
          </a:gradFill>
          <a:ln w="9360">
            <a:solidFill>
              <a:srgbClr val="a3c1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екально-ораль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им путем передаются все кишечные инфекции. Микроб с калом, рвотными массами больного попадает на пищевые продукты, воду, посуду, а затем через рот в желудочно-кишечный тракт здорового человек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Прямоугольник 7"/>
          <p:cNvSpPr/>
          <p:nvPr/>
        </p:nvSpPr>
        <p:spPr>
          <a:xfrm>
            <a:off x="1625760" y="3056040"/>
            <a:ext cx="7200720" cy="804600"/>
          </a:xfrm>
          <a:prstGeom prst="rect">
            <a:avLst/>
          </a:prstGeom>
          <a:gradFill rotWithShape="0">
            <a:gsLst>
              <a:gs pos="0">
                <a:srgbClr val="e4ff9f"/>
              </a:gs>
              <a:gs pos="100000">
                <a:srgbClr val="f8ffe4"/>
              </a:gs>
            </a:gsLst>
            <a:lin ang="16200000"/>
          </a:gradFill>
          <a:ln w="9360">
            <a:solidFill>
              <a:srgbClr val="a3c1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Жидкост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арактерен для кровяных инфекций. Переносчиками этой группы заболеваний служат кровососущие насекомые: блохи, вши, клещи, комары и т.п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Прямоугольник 8"/>
          <p:cNvSpPr/>
          <p:nvPr/>
        </p:nvSpPr>
        <p:spPr>
          <a:xfrm>
            <a:off x="1627200" y="4005360"/>
            <a:ext cx="7200720" cy="863640"/>
          </a:xfrm>
          <a:prstGeom prst="rect">
            <a:avLst/>
          </a:prstGeom>
          <a:gradFill rotWithShape="0">
            <a:gsLst>
              <a:gs pos="0">
                <a:srgbClr val="e4ff9f"/>
              </a:gs>
              <a:gs pos="100000">
                <a:srgbClr val="f8ffe4"/>
              </a:gs>
            </a:gsLst>
            <a:lin ang="16200000"/>
          </a:gradFill>
          <a:ln w="9360">
            <a:solidFill>
              <a:srgbClr val="a3c1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нтактный или контактно-бытов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им путем происходит заражение большинством венерических заболеваний при тесном общении здорового человека с больны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Прямоугольник 9"/>
          <p:cNvSpPr/>
          <p:nvPr/>
        </p:nvSpPr>
        <p:spPr>
          <a:xfrm>
            <a:off x="1592280" y="5002200"/>
            <a:ext cx="7200720" cy="1079640"/>
          </a:xfrm>
          <a:prstGeom prst="rect">
            <a:avLst/>
          </a:prstGeom>
          <a:gradFill rotWithShape="0">
            <a:gsLst>
              <a:gs pos="0">
                <a:srgbClr val="e4ff9f"/>
              </a:gs>
              <a:gs pos="100000">
                <a:srgbClr val="f8ffe4"/>
              </a:gs>
            </a:gsLst>
            <a:lin ang="16200000"/>
          </a:gradFill>
          <a:ln w="9360">
            <a:solidFill>
              <a:srgbClr val="a3c1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оонозны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еносчиками зоонозных инфекций служат дикие и домашние животные. Заражение происходит при укусах или при тесном контакте с больными животным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Прямоугольник 10"/>
          <p:cNvSpPr/>
          <p:nvPr/>
        </p:nvSpPr>
        <p:spPr>
          <a:xfrm>
            <a:off x="1625760" y="1849320"/>
            <a:ext cx="7200720" cy="1081080"/>
          </a:xfrm>
          <a:prstGeom prst="rect">
            <a:avLst/>
          </a:prstGeom>
          <a:gradFill rotWithShape="0">
            <a:gsLst>
              <a:gs pos="0">
                <a:srgbClr val="e4ff9f"/>
              </a:gs>
              <a:gs pos="100000">
                <a:srgbClr val="f8ffe4"/>
              </a:gs>
            </a:gsLst>
            <a:lin ang="16200000"/>
          </a:gradFill>
          <a:ln w="9360">
            <a:solidFill>
              <a:srgbClr val="a3c1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оздушно-капельны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им путем распространяются все вирусные заболевания верхних дыхательных путей. Вирус со слизью при чихании или разговоре попадает на слизистые верхних дыхательных путей здорового челове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86" name="Прямая со стрелкой 6"/>
          <p:cNvCxnSpPr>
            <a:endCxn id="1081" idx="1"/>
          </p:cNvCxnSpPr>
          <p:nvPr/>
        </p:nvCxnSpPr>
        <p:spPr>
          <a:xfrm>
            <a:off x="1115640" y="1160280"/>
            <a:ext cx="477000" cy="1080"/>
          </a:xfrm>
          <a:prstGeom prst="straightConnector1">
            <a:avLst/>
          </a:prstGeom>
          <a:ln w="28440">
            <a:solidFill>
              <a:srgbClr val="7e9632"/>
            </a:solidFill>
            <a:miter/>
            <a:tailEnd len="med" type="triangle" w="med"/>
          </a:ln>
        </p:spPr>
      </p:cxnSp>
      <p:cxnSp>
        <p:nvCxnSpPr>
          <p:cNvPr id="1087" name="Прямая со стрелкой 12"/>
          <p:cNvCxnSpPr>
            <a:endCxn id="1085" idx="1"/>
          </p:cNvCxnSpPr>
          <p:nvPr/>
        </p:nvCxnSpPr>
        <p:spPr>
          <a:xfrm>
            <a:off x="1116000" y="2388960"/>
            <a:ext cx="510480" cy="1080"/>
          </a:xfrm>
          <a:prstGeom prst="straightConnector1">
            <a:avLst/>
          </a:prstGeom>
          <a:ln w="28440">
            <a:solidFill>
              <a:srgbClr val="7e9632"/>
            </a:solidFill>
            <a:miter/>
            <a:tailEnd len="med" type="triangle" w="med"/>
          </a:ln>
        </p:spPr>
      </p:cxnSp>
      <p:cxnSp>
        <p:nvCxnSpPr>
          <p:cNvPr id="1088" name="Прямая со стрелкой 14"/>
          <p:cNvCxnSpPr>
            <a:endCxn id="1082" idx="1"/>
          </p:cNvCxnSpPr>
          <p:nvPr/>
        </p:nvCxnSpPr>
        <p:spPr>
          <a:xfrm>
            <a:off x="1116000" y="3458880"/>
            <a:ext cx="510480" cy="1080"/>
          </a:xfrm>
          <a:prstGeom prst="straightConnector1">
            <a:avLst/>
          </a:prstGeom>
          <a:ln w="28440">
            <a:solidFill>
              <a:srgbClr val="7e9632"/>
            </a:solidFill>
            <a:miter/>
            <a:tailEnd len="med" type="triangle" w="med"/>
          </a:ln>
        </p:spPr>
      </p:cxnSp>
      <p:cxnSp>
        <p:nvCxnSpPr>
          <p:cNvPr id="1089" name="Прямая со стрелкой 18"/>
          <p:cNvCxnSpPr>
            <a:endCxn id="1083" idx="1"/>
          </p:cNvCxnSpPr>
          <p:nvPr/>
        </p:nvCxnSpPr>
        <p:spPr>
          <a:xfrm>
            <a:off x="1116000" y="4436640"/>
            <a:ext cx="511920" cy="1080"/>
          </a:xfrm>
          <a:prstGeom prst="straightConnector1">
            <a:avLst/>
          </a:prstGeom>
          <a:ln w="28440">
            <a:solidFill>
              <a:srgbClr val="7e9632"/>
            </a:solidFill>
            <a:miter/>
            <a:tailEnd len="med" type="triangle" w="med"/>
          </a:ln>
        </p:spPr>
      </p:cxnSp>
      <p:cxnSp>
        <p:nvCxnSpPr>
          <p:cNvPr id="1090" name="Прямая со стрелкой 20"/>
          <p:cNvCxnSpPr>
            <a:endCxn id="1084" idx="1"/>
          </p:cNvCxnSpPr>
          <p:nvPr/>
        </p:nvCxnSpPr>
        <p:spPr>
          <a:xfrm>
            <a:off x="1115640" y="5541480"/>
            <a:ext cx="477000" cy="1080"/>
          </a:xfrm>
          <a:prstGeom prst="straightConnector1">
            <a:avLst/>
          </a:prstGeom>
          <a:ln w="28440">
            <a:solidFill>
              <a:srgbClr val="7e9632"/>
            </a:solidFill>
            <a:miter/>
            <a:tailEnd len="med" type="triangle" w="med"/>
          </a:ln>
        </p:spPr>
      </p:cxnSp>
      <p:sp>
        <p:nvSpPr>
          <p:cNvPr id="1091" name="Прямоугольник 21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сновные пути передачи инфекции и их характерист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ериоды развития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353880" y="692280"/>
          <a:ext cx="8466120" cy="5781600"/>
        </p:xfrm>
        <a:graphic>
          <a:graphicData uri="http://schemas.openxmlformats.org/drawingml/2006/table">
            <a:tbl>
              <a:tblPr/>
              <a:tblGrid>
                <a:gridCol w="84661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Инкубационный пери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73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межуток времени от момента заражения до появления первых клинических симптомов боле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Начальный пери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провождается общими проявлениями инфекционной болезни: недомоганием, часто — ознобом, повышением температуры тела, головной болью, иногда тошнотой, т.е. признаками болезни, не имеющими сколько-нибудь четких специфических особен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.Период основных проявлений болез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74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рактеризуется возникновением наиболее существенных и специфических симптомов данной боле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.Период угасания симптомов болез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91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епенное исчезновение основных симптомов боле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гистрация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Прямоугольник 1"/>
          <p:cNvSpPr/>
          <p:nvPr/>
        </p:nvSpPr>
        <p:spPr>
          <a:xfrm>
            <a:off x="50760" y="585720"/>
            <a:ext cx="8985240" cy="59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04a4a"/>
                </a:solidFill>
                <a:latin typeface="Arial"/>
              </a:rPr>
              <a:t>Инфекционные заболевания, больные которыми подлежат индивидуальному учету в центрах госсанэпиднадзора: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брюшной тиф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паратифы А, В, С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другие сальмонеллезные инфекции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бактериальная дизентерия (шигеллез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пищевые токсикоинфекции, вызванные стафилококками и другими бактериальными и неуточненными инфекционными возбудителями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иерсиниозы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амебиаз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балантидиаз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колиты, энтериты, гастроэнтериты, вызванные установленными бактериальными возбудителями, аденовирусами, энтеровирусами и другими вирусами; вызванные неустановленными инфекционными возбудителями; заболевания предположительно инфекционного характер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тулярем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сибирская язв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бруцеллез (все формы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1A8C-31D3-4563-8AB8-ECACCA87B93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Rectangle 2"/>
          <p:cNvSpPr/>
          <p:nvPr/>
        </p:nvSpPr>
        <p:spPr>
          <a:xfrm>
            <a:off x="395280" y="2500200"/>
            <a:ext cx="824544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b5395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b5395"/>
                </a:solidFill>
                <a:latin typeface="Calibri"/>
              </a:rPr>
              <a:t>Урок 20.Инфекционные болезн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сновные инфекционные заболевания, их классификация и профилакт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Calibri"/>
              </a:rPr>
              <a:t>ОБЖ. 10 класс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Calibri"/>
              </a:rPr>
              <a:t>Ленков Святослав Викторович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9" name="Picture 3" descr="OurNewSchool"/>
          <p:cNvPicPr/>
          <p:nvPr/>
        </p:nvPicPr>
        <p:blipFill>
          <a:blip r:embed="rId1"/>
          <a:stretch/>
        </p:blipFill>
        <p:spPr>
          <a:xfrm>
            <a:off x="0" y="0"/>
            <a:ext cx="3995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ериоды развития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Прямоугольник 1"/>
          <p:cNvSpPr/>
          <p:nvPr/>
        </p:nvSpPr>
        <p:spPr>
          <a:xfrm>
            <a:off x="50760" y="585720"/>
            <a:ext cx="89852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листериоз, эризипелоид, пастереллез и другие бактериальные зоо-ноз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дифтер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коклюш (включая бактериологически подтвержденный паракоклюш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скарлатин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цереброспинальный менингит, менингококцемия и другие менинго-кокковые инфек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асептический энтеровирусный менингит (включая острые серозные менингиты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столбняк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синдром приобретенного иммунодефицит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внутрибольничные (гнойно-септические инфекции), связанные с оказанием медицинской помощи пациента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острый полиомиели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ветряная осп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корь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краснух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японский комариный, клещевой весенне-летний и трансмиссивные энцефалит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крымская, омская и другие геморрагические лихорадки, геморрагическая лихорадка с почечным синдромом и другие вирусные заболева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ериоды развития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Прямоугольник 1"/>
          <p:cNvSpPr/>
          <p:nvPr/>
        </p:nvSpPr>
        <p:spPr>
          <a:xfrm>
            <a:off x="50760" y="585720"/>
            <a:ext cx="9093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вирусные гепатиты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бешенство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эпидемический паротит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орнитоз (пситтакоз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инфекционный мононуклеоз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ящур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эпидемический сыпной тиф, болезнь Брилля, лихорадка Ку, клещевой сыпной тиф, мышиный сыпной тиф и другие риккетсиозы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малярия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пневмоцистоз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лейшманиоз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легионеллез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лептоспироз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гельминтозы (трематодозы, эхинококкозы, тениоз, тениаринхоз, дифиллоботриоз, гименолепидоз, трихинеллез, анкилостомидозы, аскаридоз, стронгилоидоз, трихоцефалез, энтеробиоз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завозные тропические заболевания (паразитарные и вирусные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педикулез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филактика инфекционных заболева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6836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Calibri"/>
              </a:rPr>
              <a:t>Профилактик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 комплекс мероприятий, направленных на обеспечение высокого уровня здоровья людей, их творческого долголетия, устранение причин заболеваний, улучшение условий труда, быта и отдыха населения, охраны окружающей сре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филактика подразумевает проведение оздоровительных мероприятий, направленных на повышение иммунитета организма человека для поддержания его невосприимчивости к инфекционным болезня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ммунит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610920" y="907560"/>
            <a:ext cx="82342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ммунитет обеспечивается комплексом защитных реакций организма, благодаря которым поддерживается постоянство внутренней среды челове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ммунная сис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468360" y="18446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мунная система- это совокупность  органов, тканей и клеток, обеспечивающих развитие иммунного ответа и защиту организма от агентов, обладающих чужеродными свойствами и нарушающими постоянство состава и свойств внутренней среды организ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.С. мобилизирует организм на борьбу с инородными телами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ммунизация орган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офилактики заболевания инфекционными болезнями большое значение име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ммунизац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специфическая профилактика инфекционных болезн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ают иммунизацию активную, основанную на введении вакцин или антитоксинов,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ассивну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ри которой вводят иммунную сыворотку или иммунноглобули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Овал 1"/>
          <p:cNvSpPr/>
          <p:nvPr/>
        </p:nvSpPr>
        <p:spPr>
          <a:xfrm>
            <a:off x="2484360" y="1841400"/>
            <a:ext cx="4464000" cy="3095640"/>
          </a:xfrm>
          <a:prstGeom prst="ellipse">
            <a:avLst/>
          </a:prstGeom>
          <a:solidFill>
            <a:srgbClr val="00b0f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эпидемические (противоэпизоотические) и санитарно-гигиенические мероприятия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9" name="Овал 2"/>
          <p:cNvSpPr/>
          <p:nvPr/>
        </p:nvSpPr>
        <p:spPr>
          <a:xfrm>
            <a:off x="4572000" y="23760"/>
            <a:ext cx="3313080" cy="2303640"/>
          </a:xfrm>
          <a:prstGeom prst="ellipse">
            <a:avLst/>
          </a:prstGeom>
          <a:noFill/>
          <a:ln w="5724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ннее выявление больных и подозрительных по заболеванию путем обходов дворов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Овал 3"/>
          <p:cNvSpPr/>
          <p:nvPr/>
        </p:nvSpPr>
        <p:spPr>
          <a:xfrm>
            <a:off x="1692360" y="115920"/>
            <a:ext cx="3274920" cy="1952640"/>
          </a:xfrm>
          <a:prstGeom prst="ellipse">
            <a:avLst/>
          </a:prstGeom>
          <a:noFill/>
          <a:ln w="5724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силенное медицинское и ветеринарное наблюдение за зараженны­ми, их изоляцию и лечение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Овал 4"/>
          <p:cNvSpPr/>
          <p:nvPr/>
        </p:nvSpPr>
        <p:spPr>
          <a:xfrm>
            <a:off x="6480000" y="1700280"/>
            <a:ext cx="2556000" cy="1549440"/>
          </a:xfrm>
          <a:prstGeom prst="ellipse">
            <a:avLst/>
          </a:prstGeom>
          <a:noFill/>
          <a:ln w="5724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анитарную       обработку люде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Овал 5"/>
          <p:cNvSpPr/>
          <p:nvPr/>
        </p:nvSpPr>
        <p:spPr>
          <a:xfrm>
            <a:off x="108000" y="1700280"/>
            <a:ext cx="2951280" cy="1873080"/>
          </a:xfrm>
          <a:prstGeom prst="ellipse">
            <a:avLst/>
          </a:prstGeom>
          <a:noFill/>
          <a:ln w="5724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зинфекцию одежды, обуви, предметов ухода и т.д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Овал 6"/>
          <p:cNvSpPr/>
          <p:nvPr/>
        </p:nvSpPr>
        <p:spPr>
          <a:xfrm>
            <a:off x="6227640" y="3141720"/>
            <a:ext cx="2700360" cy="1727280"/>
          </a:xfrm>
          <a:prstGeom prst="ellipse">
            <a:avLst/>
          </a:prstGeom>
          <a:noFill/>
          <a:ln w="5724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езинфекцию территории, сооружений, транспорта, жилых и общественных по­мещений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Овал 7"/>
          <p:cNvSpPr/>
          <p:nvPr/>
        </p:nvSpPr>
        <p:spPr>
          <a:xfrm>
            <a:off x="4716360" y="4554360"/>
            <a:ext cx="3424320" cy="2124360"/>
          </a:xfrm>
          <a:prstGeom prst="ellipse">
            <a:avLst/>
          </a:prstGeom>
          <a:noFill/>
          <a:ln w="5724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становление противоэпидемического режима работы лечебно-профилактичес­ких и других медицинских учреждений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Овал 8"/>
          <p:cNvSpPr/>
          <p:nvPr/>
        </p:nvSpPr>
        <p:spPr>
          <a:xfrm>
            <a:off x="395280" y="3321000"/>
            <a:ext cx="2935440" cy="2268720"/>
          </a:xfrm>
          <a:prstGeom prst="ellipse">
            <a:avLst/>
          </a:prstGeom>
          <a:noFill/>
          <a:ln w="5724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еззараживание пищевых отходов, сточных вод и продуктов жизнедеятельнос­ти больных и здоровых индивидуумов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Овал 9"/>
          <p:cNvSpPr/>
          <p:nvPr/>
        </p:nvSpPr>
        <p:spPr>
          <a:xfrm>
            <a:off x="2124000" y="4689360"/>
            <a:ext cx="2843280" cy="2070360"/>
          </a:xfrm>
          <a:prstGeom prst="ellipse">
            <a:avLst/>
          </a:prstGeom>
          <a:noFill/>
          <a:ln w="5724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е санитарно-просветительной работ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87B6-8430-4E97-BB21-70E3A795FC5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Что такое инфекционные болезн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Text Box 3"/>
          <p:cNvSpPr/>
          <p:nvPr/>
        </p:nvSpPr>
        <p:spPr>
          <a:xfrm>
            <a:off x="250920" y="836640"/>
            <a:ext cx="8642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ИНФЕКЦИОННЫЕ БОЛЕЗНИ </a:t>
            </a:r>
            <a:r>
              <a:rPr b="1" i="1" lang="ru-RU" sz="4400" spc="-1" strike="noStrike">
                <a:solidFill>
                  <a:srgbClr val="0b5395"/>
                </a:solidFill>
                <a:latin typeface="Calibri"/>
              </a:rPr>
              <a:t>– это группа болезней, которые вызываются специфическими возбудителями: болезнетворными бактериями, вирусами, простейшими, грибками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AA6E-3E0E-4294-902D-C7102326A77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ичина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Text Box 3"/>
          <p:cNvSpPr/>
          <p:nvPr/>
        </p:nvSpPr>
        <p:spPr>
          <a:xfrm>
            <a:off x="250920" y="836640"/>
            <a:ext cx="8642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b5395"/>
                </a:solidFill>
                <a:latin typeface="Calibri"/>
              </a:rPr>
              <a:t>Причиной возникновения инфекционной болезни является внедрение в организм человека болезнетворных возбудителей и вступление их во взаимодействие с клетками и тканями организма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9D6D-B0CA-413B-A4FF-72209F1E6B3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збудители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8" name="Picture 2" descr="http://medicalplanet.su/Img/458.jpg"/>
          <p:cNvPicPr/>
          <p:nvPr/>
        </p:nvPicPr>
        <p:blipFill>
          <a:blip r:embed="rId1"/>
          <a:stretch/>
        </p:blipFill>
        <p:spPr>
          <a:xfrm>
            <a:off x="611280" y="557280"/>
            <a:ext cx="7632720" cy="63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CD06-18E3-46B5-82BD-4944FA0304A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збудители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Text Box 3"/>
          <p:cNvSpPr/>
          <p:nvPr/>
        </p:nvSpPr>
        <p:spPr>
          <a:xfrm>
            <a:off x="179280" y="809640"/>
            <a:ext cx="87138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1.Бактерии</a:t>
            </a:r>
            <a:r>
              <a:rPr b="1" i="1" lang="ru-RU" sz="3000" spc="-1" strike="noStrike">
                <a:solidFill>
                  <a:srgbClr val="0b5395"/>
                </a:solidFill>
                <a:latin typeface="Arial"/>
                <a:ea typeface="Arial"/>
              </a:rPr>
              <a:t>—это одноклеточные микроорганизмы с примитивным ядром без ядерной оболочки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В зависимости от формы бактерии делят на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кокки, имеющие шаровидную форму;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палочки,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спириллы — спиралевидные извитые бактерии,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вибрионы, имеющие вид изогнутых палочек;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спирохеты — длинные извитые бактерии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5E6C-8B2A-494A-AE2F-E33189B22FD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збудители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4" name="Picture 2" descr="http://engschool18.ru/uploads/posts/2010-09/1284146453_rrrrr6.jpg"/>
          <p:cNvPicPr/>
          <p:nvPr/>
        </p:nvPicPr>
        <p:blipFill>
          <a:blip r:embed="rId1"/>
          <a:stretch/>
        </p:blipFill>
        <p:spPr>
          <a:xfrm>
            <a:off x="423720" y="614520"/>
            <a:ext cx="829656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08B5-2F89-46BA-ABB3-A5F2473BF8F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збудители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Text Box 3"/>
          <p:cNvSpPr/>
          <p:nvPr/>
        </p:nvSpPr>
        <p:spPr>
          <a:xfrm>
            <a:off x="179280" y="809640"/>
            <a:ext cx="87138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2. Вирусы — </a:t>
            </a:r>
            <a:r>
              <a:rPr b="1" i="1" lang="ru-RU" sz="3000" spc="-1" strike="noStrike">
                <a:solidFill>
                  <a:srgbClr val="0b5395"/>
                </a:solidFill>
                <a:latin typeface="Calibri"/>
              </a:rPr>
              <a:t>особая группа широко распространенных микроскопических инфекционных агентов, вызывающих заболевание человека, животных, растений и бактерий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ирусы относятся к внутриклеточным паразитам и имеют основные свойства живых существ: они способны размножаться, обладают наследственностью и изменчивостью, хорошо приспосабливаются к меняющимся условиям окружающей среды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Впервые вирус был открыт в 1892 г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A45B-DB9F-4435-BADE-4D084C3DEEB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збудители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0" name="Picture 2" descr="http://demotivatori.info/uploads/posts/2011-07-29/demotivatory-prikoly-novye-ruki-vsegda-tyanutsya-k_1.jpg"/>
          <p:cNvPicPr/>
          <p:nvPr/>
        </p:nvPicPr>
        <p:blipFill>
          <a:blip r:embed="rId1"/>
          <a:stretch/>
        </p:blipFill>
        <p:spPr>
          <a:xfrm>
            <a:off x="1547640" y="561960"/>
            <a:ext cx="604872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15:37:54Z</dcterms:created>
  <dc:creator>Ирина</dc:creator>
  <dc:description/>
  <dc:language>en-US</dc:language>
  <cp:lastModifiedBy>Святослав Ленков</cp:lastModifiedBy>
  <dcterms:modified xsi:type="dcterms:W3CDTF">2017-02-20T16:22:33Z</dcterms:modified>
  <cp:revision>21</cp:revision>
  <dc:subject/>
  <dc:title>ОСНОВНЫЕ ИНФЕКЦИОННЫЕ БОЛЕЗНИ, ИХ КЛАССИФИКАЦИЯ И ПРОФИЛАКТИКА</dc:title>
</cp:coreProperties>
</file>