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3FC2-5387-46AA-8C22-ACF557DA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FAF2-7F15-4154-B8C4-B63EBB56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E8DB-8B1F-49D0-B3F5-2490AAA4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0295-7AB0-428B-9DD1-404CC61B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A50A-B672-4F2B-8C55-31667AE0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B386-37DB-4097-986B-9876170B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5F51-2F08-487E-8B52-F1C408E2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FE19-EEE8-452E-873A-46CCD9B2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A7CF-C13B-45A8-8581-2B24261B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1730-A405-4629-9605-60F6AF04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46F9-B46B-41BF-9A61-74AC4E88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CC48-1A29-4D5F-81D1-C809307E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4BFB-888D-4FC3-B6B0-13F9644D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FBF2-6A51-4488-8283-AD405CBC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83CB-A9C0-4F73-BDAB-49358A12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D79E-54FE-4A2B-B143-8B1798B5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11A3-EC35-4A50-A562-2349068E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C22E-0B37-4BE1-A463-2914A292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2065-991B-4BB2-A907-A5202B27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961B-AF27-4205-9D87-89EF5855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0DE1-B0C0-43DA-B698-FD102D32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0A5F-48A0-43AC-A2C1-273276BA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0864-3ED0-41E6-AF61-71E99701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4292-B079-4D1F-9A7F-835B33DA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6699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3399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6691-9361-4665-AE0E-74D85224138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6699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3399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D4D3-7310-46A1-B0CE-FF05FEB2FB3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6_&#1072;&#1087;&#1088;&#1077;&#1083;&#1103;" TargetMode="External"/><Relationship Id="rId2" Type="http://schemas.openxmlformats.org/officeDocument/2006/relationships/hyperlink" Target="http://ru.wikipedia.org/wiki/1986_&#1075;&#1086;&#1076;" TargetMode="External"/><Relationship Id="rId3" Type="http://schemas.openxmlformats.org/officeDocument/2006/relationships/hyperlink" Target="http://ru.wikipedia.org/wiki/&#1063;&#1077;&#1088;&#1085;&#1086;&#1073;&#1099;&#1083;&#1100;&#1089;&#1082;&#1072;&#1103;_&#1040;&#1069;&#1057;" TargetMode="External"/><Relationship Id="rId4" Type="http://schemas.openxmlformats.org/officeDocument/2006/relationships/hyperlink" Target="http://ru.wikipedia.org/wiki/&#1071;&#1076;&#1077;&#1088;&#1085;&#1099;&#1081;_&#1088;&#1077;&#1072;&#1082;&#1090;&#1086;&#1088;" TargetMode="External"/><Relationship Id="rId5" Type="http://schemas.openxmlformats.org/officeDocument/2006/relationships/hyperlink" Target="http://ru.wikipedia.org/wiki/&#1056;&#1072;&#1076;&#1080;&#1086;&#1072;&#1082;&#1090;&#1080;&#1074;&#1085;&#1086;&#1089;&#1090;&#1100;" TargetMode="External"/><Relationship Id="rId6" Type="http://schemas.openxmlformats.org/officeDocument/2006/relationships/hyperlink" Target="http://ru.wikipedia.org/wiki/&#1056;&#1072;&#1076;&#1080;&#1072;&#1094;&#1080;&#1086;&#1085;&#1085;&#1072;&#1103;_&#1072;&#1074;&#1072;&#1088;&#1080;&#1103;" TargetMode="External"/><Relationship Id="rId7" Type="http://schemas.openxmlformats.org/officeDocument/2006/relationships/hyperlink" Target="http://ru.wikipedia.org/wiki/&#1040;&#1090;&#1086;&#1084;&#1085;&#1072;&#1103;_&#1101;&#1085;&#1077;&#1088;&#1075;&#1077;&#1090;&#1080;&#1082;&#1072;" TargetMode="External"/><Relationship Id="rId8" Type="http://schemas.openxmlformats.org/officeDocument/2006/relationships/hyperlink" Target="http://ru.wikipedia.org/wiki/&#1069;&#1082;&#1086;&#1085;&#1086;&#1084;&#1080;&#1082;&#1072;" TargetMode="External"/><Relationship Id="rId9" Type="http://schemas.openxmlformats.org/officeDocument/2006/relationships/hyperlink" Target="http://ru.wikipedia.org/wiki/&#1057;&#1057;&#1057;&#1056;" TargetMode="External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91;&#1095;&#1077;&#1074;&#1072;&#1103;_&#1073;&#1086;&#1083;&#1077;&#1079;&#1085;&#1100;" TargetMode="External"/><Relationship Id="rId2" Type="http://schemas.openxmlformats.org/officeDocument/2006/relationships/hyperlink" Target="http://ru.wikipedia.org/wiki/&#1051;&#1091;&#1095;&#1077;&#1074;&#1072;&#1103;_&#1073;&#1086;&#1083;&#1077;&#1079;&#1085;&#1100;" TargetMode="External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26_&#1072;&#1087;&#1088;&#1077;&#1083;&#1103;" TargetMode="External"/><Relationship Id="rId3" Type="http://schemas.openxmlformats.org/officeDocument/2006/relationships/hyperlink" Target="http://ru.wikipedia.org/wiki/1986_&#1075;&#1086;&#1076;" TargetMode="External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2;&#1072;&#1083;&#1077;&#1088;&#1080;&#1081;_&#1061;&#1086;&#1076;&#1077;&#1084;&#1095;&#1091;&#1082;&amp;action=edit&amp;redlink=1" TargetMode="External"/><Relationship Id="rId2" Type="http://schemas.openxmlformats.org/officeDocument/2006/relationships/hyperlink" Target="http://ru.wikipedia.org/w/index.php?title=&#1042;&#1083;&#1072;&#1076;&#1080;&#1084;&#1080;&#1088;_&#1064;&#1072;&#1096;&#1077;&#1085;&#1086;&#1082;&amp;action=edit&amp;redlink=1" TargetMode="External"/><Relationship Id="rId3" Type="http://schemas.openxmlformats.org/officeDocument/2006/relationships/hyperlink" Target="http://ru.wikipedia.org/w/index.php?title=&#1052;&#1057;&#1063;&amp;action=edit&amp;redlink=1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90;&#1086;&#1087;" TargetMode="External"/><Relationship Id="rId2" Type="http://schemas.openxmlformats.org/officeDocument/2006/relationships/hyperlink" Target="http://ru.wikipedia.org/wiki/&#1059;&#1088;&#1072;&#1085;_(&#1101;&#1083;&#1077;&#1084;&#1077;&#1085;&#1090;)" TargetMode="External"/><Relationship Id="rId3" Type="http://schemas.openxmlformats.org/officeDocument/2006/relationships/hyperlink" Target="http://ru.wikipedia.org/wiki/&#1055;&#1083;&#1091;&#1090;&#1086;&#1085;&#1080;&#1081;" TargetMode="External"/><Relationship Id="rId4" Type="http://schemas.openxmlformats.org/officeDocument/2006/relationships/hyperlink" Target="http://ru.wikipedia.org/wiki/&#1049;&#1086;&#1076;-131" TargetMode="External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772400" cy="1757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ccecff"/>
                </a:solidFill>
                <a:latin typeface="Times New Roman"/>
              </a:rPr>
              <a:t>Чернобыль.</a:t>
            </a:r>
            <a:br>
              <a:rPr sz="5600"/>
            </a:br>
            <a:r>
              <a:rPr b="0" lang="ru-RU" sz="5600" spc="-1" strike="noStrike">
                <a:solidFill>
                  <a:srgbClr val="ccecff"/>
                </a:solidFill>
                <a:latin typeface="Times New Roman"/>
              </a:rPr>
              <a:t>30 лет спустя.</a:t>
            </a:r>
            <a:endParaRPr b="0" lang="en-US" sz="5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79280" y="4436640"/>
            <a:ext cx="5319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: Мусохранов Оле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492360" y="5373720"/>
            <a:ext cx="100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0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1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Причины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ведение эксперимента «любой ценой», несмотря на изменение состояния реактор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ывод из работы исправных технологических защит, которые просто остановили бы реактор ещё до того, как он попал в опасный режи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замалчивание масштаба аварии в первые дни руководством ЧАЭ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иболее вероятной причиной аварии являлись ошибки проекта и конструкции реактора, эти конструктивные особенности оказали основное влияние на ход аварии и её последстви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1" name="drumroll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сновными факторами, внесшими вклад в возникновение аварии, INSAG-7 считает следующее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еактор не соответствовал нормам безопасности и имел опасные конструктивные особенно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зкое качество регламента эксплуатации в части обеспечения безопасно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еэффективность режима регулирования и надзора за безопасностью в ядерной энергетике, общая недостаточность культуры безопасности в ядерных вопросах как на национальном, так и на местном уровне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тсутствовал эффективный обмен информацией по безопасности как между операторами, так и между операторами и проектировщиками, персонал не обладал достаточным пониманием особенностей станции, влияющих на безопасность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ерсонал допустил ряд ошибок и нарушил существующие инструкции и программу испытан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1" name="drumroll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Недостатки реактора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оложительная обратная связь между мощностью и реактивностью, возникавшая при некоторых режимах эксплуатации реактор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наличие так называемого концевого эффекта, проявлявшегося при определённых условиях эксплуатации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1" name="drumroll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Ошибки операторов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лительная работа реактора на мощности ниже 700 МВт не была запрещена действовавшим на тот момент регламентом, как это утверждалось ране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ключение в работу всех восьми главных циркуляционных насосов не было запрещено эксплуатационной документаци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евышение расхода через ГЦН выше предельного значе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тключение системы аварийного охлаждения реакто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блокировка защиты реактора по сигналу остановки двух турбогенераторов не только допускалас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перации со значениями установок и отключением технологических защит и блокировок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1" name="drumroll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Единой версии причин аварии, с которой было бы согласно всё экспертное сообщество специалистов в области реакторной физики и техники, не существует. Обстоятельства расследования аварии были таковы, что (и тогда, и теперь) судить о её причинах и следствиях приходится специалистам, чьи организации прямо или косвенно несут часть ответственности за неё. В этой ситуации радикальное расхождение во мнениях вполне естественно. Также вполне естественно, что в этих условиях помимо признанных «авторитетных» версий появилось множество маргинальных, основанных больше на домыслах, нежели на фактах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1" name="drumroll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Times New Roman"/>
              </a:rPr>
              <a:t>Исходными событиями аварии в этом случае могут быть: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кавитация ГЦН, вызвавшая отключение ГЦН и интенсификацию процесса парообразования с введением положительной реактивности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кавитация на ЗРК, вызвавшая поступление дополнительного пара в активную зону с введением положительной реактивности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тключение ГЦН собственными защитами, вызвавшее интенсификацию процесса парообразования с введением положительной реактивности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1" name="drumroll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Версии аварии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зрыв, разрушивший реактор, имел химическую природу, то есть это был взрыв водорода, который образовался в реакторе при высокой температуре в результате пароциркониевой реакции и ряда других процесс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зрыв был исключительно паровы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зрыв, имевший ядерную природу, произошёл не в шахте реактора, а в пространстве реакторного зала, куда активная зона вместе с крышкой реактора была выброшена паром, вырывающимся из разорванных канал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1" name="drumroll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Информирование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ервая официальная информация была передана по телевидению 27 апреля. В сухом сообщении говорилось о факте аварии и двух погибших, об истинных масштабах катастрофы стали извещать позже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1" name="drumroll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Ликвидация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7" name="Рисунок 5" descr="15121447.jpg"/>
          <p:cNvPicPr/>
          <p:nvPr/>
        </p:nvPicPr>
        <p:blipFill>
          <a:blip r:embed="rId1"/>
          <a:stretch/>
        </p:blipFill>
        <p:spPr>
          <a:xfrm>
            <a:off x="674640" y="1854360"/>
            <a:ext cx="3935520" cy="40129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6" descr="13_Znak_CHAJES.jpg"/>
          <p:cNvPicPr/>
          <p:nvPr/>
        </p:nvPicPr>
        <p:blipFill>
          <a:blip r:embed="rId2"/>
          <a:stretch/>
        </p:blipFill>
        <p:spPr>
          <a:xfrm>
            <a:off x="4572000" y="1844640"/>
            <a:ext cx="3960720" cy="40323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/>
    <p:sndAc>
      <p:stSnd>
        <p:snd r:embed="rId3" name="drumroll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Ликвидаторы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59960" y="1851120"/>
            <a:ext cx="778356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Легасов                                Шербина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Рисунок 7" descr="Legasov.jpg"/>
          <p:cNvPicPr/>
          <p:nvPr/>
        </p:nvPicPr>
        <p:blipFill>
          <a:blip r:embed="rId1"/>
          <a:stretch/>
        </p:blipFill>
        <p:spPr>
          <a:xfrm>
            <a:off x="900000" y="2492280"/>
            <a:ext cx="1656000" cy="22320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8" descr="photo-20762.jpg"/>
          <p:cNvPicPr/>
          <p:nvPr/>
        </p:nvPicPr>
        <p:blipFill>
          <a:blip r:embed="rId2"/>
          <a:stretch/>
        </p:blipFill>
        <p:spPr>
          <a:xfrm>
            <a:off x="6084720" y="2492280"/>
            <a:ext cx="2108520" cy="2160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755640" y="46386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ервые дни основные усилия были направлены на снижение радиоактивных выбросов из разрушенного реактора и предотвращение ещё более серьёзных последств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тем начались работы по очистке территории и захоронению разрушенного реактора – строительство саркофаг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3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Авария на Чернобыльской АЭС.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ария на Чернобыльской АЭС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 — разрушение </a:t>
            </a:r>
            <a:r>
              <a:rPr b="0" lang="ru-RU" sz="2000" spc="-1" strike="noStrike" u="sng">
                <a:solidFill>
                  <a:srgbClr val="33ccff"/>
                </a:solidFill>
                <a:uFillTx/>
                <a:latin typeface="Arial"/>
                <a:hlinkClick r:id="rId1"/>
              </a:rPr>
              <a:t>26 апрел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33ccff"/>
                </a:solidFill>
                <a:uFillTx/>
                <a:latin typeface="Arial"/>
                <a:hlinkClick r:id="rId2"/>
              </a:rPr>
              <a:t>1986 год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четвёртого энергоблока </a:t>
            </a:r>
            <a:r>
              <a:rPr b="0" lang="ru-RU" sz="2000" spc="-1" strike="noStrike" u="sng">
                <a:solidFill>
                  <a:srgbClr val="33ccff"/>
                </a:solidFill>
                <a:uFillTx/>
                <a:latin typeface="Arial"/>
                <a:hlinkClick r:id="rId3"/>
              </a:rPr>
              <a:t>Чернобыльской атомной электростан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расположенной на территории Украины. Разрушение носило взрывной характер, </a:t>
            </a:r>
            <a:r>
              <a:rPr b="0" lang="ru-RU" sz="2000" spc="-1" strike="noStrike" u="sng">
                <a:solidFill>
                  <a:srgbClr val="33ccff"/>
                </a:solidFill>
                <a:uFillTx/>
                <a:latin typeface="Arial"/>
                <a:hlinkClick r:id="rId4"/>
              </a:rPr>
              <a:t>реактор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был полностью разрушен, и в окружающую среду было выброшено большое количество </a:t>
            </a:r>
            <a:r>
              <a:rPr b="0" lang="ru-RU" sz="2000" spc="-1" strike="noStrike" u="sng">
                <a:solidFill>
                  <a:srgbClr val="33ccff"/>
                </a:solidFill>
                <a:uFillTx/>
                <a:latin typeface="Arial"/>
                <a:hlinkClick r:id="rId5"/>
              </a:rPr>
              <a:t>радиоактивны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еществ. </a:t>
            </a:r>
            <a:r>
              <a:rPr b="0" lang="ru-RU" sz="2000" spc="-1" strike="noStrike" u="sng">
                <a:solidFill>
                  <a:srgbClr val="33ccff"/>
                </a:solidFill>
                <a:uFillTx/>
                <a:latin typeface="Arial"/>
                <a:hlinkClick r:id="rId6"/>
              </a:rPr>
              <a:t>Авар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асценивается как крупнейшая в своём роде за всю историю </a:t>
            </a:r>
            <a:r>
              <a:rPr b="0" lang="ru-RU" sz="2000" spc="-1" strike="noStrike" u="sng">
                <a:solidFill>
                  <a:srgbClr val="33ccff"/>
                </a:solidFill>
                <a:uFillTx/>
                <a:latin typeface="Arial"/>
                <a:hlinkClick r:id="rId7"/>
              </a:rPr>
              <a:t>атомной энергети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ак по предполагаемому количеству погибших и пострадавших от её последствий людей, так и по </a:t>
            </a:r>
            <a:r>
              <a:rPr b="0" lang="ru-RU" sz="2000" spc="-1" strike="noStrike" u="sng">
                <a:solidFill>
                  <a:srgbClr val="33ccff"/>
                </a:solidFill>
                <a:uFillTx/>
                <a:latin typeface="Arial"/>
                <a:hlinkClick r:id="rId8"/>
              </a:rPr>
              <a:t>экономическому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щербу. На момент аварии Чернобыльская АЭС была самой мощной в </a:t>
            </a:r>
            <a:r>
              <a:rPr b="0" lang="ru-RU" sz="2000" spc="-1" strike="noStrike" u="sng">
                <a:solidFill>
                  <a:srgbClr val="33ccff"/>
                </a:solidFill>
                <a:uFillTx/>
                <a:latin typeface="Arial"/>
                <a:hlinkClick r:id="rId9"/>
              </a:rPr>
              <a:t>СССР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10" name="drumroll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Долговременные последствия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из сельскохозяйственного оборота было выведено около 5 млн га земель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вокруг АЭС создана 30-километровая зона отчуждения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уничтожены и захоронены (закопаны тяжёлой техникой) сотни мелких населённых пунктов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выброс радиоактивных частиц в атмосферу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1" name="drumroll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Дальнейшая судьба станции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ле аварии на 4-м энергоблоке работа электростанции была приостановлена из-за опасной радиационной обстановки. Однако уже в октябре 1986 года, после обширных работ по дезактивации территории и постройки «саркофага», 1-й и 2-й энергоблоки были вновь введены в строй; в декабре 1987 года возобновлена работа 3-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ркофаг, возведённый над четвёртым, взорвавшимся, энергоблоком постепенно разрушается. Опасность, в случае его обрушения, в основном определяется тем, как много радиоактивных веществ находится внутри него. По официальным данным, эта цифра достигает 95 % от того количества, которое было на момент аварии. Если эта оценка верна, то разрушение укрытия может привести к очень большим выброс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1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Жертвы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31 человек погиб в течение первых трех месяцев после аварии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700" spc="-1" strike="noStrike" u="sng">
                <a:solidFill>
                  <a:srgbClr val="33ccff"/>
                </a:solidFill>
                <a:uFillTx/>
                <a:latin typeface="Arial"/>
                <a:hlinkClick r:id="rId1"/>
              </a:rPr>
              <a:t>отдалённые последствия облучения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, выявленные за последующие 15 лет, стали причиной гибели от 60 до 80 человек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134 человека перенесли </a:t>
            </a:r>
            <a:r>
              <a:rPr b="0" lang="ru-RU" sz="2700" spc="-1" strike="noStrike" u="sng">
                <a:solidFill>
                  <a:srgbClr val="33ccff"/>
                </a:solidFill>
                <a:uFillTx/>
                <a:latin typeface="Arial"/>
                <a:hlinkClick r:id="rId2"/>
              </a:rPr>
              <a:t>лучевую болезнь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той или иной степени тяжести,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более 115 тыс. человек из 30-километровой зоны были эвакуированы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более 600 тыс. человек участвовали в ликвидации последствий аварии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3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Расположение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8" name="Рисунок 1" descr="703055.jpg"/>
          <p:cNvPicPr/>
          <p:nvPr/>
        </p:nvPicPr>
        <p:blipFill>
          <a:blip r:embed="rId1"/>
          <a:stretch/>
        </p:blipFill>
        <p:spPr>
          <a:xfrm>
            <a:off x="684360" y="1413000"/>
            <a:ext cx="799128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/>
    <p:sndAc>
      <p:stSnd>
        <p:snd r:embed="rId2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93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Авария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0" name="Рисунок 2" descr="1337.jpg"/>
          <p:cNvPicPr/>
          <p:nvPr/>
        </p:nvPicPr>
        <p:blipFill>
          <a:blip r:embed="rId1"/>
          <a:stretch/>
        </p:blipFill>
        <p:spPr>
          <a:xfrm>
            <a:off x="1042920" y="1844640"/>
            <a:ext cx="3529080" cy="41655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4859280" y="3049200"/>
            <a:ext cx="397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01:23:48  </a:t>
            </a:r>
            <a:r>
              <a:rPr b="0" lang="ru-RU" sz="1800" spc="-1" strike="noStrike" u="sng">
                <a:solidFill>
                  <a:srgbClr val="33ccff"/>
                </a:solidFill>
                <a:uFillTx/>
                <a:latin typeface="Arial"/>
                <a:hlinkClick r:id="rId2"/>
              </a:rPr>
              <a:t>26 апрел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33ccff"/>
                </a:solidFill>
                <a:uFillTx/>
                <a:latin typeface="Arial"/>
                <a:hlinkClick r:id="rId3"/>
              </a:rPr>
              <a:t>1986 год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а 4-м энергоблоке Чернобыльской АЭС произошёл взрыв, который полностью разрушил реа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4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6280"/>
            <a:ext cx="81532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Ливкидаторы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дание энергоблока частично обрушилось, при этом погибли два человека — оператор ГЦН (главный циркуляционный насос) </a:t>
            </a:r>
            <a:r>
              <a:rPr b="0" lang="ru-RU" sz="2000" spc="-1" strike="noStrike" u="sng">
                <a:solidFill>
                  <a:srgbClr val="33ccff"/>
                </a:solidFill>
                <a:uFillTx/>
                <a:latin typeface="Arial"/>
                <a:hlinkClick r:id="rId1"/>
              </a:rPr>
              <a:t>Валерий Ходемчу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тело не найдено, завалено под обломками двух 130-тонных барабан-сепараторов) и сотрудник пусконаладочного предприятия </a:t>
            </a:r>
            <a:r>
              <a:rPr b="0" lang="ru-RU" sz="2000" spc="-1" strike="noStrike" u="sng">
                <a:solidFill>
                  <a:srgbClr val="33ccff"/>
                </a:solidFill>
                <a:uFillTx/>
                <a:latin typeface="Arial"/>
                <a:hlinkClick r:id="rId2"/>
              </a:rPr>
              <a:t>Владимир Шашено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умер от перелома позвоночника и многочисленных ожогов в 6:00 в Припятской </a:t>
            </a:r>
            <a:r>
              <a:rPr b="0" lang="ru-RU" sz="2000" spc="-1" strike="noStrike" u="sng">
                <a:solidFill>
                  <a:srgbClr val="33ccff"/>
                </a:solidFill>
                <a:uFillTx/>
                <a:latin typeface="Arial"/>
                <a:hlinkClick r:id="rId3"/>
              </a:rPr>
              <a:t>МСЧ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тром 26 апреля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Рисунок 3" descr="VH.jpg"/>
          <p:cNvPicPr/>
          <p:nvPr/>
        </p:nvPicPr>
        <p:blipFill>
          <a:blip r:embed="rId4"/>
          <a:stretch/>
        </p:blipFill>
        <p:spPr>
          <a:xfrm>
            <a:off x="900000" y="4005360"/>
            <a:ext cx="2448000" cy="20876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4" descr="1de2f2684adft.jpg"/>
          <p:cNvPicPr/>
          <p:nvPr/>
        </p:nvPicPr>
        <p:blipFill>
          <a:blip r:embed="rId5"/>
          <a:stretch/>
        </p:blipFill>
        <p:spPr>
          <a:xfrm>
            <a:off x="5364000" y="4005360"/>
            <a:ext cx="2459160" cy="21603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/>
    <p:sndAc>
      <p:stSnd>
        <p:snd r:embed="rId6" name="drumroll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Выброс радиоактивных веществ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33ccff"/>
                </a:solidFill>
                <a:uFillTx/>
                <a:latin typeface="Arial"/>
                <a:hlinkClick r:id="rId1"/>
              </a:rPr>
              <a:t>изотопов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700" spc="-1" strike="noStrike" u="sng">
                <a:solidFill>
                  <a:srgbClr val="33ccff"/>
                </a:solidFill>
                <a:uFillTx/>
                <a:latin typeface="Arial"/>
                <a:hlinkClick r:id="rId2"/>
              </a:rPr>
              <a:t>урана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700" spc="-1" strike="noStrike" u="sng">
                <a:solidFill>
                  <a:srgbClr val="33ccff"/>
                </a:solidFill>
                <a:uFillTx/>
                <a:latin typeface="Arial"/>
                <a:hlinkClick r:id="rId3"/>
              </a:rPr>
              <a:t>плутония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700" spc="-1" strike="noStrike" u="sng">
                <a:solidFill>
                  <a:srgbClr val="33ccff"/>
                </a:solidFill>
                <a:uFillTx/>
                <a:latin typeface="Arial"/>
                <a:hlinkClick r:id="rId4"/>
              </a:rPr>
              <a:t>йода-131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(период полураспада— 8 дней),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цезия-134 (период полураспада — 2 года),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цезия-137 (период полураспада — 33 года),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стронция-90 (период полураспада — 28 лет)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5" name="drumrol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Хронология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25 апреля 1986 года была запланирована остановка 4-го энергоблока Чернобыльской АЭС для очередного планово-предупредительного ремон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мерно за сутки до аварии (к 3:47 25 апреля) мощность реактора была снижена примерно до 50 % (1600 МВт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прет на снижение был отменён диспетчером в 23 час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течение 25 апреля пик отравления был пройден, началось разотравление реактор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0:28 при переходе с системы локального автоматического регулирования (ЛАР) на автоматический регулятор общей мощности (АР) оператор (СИУР) не смог удержать мощность реактора на заданном уровне, и мощность провалилась (тепловая до 30 МВт и нейтронная до нуля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1:23:04 начался эксперимен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1:23:39 зарегистрирован сигнал аварийной защиты АЗ-5 от нажатия кнопки на пульте операто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:23:47—1:23:50 реактор был полностью разруше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1" name="drumroll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Виновные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Государственная комиссия, сформированная в СССР для расследования причин катастрофы, и МАГАТЭ возложила основную ответственность за неё на оперативный персонал и руководство ЧАЭС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1" name="drumrol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01:17:59Z</dcterms:created>
  <dc:creator>место 4</dc:creator>
  <dc:description/>
  <dc:language>en-US</dc:language>
  <cp:lastModifiedBy>DNA7 X86</cp:lastModifiedBy>
  <dcterms:modified xsi:type="dcterms:W3CDTF">2017-02-20T10:15:25Z</dcterms:modified>
  <cp:revision>3</cp:revision>
  <dc:subject/>
  <dc:title>Чернобыль. 25 лет спустя.</dc:title>
</cp:coreProperties>
</file>