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657-CA13-4258-985E-855F5BEB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9F7-10E7-4CD4-80BF-81E655FD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204-1B2F-47F9-BD71-E032B5C0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729-8B7A-494D-94AE-F0842266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C102-B380-49E7-A1FB-6A2C9A0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646-BCF8-4053-BB7C-E9F1FDC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017F-B58C-4DFC-BE29-7E00010E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646E-DFBF-4F37-83FB-98D8E733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D77-F3A9-46EF-8705-30C1E07C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686-1D57-4CF8-A754-CA23A8A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7486-D2DE-4F07-B6F9-A7E1E7B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985-7602-4F51-ACC7-964661B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4181-AB03-4744-A924-BB3A64D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9AEE-63F9-44E1-9FC9-4626E8FB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7A84-2C3C-4847-8AF0-749D436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030-199F-45CD-A453-1FB5A7B2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826-D8C8-46DB-991C-A5851E3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2C2-F482-4B9E-B7BB-C4DE0C8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ECE-4A3F-4B5E-9BCA-C791CD8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AB7-E7A4-4777-B9A2-C4D96CAD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C43-1810-448D-8731-2685E62D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063-E624-438C-81F8-023FCC4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E3F-2165-4E81-BED3-4ECDC08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EBC-ED3B-4303-98F1-D1BA1E7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D54-9DC8-4B49-9DB0-77E4739F80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D18-6145-4E43-9F28-25A5B244E6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6_&#1072;&#1087;&#1088;&#1077;&#1083;&#1103;" TargetMode="External"/><Relationship Id="rId2" Type="http://schemas.openxmlformats.org/officeDocument/2006/relationships/hyperlink" Target="http://ru.wikipedia.org/wiki/1986_&#1075;&#1086;&#1076;" TargetMode="External"/><Relationship Id="rId3" Type="http://schemas.openxmlformats.org/officeDocument/2006/relationships/hyperlink" Target="http://ru.wikipedia.org/wiki/&#1063;&#1077;&#1088;&#1085;&#1086;&#1073;&#1099;&#1083;&#1100;&#1089;&#1082;&#1072;&#1103;_&#1040;&#1069;&#1057;" TargetMode="External"/><Relationship Id="rId4" Type="http://schemas.openxmlformats.org/officeDocument/2006/relationships/hyperlink" Target="http://ru.wikipedia.org/wiki/&#1071;&#1076;&#1077;&#1088;&#1085;&#1099;&#1081;_&#1088;&#1077;&#1072;&#1082;&#1090;&#1086;&#1088;" TargetMode="External"/><Relationship Id="rId5" Type="http://schemas.openxmlformats.org/officeDocument/2006/relationships/hyperlink" Target="http://ru.wikipedia.org/wiki/&#1056;&#1072;&#1076;&#1080;&#1086;&#1072;&#1082;&#1090;&#1080;&#1074;&#1085;&#1086;&#1089;&#1090;&#1100;" TargetMode="External"/><Relationship Id="rId6" Type="http://schemas.openxmlformats.org/officeDocument/2006/relationships/hyperlink" Target="http://ru.wikipedia.org/wiki/&#1056;&#1072;&#1076;&#1080;&#1072;&#1094;&#1080;&#1086;&#1085;&#1085;&#1072;&#1103;_&#1072;&#1074;&#1072;&#1088;&#1080;&#1103;" TargetMode="External"/><Relationship Id="rId7" Type="http://schemas.openxmlformats.org/officeDocument/2006/relationships/hyperlink" Target="http://ru.wikipedia.org/wiki/&#1040;&#1090;&#1086;&#1084;&#1085;&#1072;&#1103;_&#1101;&#1085;&#1077;&#1088;&#1075;&#1077;&#1090;&#1080;&#1082;&#1072;" TargetMode="External"/><Relationship Id="rId8" Type="http://schemas.openxmlformats.org/officeDocument/2006/relationships/hyperlink" Target="http://ru.wikipedia.org/wiki/&#1069;&#1082;&#1086;&#1085;&#1086;&#1084;&#1080;&#1082;&#1072;" TargetMode="External"/><Relationship Id="rId9" Type="http://schemas.openxmlformats.org/officeDocument/2006/relationships/hyperlink" Target="http://ru.wikipedia.org/wiki/&#1057;&#1057;&#1057;&#1056;" TargetMode="External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91;&#1095;&#1077;&#1074;&#1072;&#1103;_&#1073;&#1086;&#1083;&#1077;&#1079;&#1085;&#1100;" TargetMode="External"/><Relationship Id="rId2" Type="http://schemas.openxmlformats.org/officeDocument/2006/relationships/hyperlink" Target="http://ru.wikipedia.org/wiki/&#1051;&#1091;&#1095;&#1077;&#1074;&#1072;&#1103;_&#1073;&#1086;&#1083;&#1077;&#1079;&#1085;&#1100;" TargetMode="Externa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26_&#1072;&#1087;&#1088;&#1077;&#1083;&#1103;" TargetMode="External"/><Relationship Id="rId3" Type="http://schemas.openxmlformats.org/officeDocument/2006/relationships/hyperlink" Target="http://ru.wikipedia.org/wiki/1986_&#1075;&#1086;&#1076;" TargetMode="Externa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2;&#1072;&#1083;&#1077;&#1088;&#1080;&#1081;_&#1061;&#1086;&#1076;&#1077;&#1084;&#1095;&#1091;&#1082;&amp;action=edit&amp;redlink=1" TargetMode="External"/><Relationship Id="rId2" Type="http://schemas.openxmlformats.org/officeDocument/2006/relationships/hyperlink" Target="http://ru.wikipedia.org/w/index.php?title=&#1042;&#1083;&#1072;&#1076;&#1080;&#1084;&#1080;&#1088;_&#1064;&#1072;&#1096;&#1077;&#1085;&#1086;&#1082;&amp;action=edit&amp;redlink=1" TargetMode="External"/><Relationship Id="rId3" Type="http://schemas.openxmlformats.org/officeDocument/2006/relationships/hyperlink" Target="http://ru.wikipedia.org/w/index.php?title=&#1052;&#1057;&#1063;&amp;action=edit&amp;redlink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90;&#1086;&#1087;" TargetMode="External"/><Relationship Id="rId2" Type="http://schemas.openxmlformats.org/officeDocument/2006/relationships/hyperlink" Target="http://ru.wikipedia.org/wiki/&#1059;&#1088;&#1072;&#1085;_(&#1101;&#1083;&#1077;&#1084;&#1077;&#1085;&#1090;)" TargetMode="External"/><Relationship Id="rId3" Type="http://schemas.openxmlformats.org/officeDocument/2006/relationships/hyperlink" Target="http://ru.wikipedia.org/wiki/&#1055;&#1083;&#1091;&#1090;&#1086;&#1085;&#1080;&#1081;" TargetMode="External"/><Relationship Id="rId4" Type="http://schemas.openxmlformats.org/officeDocument/2006/relationships/hyperlink" Target="http://ru.wikipedia.org/wiki/&#1049;&#1086;&#1076;-131" TargetMode="External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7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ecff"/>
                </a:solidFill>
                <a:latin typeface="Times New Roman"/>
              </a:rPr>
              <a:t>Чернобыль.</a:t>
            </a:r>
            <a:br>
              <a:rPr sz="5600"/>
            </a:br>
            <a:r>
              <a:rPr b="0" lang="ru-RU" sz="5600" spc="-1" strike="noStrike">
                <a:solidFill>
                  <a:srgbClr val="ccecff"/>
                </a:solidFill>
                <a:latin typeface="Times New Roman"/>
              </a:rPr>
              <a:t>30 лет спустя.</a:t>
            </a:r>
            <a:endParaRPr b="0" lang="en-US" sz="5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5319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Мусохранов Оле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360" y="537372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ричин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ведение эксперимента «любой ценой», несмотря на изменение состояния реактор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вод из работы исправных технологических защит, которые просто остановили бы реактор ещё до того, как он попал в опасный режи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малчивание масштаба аварии в первые дни руководством ЧАЭ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более вероятной причиной аварии являлись ошибки проекта и конструкции реактора, эти конструктивные особенности оказали основное влияние на ход аварии и её последств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ыми факторами, внесшими вклад в возникновение аварии, INSAG-7 считает следующе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ктор не соответствовал нормам безопасности и имел опасные конструктивные особен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изкое качество регламента эксплуатации в части обеспечения безопас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эффективность режима регулирования и надзора за безопасностью в ядерной энергетике, общая недостаточность культуры безопасности в ядерных вопросах как на национальном, так и на местном уров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сутствовал эффективный обмен информацией по безопасности как между операторами, так и между операторами и проектировщиками, персонал не обладал достаточным пониманием особенностей станции, влияющих на безопасн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сонал допустил ряд ошибок и нарушил существующие инструкции и программу испыта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Недостатки реактора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ложительная обратная связь между мощностью и реактивностью, возникавшая при некоторых режимах эксплуатации реакт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аличие так называемого концевого эффекта, проявлявшегося при определённых условиях эксплуатаци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Ошибки операторов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лительная работа реактора на мощности ниже 700 МВт не была запрещена действовавшим на тот момент регламентом, как это утверждалось ране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ключение в работу всех восьми главных циркуляционных насосов не было запрещено эксплуатационной документаци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вышение расхода через ГЦН выше предельного знач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ключение системы аварийного охлаждения реак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локировка защиты реактора по сигналу остановки двух турбогенераторов не только допускала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ерации со значениями установок и отключением технологических защит и блокирово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диной версии причин аварии, с которой было бы согласно всё экспертное сообщество специалистов в области реакторной физики и техники, не существует. Обстоятельства расследования аварии были таковы, что (и тогда, и теперь) судить о её причинах и следствиях приходится специалистам, чьи организации прямо или косвенно несут часть ответственности за неё. В этой ситуации радикальное расхождение во мнениях вполне естественно. Также вполне естественно, что в этих условиях помимо признанных «авторитетных» версий появилось множество маргинальных, основанных больше на домыслах, нежели на фактах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imes New Roman"/>
              </a:rPr>
              <a:t>Исходными событиями аварии в этом случае могут быть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витация ГЦН, вызвавшая отключение ГЦН и интенсификацию процесса парообразования с введением положительной реактив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авитация на ЗРК, вызвавшая поступление дополнительного пара в активную зону с введением положительной реактив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тключение ГЦН собственными защитами, вызвавшее интенсификацию процесса парообразования с введением положительной реактив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ерсии аварии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, разрушивший реактор, имел химическую природу, то есть это был взрыв водорода, который образовался в реакторе при высокой температуре в результате пароциркониевой реакции и ряда других процес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 был исключительно паровы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зрыв, имевший ядерную природу, произошёл не в шахте реактора, а в пространстве реакторного зала, куда активная зона вместе с крышкой реактора была выброшена паром, вырывающимся из разорванных канал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Информировани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ервая официальная информация была передана по телевидению 27 апреля. В сухом сообщении говорилось о факте аварии и двух погибших, об истинных масштабах катастрофы стали извещать позж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квидац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Рисунок 5" descr="15121447.jpg"/>
          <p:cNvPicPr/>
          <p:nvPr/>
        </p:nvPicPr>
        <p:blipFill>
          <a:blip r:embed="rId1"/>
          <a:stretch/>
        </p:blipFill>
        <p:spPr>
          <a:xfrm>
            <a:off x="674640" y="1854360"/>
            <a:ext cx="3935520" cy="4012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13_Znak_CHAJES.jpg"/>
          <p:cNvPicPr/>
          <p:nvPr/>
        </p:nvPicPr>
        <p:blipFill>
          <a:blip r:embed="rId2"/>
          <a:stretch/>
        </p:blipFill>
        <p:spPr>
          <a:xfrm>
            <a:off x="4572000" y="184464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квидатор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9960" y="1851120"/>
            <a:ext cx="7783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Легасов                                Шербина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7" descr="Legasov.jpg"/>
          <p:cNvPicPr/>
          <p:nvPr/>
        </p:nvPicPr>
        <p:blipFill>
          <a:blip r:embed="rId1"/>
          <a:stretch/>
        </p:blipFill>
        <p:spPr>
          <a:xfrm>
            <a:off x="900000" y="2492280"/>
            <a:ext cx="16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photo-20762.jpg"/>
          <p:cNvPicPr/>
          <p:nvPr/>
        </p:nvPicPr>
        <p:blipFill>
          <a:blip r:embed="rId2"/>
          <a:stretch/>
        </p:blipFill>
        <p:spPr>
          <a:xfrm>
            <a:off x="6084720" y="2492280"/>
            <a:ext cx="2108520" cy="21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755640" y="4638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е дни основные усилия были направлены на снижение радиоактивных выбросов из разрушенного реактора и предотвращение ещё более серьёзных последств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начались работы по очистке территории и захоронению разрушенного реактора – строительство саркофа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Авария на Чернобыльской АЭС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ария на Чернобыльской АЭ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 — разрушение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26 апр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1986 г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твёртого энергоблока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Чернобыльской атомной электростан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расположенной на территории Украины. Разрушение носило взрывной характер,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4"/>
              </a:rPr>
              <a:t>реакт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олностью разрушен, и в окружающую среду было выброшено большое количество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5"/>
              </a:rPr>
              <a:t>радиоактив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ществ.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6"/>
              </a:rPr>
              <a:t>Ава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ценивается как крупнейшая в своём роде за всю историю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7"/>
              </a:rPr>
              <a:t>атомной энергет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ак по предполагаемому количеству погибших и пострадавших от её последствий людей, так и по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8"/>
              </a:rPr>
              <a:t>экономическо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щербу. На момент аварии Чернобыльская АЭС была самой мощной в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9"/>
              </a:rPr>
              <a:t>ССС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0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Долговременные последств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з сельскохозяйственного оборота было выведено около 5 млн га земе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округ АЭС создана 30-километровая зона отчуждени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уничтожены и захоронены (закопаны тяжёлой техникой) сотни мелких населённых пункт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ыброс радиоактивных частиц в атмосфер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Дальнейшая судьба станции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аварии на 4-м энергоблоке работа электростанции была приостановлена из-за опасной радиационной обстановки. Однако уже в октябре 1986 года, после обширных работ по дезактивации территории и постройки «саркофага», 1-й и 2-й энергоблоки были вновь введены в строй; в декабре 1987 года возобновлена работа 3-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ркофаг, возведённый над четвёртым, взорвавшимся, энергоблоком постепенно разрушается. Опасность, в случае его обрушения, в основном определяется тем, как много радиоактивных веществ находится внутри него. По официальным данным, эта цифра достигает 95 % от того количества, которое было на момент аварии. Если эта оценка верна, то разрушение укрытия может привести к очень большим выбро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Жертвы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31 человек погиб в течение первых трех месяцев после авари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отдалённые последствия облучения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 выявленные за последующие 15 лет, стали причиной гибели от 60 до 80 человек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134 человека перенесли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лучевую болезнь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той или иной степени тяжести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олее 115 тыс. человек из 30-километровой зоны были эвакуированы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более 600 тыс. человек участвовали в ликвидации последствий авари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Расположени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" name="Рисунок 1" descr="703055.jpg"/>
          <p:cNvPicPr/>
          <p:nvPr/>
        </p:nvPicPr>
        <p:blipFill>
          <a:blip r:embed="rId1"/>
          <a:stretch/>
        </p:blipFill>
        <p:spPr>
          <a:xfrm>
            <a:off x="684360" y="1413000"/>
            <a:ext cx="7991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Ава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Рисунок 2" descr="1337.jpg"/>
          <p:cNvPicPr/>
          <p:nvPr/>
        </p:nvPicPr>
        <p:blipFill>
          <a:blip r:embed="rId1"/>
          <a:stretch/>
        </p:blipFill>
        <p:spPr>
          <a:xfrm>
            <a:off x="1042920" y="1844640"/>
            <a:ext cx="3529080" cy="41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859280" y="3049200"/>
            <a:ext cx="39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01:23:48  </a:t>
            </a:r>
            <a:r>
              <a:rPr b="0" lang="ru-RU" sz="18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26 апре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1986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4-м энергоблоке Чернобыльской АЭС произошёл взрыв, который полностью разрушил ре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4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153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Ливкидаторы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, при этом погибли два человека — оператор ГЦН (главный циркуляционный насос)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Валерий Ходемч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ело не найдено, завалено под обломками двух 130-тонных барабан-сепараторов) и сотрудник пусконаладочного предприятия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Владимир Шашен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мер от перелома позвоночника и многочисленных ожогов в 6:00 в Припятской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МС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тром 26 апрел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3" descr="VH.jpg"/>
          <p:cNvPicPr/>
          <p:nvPr/>
        </p:nvPicPr>
        <p:blipFill>
          <a:blip r:embed="rId4"/>
          <a:stretch/>
        </p:blipFill>
        <p:spPr>
          <a:xfrm>
            <a:off x="900000" y="4005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1de2f2684adft.jpg"/>
          <p:cNvPicPr/>
          <p:nvPr/>
        </p:nvPicPr>
        <p:blipFill>
          <a:blip r:embed="rId5"/>
          <a:stretch/>
        </p:blipFill>
        <p:spPr>
          <a:xfrm>
            <a:off x="5364000" y="4005360"/>
            <a:ext cx="2459160" cy="2160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  <p:sndAc>
      <p:stSnd>
        <p:snd r:embed="rId6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ыброс радиоактивных веществ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1"/>
              </a:rPr>
              <a:t>изотопов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2"/>
              </a:rPr>
              <a:t>урана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3"/>
              </a:rPr>
              <a:t>плутония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33ccff"/>
                </a:solidFill>
                <a:uFillTx/>
                <a:latin typeface="Arial"/>
                <a:hlinkClick r:id="rId4"/>
              </a:rPr>
              <a:t>йода-131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(период полураспада— 8 дней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зия-134 (период полураспада — 2 года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цезия-137 (период полураспада — 33 года)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тронция-90 (период полураспада — 28 лет)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5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Хронология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25 апреля 1986 года была запланирована остановка 4-го энергоблока Чернобыльской АЭС для очередного планово-предупредительного ремо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но за сутки до аварии (к 3:47 25 апреля) мощность реактора была снижена примерно до 50 % (1600 МВт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рет на снижение был отменён диспетчером в 23 час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ечение 25 апреля пик отравления был пройден, началось разотравление реакто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0:28 при переходе с системы локального автоматического регулирования (ЛАР) на автоматический регулятор общей мощности (АР) оператор (СИУР) не смог удержать мощность реактора на заданном уровне, и мощность провалилась (тепловая до 30 МВт и нейтронная до нуля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:23:04 начался эксперимен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:23:39 зарегистрирован сигнал аварийной защиты АЗ-5 от нажатия кнопки на пульте опер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:23:47—1:23:50 реактор был полностью разруше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Виновные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осударственная комиссия, сформированная в СССР для расследования причин катастрофы, и МАГАТЭ возложила основную ответственность за неё на оперативный персонал и руководство ЧАЭС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  <p:sndAc>
      <p:stSnd>
        <p:snd r:embed="rId1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17:59Z</dcterms:created>
  <dc:creator>место 4</dc:creator>
  <dc:description/>
  <dc:language>en-US</dc:language>
  <cp:lastModifiedBy>DNA7 X86</cp:lastModifiedBy>
  <dcterms:modified xsi:type="dcterms:W3CDTF">2017-02-20T10:15:25Z</dcterms:modified>
  <cp:revision>3</cp:revision>
  <dc:subject/>
  <dc:title>Чернобыль. 25 лет спустя.</dc:title>
</cp:coreProperties>
</file>